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9C9-A3EF-4162-9022-64C66C9C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ECB-3CFB-4F13-8B80-FFC4604F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F652-F834-45D6-93CA-77509C50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F00-ABF3-45FE-960D-20B399D2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E0A-CDFB-46E9-B075-34FDF5D5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81F-132B-42E6-BF62-9C017A78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4D2-B34E-44B6-BD85-06E5D2C5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1F5-9212-4BF7-B598-5A7AED4F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564-9888-4D24-958E-A10A1FE4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65AE-A866-4D5B-8A8E-4C659A1E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7F5-4C95-418B-A22B-BE9566AE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F7A-173A-4F6B-A0D2-ACE8DD0E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EE26-9EDE-493C-A02F-B0C5611346F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F5FC-CE9E-4DC2-A394-47178C2989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72440" cy="72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2360" y="6310440"/>
            <a:ext cx="626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4726-DE8A-4736-975C-7AD3FA46AE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07:30:00Z</dcterms:created>
  <dc:creator>www.eeppt.com; An</dc:creator>
  <dc:description>ppt模板下载网站 http://www.eeppt.com</dc:description>
  <dc:language>en-US</dc:language>
  <cp:lastModifiedBy/>
  <dcterms:modified xsi:type="dcterms:W3CDTF">2015-05-27T12:02:5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