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8C6-D141-4C82-A3B2-71406F46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EC7-AC10-4F1C-AF1A-71050243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75C-6C80-417B-A86D-743DF7DB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913-3CC5-4490-A77F-8B095E8A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786-08F3-4152-9CE7-EE028D3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EC1-0ABC-47C7-B355-AB1072B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0AB-5AB9-4308-87EB-ADDA774F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9D4-2DE4-424F-B1EC-5BCC10B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4FE-491E-491E-9ACD-DA9EE142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621-38B3-4D4F-887A-DA7500F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EBD-DB7D-4A3B-9E6F-9402883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CA9-D953-45DE-98CF-BF3DB51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8168-7BA2-4AB2-81A4-615F70ED53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5115-FA09-4420-B1C8-727166B2E1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359-7BE2-4E90-9AF5-1BE322346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3:34:00Z</dcterms:created>
  <dc:creator>www.eeppt.com</dc:creator>
  <dc:description>ppt模板下载网站 http://www.eeppt.com</dc:description>
  <dc:language>en-US</dc:language>
  <cp:lastModifiedBy/>
  <dcterms:modified xsi:type="dcterms:W3CDTF">2015-05-22T15:24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