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80EC-CEBE-42FC-A7CE-F5D487D39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8C02-FF54-431C-ABF4-8615B3ED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6EBD-DACD-4237-8C14-55EF354A5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A00B-BB5B-404D-A4A3-4109571ED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74BF-48CF-4C5C-94D6-0BA2D011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3235-3385-4705-96EF-67581AA6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D7B4-65B7-45E6-BD12-2DE11F61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1C4B-DB32-41BF-83AC-65D44AC4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24C6-F079-44F2-9B83-0D7E9437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234E-31AB-4EF2-974F-BFCE2E2D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55D2-F233-48AD-BD71-44251E7D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86F4-3008-4FE0-8301-A4C58C1A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2406-4FA1-4A68-A0C4-45F1731AE8F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500280" y="4643280"/>
            <a:ext cx="52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超美风景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643200" y="514368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风景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5"/>
          <p:cNvSpPr/>
          <p:nvPr/>
        </p:nvSpPr>
        <p:spPr>
          <a:xfrm flipV="1">
            <a:off x="3643200" y="5146200"/>
            <a:ext cx="25005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32119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149760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478368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678384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342612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8"/>
          <p:cNvSpPr/>
          <p:nvPr/>
        </p:nvSpPr>
        <p:spPr>
          <a:xfrm>
            <a:off x="292608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564084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4070160" y="324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235476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299772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60696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578376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68551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349776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13546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499788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9"/>
          <p:cNvSpPr/>
          <p:nvPr/>
        </p:nvSpPr>
        <p:spPr>
          <a:xfrm>
            <a:off x="314064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449784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60696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54979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28548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eeppt.com; An</dc:creator>
  <dc:description>ppt模板下载网站 http://www.eeppt.com</dc:description>
  <dc:language>en-US</dc:language>
  <cp:lastModifiedBy/>
  <dcterms:modified xsi:type="dcterms:W3CDTF">2015-05-27T13:12:50Z</dcterms:modified>
  <cp:revision>8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