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651F-483E-4693-A013-BC4E12939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4C9E-37FA-474F-BFF4-7694E7669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56A7-A760-4B6C-AD81-4569D76F3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EEAD-2984-4201-B0D0-B21301B0B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88B9-7B56-46BD-841A-597E20E54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4C43-F763-42EF-8E73-8AC4D36CB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ED3B-B7DA-4D8F-995B-485FE7697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3BFA-9E4F-48F6-8A09-E5FC75D94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D55B-888E-42D9-8A09-2C6517C0F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D974-285F-4A15-B749-ABB098352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837F-FDEA-4894-A9A5-3A58D47CC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2FEE-6499-4580-BFFD-4BDD995F9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74281-64BB-468B-A1ED-0E2A1A5BC8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moban/kejian/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403280" y="83664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第一节   从生物圈到细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181080" y="1484640"/>
            <a:ext cx="8783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学习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举例说出生命活动建立在细胞的基础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举例说明生命系统的结构层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细胞→组织→器官→系统→个体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种群→群落→生态系统→生物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认同细胞是基本的生命系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胞是构成生物体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结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功能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基本单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395280" y="4724280"/>
            <a:ext cx="619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学习重点和难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理解生命系统的结构层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认同细胞是基本的生命系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005"/>
          <p:cNvPicPr/>
          <p:nvPr/>
        </p:nvPicPr>
        <p:blipFill>
          <a:blip r:embed="rId1"/>
          <a:stretch/>
        </p:blipFill>
        <p:spPr>
          <a:xfrm>
            <a:off x="1476360" y="-828720"/>
            <a:ext cx="6191280" cy="85154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6"/>
          <p:cNvSpPr/>
          <p:nvPr/>
        </p:nvSpPr>
        <p:spPr>
          <a:xfrm>
            <a:off x="611280" y="404640"/>
            <a:ext cx="64764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4"/>
          <p:cNvSpPr/>
          <p:nvPr/>
        </p:nvSpPr>
        <p:spPr>
          <a:xfrm>
            <a:off x="1835640" y="1267200"/>
            <a:ext cx="55040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下列关于病毒的叙述中，正确的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  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病毒属于无成形细胞核的原核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病毒是无细胞结构的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病毒寄生于活细胞的表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只有在高倍显微镜下才可以看到病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1696680" y="369000"/>
            <a:ext cx="163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例题解析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1804680" y="3940560"/>
            <a:ext cx="5676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解析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病毒没有细胞结构，其结构甚至比原核细胞要简单得多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多数病毒由蛋白质外壳组成衣壳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其遗传物质核酸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被包围在其内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所有的病毒营寄生生活，离开宿主细胞，就难以长久生活和繁殖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由于病毒大小以纳米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m,10-9 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计，因而光学显微镜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难以观察到，只有借助于电子显微镜才能观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7596360" y="1341360"/>
            <a:ext cx="64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6310440"/>
            <a:ext cx="57499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4"/>
          <p:cNvSpPr/>
          <p:nvPr/>
        </p:nvSpPr>
        <p:spPr>
          <a:xfrm>
            <a:off x="1872000" y="691200"/>
            <a:ext cx="5553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片草原上的全部黄羊和一片草原上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全部生物，在生命系统中分别属于什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     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种群和群落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种群和生态系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群落和种群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群落和生态系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360360" y="3429000"/>
            <a:ext cx="8532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解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一片草原上的全部黄羊可构成一个种群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片草原上的全部生物，包括着这个草原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所有植物、动物和微生物，即各个种群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总和，应构成群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7597440" y="12034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4"/>
          <p:cNvSpPr/>
          <p:nvPr/>
        </p:nvSpPr>
        <p:spPr>
          <a:xfrm>
            <a:off x="1725840" y="627480"/>
            <a:ext cx="58017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下列环境中的生物，属于种群的是（  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个公园中的花卉 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个牧场里的家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条河里的鱼     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个蜂巢里的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下列人体结构中，属于组织的是（ 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心脏 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神经元 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口腔上皮 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皮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1518120" y="4051800"/>
            <a:ext cx="6117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浅海中，牡蛎与鱼类、节肢动物、棘皮动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等生物生活在一起。这些生物构成了（ 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群落  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种群  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生态系统  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生物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7524720" y="62064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7021440" y="2565360"/>
            <a:ext cx="9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7093080" y="4581360"/>
            <a:ext cx="7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4"/>
          <p:cNvSpPr/>
          <p:nvPr/>
        </p:nvSpPr>
        <p:spPr>
          <a:xfrm>
            <a:off x="-3240" y="646920"/>
            <a:ext cx="91123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 组成生物体的化学成分中，蛋白质是生命活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主要承担者，核酸是遗传信息的携带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那么地球上最基本的生命系统是（ 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核酸  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细胞  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周的胚胎  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生物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下列关于细胞与生命活动的叙述，错误的是（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生命活动都离不开细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病毒不具有细胞结构，所以它的生命活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细胞无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细胞是生物体结构和功能的基本单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多细胞生物依赖高度分化的细胞密切协作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才能完成生命活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6084720" y="134136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396720" y="29210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2195640" y="17733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完成课后练习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SARS"/>
          <p:cNvPicPr/>
          <p:nvPr/>
        </p:nvPicPr>
        <p:blipFill>
          <a:blip r:embed="rId1"/>
          <a:stretch/>
        </p:blipFill>
        <p:spPr>
          <a:xfrm>
            <a:off x="468360" y="1781280"/>
            <a:ext cx="3843360" cy="3232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SARS图2"/>
          <p:cNvPicPr/>
          <p:nvPr/>
        </p:nvPicPr>
        <p:blipFill>
          <a:blip r:embed="rId2"/>
          <a:stretch/>
        </p:blipFill>
        <p:spPr>
          <a:xfrm>
            <a:off x="5148360" y="1739880"/>
            <a:ext cx="3744720" cy="32972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7"/>
          <p:cNvSpPr/>
          <p:nvPr/>
        </p:nvSpPr>
        <p:spPr>
          <a:xfrm>
            <a:off x="1587600" y="356400"/>
            <a:ext cx="3533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自学引领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一、生命活动离不开细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1692360" y="558972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RS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病毒模式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1476360" y="4437000"/>
            <a:ext cx="59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果没有细胞结构，它还能完成各项生命活动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"/>
          <p:cNvPicPr/>
          <p:nvPr/>
        </p:nvPicPr>
        <p:blipFill>
          <a:blip r:embed="rId1"/>
          <a:stretch/>
        </p:blipFill>
        <p:spPr>
          <a:xfrm>
            <a:off x="1835280" y="907920"/>
            <a:ext cx="590544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105520" cy="44960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1042920" y="486900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你和父母之间，什么细胞充当遗传物质的“桥梁”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3059280" y="5661000"/>
            <a:ext cx="37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精子和卵细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1547640" y="692280"/>
            <a:ext cx="5761080" cy="34923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900000" y="4005360"/>
            <a:ext cx="561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完成一次缩手反射，需要哪些细胞的参与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现在进行的学习活动，需要哪些细胞的参与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2556000" y="4508640"/>
            <a:ext cx="39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神经细胞和骨骼肌细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2916360" y="5734080"/>
            <a:ext cx="35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主要是神经细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艾滋病病毒图1"/>
          <p:cNvPicPr/>
          <p:nvPr/>
        </p:nvPicPr>
        <p:blipFill>
          <a:blip r:embed="rId1"/>
          <a:stretch/>
        </p:blipFill>
        <p:spPr>
          <a:xfrm>
            <a:off x="6659640" y="3141720"/>
            <a:ext cx="2004840" cy="1693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艾滋病病毒图2"/>
          <p:cNvPicPr/>
          <p:nvPr/>
        </p:nvPicPr>
        <p:blipFill>
          <a:blip r:embed="rId2"/>
          <a:stretch/>
        </p:blipFill>
        <p:spPr>
          <a:xfrm>
            <a:off x="0" y="260280"/>
            <a:ext cx="635004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艾滋病病毒图4"/>
          <p:cNvPicPr/>
          <p:nvPr/>
        </p:nvPicPr>
        <p:blipFill>
          <a:blip r:embed="rId1"/>
          <a:stretch/>
        </p:blipFill>
        <p:spPr>
          <a:xfrm>
            <a:off x="2627280" y="765000"/>
            <a:ext cx="3238560" cy="288324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755640" y="443700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ID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获得性免疫缺陷综合症）是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V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病毒感染淋巴细胞引起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684360" y="1319040"/>
            <a:ext cx="806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细胞是生物体的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结构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单位和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功能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单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病毒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是没有细胞结构的生物，但必须依赖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活细胞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才能生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单细胞生物的生命活动以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细胞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基本单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多细胞生物依赖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各种分化的细胞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密切合作，共同完成一系列的生命活动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468360" y="333360"/>
            <a:ext cx="21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总结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1116000" y="1125360"/>
            <a:ext cx="53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二、生命系统的结构层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395280" y="2205000"/>
            <a:ext cx="79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阅读课本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-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页找出生命系统的层次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611280" y="342900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完成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页 “ 思考与讨论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2T00:54:00Z</dcterms:created>
  <dc:creator>www.eeppt.com; An</dc:creator>
  <dc:description>ppt模板下载网站 http://www.eeppt.com</dc:description>
  <dc:language>en-US</dc:language>
  <cp:lastModifiedBy/>
  <dcterms:modified xsi:type="dcterms:W3CDTF">2015-05-27T14:41:50Z</dcterms:modified>
  <cp:revision>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