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5C9F-4BB7-4A83-BCDB-C77BA5AC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F60-CAFF-4E4A-AF81-000B0EC9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E08-0354-47B8-8DD0-DE58F163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4316-912D-4FBD-BFE6-DADC062F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1A7-9155-42E5-ABF7-CED8BD2B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ACE-9093-42B6-BDF3-41ECC55B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691-56EC-4ED3-AF2B-77733BD6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356-A8E7-4C8C-9E0A-3835FC79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E06-04C5-41E8-90FA-E130279D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E8E-2023-4992-BEBC-FC94B40D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2D6C-F6D6-463F-8B09-AB30D58F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CE6-D0BD-453D-B809-6DD5F097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FF90-B829-4ACB-B87E-2D2E49320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audio" Target="file:///usr/lib/libreoffice/share/gallery/sounds/laser.wav" TargetMode="External"/><Relationship Id="rId8" Type="http://schemas.microsoft.com/office/2007/relationships/media" Target="file:///usr/lib/libreoffice/share/gallery/sounds/laser.wav" TargetMode="Externa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toy00001.wav" TargetMode="External"/><Relationship Id="rId3" Type="http://schemas.microsoft.com/office/2007/relationships/media" Target="file:///tmp/home/.config/libreoffice/4/user/gallery/toy00001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SUM00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5228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4" name="WordArt 9"/>
          <p:cNvSpPr txBox="1"/>
          <p:nvPr/>
        </p:nvSpPr>
        <p:spPr>
          <a:xfrm rot="21576000">
            <a:off x="1828800" y="2057400"/>
            <a:ext cx="6248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24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Times New Roman"/>
              </a:rPr>
              <a:t>从现在开始</a:t>
            </a:r>
            <a:endParaRPr b="1" lang="en-US" sz="9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24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60360" y="2637000"/>
            <a:ext cx="70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从现在开始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课件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BRL00030"/>
          <p:cNvPicPr/>
          <p:nvPr/>
        </p:nvPicPr>
        <p:blipFill>
          <a:blip r:embed="rId1"/>
          <a:stretch/>
        </p:blipFill>
        <p:spPr>
          <a:xfrm>
            <a:off x="0" y="-533520"/>
            <a:ext cx="5334120" cy="739152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>
            <a:off x="4343400" y="304920"/>
            <a:ext cx="0" cy="632448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4648320" y="533520"/>
            <a:ext cx="4190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方正楷体简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楷体简体"/>
              </a:rPr>
              <a:t>袋鼠虽然你落选了，可你不要灰心丧气，只要你懂得尊重别人的生活习惯，认识到自己的不足，取长补短，下次再竞选“万兽之王”时，我相信你一定能成功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5181480" y="12193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5257800" y="2590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7"/>
          <p:cNvSpPr/>
          <p:nvPr/>
        </p:nvSpPr>
        <p:spPr>
          <a:xfrm>
            <a:off x="5257800" y="38098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8"/>
          <p:cNvSpPr/>
          <p:nvPr/>
        </p:nvSpPr>
        <p:spPr>
          <a:xfrm>
            <a:off x="5029200" y="5029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9"/>
          <p:cNvSpPr/>
          <p:nvPr/>
        </p:nvSpPr>
        <p:spPr>
          <a:xfrm>
            <a:off x="5181480" y="60958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2840" y="6854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 会  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现在开始，你们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当‘万兽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王’，每个动物当一个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个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是猫头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现在开始，每个动物都照自己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过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狮子见了，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眯地说：“不用再往下轮了。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宣布，从现在开始，小猴子就是‘万兽之王’了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RIT00173"/>
          <p:cNvPicPr/>
          <p:nvPr/>
        </p:nvPicPr>
        <p:blipFill>
          <a:blip r:embed="rId1"/>
          <a:stretch/>
        </p:blipFill>
        <p:spPr>
          <a:xfrm>
            <a:off x="380880" y="152280"/>
            <a:ext cx="199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6091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 会  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之      轮      期            第      任      惯    式      眯      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RIT00024"/>
          <p:cNvPicPr/>
          <p:nvPr/>
        </p:nvPicPr>
        <p:blipFill>
          <a:blip r:embed="rId1"/>
          <a:stretch/>
        </p:blipFill>
        <p:spPr>
          <a:xfrm>
            <a:off x="457200" y="228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SUM00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BRL00007"/>
          <p:cNvPicPr/>
          <p:nvPr/>
        </p:nvPicPr>
        <p:blipFill>
          <a:blip r:embed="rId2"/>
          <a:stretch/>
        </p:blipFill>
        <p:spPr>
          <a:xfrm>
            <a:off x="228600" y="3657600"/>
            <a:ext cx="4191120" cy="265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BRL00012"/>
          <p:cNvPicPr/>
          <p:nvPr/>
        </p:nvPicPr>
        <p:blipFill>
          <a:blip r:embed="rId3"/>
          <a:stretch/>
        </p:blipFill>
        <p:spPr>
          <a:xfrm>
            <a:off x="5334120" y="28954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BRL00062"/>
          <p:cNvPicPr/>
          <p:nvPr/>
        </p:nvPicPr>
        <p:blipFill>
          <a:blip r:embed="rId4"/>
          <a:stretch/>
        </p:blipFill>
        <p:spPr>
          <a:xfrm>
            <a:off x="-762120" y="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BRL00215"/>
          <p:cNvPicPr/>
          <p:nvPr/>
        </p:nvPicPr>
        <p:blipFill>
          <a:blip r:embed="rId5"/>
          <a:stretch/>
        </p:blipFill>
        <p:spPr>
          <a:xfrm>
            <a:off x="2514600" y="4114800"/>
            <a:ext cx="3429000" cy="3048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1295280" y="4114800"/>
            <a:ext cx="1143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之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7162920" y="4572000"/>
            <a:ext cx="12189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第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066680" y="1600200"/>
            <a:ext cx="9144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任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3657600" y="5557680"/>
            <a:ext cx="13716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式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5" descr="NIL00026"/>
          <p:cNvPicPr/>
          <p:nvPr/>
        </p:nvPicPr>
        <p:blipFill>
          <a:blip r:embed="rId6"/>
          <a:stretch/>
        </p:blipFill>
        <p:spPr>
          <a:xfrm>
            <a:off x="4267080" y="0"/>
            <a:ext cx="426420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6"/>
          <p:cNvSpPr/>
          <p:nvPr/>
        </p:nvSpPr>
        <p:spPr>
          <a:xfrm>
            <a:off x="5029200" y="762120"/>
            <a:ext cx="12193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郑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35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RIT00043"/>
          <p:cNvPicPr/>
          <p:nvPr/>
        </p:nvPicPr>
        <p:blipFill>
          <a:blip r:embed="rId1"/>
          <a:stretch/>
        </p:blipFill>
        <p:spPr>
          <a:xfrm>
            <a:off x="228600" y="228600"/>
            <a:ext cx="2743200" cy="2249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048120" y="838080"/>
            <a:ext cx="44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我  会 写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990720" y="3200400"/>
            <a:ext cx="70866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9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第      轮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133720" y="3048120"/>
            <a:ext cx="1752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2057400" y="3581280"/>
            <a:ext cx="1676520" cy="13716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2209680" y="3048120"/>
            <a:ext cx="152424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2209680" y="3809880"/>
            <a:ext cx="14479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2971800" y="3124080"/>
            <a:ext cx="0" cy="1447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5410080" y="3048120"/>
            <a:ext cx="152424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5334120" y="388620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7"/>
          <p:cNvSpPr/>
          <p:nvPr/>
        </p:nvSpPr>
        <p:spPr>
          <a:xfrm>
            <a:off x="6172200" y="304812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6237360"/>
            <a:ext cx="5624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说课ppt模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能 读 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RIT00137"/>
          <p:cNvPicPr/>
          <p:nvPr/>
        </p:nvPicPr>
        <p:blipFill>
          <a:blip r:embed="rId1"/>
          <a:stretch/>
        </p:blipFill>
        <p:spPr>
          <a:xfrm>
            <a:off x="304920" y="0"/>
            <a:ext cx="2209680" cy="1905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个上任的是猫头鹰。它想到自己成为了“万兽之王”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神气极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立刻下令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“从现在开始，你们都要跟我一样，白天休息，夜里做事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个星期，轮到袋鼠上任了。他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激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地说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“从现在开始，你们都要跳着走路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大家听了议论纷纷，可是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不得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服从命令，只好天天熬夜。一个星期下来，动物们都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叫苦连天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听了袋鼠的话，大家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直摇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可是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不得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服从命令，只好苦练跳的本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04920" y="0"/>
            <a:ext cx="2133360" cy="2062080"/>
            <a:chOff x="304920" y="0"/>
            <a:chExt cx="2133360" cy="2062080"/>
          </a:xfrm>
        </p:grpSpPr>
        <p:pic>
          <p:nvPicPr>
            <p:cNvPr id="81" name="Picture 4" descr=""/>
            <p:cNvPicPr/>
            <p:nvPr/>
          </p:nvPicPr>
          <p:blipFill>
            <a:blip r:embed="rId1"/>
            <a:stretch/>
          </p:blipFill>
          <p:spPr>
            <a:xfrm>
              <a:off x="304920" y="0"/>
              <a:ext cx="213336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 txBox="1"/>
            <p:nvPr/>
          </p:nvSpPr>
          <p:spPr>
            <a:xfrm>
              <a:off x="304920" y="0"/>
              <a:ext cx="2133360" cy="206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Rectangle 5"/>
          <p:cNvSpPr/>
          <p:nvPr/>
        </p:nvSpPr>
        <p:spPr>
          <a:xfrm>
            <a:off x="2790360" y="954000"/>
            <a:ext cx="3301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能 读 好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77320" y="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880" y="22096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三个星期，轮到小猴子当“万兽之王”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大家都非常担心：他会不会命令我们从现在开始，都得住在树上，成天抓着藤条荡来荡去？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谁知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小猴子只说了一句话：“从现在开始，每个动物都照自己习惯的方式过日子。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话音刚落，大伙儿立刻欢呼起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28600" y="0"/>
            <a:ext cx="2133720" cy="2057400"/>
            <a:chOff x="228600" y="0"/>
            <a:chExt cx="2133720" cy="2057400"/>
          </a:xfrm>
        </p:grpSpPr>
        <p:pic>
          <p:nvPicPr>
            <p:cNvPr id="87" name="Picture 4" descr=""/>
            <p:cNvPicPr/>
            <p:nvPr/>
          </p:nvPicPr>
          <p:blipFill>
            <a:blip r:embed="rId1"/>
            <a:stretch/>
          </p:blipFill>
          <p:spPr>
            <a:xfrm>
              <a:off x="228600" y="0"/>
              <a:ext cx="213372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 txBox="1"/>
            <p:nvPr/>
          </p:nvSpPr>
          <p:spPr>
            <a:xfrm>
              <a:off x="228600" y="0"/>
              <a:ext cx="2133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Rectangle 5"/>
          <p:cNvSpPr/>
          <p:nvPr/>
        </p:nvSpPr>
        <p:spPr>
          <a:xfrm>
            <a:off x="2714040" y="725400"/>
            <a:ext cx="3301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能 读 好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狮子见了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笑眯眯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地说：“不用再往下轮了。我郑重宣布，从现在开始，小猴子就是‘万兽之王’！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80880" y="380880"/>
            <a:ext cx="1905120" cy="1836720"/>
            <a:chOff x="380880" y="380880"/>
            <a:chExt cx="1905120" cy="1836720"/>
          </a:xfrm>
        </p:grpSpPr>
        <p:pic>
          <p:nvPicPr>
            <p:cNvPr id="92" name="Picture 4" descr=""/>
            <p:cNvPicPr/>
            <p:nvPr/>
          </p:nvPicPr>
          <p:blipFill>
            <a:blip r:embed="rId1"/>
            <a:stretch/>
          </p:blipFill>
          <p:spPr>
            <a:xfrm>
              <a:off x="380880" y="380880"/>
              <a:ext cx="1905120" cy="18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 txBox="1"/>
            <p:nvPr/>
          </p:nvSpPr>
          <p:spPr>
            <a:xfrm>
              <a:off x="380880" y="380880"/>
              <a:ext cx="1905120" cy="18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5"/>
          <p:cNvSpPr/>
          <p:nvPr/>
        </p:nvSpPr>
        <p:spPr>
          <a:xfrm>
            <a:off x="2942640" y="725400"/>
            <a:ext cx="3301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能 读 好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30-09-14T01:45:35Z</dcterms:created>
  <dc:creator>www.eeppt.com; An</dc:creator>
  <dc:description>ppt模板下载网站 http://www.eeppt.com</dc:description>
  <dc:language>en-US</dc:language>
  <cp:lastModifiedBy/>
  <dcterms:modified xsi:type="dcterms:W3CDTF">2015-05-27T14:45:03Z</dcterms:modified>
  <cp:revision>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