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307-A063-4255-93CD-677903CB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101-6C70-4AFD-ADC4-0F98601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664-3C57-496B-A432-3E695275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1AC-4A98-48FF-ABE3-D8A8E1C2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BCF-F718-4F25-9A44-45EF37B0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F09-2720-4DE1-9C8F-F7084DF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6DE-CEEB-4489-BE08-7B6D488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E23-3AEB-43F1-9C5F-FB210F63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CF8-803F-4342-B8D3-BF5D639D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89E-38F7-4C6E-B9CF-A720FA1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6F8-B427-4E1F-BBCE-A6DBDFE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EA7-355C-4DCE-A458-0C60E6A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EDC-D0E9-44F5-8B7D-94127B88E8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703dff"/>
                </a:solidFill>
                <a:latin typeface="Comic Sans MS"/>
              </a:rPr>
              <a:t>倒数的认识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6165720"/>
            <a:ext cx="565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课件下载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11280" y="1735200"/>
                <a:ext cx="25192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写出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、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68720" y="1735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64000" y="1692360"/>
                <a:ext cx="4114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9640" y="2959200"/>
                <a:ext cx="2519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8720" y="2959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80200" y="2930400"/>
                <a:ext cx="377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316080" y="698400"/>
                <a:ext cx="7448400" cy="58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>www.eeppt.com; An</dc:creator>
  <dc:description>ppt模板下载网站 http://www.eeppt.com</dc:description>
  <dc:language>en-US</dc:language>
  <cp:lastModifiedBy/>
  <dcterms:modified xsi:type="dcterms:W3CDTF">2015-05-27T14:47:5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