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C05-B100-4E9A-9EE9-21F3B67E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DD6-FCDC-4068-90E0-3DDA060D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4EF-E3F6-434B-9D28-E7428409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630-E068-49B8-BBA7-464DC78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8D7-CCF3-4867-A2AC-E6EE14F2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E81-6A10-4055-9D1B-6CBF7F97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679-122E-4DE9-8120-D9A5E96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F4A-460B-4B3C-8B6E-631E695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F52-72C6-44E5-B99F-D2E37AC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017-2D24-427D-8552-1AEEADCC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A9E-4FCA-4A50-AB7D-A7A6B670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64D-014D-4573-850F-831DAA71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FD00-87B8-4580-AF0B-CCE03AAA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D2A4-81C2-4234-A679-596387D5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8B9C-A8EB-4570-8F1C-85DF7968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74AB-EA9A-48DC-976D-9F387FAB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8210-D756-475C-9E19-1EE6FDC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15BE-65A8-4457-A8FE-E563D1AF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A158-3617-4807-965E-6A759E5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D039-9C08-458E-886F-D9B53704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4DE4-A5A0-4A0D-A8B4-6FB5A65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5722-CFE4-4922-B356-F6BF02E6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4B5C-FB24-4E5B-9509-4FF4BBE7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FD11-9F60-4BEC-9264-799EA56F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C49D-9B07-4B25-8788-86323B1D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FF74-D93B-4C7A-B5C2-B1B0B0B1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01A7-F649-4079-A6F6-F85F6BF6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32F1-0C5C-4011-9ABE-26970069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2301-0492-4C73-B149-58BEAF08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87E5-0CFE-4CEA-970D-9FBCED31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E396-0639-4641-875D-7C39786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8E2B-D56D-41DE-890A-5F36A840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1BC1-E57C-4333-A18F-C0905242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000" y="4219920"/>
            <a:ext cx="82184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50AE-ADA6-4D0B-9D2C-9E304271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800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9280" y="4219920"/>
            <a:ext cx="4010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D7C6-0044-442F-ADA9-981B2CD9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684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5320" y="169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00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684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5320" y="4219920"/>
            <a:ext cx="264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6DCEE-1430-40C1-A1E7-39264053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E681-5B26-4D89-BA81-A27430AFF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0000"/>
            </a:gs>
            <a:gs pos="100000">
              <a:srgbClr val="4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5475-9959-4E51-92D1-99D908045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50920" y="260280"/>
            <a:ext cx="8713800" cy="64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9543-32A4-42D8-8C18-58057500CD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488,25,&#20108;&#12289;&#22914;&#20309;&#35268;&#21010;&#32844;&#19994;&#29983;&#28079;" TargetMode="External"/><Relationship Id="rId2" Type="http://schemas.openxmlformats.org/officeDocument/2006/relationships/hyperlink" Target="488,25,&#20108;&#12289;&#22914;&#20309;&#35268;&#21010;&#32844;&#19994;&#29983;&#28079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473,10,&#20154;&#30340;&#29983;&#28079;&#21457;&#23637;" TargetMode="External"/><Relationship Id="rId2" Type="http://schemas.openxmlformats.org/officeDocument/2006/relationships/hyperlink" Target="482,17,&#29983;&#28079;&#35268;&#21010;&#30340;&#24847;&#20041;" TargetMode="External"/><Relationship Id="rId3" Type="http://schemas.openxmlformats.org/officeDocument/2006/relationships/hyperlink" Target="486,19,4.&#32844;&#19994;&#21457;&#23637;&#19982;&#20154;&#29983;&#25104;&#21151;" TargetMode="Externa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hyperlink" Target="http://www.eeppt.com/moban/gongzuo/" TargetMode="External"/><Relationship Id="rId3" Type="http://schemas.openxmlformats.org/officeDocument/2006/relationships/hyperlink" Target="http://www.eeppt.com/moban/gongzuo/" TargetMode="Externa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1"/>
          <p:cNvSpPr/>
          <p:nvPr/>
        </p:nvSpPr>
        <p:spPr>
          <a:xfrm>
            <a:off x="0" y="765000"/>
            <a:ext cx="89647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彩云"/>
              </a:rPr>
              <a:t>规划人生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华文彩云"/>
              </a:rPr>
              <a:t>  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彩云"/>
              </a:rPr>
              <a:t>成就未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971640" y="2349360"/>
            <a:ext cx="69832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大学生职业生涯规划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徐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大学生职业选择的误区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8282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从众心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羊群效应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经验至上论和信心过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先入为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安于现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总想证明过去的决策是正确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寻求支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形式决定答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</a:rPr>
              <a:t>人的生涯发展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年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的年龄可以分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生日年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生理年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社会年龄（或心理年龄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容貌年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人生发展周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将人生分为三个维度的发展周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生命周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家庭周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职业生涯周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职业发展的特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15760" y="1844640"/>
            <a:ext cx="7427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不可逆转性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可规划性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阶段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人生发展周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755640" y="2206800"/>
            <a:ext cx="1368360" cy="64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幼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2195640" y="2205000"/>
            <a:ext cx="1368360" cy="649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少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06920" y="2205000"/>
            <a:ext cx="1368360" cy="649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青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5291280" y="2206800"/>
            <a:ext cx="1368360" cy="64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壮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6875640" y="2206800"/>
            <a:ext cx="1368360" cy="64908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老年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476360" y="3068640"/>
            <a:ext cx="5761080" cy="792000"/>
          </a:xfrm>
          <a:prstGeom prst="downArrowCallout">
            <a:avLst>
              <a:gd name="adj1" fmla="val 181802"/>
              <a:gd name="adj2" fmla="val 181852"/>
              <a:gd name="adj3" fmla="val 50301"/>
              <a:gd name="adj4" fmla="val 34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755640" y="4005360"/>
            <a:ext cx="7488360" cy="14396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岁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岁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从事职业的时间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年，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46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2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3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4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涯发展阶段理论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468360" y="1052640"/>
            <a:ext cx="8218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舒伯的职业生涯发展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成长阶段、探索阶段、建立阶段、维持阶段、衰退阶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金斯伯格的职业生涯阶段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幻想期、尝试期、现实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格林豪斯的职业生涯阶段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职业准备、进入组织、职业生涯初期、职业生涯中期、职业生涯后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丹尼尔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·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莱文森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Daniel J. Levinson)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：职业生涯七阶段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9280" y="1052640"/>
          <a:ext cx="8785080" cy="5472000"/>
        </p:xfrm>
        <a:graphic>
          <a:graphicData uri="http://schemas.openxmlformats.org/drawingml/2006/table">
            <a:tbl>
              <a:tblPr/>
              <a:tblGrid>
                <a:gridCol w="1197000"/>
                <a:gridCol w="1512720"/>
                <a:gridCol w="607536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年龄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职业生涯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主要任务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2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建立基础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建立个人独立性及自信心，学习基础知识和技能的阶段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3-2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进入成年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选择自己的生活方式，建立工作目标，面对第一次事业成功或失败的阶段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3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改变适应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个人的事业逐渐成熟，许多人通过更换工作来调整生活方式，确定和强化个人的价值及生活方向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3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事业前进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工作是个人生活的最主要项目，工作能力达到最高峰，但常常遇到家庭的压力和重新适应社会变化的困难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9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4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中年危机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有些人回顾以往不如意，但并非每个人都将此视为危机，有些人将目标及生活方式重新再调整，做一些新尝试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2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50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开放发展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大部分人的事业已达到顶峰，能力和事业心已获充分展现，是重新调整工作兴趣的阶段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岁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退休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维持回忆阶段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这一阶段许多人继续发展，增进自我了解，但有些人却开始衰退。</a:t>
                      </a:r>
                      <a:endParaRPr b="1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文鼎特粗圆简"/>
                <a:ea typeface="文鼎特粗圆简"/>
              </a:rPr>
              <a:t>几个生涯发展小故事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95280" y="1413000"/>
            <a:ext cx="874872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孔子的人生阶段规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吾十有五而志于学，三十而立，四十而不惑，五十而知天命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六十而耳顺，七十而从心所欲，不逾矩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耐基的人生阶段划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变化的二十岁，充实的三十岁，成熟的四十岁，秋暮的五十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比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拉福的职业发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429264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中学毕业时，拉福立志经商，但他大学并没有直接读贸易专业，而是选择了工科中最基础的机械制造。四年学习中他广泛接触其他课程，毕业后也没有立即扎进商海，而是攻读经济学硕士学位。在拿到硕士学位后，他报考了公务员，并且一干就是五年。之后，拉福辞去公职，去了通用公司熟悉商业业务。又经过两年，他才辞职创立拉福商贸公司，开始正式实施中学毕业时的梦想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8028000" y="6093000"/>
            <a:ext cx="762120" cy="457200"/>
          </a:xfrm>
          <a:custGeom>
            <a:avLst/>
            <a:gdLst>
              <a:gd name="textAreaLeft" fmla="*/ 28440 w 762120"/>
              <a:gd name="textAreaRight" fmla="*/ 733680 w 7621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644" y="1350"/>
                </a:lnTo>
                <a:lnTo>
                  <a:pt x="1350" y="135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644" y="20250"/>
                </a:lnTo>
                <a:lnTo>
                  <a:pt x="34644" y="135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4" y="2025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94" h="21600">
                <a:moveTo>
                  <a:pt x="17997" y="3800"/>
                </a:moveTo>
                <a:lnTo>
                  <a:pt x="20587" y="6425"/>
                </a:lnTo>
                <a:lnTo>
                  <a:pt x="20587" y="4675"/>
                </a:lnTo>
                <a:lnTo>
                  <a:pt x="22372" y="4675"/>
                </a:lnTo>
                <a:lnTo>
                  <a:pt x="22372" y="8210"/>
                </a:lnTo>
                <a:lnTo>
                  <a:pt x="24997" y="10800"/>
                </a:lnTo>
                <a:lnTo>
                  <a:pt x="23335" y="10800"/>
                </a:lnTo>
                <a:lnTo>
                  <a:pt x="23335" y="18028"/>
                </a:lnTo>
                <a:lnTo>
                  <a:pt x="12660" y="18028"/>
                </a:lnTo>
                <a:lnTo>
                  <a:pt x="12660" y="10800"/>
                </a:lnTo>
                <a:lnTo>
                  <a:pt x="10997" y="10800"/>
                </a:lnTo>
                <a:close/>
              </a:path>
              <a:path fill="darkenLess" w="35994" h="21600">
                <a:moveTo>
                  <a:pt x="20587" y="6425"/>
                </a:moveTo>
                <a:lnTo>
                  <a:pt x="20587" y="4675"/>
                </a:lnTo>
                <a:lnTo>
                  <a:pt x="22372" y="4675"/>
                </a:lnTo>
                <a:lnTo>
                  <a:pt x="22372" y="8210"/>
                </a:lnTo>
                <a:close/>
              </a:path>
              <a:path fill="darkenLess" w="35994" h="21600">
                <a:moveTo>
                  <a:pt x="17070" y="14318"/>
                </a:moveTo>
                <a:lnTo>
                  <a:pt x="18925" y="14318"/>
                </a:lnTo>
                <a:lnTo>
                  <a:pt x="18925" y="18028"/>
                </a:lnTo>
                <a:lnTo>
                  <a:pt x="23335" y="18028"/>
                </a:lnTo>
                <a:lnTo>
                  <a:pt x="23335" y="10800"/>
                </a:lnTo>
                <a:lnTo>
                  <a:pt x="12660" y="10800"/>
                </a:lnTo>
                <a:lnTo>
                  <a:pt x="12660" y="18028"/>
                </a:lnTo>
                <a:lnTo>
                  <a:pt x="17070" y="18028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涯规划的意义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" y="1812960"/>
            <a:ext cx="85075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实施战略举措，经营美好未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把握自己，争取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先设定一个高度，经过努力会跳得更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没有规划的人生注定要失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确立人生的方向，提供奋斗的策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塑造充实自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准确评价个人特点和强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评估个人目标和现状的差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准确定位职业方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重新认识自身价值并使其增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发现新的职业机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增强职业竞争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4598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将个人、事业与家庭联系起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职业发展与人生成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1812960"/>
            <a:ext cx="82184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生需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马斯洛的需求理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生理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安全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友爱和归属的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受尊敬的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自我实现的需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理论观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人的需要是有规律和分层次的，是由低级向高级不断发展的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这个层次一般是在低级需求满足之后，就会自动上升到新的更高级需求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性格是命，职业是运！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人们常说：性格决定命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其实，这句话只说对了一半。一个人的命运始终是由其性格和他所选择的职业来共同决定的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两个性格相同的人如果选择了不同的职业，其命运也注定不同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因此，性格是命，职业是运，性格与职业的组合，才真正构成了一个人的命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性格是支点，职业是杠杆！支点与杠杆同等重要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职业生涯规划，任何时候都不算晚，</a:t>
            </a:r>
            <a:r>
              <a:rPr b="0" i="1" lang="zh-CN" sz="3200" spc="-1" strike="noStrike">
                <a:solidFill>
                  <a:srgbClr val="ffffff"/>
                </a:solidFill>
                <a:latin typeface="黑体"/>
              </a:rPr>
              <a:t>立即行动吧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250920" y="692280"/>
            <a:ext cx="8218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职业成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职业成功评价体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自我评价：本人 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—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根据个人的价值观及个人知识能力水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家庭评价：父母、配偶、子女等 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—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根据家庭文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企业评价：上级、平级、下级 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—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根据企业管理体系、企业文化及企业总体经营结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社会评价：社会舆论或组织 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—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根据社会文明程度、历史进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5040" y="5905440"/>
            <a:ext cx="755640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职业生涯规划ppt模板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Arial"/>
              </a:rPr>
              <a:t>职业生涯成功是人生成功的核心组成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591920"/>
            <a:ext cx="86421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  <a:ea typeface="宋体"/>
              </a:rPr>
              <a:t>职业生涯成功方向和成功标准的多样性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进取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视成功为升入组织或职业的最高阶层。特  别注重在群体中的地位，追求更好职务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安全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追求认可、稳定；视成功为长期的稳定和相应不变的工作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自由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追求不被控制；视成功为经历的多样性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攀登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挑战、冒险，愿意做创新工作，视成功为螺旋式不断上升、自我完善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00"/>
              </a:lnSpc>
              <a:buClr>
                <a:srgbClr val="0099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宋体"/>
              </a:rPr>
              <a:t>平衡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视成功为家庭、事业、自我事物等均衡协调发展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职业生涯规划的关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在职业生涯发展的道路上，重要的不是你现在所处的位置，而是你迈出下一步的方向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什么时候你的工作热情和努力程度不为你的工资、待遇以及同事、老板对你的议论、评价所减低时，从这个时候起，你就开始为自己打工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文鼎特粗圆简"/>
              </a:rPr>
              <a:t>二、如何规划职业生涯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493560" y="1557360"/>
            <a:ext cx="868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规划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步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O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析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asv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循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职业＝行业＋职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成本收益分析法（出国、读研、就业与创业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要素综合分析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宏观微观分析法（行业分析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2"/>
          <p:cNvGrpSpPr/>
          <p:nvPr/>
        </p:nvGrpSpPr>
        <p:grpSpPr>
          <a:xfrm>
            <a:off x="995400" y="260280"/>
            <a:ext cx="7824600" cy="6408720"/>
            <a:chOff x="995400" y="260280"/>
            <a:chExt cx="7824600" cy="6408720"/>
          </a:xfrm>
        </p:grpSpPr>
        <p:sp>
          <p:nvSpPr>
            <p:cNvPr id="393" name="Rectangle 3"/>
            <p:cNvSpPr/>
            <p:nvPr/>
          </p:nvSpPr>
          <p:spPr>
            <a:xfrm>
              <a:off x="1908000" y="404640"/>
              <a:ext cx="6769080" cy="936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"/>
            <p:cNvSpPr/>
            <p:nvPr/>
          </p:nvSpPr>
          <p:spPr>
            <a:xfrm>
              <a:off x="1908000" y="1628640"/>
              <a:ext cx="6769080" cy="936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5"/>
            <p:cNvSpPr/>
            <p:nvPr/>
          </p:nvSpPr>
          <p:spPr>
            <a:xfrm>
              <a:off x="1908000" y="2924280"/>
              <a:ext cx="6769080" cy="936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"/>
            <p:cNvSpPr/>
            <p:nvPr/>
          </p:nvSpPr>
          <p:spPr>
            <a:xfrm>
              <a:off x="1908000" y="4292640"/>
              <a:ext cx="6769080" cy="936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7"/>
            <p:cNvSpPr/>
            <p:nvPr/>
          </p:nvSpPr>
          <p:spPr>
            <a:xfrm>
              <a:off x="1908000" y="5661000"/>
              <a:ext cx="6769080" cy="9367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"/>
            <p:cNvSpPr/>
            <p:nvPr/>
          </p:nvSpPr>
          <p:spPr>
            <a:xfrm>
              <a:off x="4932360" y="119700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9"/>
            <p:cNvSpPr/>
            <p:nvPr/>
          </p:nvSpPr>
          <p:spPr>
            <a:xfrm>
              <a:off x="4932360" y="249228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0"/>
            <p:cNvSpPr/>
            <p:nvPr/>
          </p:nvSpPr>
          <p:spPr>
            <a:xfrm>
              <a:off x="4932360" y="371628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1"/>
            <p:cNvSpPr/>
            <p:nvPr/>
          </p:nvSpPr>
          <p:spPr>
            <a:xfrm>
              <a:off x="4859280" y="5157720"/>
              <a:ext cx="647640" cy="64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2195280" y="765000"/>
              <a:ext cx="619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2339640" y="765000"/>
              <a:ext cx="5616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4"/>
            <p:cNvSpPr/>
            <p:nvPr/>
          </p:nvSpPr>
          <p:spPr>
            <a:xfrm>
              <a:off x="2268360" y="476280"/>
              <a:ext cx="5975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are you 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是谁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5"/>
            <p:cNvSpPr/>
            <p:nvPr/>
          </p:nvSpPr>
          <p:spPr>
            <a:xfrm>
              <a:off x="2268360" y="1773000"/>
              <a:ext cx="626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you want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想做什么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6"/>
            <p:cNvSpPr/>
            <p:nvPr/>
          </p:nvSpPr>
          <p:spPr>
            <a:xfrm>
              <a:off x="2124000" y="2997000"/>
              <a:ext cx="669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can you do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能做什么 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7"/>
            <p:cNvSpPr/>
            <p:nvPr/>
          </p:nvSpPr>
          <p:spPr>
            <a:xfrm>
              <a:off x="2195280" y="4149720"/>
              <a:ext cx="65516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can you support you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环境支持或允许我做什么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2050920" y="5661000"/>
              <a:ext cx="655308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99"/>
                  </a:solidFill>
                  <a:latin typeface="Times New Roman"/>
                  <a:ea typeface="隶书"/>
                </a:rPr>
                <a:t>what can you be in the end?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（我的职业与生活规划是什么？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9"/>
            <p:cNvSpPr/>
            <p:nvPr/>
          </p:nvSpPr>
          <p:spPr>
            <a:xfrm>
              <a:off x="1187280" y="404640"/>
              <a:ext cx="576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20"/>
            <p:cNvSpPr/>
            <p:nvPr/>
          </p:nvSpPr>
          <p:spPr>
            <a:xfrm>
              <a:off x="1361160" y="260280"/>
              <a:ext cx="5468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一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21"/>
            <p:cNvSpPr/>
            <p:nvPr/>
          </p:nvSpPr>
          <p:spPr>
            <a:xfrm>
              <a:off x="995400" y="1557360"/>
              <a:ext cx="9126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二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2"/>
            <p:cNvSpPr/>
            <p:nvPr/>
          </p:nvSpPr>
          <p:spPr>
            <a:xfrm flipH="1">
              <a:off x="996120" y="2781360"/>
              <a:ext cx="9126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三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3"/>
            <p:cNvSpPr/>
            <p:nvPr/>
          </p:nvSpPr>
          <p:spPr>
            <a:xfrm flipH="1">
              <a:off x="996120" y="4076640"/>
              <a:ext cx="91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四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4"/>
            <p:cNvSpPr/>
            <p:nvPr/>
          </p:nvSpPr>
          <p:spPr>
            <a:xfrm>
              <a:off x="995400" y="5516640"/>
              <a:ext cx="9126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35b1b"/>
                  </a:solidFill>
                  <a:latin typeface="Times New Roman"/>
                  <a:ea typeface="华文彩云"/>
                </a:rPr>
                <a:t>第五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25"/>
          <p:cNvSpPr/>
          <p:nvPr/>
        </p:nvSpPr>
        <p:spPr>
          <a:xfrm>
            <a:off x="303120" y="476280"/>
            <a:ext cx="66852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-357120" y="0"/>
            <a:ext cx="1400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职业生涯自我规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五步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己、知彼，择优选择职业目标和路径，并用高效行动去达成职业目标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684360" y="1916280"/>
            <a:ext cx="7704000" cy="3951000"/>
            <a:chOff x="684360" y="1916280"/>
            <a:chExt cx="7704000" cy="3951000"/>
          </a:xfrm>
        </p:grpSpPr>
        <p:pic>
          <p:nvPicPr>
            <p:cNvPr id="419" name="Picture 5" descr="olympic symbol"/>
            <p:cNvPicPr/>
            <p:nvPr/>
          </p:nvPicPr>
          <p:blipFill>
            <a:blip r:embed="rId1"/>
            <a:stretch/>
          </p:blipFill>
          <p:spPr>
            <a:xfrm>
              <a:off x="684360" y="1916280"/>
              <a:ext cx="7704000" cy="39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Rectangle 6"/>
            <p:cNvSpPr/>
            <p:nvPr/>
          </p:nvSpPr>
          <p:spPr>
            <a:xfrm>
              <a:off x="1220400" y="2839320"/>
              <a:ext cx="147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客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认识自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3722400" y="2839320"/>
              <a:ext cx="160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评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职业机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6245280" y="2839320"/>
              <a:ext cx="17395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确定职业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目标和路径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"/>
            <p:cNvSpPr/>
            <p:nvPr/>
          </p:nvSpPr>
          <p:spPr>
            <a:xfrm>
              <a:off x="2292480" y="4225680"/>
              <a:ext cx="192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终生学习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高效行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0"/>
            <p:cNvSpPr/>
            <p:nvPr/>
          </p:nvSpPr>
          <p:spPr>
            <a:xfrm>
              <a:off x="5039640" y="4186800"/>
              <a:ext cx="14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与时俱进灵活调整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自我评估法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将与你密切相关的各种主要内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优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素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engthe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弱点因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knesse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机会因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portunitie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威胁因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eat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过调查罗列出来，并依照一定的次序按矩阵形式排列起来，然后运用系统分析的方法，把各种因素相互匹配起来加以分析，从中得出一系列相应的结论（如对策等）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构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矩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457200" y="2637000"/>
          <a:ext cx="8229600" cy="3127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内部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优势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S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劣势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W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外部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机遇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O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挑战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T</a:t>
                      </a:r>
                      <a:endParaRPr b="1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大学生职业生涯规划三阶段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77756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大一：生涯探索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大二：生涯规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业能力提升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大三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业准备期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大一：生涯探索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8760" y="3642840"/>
            <a:ext cx="828648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理念导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自我认知如职业兴趣、价值观、能力、个性特质、发展意愿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专业与职业探索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劳动力市场信息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214200" y="1357200"/>
            <a:ext cx="874872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探索期：对自我的认知和职业的探索阶段。特征表现为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开始在课堂、工作实践中尝试，并有意的收集相关的信息，尝试性的开始选择并发展相关的技能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在这个阶段，职业偏好开始出现，并逐步形成一两种具体的职业选择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2798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这个阶段的发展任务是使职业偏好逐渐具体化、特定化并实现职业偏好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928880" y="1857240"/>
            <a:ext cx="5410080" cy="3035520"/>
            <a:chOff x="1928880" y="1857240"/>
            <a:chExt cx="5410080" cy="3035520"/>
          </a:xfrm>
        </p:grpSpPr>
        <p:sp>
          <p:nvSpPr>
            <p:cNvPr id="325" name="AutoShape 6"/>
            <p:cNvSpPr/>
            <p:nvPr/>
          </p:nvSpPr>
          <p:spPr>
            <a:xfrm>
              <a:off x="1935000" y="187056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1928880" y="185724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8"/>
            <p:cNvSpPr/>
            <p:nvPr/>
          </p:nvSpPr>
          <p:spPr>
            <a:xfrm>
              <a:off x="1973160" y="1906200"/>
              <a:ext cx="663480" cy="70488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"/>
            <p:cNvSpPr/>
            <p:nvPr/>
          </p:nvSpPr>
          <p:spPr>
            <a:xfrm>
              <a:off x="1935000" y="299376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1"/>
            <p:cNvSpPr/>
            <p:nvPr/>
          </p:nvSpPr>
          <p:spPr>
            <a:xfrm>
              <a:off x="1928880" y="298008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2"/>
            <p:cNvSpPr/>
            <p:nvPr/>
          </p:nvSpPr>
          <p:spPr>
            <a:xfrm>
              <a:off x="1973160" y="3028680"/>
              <a:ext cx="663480" cy="70488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>
              <a:off x="2538360" y="26056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3337920" y="1954080"/>
              <a:ext cx="18266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文鼎特粗圆简"/>
                </a:rPr>
                <a:t>职业发展与人生规划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2127960" y="1977840"/>
              <a:ext cx="34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>
              <a:off x="2538360" y="37288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3274560" y="3078000"/>
              <a:ext cx="164376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ea typeface="文鼎特粗圆简"/>
                  <a:hlinkClick r:id="rId1"/>
                </a:rPr>
                <a:t>如何规划职业生涯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2127960" y="3101040"/>
              <a:ext cx="34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20"/>
            <p:cNvSpPr/>
            <p:nvPr/>
          </p:nvSpPr>
          <p:spPr>
            <a:xfrm>
              <a:off x="1935000" y="408960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1"/>
            <p:cNvSpPr/>
            <p:nvPr/>
          </p:nvSpPr>
          <p:spPr>
            <a:xfrm>
              <a:off x="1928880" y="4075920"/>
              <a:ext cx="755640" cy="803160"/>
            </a:xfrm>
            <a:prstGeom prst="hexagon">
              <a:avLst>
                <a:gd name="adj" fmla="val 2888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22"/>
            <p:cNvSpPr/>
            <p:nvPr/>
          </p:nvSpPr>
          <p:spPr>
            <a:xfrm>
              <a:off x="1973160" y="4124520"/>
              <a:ext cx="663480" cy="70488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538360" y="4824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8"/>
            <p:cNvSpPr/>
            <p:nvPr/>
          </p:nvSpPr>
          <p:spPr>
            <a:xfrm>
              <a:off x="3337920" y="4173840"/>
              <a:ext cx="18266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9999"/>
                  </a:solidFill>
                  <a:uFillTx/>
                  <a:latin typeface="Arial"/>
                  <a:ea typeface="文鼎特粗圆简"/>
                  <a:hlinkClick r:id="rId2"/>
                </a:rPr>
                <a:t>职业生涯规划书格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9"/>
            <p:cNvSpPr/>
            <p:nvPr/>
          </p:nvSpPr>
          <p:spPr>
            <a:xfrm>
              <a:off x="2127960" y="4196880"/>
              <a:ext cx="349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大二：生涯规划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就业能力提升期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48840" y="2420640"/>
            <a:ext cx="79311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业定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目标设定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行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深造计划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涯决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3"/>
          <p:cNvSpPr/>
          <p:nvPr/>
        </p:nvSpPr>
        <p:spPr>
          <a:xfrm>
            <a:off x="720720" y="1700280"/>
            <a:ext cx="4572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生涯规划主要内容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就业能力提升期主要内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业技能、素质（包括心理素质）提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潜能开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知识、技能的学术或资格认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他能力提升如时间管理、压力管理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大三：就业准备期主要内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业观念与心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业技能包括求职面试技巧、简历制作、职场礼仪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实习、社会实践、社工、志愿者活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业信息收集与生涯安置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前适应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理素质提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社会支持系统的建设与应用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职业生涯规划五步曲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4250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一）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自我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评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二）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环境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评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三）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职业定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四）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计划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执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（五）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反馈修正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4"/>
          <p:cNvSpPr/>
          <p:nvPr/>
        </p:nvSpPr>
        <p:spPr>
          <a:xfrm>
            <a:off x="3635280" y="2565360"/>
            <a:ext cx="5977080" cy="1871640"/>
          </a:xfrm>
          <a:prstGeom prst="cloudCallout">
            <a:avLst>
              <a:gd name="adj1" fmla="val -31462"/>
              <a:gd name="adj2" fmla="val 118449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五部分缺一不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6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Arial"/>
                <a:ea typeface="华文彩云"/>
              </a:rPr>
              <a:t>1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Arial"/>
                <a:ea typeface="华文彩云"/>
              </a:rPr>
              <a:t>自我评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步骤：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认真审视并思考你的测评报告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了解有关的测评理论及知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对照自我认识与测评结果的异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析与测评结果形成差距的原因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确定自我评估结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</a:rPr>
              <a:t>个人特质包括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、知    识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某一职业领域需要的信息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、技    能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掌握和运用专门技术的能力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、社会角色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个体对于社会规范的认知与理解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、自我认知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对自己身份的认识、知觉和评价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、人格特质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某人所具有的特征或其典型的行为方式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、动机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需要</a:t>
            </a:r>
            <a:r>
              <a:rPr b="0" lang="en-US" sz="2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决定外显行为的内在稳定的想法或念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642960" y="1928880"/>
            <a:ext cx="832176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恭喜你！你获得了一次免费度假游的机会，有机会去下列六个岛屿中的一个。唯一的要求是你必须要在这个岛上呆满至少半年的时间。请不要考虑其他因素，仅凭自己的兴趣按一、二、三的顺序挑出你最想前往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个岛屿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399960" y="587520"/>
            <a:ext cx="30196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职业兴趣小测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reeform 2"/>
          <p:cNvSpPr/>
          <p:nvPr/>
        </p:nvSpPr>
        <p:spPr>
          <a:xfrm>
            <a:off x="-104760" y="-23760"/>
            <a:ext cx="3308400" cy="3309840"/>
          </a:xfrm>
          <a:custGeom>
            <a:avLst/>
            <a:gdLst>
              <a:gd name="textAreaLeft" fmla="*/ 0 w 3308400"/>
              <a:gd name="textAreaRight" fmla="*/ 3308760 w 330840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1471" h="1571">
                <a:moveTo>
                  <a:pt x="145" y="0"/>
                </a:moveTo>
                <a:cubicBezTo>
                  <a:pt x="505" y="18"/>
                  <a:pt x="866" y="24"/>
                  <a:pt x="1226" y="53"/>
                </a:cubicBezTo>
                <a:cubicBezTo>
                  <a:pt x="1238" y="54"/>
                  <a:pt x="1231" y="77"/>
                  <a:pt x="1236" y="87"/>
                </a:cubicBezTo>
                <a:cubicBezTo>
                  <a:pt x="1258" y="130"/>
                  <a:pt x="1284" y="174"/>
                  <a:pt x="1306" y="218"/>
                </a:cubicBezTo>
                <a:cubicBezTo>
                  <a:pt x="1396" y="399"/>
                  <a:pt x="1412" y="611"/>
                  <a:pt x="1471" y="803"/>
                </a:cubicBezTo>
                <a:cubicBezTo>
                  <a:pt x="1468" y="951"/>
                  <a:pt x="1468" y="1100"/>
                  <a:pt x="1463" y="1248"/>
                </a:cubicBezTo>
                <a:cubicBezTo>
                  <a:pt x="1461" y="1296"/>
                  <a:pt x="1411" y="1334"/>
                  <a:pt x="1384" y="1370"/>
                </a:cubicBezTo>
                <a:cubicBezTo>
                  <a:pt x="1365" y="1395"/>
                  <a:pt x="1358" y="1432"/>
                  <a:pt x="1332" y="1449"/>
                </a:cubicBezTo>
                <a:cubicBezTo>
                  <a:pt x="1259" y="1497"/>
                  <a:pt x="1196" y="1543"/>
                  <a:pt x="1114" y="1571"/>
                </a:cubicBezTo>
                <a:cubicBezTo>
                  <a:pt x="1087" y="1569"/>
                  <a:pt x="960" y="1560"/>
                  <a:pt x="922" y="1554"/>
                </a:cubicBezTo>
                <a:cubicBezTo>
                  <a:pt x="877" y="1547"/>
                  <a:pt x="838" y="1533"/>
                  <a:pt x="791" y="1527"/>
                </a:cubicBezTo>
                <a:cubicBezTo>
                  <a:pt x="741" y="1508"/>
                  <a:pt x="694" y="1498"/>
                  <a:pt x="642" y="1484"/>
                </a:cubicBezTo>
                <a:cubicBezTo>
                  <a:pt x="562" y="1462"/>
                  <a:pt x="521" y="1433"/>
                  <a:pt x="433" y="1423"/>
                </a:cubicBezTo>
                <a:cubicBezTo>
                  <a:pt x="404" y="1416"/>
                  <a:pt x="374" y="1415"/>
                  <a:pt x="346" y="1405"/>
                </a:cubicBezTo>
                <a:cubicBezTo>
                  <a:pt x="338" y="1402"/>
                  <a:pt x="335" y="1392"/>
                  <a:pt x="328" y="1388"/>
                </a:cubicBezTo>
                <a:cubicBezTo>
                  <a:pt x="317" y="1383"/>
                  <a:pt x="304" y="1383"/>
                  <a:pt x="293" y="1379"/>
                </a:cubicBezTo>
                <a:cubicBezTo>
                  <a:pt x="281" y="1374"/>
                  <a:pt x="269" y="1368"/>
                  <a:pt x="258" y="1362"/>
                </a:cubicBezTo>
                <a:cubicBezTo>
                  <a:pt x="224" y="1343"/>
                  <a:pt x="191" y="1322"/>
                  <a:pt x="154" y="1309"/>
                </a:cubicBezTo>
                <a:cubicBezTo>
                  <a:pt x="130" y="1286"/>
                  <a:pt x="92" y="1231"/>
                  <a:pt x="92" y="1231"/>
                </a:cubicBezTo>
                <a:cubicBezTo>
                  <a:pt x="83" y="1202"/>
                  <a:pt x="76" y="1172"/>
                  <a:pt x="66" y="1143"/>
                </a:cubicBezTo>
                <a:cubicBezTo>
                  <a:pt x="33" y="928"/>
                  <a:pt x="0" y="704"/>
                  <a:pt x="66" y="489"/>
                </a:cubicBezTo>
                <a:cubicBezTo>
                  <a:pt x="70" y="431"/>
                  <a:pt x="80" y="373"/>
                  <a:pt x="84" y="314"/>
                </a:cubicBezTo>
                <a:cubicBezTo>
                  <a:pt x="92" y="194"/>
                  <a:pt x="77" y="103"/>
                  <a:pt x="127" y="0"/>
                </a:cubicBezTo>
                <a:cubicBezTo>
                  <a:pt x="139" y="35"/>
                  <a:pt x="133" y="35"/>
                  <a:pt x="145" y="0"/>
                </a:cubicBezTo>
                <a:close/>
              </a:path>
            </a:pathLst>
          </a:custGeom>
          <a:solidFill>
            <a:srgbClr val="cc66ff"/>
          </a:solidFill>
          <a:ln w="93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0" y="214200"/>
            <a:ext cx="2700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R: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自然原始的岛屿。岛上自然生态保持得很好，有各种野生动物。居民以手工见长，自己种植花果蔬菜、修缮房屋、打造器物、制作工具，喜欢户外运动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4"/>
          <p:cNvSpPr/>
          <p:nvPr/>
        </p:nvSpPr>
        <p:spPr>
          <a:xfrm>
            <a:off x="5435640" y="-23760"/>
            <a:ext cx="3889440" cy="4100400"/>
          </a:xfrm>
          <a:custGeom>
            <a:avLst/>
            <a:gdLst>
              <a:gd name="textAreaLeft" fmla="*/ 0 w 3889440"/>
              <a:gd name="textAreaRight" fmla="*/ 3889800 w 3889440"/>
              <a:gd name="textAreaTop" fmla="*/ 0 h 4100400"/>
              <a:gd name="textAreaBottom" fmla="*/ 4100760 h 4100400"/>
            </a:gdLst>
            <a:ahLst/>
            <a:rect l="textAreaLeft" t="textAreaTop" r="textAreaRight" b="textAreaBottom"/>
            <a:pathLst>
              <a:path w="2002" h="1622">
                <a:moveTo>
                  <a:pt x="200" y="297"/>
                </a:moveTo>
                <a:cubicBezTo>
                  <a:pt x="216" y="200"/>
                  <a:pt x="240" y="220"/>
                  <a:pt x="317" y="162"/>
                </a:cubicBezTo>
                <a:cubicBezTo>
                  <a:pt x="377" y="117"/>
                  <a:pt x="459" y="56"/>
                  <a:pt x="515" y="0"/>
                </a:cubicBezTo>
                <a:cubicBezTo>
                  <a:pt x="702" y="10"/>
                  <a:pt x="854" y="30"/>
                  <a:pt x="1046" y="36"/>
                </a:cubicBezTo>
                <a:cubicBezTo>
                  <a:pt x="1180" y="55"/>
                  <a:pt x="1322" y="20"/>
                  <a:pt x="1451" y="63"/>
                </a:cubicBezTo>
                <a:cubicBezTo>
                  <a:pt x="1457" y="72"/>
                  <a:pt x="1461" y="82"/>
                  <a:pt x="1469" y="90"/>
                </a:cubicBezTo>
                <a:cubicBezTo>
                  <a:pt x="1477" y="98"/>
                  <a:pt x="1489" y="100"/>
                  <a:pt x="1496" y="108"/>
                </a:cubicBezTo>
                <a:cubicBezTo>
                  <a:pt x="1519" y="135"/>
                  <a:pt x="1533" y="172"/>
                  <a:pt x="1559" y="198"/>
                </a:cubicBezTo>
                <a:cubicBezTo>
                  <a:pt x="1606" y="245"/>
                  <a:pt x="1674" y="259"/>
                  <a:pt x="1721" y="306"/>
                </a:cubicBezTo>
                <a:cubicBezTo>
                  <a:pt x="1734" y="344"/>
                  <a:pt x="1751" y="438"/>
                  <a:pt x="1766" y="468"/>
                </a:cubicBezTo>
                <a:cubicBezTo>
                  <a:pt x="1783" y="502"/>
                  <a:pt x="1803" y="533"/>
                  <a:pt x="1820" y="567"/>
                </a:cubicBezTo>
                <a:cubicBezTo>
                  <a:pt x="1836" y="606"/>
                  <a:pt x="1841" y="645"/>
                  <a:pt x="1856" y="684"/>
                </a:cubicBezTo>
                <a:cubicBezTo>
                  <a:pt x="1882" y="753"/>
                  <a:pt x="1913" y="817"/>
                  <a:pt x="1946" y="882"/>
                </a:cubicBezTo>
                <a:cubicBezTo>
                  <a:pt x="1953" y="925"/>
                  <a:pt x="1964" y="965"/>
                  <a:pt x="1973" y="1008"/>
                </a:cubicBezTo>
                <a:cubicBezTo>
                  <a:pt x="1970" y="1083"/>
                  <a:pt x="2002" y="1277"/>
                  <a:pt x="1892" y="1314"/>
                </a:cubicBezTo>
                <a:cubicBezTo>
                  <a:pt x="1767" y="1414"/>
                  <a:pt x="1911" y="1309"/>
                  <a:pt x="1811" y="1359"/>
                </a:cubicBezTo>
                <a:cubicBezTo>
                  <a:pt x="1811" y="1359"/>
                  <a:pt x="1744" y="1404"/>
                  <a:pt x="1730" y="1413"/>
                </a:cubicBezTo>
                <a:cubicBezTo>
                  <a:pt x="1694" y="1437"/>
                  <a:pt x="1680" y="1472"/>
                  <a:pt x="1640" y="1485"/>
                </a:cubicBezTo>
                <a:cubicBezTo>
                  <a:pt x="1591" y="1550"/>
                  <a:pt x="1639" y="1498"/>
                  <a:pt x="1577" y="1539"/>
                </a:cubicBezTo>
                <a:cubicBezTo>
                  <a:pt x="1490" y="1597"/>
                  <a:pt x="1502" y="1598"/>
                  <a:pt x="1388" y="1611"/>
                </a:cubicBezTo>
                <a:cubicBezTo>
                  <a:pt x="1379" y="1614"/>
                  <a:pt x="1370" y="1622"/>
                  <a:pt x="1361" y="1620"/>
                </a:cubicBezTo>
                <a:cubicBezTo>
                  <a:pt x="1320" y="1613"/>
                  <a:pt x="1274" y="1544"/>
                  <a:pt x="1253" y="1512"/>
                </a:cubicBezTo>
                <a:cubicBezTo>
                  <a:pt x="1239" y="1454"/>
                  <a:pt x="1236" y="1398"/>
                  <a:pt x="1217" y="1341"/>
                </a:cubicBezTo>
                <a:cubicBezTo>
                  <a:pt x="1192" y="1266"/>
                  <a:pt x="1125" y="1218"/>
                  <a:pt x="1100" y="1143"/>
                </a:cubicBezTo>
                <a:cubicBezTo>
                  <a:pt x="1097" y="1122"/>
                  <a:pt x="1104" y="1097"/>
                  <a:pt x="1091" y="1080"/>
                </a:cubicBezTo>
                <a:cubicBezTo>
                  <a:pt x="1063" y="1043"/>
                  <a:pt x="983" y="1104"/>
                  <a:pt x="974" y="1107"/>
                </a:cubicBezTo>
                <a:cubicBezTo>
                  <a:pt x="905" y="1130"/>
                  <a:pt x="846" y="1171"/>
                  <a:pt x="776" y="1188"/>
                </a:cubicBezTo>
                <a:cubicBezTo>
                  <a:pt x="739" y="1215"/>
                  <a:pt x="721" y="1222"/>
                  <a:pt x="677" y="1233"/>
                </a:cubicBezTo>
                <a:cubicBezTo>
                  <a:pt x="629" y="1265"/>
                  <a:pt x="570" y="1269"/>
                  <a:pt x="515" y="1287"/>
                </a:cubicBezTo>
                <a:cubicBezTo>
                  <a:pt x="467" y="1283"/>
                  <a:pt x="409" y="1299"/>
                  <a:pt x="371" y="1269"/>
                </a:cubicBezTo>
                <a:cubicBezTo>
                  <a:pt x="351" y="1253"/>
                  <a:pt x="335" y="1233"/>
                  <a:pt x="317" y="1215"/>
                </a:cubicBezTo>
                <a:cubicBezTo>
                  <a:pt x="308" y="1206"/>
                  <a:pt x="290" y="1188"/>
                  <a:pt x="290" y="1188"/>
                </a:cubicBezTo>
                <a:cubicBezTo>
                  <a:pt x="277" y="1150"/>
                  <a:pt x="264" y="1126"/>
                  <a:pt x="236" y="1098"/>
                </a:cubicBezTo>
                <a:cubicBezTo>
                  <a:pt x="206" y="979"/>
                  <a:pt x="235" y="1103"/>
                  <a:pt x="218" y="819"/>
                </a:cubicBezTo>
                <a:cubicBezTo>
                  <a:pt x="214" y="743"/>
                  <a:pt x="179" y="658"/>
                  <a:pt x="155" y="585"/>
                </a:cubicBezTo>
                <a:cubicBezTo>
                  <a:pt x="146" y="558"/>
                  <a:pt x="143" y="504"/>
                  <a:pt x="110" y="495"/>
                </a:cubicBezTo>
                <a:cubicBezTo>
                  <a:pt x="75" y="486"/>
                  <a:pt x="38" y="489"/>
                  <a:pt x="2" y="486"/>
                </a:cubicBezTo>
                <a:cubicBezTo>
                  <a:pt x="5" y="438"/>
                  <a:pt x="0" y="389"/>
                  <a:pt x="11" y="342"/>
                </a:cubicBezTo>
                <a:cubicBezTo>
                  <a:pt x="11" y="341"/>
                  <a:pt x="57" y="327"/>
                  <a:pt x="74" y="324"/>
                </a:cubicBezTo>
                <a:cubicBezTo>
                  <a:pt x="101" y="320"/>
                  <a:pt x="128" y="318"/>
                  <a:pt x="155" y="315"/>
                </a:cubicBezTo>
                <a:cubicBezTo>
                  <a:pt x="188" y="304"/>
                  <a:pt x="174" y="310"/>
                  <a:pt x="200" y="297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6084720" y="492120"/>
            <a:ext cx="305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美丽浪漫的岛屿。充满了美术馆、音乐厅，街头雕塑和街边艺人，弥漫着浓厚的艺术文化气息。居民保留了传统的舞蹈、音乐与绘画，许多文艺界的朋友都喜欢来这里找寻灵感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6"/>
          <p:cNvSpPr/>
          <p:nvPr/>
        </p:nvSpPr>
        <p:spPr>
          <a:xfrm>
            <a:off x="-104760" y="2852640"/>
            <a:ext cx="3957480" cy="3745080"/>
          </a:xfrm>
          <a:custGeom>
            <a:avLst/>
            <a:gdLst>
              <a:gd name="textAreaLeft" fmla="*/ 0 w 3957480"/>
              <a:gd name="textAreaRight" fmla="*/ 3957840 w 395748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1949" h="1944">
                <a:moveTo>
                  <a:pt x="13" y="639"/>
                </a:moveTo>
                <a:cubicBezTo>
                  <a:pt x="20" y="576"/>
                  <a:pt x="29" y="511"/>
                  <a:pt x="49" y="450"/>
                </a:cubicBezTo>
                <a:cubicBezTo>
                  <a:pt x="60" y="348"/>
                  <a:pt x="77" y="263"/>
                  <a:pt x="139" y="180"/>
                </a:cubicBezTo>
                <a:cubicBezTo>
                  <a:pt x="169" y="91"/>
                  <a:pt x="309" y="48"/>
                  <a:pt x="391" y="36"/>
                </a:cubicBezTo>
                <a:cubicBezTo>
                  <a:pt x="433" y="19"/>
                  <a:pt x="474" y="14"/>
                  <a:pt x="517" y="0"/>
                </a:cubicBezTo>
                <a:cubicBezTo>
                  <a:pt x="641" y="10"/>
                  <a:pt x="754" y="51"/>
                  <a:pt x="877" y="63"/>
                </a:cubicBezTo>
                <a:cubicBezTo>
                  <a:pt x="962" y="89"/>
                  <a:pt x="1044" y="87"/>
                  <a:pt x="1129" y="108"/>
                </a:cubicBezTo>
                <a:cubicBezTo>
                  <a:pt x="1185" y="145"/>
                  <a:pt x="1163" y="192"/>
                  <a:pt x="1183" y="252"/>
                </a:cubicBezTo>
                <a:cubicBezTo>
                  <a:pt x="1175" y="352"/>
                  <a:pt x="1190" y="475"/>
                  <a:pt x="1156" y="567"/>
                </a:cubicBezTo>
                <a:cubicBezTo>
                  <a:pt x="1139" y="612"/>
                  <a:pt x="1117" y="647"/>
                  <a:pt x="1102" y="693"/>
                </a:cubicBezTo>
                <a:cubicBezTo>
                  <a:pt x="1098" y="706"/>
                  <a:pt x="1091" y="717"/>
                  <a:pt x="1084" y="729"/>
                </a:cubicBezTo>
                <a:cubicBezTo>
                  <a:pt x="1079" y="738"/>
                  <a:pt x="1055" y="755"/>
                  <a:pt x="1066" y="756"/>
                </a:cubicBezTo>
                <a:cubicBezTo>
                  <a:pt x="1180" y="762"/>
                  <a:pt x="1294" y="750"/>
                  <a:pt x="1408" y="747"/>
                </a:cubicBezTo>
                <a:cubicBezTo>
                  <a:pt x="1450" y="733"/>
                  <a:pt x="1492" y="724"/>
                  <a:pt x="1534" y="711"/>
                </a:cubicBezTo>
                <a:cubicBezTo>
                  <a:pt x="1552" y="706"/>
                  <a:pt x="1588" y="693"/>
                  <a:pt x="1588" y="693"/>
                </a:cubicBezTo>
                <a:cubicBezTo>
                  <a:pt x="1615" y="696"/>
                  <a:pt x="1645" y="689"/>
                  <a:pt x="1669" y="702"/>
                </a:cubicBezTo>
                <a:cubicBezTo>
                  <a:pt x="1688" y="712"/>
                  <a:pt x="1693" y="738"/>
                  <a:pt x="1705" y="756"/>
                </a:cubicBezTo>
                <a:cubicBezTo>
                  <a:pt x="1711" y="765"/>
                  <a:pt x="1724" y="767"/>
                  <a:pt x="1732" y="774"/>
                </a:cubicBezTo>
                <a:cubicBezTo>
                  <a:pt x="1775" y="810"/>
                  <a:pt x="1745" y="789"/>
                  <a:pt x="1777" y="828"/>
                </a:cubicBezTo>
                <a:cubicBezTo>
                  <a:pt x="1785" y="838"/>
                  <a:pt x="1794" y="847"/>
                  <a:pt x="1804" y="855"/>
                </a:cubicBezTo>
                <a:cubicBezTo>
                  <a:pt x="1821" y="868"/>
                  <a:pt x="1858" y="891"/>
                  <a:pt x="1858" y="891"/>
                </a:cubicBezTo>
                <a:cubicBezTo>
                  <a:pt x="1861" y="951"/>
                  <a:pt x="1860" y="1011"/>
                  <a:pt x="1867" y="1071"/>
                </a:cubicBezTo>
                <a:cubicBezTo>
                  <a:pt x="1873" y="1126"/>
                  <a:pt x="1898" y="1188"/>
                  <a:pt x="1912" y="1242"/>
                </a:cubicBezTo>
                <a:cubicBezTo>
                  <a:pt x="1920" y="1314"/>
                  <a:pt x="1925" y="1398"/>
                  <a:pt x="1948" y="1467"/>
                </a:cubicBezTo>
                <a:cubicBezTo>
                  <a:pt x="1948" y="1471"/>
                  <a:pt x="1949" y="1577"/>
                  <a:pt x="1930" y="1611"/>
                </a:cubicBezTo>
                <a:cubicBezTo>
                  <a:pt x="1837" y="1778"/>
                  <a:pt x="1669" y="1872"/>
                  <a:pt x="1489" y="1917"/>
                </a:cubicBezTo>
                <a:cubicBezTo>
                  <a:pt x="1438" y="1930"/>
                  <a:pt x="1387" y="1931"/>
                  <a:pt x="1336" y="1944"/>
                </a:cubicBezTo>
                <a:cubicBezTo>
                  <a:pt x="1189" y="1937"/>
                  <a:pt x="1121" y="1931"/>
                  <a:pt x="994" y="1899"/>
                </a:cubicBezTo>
                <a:cubicBezTo>
                  <a:pt x="932" y="1884"/>
                  <a:pt x="867" y="1886"/>
                  <a:pt x="805" y="1872"/>
                </a:cubicBezTo>
                <a:cubicBezTo>
                  <a:pt x="743" y="1858"/>
                  <a:pt x="687" y="1830"/>
                  <a:pt x="625" y="1818"/>
                </a:cubicBezTo>
                <a:cubicBezTo>
                  <a:pt x="538" y="1760"/>
                  <a:pt x="448" y="1796"/>
                  <a:pt x="337" y="1800"/>
                </a:cubicBezTo>
                <a:cubicBezTo>
                  <a:pt x="322" y="1797"/>
                  <a:pt x="304" y="1800"/>
                  <a:pt x="292" y="1791"/>
                </a:cubicBezTo>
                <a:cubicBezTo>
                  <a:pt x="271" y="1776"/>
                  <a:pt x="255" y="1696"/>
                  <a:pt x="247" y="1665"/>
                </a:cubicBezTo>
                <a:cubicBezTo>
                  <a:pt x="244" y="1602"/>
                  <a:pt x="251" y="1538"/>
                  <a:pt x="238" y="1476"/>
                </a:cubicBezTo>
                <a:cubicBezTo>
                  <a:pt x="238" y="1474"/>
                  <a:pt x="165" y="1418"/>
                  <a:pt x="148" y="1404"/>
                </a:cubicBezTo>
                <a:cubicBezTo>
                  <a:pt x="131" y="1391"/>
                  <a:pt x="94" y="1368"/>
                  <a:pt x="94" y="1368"/>
                </a:cubicBezTo>
                <a:cubicBezTo>
                  <a:pt x="81" y="1349"/>
                  <a:pt x="60" y="1334"/>
                  <a:pt x="49" y="1314"/>
                </a:cubicBezTo>
                <a:cubicBezTo>
                  <a:pt x="40" y="1297"/>
                  <a:pt x="37" y="1278"/>
                  <a:pt x="31" y="1260"/>
                </a:cubicBezTo>
                <a:cubicBezTo>
                  <a:pt x="28" y="1251"/>
                  <a:pt x="22" y="1233"/>
                  <a:pt x="22" y="1233"/>
                </a:cubicBezTo>
                <a:cubicBezTo>
                  <a:pt x="35" y="995"/>
                  <a:pt x="34" y="1135"/>
                  <a:pt x="22" y="918"/>
                </a:cubicBezTo>
                <a:cubicBezTo>
                  <a:pt x="17" y="824"/>
                  <a:pt x="0" y="730"/>
                  <a:pt x="13" y="639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0" y="3714840"/>
            <a:ext cx="296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现代、井然的岛屿。岛上建筑十分现代化，是进步的都市形态，以完善的户政管理、地政管理、金融管理见长。岛民个性冷静保守，处事有条不紊，善于组织规划，细心高效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8"/>
          <p:cNvSpPr/>
          <p:nvPr/>
        </p:nvSpPr>
        <p:spPr>
          <a:xfrm>
            <a:off x="2411280" y="2924280"/>
            <a:ext cx="4032360" cy="396072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3960720"/>
              <a:gd name="textAreaBottom" fmla="*/ 3961080 h 3960720"/>
            </a:gdLst>
            <a:ahLst/>
            <a:rect l="textAreaLeft" t="textAreaTop" r="textAreaRight" b="textAreaBottom"/>
            <a:pathLst>
              <a:path w="2013" h="2026">
                <a:moveTo>
                  <a:pt x="969" y="159"/>
                </a:moveTo>
                <a:cubicBezTo>
                  <a:pt x="906" y="162"/>
                  <a:pt x="842" y="159"/>
                  <a:pt x="780" y="168"/>
                </a:cubicBezTo>
                <a:cubicBezTo>
                  <a:pt x="760" y="171"/>
                  <a:pt x="745" y="188"/>
                  <a:pt x="726" y="195"/>
                </a:cubicBezTo>
                <a:cubicBezTo>
                  <a:pt x="681" y="211"/>
                  <a:pt x="629" y="210"/>
                  <a:pt x="582" y="222"/>
                </a:cubicBezTo>
                <a:cubicBezTo>
                  <a:pt x="516" y="239"/>
                  <a:pt x="432" y="260"/>
                  <a:pt x="366" y="285"/>
                </a:cubicBezTo>
                <a:cubicBezTo>
                  <a:pt x="333" y="297"/>
                  <a:pt x="309" y="319"/>
                  <a:pt x="276" y="330"/>
                </a:cubicBezTo>
                <a:cubicBezTo>
                  <a:pt x="243" y="363"/>
                  <a:pt x="228" y="385"/>
                  <a:pt x="213" y="429"/>
                </a:cubicBezTo>
                <a:cubicBezTo>
                  <a:pt x="238" y="527"/>
                  <a:pt x="220" y="479"/>
                  <a:pt x="267" y="573"/>
                </a:cubicBezTo>
                <a:cubicBezTo>
                  <a:pt x="276" y="591"/>
                  <a:pt x="294" y="627"/>
                  <a:pt x="294" y="627"/>
                </a:cubicBezTo>
                <a:cubicBezTo>
                  <a:pt x="322" y="766"/>
                  <a:pt x="329" y="910"/>
                  <a:pt x="294" y="1050"/>
                </a:cubicBezTo>
                <a:cubicBezTo>
                  <a:pt x="285" y="1130"/>
                  <a:pt x="305" y="1205"/>
                  <a:pt x="240" y="1248"/>
                </a:cubicBezTo>
                <a:cubicBezTo>
                  <a:pt x="187" y="1337"/>
                  <a:pt x="99" y="1461"/>
                  <a:pt x="24" y="1536"/>
                </a:cubicBezTo>
                <a:cubicBezTo>
                  <a:pt x="0" y="1607"/>
                  <a:pt x="81" y="1740"/>
                  <a:pt x="114" y="1806"/>
                </a:cubicBezTo>
                <a:cubicBezTo>
                  <a:pt x="136" y="1850"/>
                  <a:pt x="119" y="1838"/>
                  <a:pt x="159" y="1851"/>
                </a:cubicBezTo>
                <a:cubicBezTo>
                  <a:pt x="206" y="1898"/>
                  <a:pt x="166" y="1867"/>
                  <a:pt x="249" y="1896"/>
                </a:cubicBezTo>
                <a:cubicBezTo>
                  <a:pt x="356" y="1934"/>
                  <a:pt x="462" y="1958"/>
                  <a:pt x="573" y="1986"/>
                </a:cubicBezTo>
                <a:cubicBezTo>
                  <a:pt x="974" y="1972"/>
                  <a:pt x="988" y="2026"/>
                  <a:pt x="1230" y="1905"/>
                </a:cubicBezTo>
                <a:cubicBezTo>
                  <a:pt x="1253" y="1877"/>
                  <a:pt x="1273" y="1858"/>
                  <a:pt x="1284" y="1824"/>
                </a:cubicBezTo>
                <a:cubicBezTo>
                  <a:pt x="1291" y="1803"/>
                  <a:pt x="1290" y="1773"/>
                  <a:pt x="1302" y="1752"/>
                </a:cubicBezTo>
                <a:cubicBezTo>
                  <a:pt x="1316" y="1727"/>
                  <a:pt x="1332" y="1704"/>
                  <a:pt x="1347" y="1680"/>
                </a:cubicBezTo>
                <a:cubicBezTo>
                  <a:pt x="1391" y="1609"/>
                  <a:pt x="1668" y="1609"/>
                  <a:pt x="1698" y="1608"/>
                </a:cubicBezTo>
                <a:cubicBezTo>
                  <a:pt x="1782" y="1587"/>
                  <a:pt x="1807" y="1560"/>
                  <a:pt x="1878" y="1518"/>
                </a:cubicBezTo>
                <a:cubicBezTo>
                  <a:pt x="2013" y="1248"/>
                  <a:pt x="1929" y="980"/>
                  <a:pt x="1770" y="762"/>
                </a:cubicBezTo>
                <a:cubicBezTo>
                  <a:pt x="1723" y="698"/>
                  <a:pt x="1681" y="627"/>
                  <a:pt x="1635" y="564"/>
                </a:cubicBezTo>
                <a:cubicBezTo>
                  <a:pt x="1610" y="530"/>
                  <a:pt x="1554" y="465"/>
                  <a:pt x="1554" y="465"/>
                </a:cubicBezTo>
                <a:cubicBezTo>
                  <a:pt x="1544" y="436"/>
                  <a:pt x="1528" y="413"/>
                  <a:pt x="1518" y="384"/>
                </a:cubicBezTo>
                <a:cubicBezTo>
                  <a:pt x="1531" y="325"/>
                  <a:pt x="1520" y="307"/>
                  <a:pt x="1563" y="276"/>
                </a:cubicBezTo>
                <a:cubicBezTo>
                  <a:pt x="1574" y="268"/>
                  <a:pt x="1589" y="266"/>
                  <a:pt x="1599" y="258"/>
                </a:cubicBezTo>
                <a:cubicBezTo>
                  <a:pt x="1622" y="239"/>
                  <a:pt x="1662" y="195"/>
                  <a:pt x="1662" y="195"/>
                </a:cubicBezTo>
                <a:cubicBezTo>
                  <a:pt x="1670" y="171"/>
                  <a:pt x="1694" y="132"/>
                  <a:pt x="1671" y="105"/>
                </a:cubicBezTo>
                <a:cubicBezTo>
                  <a:pt x="1653" y="83"/>
                  <a:pt x="1602" y="83"/>
                  <a:pt x="1581" y="78"/>
                </a:cubicBezTo>
                <a:cubicBezTo>
                  <a:pt x="1539" y="67"/>
                  <a:pt x="1497" y="53"/>
                  <a:pt x="1455" y="42"/>
                </a:cubicBezTo>
                <a:cubicBezTo>
                  <a:pt x="1250" y="47"/>
                  <a:pt x="1140" y="0"/>
                  <a:pt x="996" y="87"/>
                </a:cubicBezTo>
                <a:cubicBezTo>
                  <a:pt x="982" y="141"/>
                  <a:pt x="991" y="111"/>
                  <a:pt x="969" y="177"/>
                </a:cubicBezTo>
                <a:cubicBezTo>
                  <a:pt x="949" y="236"/>
                  <a:pt x="951" y="185"/>
                  <a:pt x="951" y="213"/>
                </a:cubicBezTo>
                <a:lnTo>
                  <a:pt x="969" y="159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9"/>
          <p:cNvSpPr/>
          <p:nvPr/>
        </p:nvSpPr>
        <p:spPr>
          <a:xfrm>
            <a:off x="5364000" y="3271680"/>
            <a:ext cx="3961080" cy="3500640"/>
          </a:xfrm>
          <a:custGeom>
            <a:avLst/>
            <a:gdLst>
              <a:gd name="textAreaLeft" fmla="*/ 0 w 3961080"/>
              <a:gd name="textAreaRight" fmla="*/ 3961440 w 3961080"/>
              <a:gd name="textAreaTop" fmla="*/ 0 h 3500640"/>
              <a:gd name="textAreaBottom" fmla="*/ 3501000 h 3500640"/>
            </a:gdLst>
            <a:ahLst/>
            <a:rect l="textAreaLeft" t="textAreaTop" r="textAreaRight" b="textAreaBottom"/>
            <a:pathLst>
              <a:path w="2372" h="2205">
                <a:moveTo>
                  <a:pt x="1062" y="54"/>
                </a:moveTo>
                <a:cubicBezTo>
                  <a:pt x="870" y="37"/>
                  <a:pt x="911" y="35"/>
                  <a:pt x="612" y="72"/>
                </a:cubicBezTo>
                <a:cubicBezTo>
                  <a:pt x="584" y="76"/>
                  <a:pt x="559" y="93"/>
                  <a:pt x="531" y="99"/>
                </a:cubicBezTo>
                <a:cubicBezTo>
                  <a:pt x="504" y="105"/>
                  <a:pt x="477" y="105"/>
                  <a:pt x="450" y="108"/>
                </a:cubicBezTo>
                <a:cubicBezTo>
                  <a:pt x="328" y="177"/>
                  <a:pt x="208" y="222"/>
                  <a:pt x="144" y="351"/>
                </a:cubicBezTo>
                <a:cubicBezTo>
                  <a:pt x="124" y="471"/>
                  <a:pt x="169" y="510"/>
                  <a:pt x="216" y="603"/>
                </a:cubicBezTo>
                <a:cubicBezTo>
                  <a:pt x="233" y="638"/>
                  <a:pt x="245" y="675"/>
                  <a:pt x="261" y="711"/>
                </a:cubicBezTo>
                <a:cubicBezTo>
                  <a:pt x="267" y="725"/>
                  <a:pt x="283" y="764"/>
                  <a:pt x="288" y="783"/>
                </a:cubicBezTo>
                <a:cubicBezTo>
                  <a:pt x="295" y="807"/>
                  <a:pt x="306" y="855"/>
                  <a:pt x="306" y="855"/>
                </a:cubicBezTo>
                <a:cubicBezTo>
                  <a:pt x="312" y="927"/>
                  <a:pt x="311" y="1000"/>
                  <a:pt x="324" y="1071"/>
                </a:cubicBezTo>
                <a:cubicBezTo>
                  <a:pt x="328" y="1096"/>
                  <a:pt x="369" y="1133"/>
                  <a:pt x="378" y="1161"/>
                </a:cubicBezTo>
                <a:cubicBezTo>
                  <a:pt x="357" y="1214"/>
                  <a:pt x="331" y="1234"/>
                  <a:pt x="297" y="1278"/>
                </a:cubicBezTo>
                <a:cubicBezTo>
                  <a:pt x="257" y="1330"/>
                  <a:pt x="212" y="1391"/>
                  <a:pt x="180" y="1449"/>
                </a:cubicBezTo>
                <a:cubicBezTo>
                  <a:pt x="115" y="1567"/>
                  <a:pt x="60" y="1689"/>
                  <a:pt x="0" y="1809"/>
                </a:cubicBezTo>
                <a:cubicBezTo>
                  <a:pt x="9" y="1830"/>
                  <a:pt x="12" y="1855"/>
                  <a:pt x="27" y="1872"/>
                </a:cubicBezTo>
                <a:cubicBezTo>
                  <a:pt x="96" y="1952"/>
                  <a:pt x="252" y="2036"/>
                  <a:pt x="351" y="2061"/>
                </a:cubicBezTo>
                <a:cubicBezTo>
                  <a:pt x="398" y="2073"/>
                  <a:pt x="447" y="2072"/>
                  <a:pt x="495" y="2079"/>
                </a:cubicBezTo>
                <a:cubicBezTo>
                  <a:pt x="689" y="2071"/>
                  <a:pt x="848" y="2063"/>
                  <a:pt x="1044" y="2070"/>
                </a:cubicBezTo>
                <a:cubicBezTo>
                  <a:pt x="1101" y="2084"/>
                  <a:pt x="1157" y="2096"/>
                  <a:pt x="1215" y="2106"/>
                </a:cubicBezTo>
                <a:cubicBezTo>
                  <a:pt x="1350" y="2164"/>
                  <a:pt x="1200" y="2107"/>
                  <a:pt x="1431" y="2151"/>
                </a:cubicBezTo>
                <a:cubicBezTo>
                  <a:pt x="1495" y="2163"/>
                  <a:pt x="1556" y="2189"/>
                  <a:pt x="1620" y="2205"/>
                </a:cubicBezTo>
                <a:cubicBezTo>
                  <a:pt x="1877" y="2198"/>
                  <a:pt x="1858" y="2204"/>
                  <a:pt x="2016" y="2178"/>
                </a:cubicBezTo>
                <a:cubicBezTo>
                  <a:pt x="2080" y="2140"/>
                  <a:pt x="2150" y="2117"/>
                  <a:pt x="2178" y="2043"/>
                </a:cubicBezTo>
                <a:cubicBezTo>
                  <a:pt x="2186" y="2023"/>
                  <a:pt x="2189" y="2001"/>
                  <a:pt x="2196" y="1980"/>
                </a:cubicBezTo>
                <a:cubicBezTo>
                  <a:pt x="2193" y="1926"/>
                  <a:pt x="2193" y="1872"/>
                  <a:pt x="2187" y="1818"/>
                </a:cubicBezTo>
                <a:cubicBezTo>
                  <a:pt x="2184" y="1793"/>
                  <a:pt x="2169" y="1746"/>
                  <a:pt x="2169" y="1746"/>
                </a:cubicBezTo>
                <a:cubicBezTo>
                  <a:pt x="2166" y="1671"/>
                  <a:pt x="2169" y="1595"/>
                  <a:pt x="2160" y="1521"/>
                </a:cubicBezTo>
                <a:cubicBezTo>
                  <a:pt x="2157" y="1498"/>
                  <a:pt x="2139" y="1480"/>
                  <a:pt x="2133" y="1458"/>
                </a:cubicBezTo>
                <a:cubicBezTo>
                  <a:pt x="2116" y="1393"/>
                  <a:pt x="2107" y="1318"/>
                  <a:pt x="2097" y="1251"/>
                </a:cubicBezTo>
                <a:cubicBezTo>
                  <a:pt x="2103" y="1155"/>
                  <a:pt x="2107" y="1059"/>
                  <a:pt x="2115" y="963"/>
                </a:cubicBezTo>
                <a:cubicBezTo>
                  <a:pt x="2118" y="922"/>
                  <a:pt x="2138" y="810"/>
                  <a:pt x="2160" y="774"/>
                </a:cubicBezTo>
                <a:cubicBezTo>
                  <a:pt x="2187" y="729"/>
                  <a:pt x="2222" y="679"/>
                  <a:pt x="2241" y="630"/>
                </a:cubicBezTo>
                <a:cubicBezTo>
                  <a:pt x="2269" y="558"/>
                  <a:pt x="2297" y="487"/>
                  <a:pt x="2340" y="423"/>
                </a:cubicBezTo>
                <a:cubicBezTo>
                  <a:pt x="2347" y="388"/>
                  <a:pt x="2372" y="331"/>
                  <a:pt x="2349" y="297"/>
                </a:cubicBezTo>
                <a:cubicBezTo>
                  <a:pt x="2335" y="276"/>
                  <a:pt x="2301" y="285"/>
                  <a:pt x="2277" y="279"/>
                </a:cubicBezTo>
                <a:cubicBezTo>
                  <a:pt x="2164" y="253"/>
                  <a:pt x="2247" y="266"/>
                  <a:pt x="2133" y="252"/>
                </a:cubicBezTo>
                <a:cubicBezTo>
                  <a:pt x="1911" y="191"/>
                  <a:pt x="1770" y="212"/>
                  <a:pt x="1503" y="207"/>
                </a:cubicBezTo>
                <a:cubicBezTo>
                  <a:pt x="1422" y="180"/>
                  <a:pt x="1561" y="231"/>
                  <a:pt x="1404" y="126"/>
                </a:cubicBezTo>
                <a:cubicBezTo>
                  <a:pt x="1377" y="108"/>
                  <a:pt x="1346" y="95"/>
                  <a:pt x="1323" y="72"/>
                </a:cubicBezTo>
                <a:cubicBezTo>
                  <a:pt x="1314" y="63"/>
                  <a:pt x="1307" y="52"/>
                  <a:pt x="1296" y="45"/>
                </a:cubicBezTo>
                <a:cubicBezTo>
                  <a:pt x="1271" y="29"/>
                  <a:pt x="1241" y="22"/>
                  <a:pt x="1215" y="9"/>
                </a:cubicBezTo>
                <a:cubicBezTo>
                  <a:pt x="1114" y="22"/>
                  <a:pt x="1169" y="0"/>
                  <a:pt x="1116" y="45"/>
                </a:cubicBezTo>
                <a:cubicBezTo>
                  <a:pt x="1105" y="55"/>
                  <a:pt x="1093" y="65"/>
                  <a:pt x="1080" y="72"/>
                </a:cubicBezTo>
                <a:cubicBezTo>
                  <a:pt x="1072" y="77"/>
                  <a:pt x="1060" y="88"/>
                  <a:pt x="1053" y="81"/>
                </a:cubicBezTo>
                <a:cubicBezTo>
                  <a:pt x="1046" y="74"/>
                  <a:pt x="1059" y="63"/>
                  <a:pt x="1062" y="54"/>
                </a:cubicBezTo>
                <a:close/>
              </a:path>
            </a:pathLst>
          </a:custGeom>
          <a:solidFill>
            <a:srgbClr val="e4070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6012000" y="3933720"/>
            <a:ext cx="28810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S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友善亲切的岛屿。居民个性温和、友善、乐于助人，社区均自成一个密切互动的服务网络，人们重视互助合作，重视教育，关怀他人，充满人文气息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"/>
          <p:cNvSpPr/>
          <p:nvPr/>
        </p:nvSpPr>
        <p:spPr>
          <a:xfrm>
            <a:off x="2484360" y="-23760"/>
            <a:ext cx="3527640" cy="3668760"/>
          </a:xfrm>
          <a:custGeom>
            <a:avLst/>
            <a:gdLst>
              <a:gd name="textAreaLeft" fmla="*/ 0 w 3527640"/>
              <a:gd name="textAreaRight" fmla="*/ 3528000 w 3527640"/>
              <a:gd name="textAreaTop" fmla="*/ 0 h 3668760"/>
              <a:gd name="textAreaBottom" fmla="*/ 3669120 h 3668760"/>
            </a:gdLst>
            <a:ahLst/>
            <a:rect l="textAreaLeft" t="textAreaTop" r="textAreaRight" b="textAreaBottom"/>
            <a:pathLst>
              <a:path w="1832" h="1589">
                <a:moveTo>
                  <a:pt x="26" y="323"/>
                </a:moveTo>
                <a:cubicBezTo>
                  <a:pt x="29" y="311"/>
                  <a:pt x="28" y="298"/>
                  <a:pt x="35" y="288"/>
                </a:cubicBezTo>
                <a:cubicBezTo>
                  <a:pt x="41" y="279"/>
                  <a:pt x="54" y="278"/>
                  <a:pt x="61" y="271"/>
                </a:cubicBezTo>
                <a:cubicBezTo>
                  <a:pt x="109" y="223"/>
                  <a:pt x="63" y="244"/>
                  <a:pt x="113" y="227"/>
                </a:cubicBezTo>
                <a:cubicBezTo>
                  <a:pt x="138" y="203"/>
                  <a:pt x="151" y="191"/>
                  <a:pt x="183" y="175"/>
                </a:cubicBezTo>
                <a:cubicBezTo>
                  <a:pt x="210" y="146"/>
                  <a:pt x="243" y="152"/>
                  <a:pt x="279" y="140"/>
                </a:cubicBezTo>
                <a:cubicBezTo>
                  <a:pt x="333" y="122"/>
                  <a:pt x="379" y="106"/>
                  <a:pt x="436" y="96"/>
                </a:cubicBezTo>
                <a:cubicBezTo>
                  <a:pt x="457" y="86"/>
                  <a:pt x="475" y="68"/>
                  <a:pt x="497" y="61"/>
                </a:cubicBezTo>
                <a:cubicBezTo>
                  <a:pt x="583" y="32"/>
                  <a:pt x="688" y="30"/>
                  <a:pt x="776" y="0"/>
                </a:cubicBezTo>
                <a:cubicBezTo>
                  <a:pt x="834" y="3"/>
                  <a:pt x="893" y="2"/>
                  <a:pt x="951" y="9"/>
                </a:cubicBezTo>
                <a:cubicBezTo>
                  <a:pt x="980" y="13"/>
                  <a:pt x="1010" y="43"/>
                  <a:pt x="1038" y="53"/>
                </a:cubicBezTo>
                <a:cubicBezTo>
                  <a:pt x="1075" y="122"/>
                  <a:pt x="1107" y="135"/>
                  <a:pt x="1178" y="157"/>
                </a:cubicBezTo>
                <a:cubicBezTo>
                  <a:pt x="1264" y="217"/>
                  <a:pt x="1405" y="189"/>
                  <a:pt x="1492" y="192"/>
                </a:cubicBezTo>
                <a:cubicBezTo>
                  <a:pt x="1529" y="205"/>
                  <a:pt x="1568" y="206"/>
                  <a:pt x="1605" y="218"/>
                </a:cubicBezTo>
                <a:cubicBezTo>
                  <a:pt x="1611" y="224"/>
                  <a:pt x="1616" y="232"/>
                  <a:pt x="1623" y="236"/>
                </a:cubicBezTo>
                <a:cubicBezTo>
                  <a:pt x="1631" y="241"/>
                  <a:pt x="1644" y="237"/>
                  <a:pt x="1649" y="245"/>
                </a:cubicBezTo>
                <a:cubicBezTo>
                  <a:pt x="1657" y="257"/>
                  <a:pt x="1655" y="274"/>
                  <a:pt x="1658" y="288"/>
                </a:cubicBezTo>
                <a:cubicBezTo>
                  <a:pt x="1667" y="329"/>
                  <a:pt x="1680" y="370"/>
                  <a:pt x="1693" y="410"/>
                </a:cubicBezTo>
                <a:cubicBezTo>
                  <a:pt x="1703" y="442"/>
                  <a:pt x="1719" y="506"/>
                  <a:pt x="1719" y="506"/>
                </a:cubicBezTo>
                <a:cubicBezTo>
                  <a:pt x="1722" y="672"/>
                  <a:pt x="1723" y="838"/>
                  <a:pt x="1728" y="1004"/>
                </a:cubicBezTo>
                <a:cubicBezTo>
                  <a:pt x="1731" y="1117"/>
                  <a:pt x="1801" y="1197"/>
                  <a:pt x="1832" y="1301"/>
                </a:cubicBezTo>
                <a:cubicBezTo>
                  <a:pt x="1829" y="1330"/>
                  <a:pt x="1831" y="1360"/>
                  <a:pt x="1824" y="1388"/>
                </a:cubicBezTo>
                <a:cubicBezTo>
                  <a:pt x="1822" y="1398"/>
                  <a:pt x="1811" y="1405"/>
                  <a:pt x="1806" y="1414"/>
                </a:cubicBezTo>
                <a:cubicBezTo>
                  <a:pt x="1764" y="1496"/>
                  <a:pt x="1677" y="1558"/>
                  <a:pt x="1588" y="1589"/>
                </a:cubicBezTo>
                <a:cubicBezTo>
                  <a:pt x="1559" y="1586"/>
                  <a:pt x="1529" y="1587"/>
                  <a:pt x="1501" y="1580"/>
                </a:cubicBezTo>
                <a:cubicBezTo>
                  <a:pt x="1478" y="1574"/>
                  <a:pt x="1475" y="1556"/>
                  <a:pt x="1457" y="1545"/>
                </a:cubicBezTo>
                <a:cubicBezTo>
                  <a:pt x="1431" y="1530"/>
                  <a:pt x="1399" y="1518"/>
                  <a:pt x="1370" y="1510"/>
                </a:cubicBezTo>
                <a:cubicBezTo>
                  <a:pt x="1299" y="1464"/>
                  <a:pt x="1198" y="1400"/>
                  <a:pt x="1117" y="1379"/>
                </a:cubicBezTo>
                <a:cubicBezTo>
                  <a:pt x="1090" y="1353"/>
                  <a:pt x="1057" y="1353"/>
                  <a:pt x="1021" y="1344"/>
                </a:cubicBezTo>
                <a:cubicBezTo>
                  <a:pt x="829" y="1369"/>
                  <a:pt x="840" y="1360"/>
                  <a:pt x="541" y="1353"/>
                </a:cubicBezTo>
                <a:cubicBezTo>
                  <a:pt x="498" y="1338"/>
                  <a:pt x="464" y="1312"/>
                  <a:pt x="419" y="1301"/>
                </a:cubicBezTo>
                <a:cubicBezTo>
                  <a:pt x="348" y="1230"/>
                  <a:pt x="464" y="1344"/>
                  <a:pt x="375" y="1266"/>
                </a:cubicBezTo>
                <a:cubicBezTo>
                  <a:pt x="319" y="1218"/>
                  <a:pt x="271" y="1166"/>
                  <a:pt x="209" y="1126"/>
                </a:cubicBezTo>
                <a:cubicBezTo>
                  <a:pt x="199" y="1105"/>
                  <a:pt x="183" y="1086"/>
                  <a:pt x="174" y="1065"/>
                </a:cubicBezTo>
                <a:cubicBezTo>
                  <a:pt x="165" y="1046"/>
                  <a:pt x="163" y="1024"/>
                  <a:pt x="157" y="1004"/>
                </a:cubicBezTo>
                <a:cubicBezTo>
                  <a:pt x="151" y="860"/>
                  <a:pt x="167" y="810"/>
                  <a:pt x="113" y="707"/>
                </a:cubicBezTo>
                <a:cubicBezTo>
                  <a:pt x="98" y="679"/>
                  <a:pt x="101" y="660"/>
                  <a:pt x="78" y="637"/>
                </a:cubicBezTo>
                <a:cubicBezTo>
                  <a:pt x="69" y="564"/>
                  <a:pt x="51" y="464"/>
                  <a:pt x="8" y="402"/>
                </a:cubicBezTo>
                <a:cubicBezTo>
                  <a:pt x="18" y="328"/>
                  <a:pt x="0" y="349"/>
                  <a:pt x="26" y="32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2916360" y="476280"/>
            <a:ext cx="273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深思冥想的岛屿。有多处天文馆、科技博览馆及图书馆。居民喜好观察、学习，祟尚和追求真知，常有机会和来自各地的哲学家、科学家、心理学家等交换心得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3205080" y="3716280"/>
            <a:ext cx="251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E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显赫富庶的岛屿。居民善于企业经营和贸易，能言善道。经济高度发展，处处是高级饭店、俱乐部、高尔夫球场。来往者多是企业家、经理人、政治家、律师等。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903960" y="571680"/>
            <a:ext cx="7621200" cy="6659280"/>
            <a:chOff x="903960" y="571680"/>
            <a:chExt cx="7621200" cy="6659280"/>
          </a:xfrm>
        </p:grpSpPr>
        <p:sp>
          <p:nvSpPr>
            <p:cNvPr id="465" name="AutoShape 5"/>
            <p:cNvSpPr/>
            <p:nvPr/>
          </p:nvSpPr>
          <p:spPr>
            <a:xfrm>
              <a:off x="1814760" y="907920"/>
              <a:ext cx="5535720" cy="4944600"/>
            </a:xfrm>
            <a:prstGeom prst="hexagon">
              <a:avLst>
                <a:gd name="adj" fmla="val 2798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6"/>
            <p:cNvSpPr/>
            <p:nvPr/>
          </p:nvSpPr>
          <p:spPr>
            <a:xfrm>
              <a:off x="2714760" y="1214640"/>
              <a:ext cx="19386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拥有创造或机械方面的能力，喜欢与实体、机器、工具、动植物在一起的工作或户外工作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7"/>
            <p:cNvSpPr/>
            <p:nvPr/>
          </p:nvSpPr>
          <p:spPr>
            <a:xfrm>
              <a:off x="4786200" y="1287000"/>
              <a:ext cx="14900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观察、学习、研究、分析、评估或解决问题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4584960" y="907920"/>
              <a:ext cx="0" cy="494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2371320" y="2415960"/>
              <a:ext cx="442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2371320" y="4345200"/>
              <a:ext cx="4428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2142720" y="2861280"/>
              <a:ext cx="210204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和资料在一起的工作，拥有事务或数值能力，在别人的指示下，完成各种细节事项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4786200" y="2785320"/>
              <a:ext cx="221040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拥有艺术、创新或直觉上的能力，喜欢在非结构性的环境下工作，发挥他们的想象力与创造力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2643120" y="4345200"/>
              <a:ext cx="20102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和人在一起的工作</a:t>
              </a:r>
              <a:r>
                <a:rPr b="0" lang="en-US" sz="14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基于组织或经济收益，去影响说服人们或从事任务的执行、领导或管理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4"/>
            <p:cNvSpPr/>
            <p:nvPr/>
          </p:nvSpPr>
          <p:spPr>
            <a:xfrm>
              <a:off x="4723920" y="4345200"/>
              <a:ext cx="19908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喜欢和人在一起的工作</a:t>
              </a:r>
              <a:r>
                <a:rPr b="0" lang="en-US" sz="1400" spc="-1" strike="noStrike">
                  <a:solidFill>
                    <a:srgbClr val="ffffff"/>
                  </a:solidFill>
                  <a:latin typeface="宋体"/>
                  <a:ea typeface="黑体"/>
                </a:rPr>
                <a:t>——</a:t>
              </a:r>
              <a:r>
                <a:rPr b="0" lang="zh-CN" sz="1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告知、唤醒、训练、帮助、培养他们、具有言谈上的能力技巧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5"/>
            <p:cNvSpPr/>
            <p:nvPr/>
          </p:nvSpPr>
          <p:spPr>
            <a:xfrm>
              <a:off x="1778040" y="571680"/>
              <a:ext cx="15634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实际型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6"/>
            <p:cNvSpPr/>
            <p:nvPr/>
          </p:nvSpPr>
          <p:spPr>
            <a:xfrm>
              <a:off x="6302520" y="57168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研究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I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7"/>
            <p:cNvSpPr/>
            <p:nvPr/>
          </p:nvSpPr>
          <p:spPr>
            <a:xfrm>
              <a:off x="7612920" y="299952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艺术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8"/>
            <p:cNvSpPr/>
            <p:nvPr/>
          </p:nvSpPr>
          <p:spPr>
            <a:xfrm>
              <a:off x="903960" y="299952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常规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9"/>
            <p:cNvSpPr/>
            <p:nvPr/>
          </p:nvSpPr>
          <p:spPr>
            <a:xfrm>
              <a:off x="1888200" y="5516280"/>
              <a:ext cx="16761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企业型</a:t>
              </a: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0"/>
            <p:cNvSpPr/>
            <p:nvPr/>
          </p:nvSpPr>
          <p:spPr>
            <a:xfrm>
              <a:off x="6264360" y="5518440"/>
              <a:ext cx="912240" cy="17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社会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Verdana"/>
                  <a:ea typeface="隶书"/>
                </a:rPr>
                <a:t>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21"/>
          <p:cNvSpPr/>
          <p:nvPr/>
        </p:nvSpPr>
        <p:spPr>
          <a:xfrm>
            <a:off x="2428920" y="214200"/>
            <a:ext cx="417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霍兰德职业兴趣六角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文鼎特粗圆简"/>
              </a:rPr>
              <a:t>一、职业发展与人生规划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826920" y="1925640"/>
            <a:ext cx="770580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涯与职业生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人的生涯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生涯规划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※  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职业发展与人生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7308720" y="1916280"/>
            <a:ext cx="1371600" cy="39621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5591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实用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doe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矩形 4"/>
          <p:cNvSpPr/>
          <p:nvPr/>
        </p:nvSpPr>
        <p:spPr>
          <a:xfrm>
            <a:off x="1500120" y="1857240"/>
            <a:ext cx="5086440" cy="33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具体的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机械、动手能力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做体力工作、户外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更喜欢与物打交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技术性行业工作人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程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0958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研究型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thinke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1995480" cy="4632120"/>
          </a:xfrm>
          <a:prstGeom prst="rect">
            <a:avLst/>
          </a:prstGeom>
          <a:ln w="0">
            <a:noFill/>
          </a:ln>
        </p:spPr>
      </p:pic>
      <p:sp>
        <p:nvSpPr>
          <p:cNvPr id="487" name="矩形 4"/>
          <p:cNvSpPr/>
          <p:nvPr/>
        </p:nvSpPr>
        <p:spPr>
          <a:xfrm>
            <a:off x="1714680" y="2000160"/>
            <a:ext cx="4255920" cy="33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探索和理解事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爱分析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有智慧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独立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实验室研究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科学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2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艺术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creato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1920960" cy="3504960"/>
          </a:xfrm>
          <a:prstGeom prst="rect">
            <a:avLst/>
          </a:prstGeom>
          <a:ln w="0">
            <a:noFill/>
          </a:ln>
        </p:spPr>
      </p:pic>
      <p:sp>
        <p:nvSpPr>
          <p:cNvPr id="490" name="矩形 4"/>
          <p:cNvSpPr/>
          <p:nvPr/>
        </p:nvSpPr>
        <p:spPr>
          <a:xfrm>
            <a:off x="2214720" y="1714680"/>
            <a:ext cx="3857400" cy="33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自我表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富有想象力、创造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追求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多样性与变化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作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艺术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6232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社会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helpe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101680" cy="3672000"/>
          </a:xfrm>
          <a:prstGeom prst="rect">
            <a:avLst/>
          </a:prstGeom>
          <a:ln w="0">
            <a:noFill/>
          </a:ln>
        </p:spPr>
      </p:pic>
      <p:sp>
        <p:nvSpPr>
          <p:cNvPr id="493" name="矩形 4"/>
          <p:cNvSpPr/>
          <p:nvPr/>
        </p:nvSpPr>
        <p:spPr>
          <a:xfrm>
            <a:off x="1285920" y="1928880"/>
            <a:ext cx="457020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对人感兴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良好的人际交往技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服务他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帮助别人解决问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教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护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3800" y="475920"/>
            <a:ext cx="66340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企业型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(persuader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6372360" y="2349360"/>
            <a:ext cx="1790640" cy="3353040"/>
          </a:xfrm>
          <a:prstGeom prst="rect">
            <a:avLst/>
          </a:prstGeom>
          <a:ln w="0">
            <a:noFill/>
          </a:ln>
        </p:spPr>
      </p:pic>
      <p:sp>
        <p:nvSpPr>
          <p:cNvPr id="496" name="矩形 4"/>
          <p:cNvSpPr/>
          <p:nvPr/>
        </p:nvSpPr>
        <p:spPr>
          <a:xfrm>
            <a:off x="1071720" y="1714680"/>
            <a:ext cx="49161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向人推销自己的产品或观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追寻领导力与社会影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有抱负，雄心勃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言语说服能力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销售、管理人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政治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2600" y="404640"/>
            <a:ext cx="71276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事务型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organizer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）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6286680" y="2143080"/>
            <a:ext cx="1636560" cy="3579840"/>
          </a:xfrm>
          <a:prstGeom prst="rect">
            <a:avLst/>
          </a:prstGeom>
          <a:ln w="0">
            <a:noFill/>
          </a:ln>
        </p:spPr>
      </p:pic>
      <p:sp>
        <p:nvSpPr>
          <p:cNvPr id="499" name="矩形 4"/>
          <p:cNvSpPr/>
          <p:nvPr/>
        </p:nvSpPr>
        <p:spPr>
          <a:xfrm>
            <a:off x="1285920" y="1785960"/>
            <a:ext cx="470376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有条理、程序化的工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愿意听从指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有组织有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细致、准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会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文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05040" y="5905440"/>
            <a:ext cx="755640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职业生涯规划ppt模板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2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环境评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环境评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54080" y="2358720"/>
            <a:ext cx="763272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家庭影响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学校因素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就业因素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家庭影响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父母的标榜作用或指示作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庭教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族文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庭的社会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庭经济情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父母及亲友的希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学校因素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专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校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师的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同学的影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校参加的社会活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校在同行中的地位及社会认可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学东西的侧重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与同学相比的固有特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250920" y="260280"/>
            <a:ext cx="86421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两兄弟爬楼的小故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50920" y="133344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一对兄弟家住在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8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。他们旅行回来，却发现大楼停电了！兄弟俩背着大包小裹非常发愁，俩人商量决定无论如何也得回家，于是开始爬楼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爬到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时，他们觉得累了。哥哥说： “包太重了，不如就放在这里，等来电后坐电梯来拿。”于是，他们把行李放下，轻松些，继续向上爬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但好景不长，到了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4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，两人实在太累了。想到只爬了一半，两人开始互相埋怨，指责对方不注意大楼的停电公告，才会落得如此下场。他们边吵边爬楼，就这样一路爬到了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6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到了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6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，他们累得连吵架的力气也没有了。弟弟对哥哥说：“咱们不要吵了，爬完它吧。”于是他们默默的继续爬楼，终于到了家门口。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站在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8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的楼梯口，兄弟俩互相望了望，想起了一件事：钥匙忘在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20</a:t>
            </a:r>
            <a:r>
              <a:rPr b="1" lang="zh-CN" sz="2200" spc="-1" strike="noStrike">
                <a:solidFill>
                  <a:srgbClr val="ffffff"/>
                </a:solidFill>
                <a:latin typeface="宋体"/>
                <a:ea typeface="宋体"/>
              </a:rPr>
              <a:t>层，还在背包里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宋体"/>
              </a:rPr>
              <a:t>…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就业因素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所读专业与喜欢职业的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今就业的大环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竞争对手和行业职位需求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心仪职业或行业的前景及对大学生的要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心仪工作的典型工作情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自己对该工作的客观评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3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职业定位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第一阶段  案例的广泛搜集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55280" y="2276640"/>
            <a:ext cx="7931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具有清晰的成长轨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典型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确实符合 “优秀”的定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必须具有现实针对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阶段  案例的深层次挖掘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25200" y="2420640"/>
            <a:ext cx="8218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竞争优劣势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成长轨迹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执行和反馈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多角度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挑战常规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三阶段  确定清晰的思路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86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及外部环境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策略及优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执行和反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最喜欢最擅长的技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身体技能，我拥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智力技能，我擅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对于人际关系，我擅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地理环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出你居住过的所有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出每个地方你过去不喜欢或者至今不喜欢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你认为的重要度将所有原因排列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你的亲人及朋友的意见列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择自己感兴趣的三个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以上的确定你职业的归属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大兴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8598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能引起你的强烈兴趣？什么能激发我的活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喜欢与人还是物打交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天生对什么比较敏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遇见或在书中独到的人物当中，谁的工作是我最喜欢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最大兴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喜欢的专业或兴趣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兴趣对我意味着什么领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个领域我最喜欢选择什么职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职业提供了这样的机会，让我在喜欢的领域从事喜欢的职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公司雇佣选择这种职业的人，同时也能满足我特有的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喜欢与之共事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3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用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究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艺术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交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创业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49"/>
              </a:spcAft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务型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3564000" y="1773360"/>
            <a:ext cx="5040360" cy="4391640"/>
            <a:chOff x="3564000" y="1773360"/>
            <a:chExt cx="5040360" cy="4391640"/>
          </a:xfrm>
        </p:grpSpPr>
        <p:sp>
          <p:nvSpPr>
            <p:cNvPr id="530" name="Text Box 7"/>
            <p:cNvSpPr/>
            <p:nvPr/>
          </p:nvSpPr>
          <p:spPr>
            <a:xfrm>
              <a:off x="4643640" y="1773360"/>
              <a:ext cx="720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"/>
            <p:cNvSpPr/>
            <p:nvPr/>
          </p:nvSpPr>
          <p:spPr>
            <a:xfrm>
              <a:off x="6948720" y="1844640"/>
              <a:ext cx="7920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7956720" y="3573720"/>
              <a:ext cx="64764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0"/>
            <p:cNvSpPr/>
            <p:nvPr/>
          </p:nvSpPr>
          <p:spPr>
            <a:xfrm>
              <a:off x="4284720" y="2421000"/>
              <a:ext cx="3816360" cy="3240000"/>
            </a:xfrm>
            <a:prstGeom prst="hexagon">
              <a:avLst>
                <a:gd name="adj" fmla="val 29447"/>
                <a:gd name="vf" fmla="val 115470"/>
              </a:avLst>
            </a:prstGeom>
            <a:solidFill>
              <a:srgbClr val="ff7c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6804000" y="5516640"/>
              <a:ext cx="9367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4716360" y="5445360"/>
              <a:ext cx="792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13"/>
            <p:cNvSpPr/>
            <p:nvPr/>
          </p:nvSpPr>
          <p:spPr>
            <a:xfrm>
              <a:off x="3564000" y="3789360"/>
              <a:ext cx="7920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4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Text Box 14"/>
          <p:cNvSpPr/>
          <p:nvPr/>
        </p:nvSpPr>
        <p:spPr>
          <a:xfrm>
            <a:off x="5435640" y="3357720"/>
            <a:ext cx="14414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聚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250920" y="260280"/>
            <a:ext cx="87138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讨论：故事蕴含的人生道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有人说，这个故事其实就是反映了我们的人生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岁之前，我们活在家人、老师的期望之下，背负着很多的压力、包袱，自己也不够成熟、能力不足，因此步履难免不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岁之后，离开了众人的压力，卸下了包袱，开始全力以赴地追求自己的梦想，就这样愉快地过了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到了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岁，发现青春已逝，不免产生许多遗憾和追悔，于是开始遗憾这个、惋惜那个、抱怨这个、嫉恨那个，就这样在抱怨中度过了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到了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岁，发现人生已所剩不多，于是告诉自己不要在抱怨了，就珍惜剩下的日子吧！于是默默地走完了自己的余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ts val="3399"/>
              </a:lnSpc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到了生命的尽头，才想起自己好象有什么事情没有完成。原来，我们所有的梦想都留在了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岁的青春岁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最重视的价值与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帮助那些需要帮助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通某些技术和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响人，并取得巨大反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人视为领导者，能够为自己的所作所为负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名气，被人认可，为人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物质、金钱等方面有所收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d9d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最喜欢的工作条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4995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不能容忍的工作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噪音太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管制太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从早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钟开始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工作效率的关键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4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计划执行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计划执行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570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终极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长期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短期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突击计划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ipr2275"/>
          <p:cNvPicPr/>
          <p:nvPr/>
        </p:nvPicPr>
        <p:blipFill>
          <a:blip r:embed="rId1"/>
          <a:stretch/>
        </p:blipFill>
        <p:spPr>
          <a:xfrm>
            <a:off x="0" y="0"/>
            <a:ext cx="3203640" cy="72723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68360" y="2130120"/>
            <a:ext cx="66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5</a:t>
            </a:r>
            <a:br>
              <a:rPr sz="11000"/>
            </a:br>
            <a:r>
              <a:rPr b="1" lang="zh-CN" sz="11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反馈修正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反馈修正的方法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16000" y="2204640"/>
            <a:ext cx="757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滚动计划法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备用计划法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封面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4240" y="2214720"/>
            <a:ext cx="82188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姓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性别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出生日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所在系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专业名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手机号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电子邮箱地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撰写时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28760" y="35712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黑体"/>
              </a:rPr>
              <a:t>三、职业生涯规划书格式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7868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前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我认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.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生涯规划测评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.2   36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度评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.3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自我认知小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认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外部环境分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2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目标职业分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3    SWOT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析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.4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认知小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规划设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.1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职业目标的确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.2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制定行动计划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.3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动态反馈调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………………………………………………………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结束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前 言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64712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范文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今天这个人才竞争的时代，职业生涯规划开始成为在人争夺战中的另一重要利器。对企业而言，如何体现公司“以人为本”的人才理念，关注员工的人才理念，关注员工的持续成长，职业生涯规划是一种有效的手段；而对每个人而言，职业生命是有限的，如果不进行有效的规划，势必会造成生命和时间的浪费。作为当代大学生，若是带着一脸茫然，踏入这个拥挤的社会怎能满足社会的需要，使自己占有一席之地？因此，我试着为自己拟定一份职业生涯规划，将自己的未来好好的设计一下。有了目标，才会有动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一、自我认知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55800" y="1879560"/>
            <a:ext cx="7121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职业生涯规划测评报告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6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度评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、自我认知小结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涯与职业生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249480" y="1052280"/>
            <a:ext cx="91422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生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宋体"/>
              </a:rPr>
              <a:t>舒伯：指一个人在一生中所扮演的角色的综合及结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职业生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罗斯威尔：人一生中与工作相关的活动、行为、态度、价值观、愿望的有机整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施恩：内职业生涯 和 外职业生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外职业生涯：经历一种职业的过程，包括招聘、培训、晋升、解雇、退休等各个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内职业生涯：注重所取得的成功或满足主观感情以及工作事务与家庭义务、个人休闲等其他需求的平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中国学者：广义的职业生涯 和 狭义的职业生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外职业生涯：从职业能力的获得、职业兴趣的培养、选择职业、就职，直到最后完全退出职业劳动的完整的职业发展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宋体"/>
              </a:rPr>
              <a:t>·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内职业生涯：从职业学习开始，踏入社会、从事工作，直到离开工作单位为止的人生职业工作历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职业生涯规划测评报告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14200" y="1333440"/>
            <a:ext cx="871560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兴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喜欢做什么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的职业兴趣是现实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调研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常规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艺术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企业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社会型，这种类型的人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能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能够做什么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的智力水平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一般学习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语言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算术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空间判断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形态知觉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书写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运动协调能力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手指灵活度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手的灵巧度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性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适合做什么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1a03"/>
                </a:solidFill>
                <a:latin typeface="华文行楷"/>
                <a:ea typeface="华文行楷"/>
              </a:rPr>
              <a:t>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的职业性格属于变化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重复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服从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独立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协作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劝服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机智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自我表现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严谨型，这种类型的人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职业价值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我最看重什么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我的职业生涯规划测评显示，我最看重金钱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家人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朋友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知识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健康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自由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事业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美貌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经历</a:t>
            </a:r>
            <a:r>
              <a:rPr b="1" lang="en-US" sz="2000" spc="-1" strike="noStrike">
                <a:solidFill>
                  <a:srgbClr val="99cc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99cc00"/>
                </a:solidFill>
                <a:latin typeface="Verdana"/>
                <a:ea typeface="宋体"/>
              </a:rPr>
              <a:t>地位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13840" y="35676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6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度评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0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28760" y="1357200"/>
          <a:ext cx="8143920" cy="4643280"/>
        </p:xfrm>
        <a:graphic>
          <a:graphicData uri="http://schemas.openxmlformats.org/drawingml/2006/table">
            <a:tbl>
              <a:tblPr/>
              <a:tblGrid>
                <a:gridCol w="2716200"/>
                <a:gridCol w="2712960"/>
                <a:gridCol w="27147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优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缺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自我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家人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老师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亲密朋友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同学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其他社会关系评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642960" y="714240"/>
            <a:ext cx="70912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自我认知小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1a03"/>
                </a:solidFill>
                <a:latin typeface="Arial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Verdana"/>
                <a:ea typeface="宋体"/>
              </a:rPr>
              <a:t>综上所述，我是一个</a:t>
            </a:r>
            <a:r>
              <a:rPr b="1" lang="en-US" sz="2800" spc="-1" strike="noStrike">
                <a:solidFill>
                  <a:srgbClr val="99cc00"/>
                </a:solidFill>
                <a:latin typeface="Verdana"/>
                <a:ea typeface="宋体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6580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二、职业认知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85010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外部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目标职业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SWOT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职业认知小结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家庭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经济状况、家人期望、家族文化等对本人的影响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学校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学校特色、专业学习、实践经验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社会环境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就业形势、就业政策、竞争对手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目标地域分析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工作单位所在城市的文化特点、气候水土、人际关系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500040" y="3445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外部环境分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556920" y="10936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目标职业名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岗位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工作内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任职资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工作条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就业和发展前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428400" y="285480"/>
            <a:ext cx="77929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目标职业分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56920" y="10936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的优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trength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使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的弱势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eakness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弥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的机会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pportunity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利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④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我面临的威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hreat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及其排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矩形 5"/>
          <p:cNvSpPr/>
          <p:nvPr/>
        </p:nvSpPr>
        <p:spPr>
          <a:xfrm>
            <a:off x="500040" y="42876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SWO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分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556920" y="10936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由此可见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428760" y="42876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职业认知小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7929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三、职业生涯规划设计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1643040"/>
            <a:ext cx="707220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职业目标的确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制定行动计划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、动态反馈调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761760" y="1214280"/>
            <a:ext cx="83818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目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将来从事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行业的）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发展策略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类型的组织（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×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地区发展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职业发展路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走专家路线（管理路线等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矩形 5"/>
          <p:cNvSpPr/>
          <p:nvPr/>
        </p:nvSpPr>
        <p:spPr>
          <a:xfrm>
            <a:off x="500040" y="415800"/>
            <a:ext cx="46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职业目标的确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什么是职业生涯规划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62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职业生涯规划”是指个人结合自身情况、眼前的机遇和制约因素，为自己确立职业方向、职业目标，选择职业道路，确定教育计划、发展计划，为实现职业生涯目标而确定行动时间和行动方案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两大特征：个性化和开放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57120" y="1142640"/>
            <a:ext cx="83822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357120" y="1285920"/>
          <a:ext cx="8481960" cy="4603680"/>
        </p:xfrm>
        <a:graphic>
          <a:graphicData uri="http://schemas.openxmlformats.org/drawingml/2006/table">
            <a:tbl>
              <a:tblPr/>
              <a:tblGrid>
                <a:gridCol w="752400"/>
                <a:gridCol w="657360"/>
                <a:gridCol w="954000"/>
                <a:gridCol w="1494000"/>
                <a:gridCol w="1506240"/>
                <a:gridCol w="2176560"/>
                <a:gridCol w="941400"/>
              </a:tblGrid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计划名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时间跨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总目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分目标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计划内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策略和措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备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近期计划（大学计划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2011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-2014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大学毕业时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 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：大一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大二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或在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×× 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方面要达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专业学习、职业技能培养、职业素质提升、职业实践计划等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大一以适应大学生活为主，大二以专业学习和掌握职业技能为主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或为了实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××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目标我要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大学生职业规划的重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远期计划（毕业后五年计划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2014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-2019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毕业后第五年时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毕业后第一年要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第二年要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或在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××</a:t>
                      </a: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方面要达到</a:t>
                      </a: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……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如职场适应、三脉积累（知脉、人脉、金脉）、岗位转换及升迁等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99cc00"/>
                          </a:solidFill>
                          <a:latin typeface="Verdana"/>
                          <a:ea typeface="宋体"/>
                        </a:rPr>
                        <a:t>大学生职业规划的重点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矩形 6"/>
          <p:cNvSpPr/>
          <p:nvPr/>
        </p:nvSpPr>
        <p:spPr>
          <a:xfrm>
            <a:off x="642960" y="4158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制定行动计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500040" y="1093320"/>
            <a:ext cx="843912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细执行计划如下：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①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本人现正就读大学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x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年级，我在大学期间计划是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一探索期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适应大学生活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,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接触职业规划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,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锻炼自己。具体方案如下：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二定向期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初步确立自己努力方向以及进行相关能力的培养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三准备期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进一步加强学习，为不久的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做准备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大四冲刺期  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[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阶段目标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]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考上研究生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/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找到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工作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②</a:t>
            </a: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毕业后五年内计划为：（需扩展）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一年：做好本职工作，给上级好印象；工作上和同事积极沟通，平时多帮助和关心别人，建立良好的人际关系。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二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三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四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99cc00"/>
                </a:solidFill>
                <a:latin typeface="宋体"/>
                <a:ea typeface="宋体"/>
              </a:rPr>
              <a:t>第五年：</a:t>
            </a:r>
            <a:r>
              <a:rPr b="1" lang="en-US" sz="2100" spc="-1" strike="noStrike">
                <a:solidFill>
                  <a:srgbClr val="99cc00"/>
                </a:solidFill>
                <a:latin typeface="宋体"/>
                <a:ea typeface="宋体"/>
              </a:rPr>
              <a:t>…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矩形 5"/>
          <p:cNvSpPr/>
          <p:nvPr/>
        </p:nvSpPr>
        <p:spPr>
          <a:xfrm>
            <a:off x="500040" y="35712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制定行动计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28760" y="999720"/>
            <a:ext cx="85104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是否需要重新选择职业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（假如一直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那么我将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是否需要调整发展方向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（当出现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的时候，我就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是否需要改变行动策略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（如果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我就</a:t>
            </a:r>
            <a:r>
              <a:rPr b="1" lang="en-US" sz="2800" spc="-1" strike="noStrike">
                <a:solidFill>
                  <a:srgbClr val="f31a03"/>
                </a:solidFill>
                <a:latin typeface="宋体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f31a03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身体、家庭、经济状况以及机遇、意外情况的及时评估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矩形 5"/>
          <p:cNvSpPr/>
          <p:nvPr/>
        </p:nvSpPr>
        <p:spPr>
          <a:xfrm>
            <a:off x="428760" y="35712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、动态反馈调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黑体"/>
              </a:rPr>
              <a:t>结束语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17320" y="961560"/>
            <a:ext cx="8381880" cy="54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范文：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计划固然宏大而美好，但更重要的，在于其具体实践并取得成效。只说不做，所谓的职业规划目标就如空中楼阁般美好却遥不可及，到头来只是一个安慰自己的美丽谎言。然而，现实是未知多变的，定出的目标计划随时都可能遭遇问题，要求有清醒的头脑，巨大的勇气，克服困难，取得成功。也许最终我们的目标也不能达成，但至少我们努力过，奋斗过，拼搏过，人生也便无悔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每个人心中都有一座山峰，雕刻着理想、信念、追求、抱负；每个人心中都有一片森林，承载着收获、芬芳、失意、磨砺。一个人，若要获得成功，必须拿出勇气，付出努力、拼搏、奋斗。成功，不相信眼泪；成功，不相信颓废；成功不相信幻影，未来，要靠自己去打拼！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职业生涯规划书的基本要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71720" y="1519200"/>
            <a:ext cx="7107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资料翔实，步骤齐全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论证有据，分析到位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言简意赅、结构紧凑，重点突出、逻辑严密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目标明确，合理适中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分解合理，组合科学，措施具体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格式清晰，图文并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作品的注意事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570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扉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创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真实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校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行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业上交时间：下学期开学第一周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地点：招生就业处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63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4" descr="j0301252"/>
          <p:cNvPicPr/>
          <p:nvPr/>
        </p:nvPicPr>
        <p:blipFill>
          <a:blip r:embed="rId1"/>
          <a:stretch/>
        </p:blipFill>
        <p:spPr>
          <a:xfrm>
            <a:off x="6372360" y="4437000"/>
            <a:ext cx="2303280" cy="1970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c"/>
            </a:gs>
            <a:gs pos="100000">
              <a:srgbClr val="2828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当代大学生对职业规划的认知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3"/>
          <p:cNvGrpSpPr/>
          <p:nvPr/>
        </p:nvGrpSpPr>
        <p:grpSpPr>
          <a:xfrm>
            <a:off x="533520" y="2216160"/>
            <a:ext cx="8415360" cy="4183920"/>
            <a:chOff x="533520" y="2216160"/>
            <a:chExt cx="8415360" cy="4183920"/>
          </a:xfrm>
        </p:grpSpPr>
        <p:pic>
          <p:nvPicPr>
            <p:cNvPr id="354" name="Object 5" descr=""/>
            <p:cNvPicPr/>
            <p:nvPr/>
          </p:nvPicPr>
          <p:blipFill>
            <a:blip r:embed="rId1"/>
            <a:stretch/>
          </p:blipFill>
          <p:spPr>
            <a:xfrm>
              <a:off x="533520" y="2216160"/>
              <a:ext cx="5727600" cy="37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6"/>
            <p:cNvSpPr/>
            <p:nvPr/>
          </p:nvSpPr>
          <p:spPr>
            <a:xfrm>
              <a:off x="666720" y="6033960"/>
              <a:ext cx="828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900000" indent="-900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结果：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6.6%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的大学生对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“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如何规划自己的职业生涯</a:t>
              </a:r>
              <a:r>
                <a:rPr b="1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”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毫无头绪或仅有初步了解！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7"/>
            <p:cNvSpPr/>
            <p:nvPr/>
          </p:nvSpPr>
          <p:spPr>
            <a:xfrm>
              <a:off x="6462720" y="3089160"/>
              <a:ext cx="24130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一：毫无概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二：了解一点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三：比较熟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状态四：深入了解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5:15:45Z</dcterms:created>
  <dc:creator>www.eeppt.com; An</dc:creator>
  <dc:description>ppt模板下载网站 http://www.eeppt.com</dc:description>
  <dc:language>en-US</dc:language>
  <cp:lastModifiedBy/>
  <dcterms:modified xsi:type="dcterms:W3CDTF">2015-05-27T14:47:23Z</dcterms:modified>
  <cp:revision>1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