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C7D-AE4A-453B-ADEC-4BDEC2DC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344-EFB6-486A-86BA-96A2568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0CD-C13B-4DFA-A1AE-AB90A13F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2E5-82CF-4D54-8653-43557352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074-499B-4FDF-BA3F-334126B4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36E1-F9D7-4C55-8A17-6AD10221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6CA-1C29-4667-8F15-E652C17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C78-F75B-4084-B218-B49552D0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629-0534-4845-8AEF-2CEBA104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637C-665D-436A-A1BF-2F5612C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8CC1-914B-47DB-9F0C-89BFE5B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4AA-FDAE-4A8F-B0A2-B066D76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7E56-F054-4A41-AEC0-84E0AF7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80E-92E0-4E03-A9EC-4DD84FF6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0F20-FB9E-4FF0-954B-ABBD8C38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1FA-1A36-4546-96EE-A3DF0BBB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200-9456-4530-84BC-335E0F5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EE7-57F3-4E90-B118-510ECCA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2A4-78D9-40C1-946B-A8F2EFC1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E73-84B3-49D1-92EA-155C8E8F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F4D-E915-4A55-A763-7E1FDF2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5E2-BF8C-42D4-96C1-980B5D4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B86-C4AC-4C10-AF55-9613C0C3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A9A-A39C-4B39-A92E-8FCBDA9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D43-F740-463E-8D45-AD43D1866E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FFCD-F2A1-40B0-AACB-E5DA3CDA71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06D-8E40-4376-B59D-0B7D166DFA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C745-8E20-47BD-84B5-DFB2E9D86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0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31000" y="2014560"/>
            <a:ext cx="217008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3240" y="2014560"/>
            <a:ext cx="126216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1332000" y="2014560"/>
            <a:ext cx="228276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518080" y="2014560"/>
            <a:ext cx="212580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sp>
        <p:nvSpPr>
          <p:cNvPr id="86" name="TextBox 5"/>
          <p:cNvSpPr/>
          <p:nvPr/>
        </p:nvSpPr>
        <p:spPr>
          <a:xfrm>
            <a:off x="-250920" y="3935520"/>
            <a:ext cx="7199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方正综艺简体"/>
                <a:ea typeface="方正综艺简体"/>
              </a:rPr>
              <a:t>我的未来我做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-----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我的职业生涯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140360" y="513072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姓名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：国际经济与贸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系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年级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2010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校：西安交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5"/>
          <a:stretch/>
        </p:blipFill>
        <p:spPr>
          <a:xfrm>
            <a:off x="3687840" y="1189080"/>
            <a:ext cx="1744560" cy="2442960"/>
          </a:xfrm>
          <a:prstGeom prst="rect">
            <a:avLst/>
          </a:prstGeom>
          <a:ln w="28440">
            <a:solidFill>
              <a:srgbClr val="ffc000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28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"/>
                            </p:stCondLst>
                            <p:childTnLst>
                              <p:par>
                                <p:cTn id="2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44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1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1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324"/>
                            </p:stCondLst>
                            <p:childTnLst>
                              <p:par>
                                <p:cTn id="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3476880" y="27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认知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3174480" y="32846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扬长避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4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3"/>
          <p:cNvGrpSpPr/>
          <p:nvPr/>
        </p:nvGrpSpPr>
        <p:grpSpPr>
          <a:xfrm>
            <a:off x="3533400" y="4177080"/>
            <a:ext cx="961920" cy="1157040"/>
            <a:chOff x="3533400" y="4177080"/>
            <a:chExt cx="961920" cy="1157040"/>
          </a:xfrm>
        </p:grpSpPr>
        <p:sp>
          <p:nvSpPr>
            <p:cNvPr id="191" name="椭圆 3"/>
            <p:cNvSpPr/>
            <p:nvPr/>
          </p:nvSpPr>
          <p:spPr>
            <a:xfrm rot="20017200">
              <a:off x="3704760" y="4326480"/>
              <a:ext cx="618840" cy="91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"/>
            <p:cNvSpPr/>
            <p:nvPr/>
          </p:nvSpPr>
          <p:spPr>
            <a:xfrm rot="20017200">
              <a:off x="3736440" y="4242960"/>
              <a:ext cx="11448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"/>
            <p:cNvSpPr/>
            <p:nvPr/>
          </p:nvSpPr>
          <p:spPr>
            <a:xfrm rot="20017200">
              <a:off x="3830400" y="420156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"/>
            <p:cNvSpPr/>
            <p:nvPr/>
          </p:nvSpPr>
          <p:spPr>
            <a:xfrm rot="20017200">
              <a:off x="3943440" y="420552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7"/>
            <p:cNvSpPr/>
            <p:nvPr/>
          </p:nvSpPr>
          <p:spPr>
            <a:xfrm rot="20017200">
              <a:off x="4043160" y="4253760"/>
              <a:ext cx="15912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8"/>
            <p:cNvSpPr/>
            <p:nvPr/>
          </p:nvSpPr>
          <p:spPr>
            <a:xfrm rot="20017200">
              <a:off x="4138560" y="4303080"/>
              <a:ext cx="20196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4"/>
          <p:cNvGrpSpPr/>
          <p:nvPr/>
        </p:nvGrpSpPr>
        <p:grpSpPr>
          <a:xfrm>
            <a:off x="4250880" y="5261760"/>
            <a:ext cx="1005480" cy="1155960"/>
            <a:chOff x="4250880" y="5261760"/>
            <a:chExt cx="1005480" cy="1155960"/>
          </a:xfrm>
        </p:grpSpPr>
        <p:sp>
          <p:nvSpPr>
            <p:cNvPr id="198" name="椭圆 3"/>
            <p:cNvSpPr/>
            <p:nvPr/>
          </p:nvSpPr>
          <p:spPr>
            <a:xfrm flipH="1" rot="1887600">
              <a:off x="4444200" y="5406840"/>
              <a:ext cx="617760" cy="91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6"/>
            <p:cNvSpPr/>
            <p:nvPr/>
          </p:nvSpPr>
          <p:spPr>
            <a:xfrm flipH="1" rot="1887600">
              <a:off x="4959000" y="5345280"/>
              <a:ext cx="11376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27"/>
            <p:cNvSpPr/>
            <p:nvPr/>
          </p:nvSpPr>
          <p:spPr>
            <a:xfrm flipH="1" rot="1887600">
              <a:off x="4837320" y="529488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28"/>
            <p:cNvSpPr/>
            <p:nvPr/>
          </p:nvSpPr>
          <p:spPr>
            <a:xfrm flipH="1" rot="1887600">
              <a:off x="4724280" y="528912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29"/>
            <p:cNvSpPr/>
            <p:nvPr/>
          </p:nvSpPr>
          <p:spPr>
            <a:xfrm flipH="1" rot="1887600">
              <a:off x="4606200" y="5327280"/>
              <a:ext cx="158760" cy="16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0"/>
            <p:cNvSpPr/>
            <p:nvPr/>
          </p:nvSpPr>
          <p:spPr>
            <a:xfrm flipH="1" rot="1887600">
              <a:off x="4463280" y="536580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1"/>
          <p:cNvGrpSpPr/>
          <p:nvPr/>
        </p:nvGrpSpPr>
        <p:grpSpPr>
          <a:xfrm>
            <a:off x="4463640" y="3102840"/>
            <a:ext cx="1005840" cy="1157400"/>
            <a:chOff x="4463640" y="3102840"/>
            <a:chExt cx="1005840" cy="1157400"/>
          </a:xfrm>
        </p:grpSpPr>
        <p:sp>
          <p:nvSpPr>
            <p:cNvPr id="205" name="椭圆 3"/>
            <p:cNvSpPr/>
            <p:nvPr/>
          </p:nvSpPr>
          <p:spPr>
            <a:xfrm flipH="1" rot="1887600">
              <a:off x="4657320" y="3248640"/>
              <a:ext cx="617760" cy="91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33"/>
            <p:cNvSpPr/>
            <p:nvPr/>
          </p:nvSpPr>
          <p:spPr>
            <a:xfrm flipH="1" rot="1887600">
              <a:off x="5171760" y="3186360"/>
              <a:ext cx="11376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34"/>
            <p:cNvSpPr/>
            <p:nvPr/>
          </p:nvSpPr>
          <p:spPr>
            <a:xfrm flipH="1" rot="1887600">
              <a:off x="5050080" y="313596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5"/>
            <p:cNvSpPr/>
            <p:nvPr/>
          </p:nvSpPr>
          <p:spPr>
            <a:xfrm flipH="1" rot="1887600">
              <a:off x="4937400" y="313020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6"/>
            <p:cNvSpPr/>
            <p:nvPr/>
          </p:nvSpPr>
          <p:spPr>
            <a:xfrm flipH="1" rot="1887600">
              <a:off x="4818960" y="3168000"/>
              <a:ext cx="15876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37"/>
            <p:cNvSpPr/>
            <p:nvPr/>
          </p:nvSpPr>
          <p:spPr>
            <a:xfrm flipH="1" rot="1887600">
              <a:off x="4676040" y="320724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8"/>
          <p:cNvGrpSpPr/>
          <p:nvPr/>
        </p:nvGrpSpPr>
        <p:grpSpPr>
          <a:xfrm>
            <a:off x="3696840" y="2019600"/>
            <a:ext cx="961200" cy="1156680"/>
            <a:chOff x="3696840" y="2019600"/>
            <a:chExt cx="961200" cy="1156680"/>
          </a:xfrm>
        </p:grpSpPr>
        <p:sp>
          <p:nvSpPr>
            <p:cNvPr id="212" name="椭圆 3"/>
            <p:cNvSpPr/>
            <p:nvPr/>
          </p:nvSpPr>
          <p:spPr>
            <a:xfrm rot="20017200">
              <a:off x="3868560" y="2168640"/>
              <a:ext cx="617760" cy="91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0"/>
            <p:cNvSpPr/>
            <p:nvPr/>
          </p:nvSpPr>
          <p:spPr>
            <a:xfrm rot="20017200">
              <a:off x="3899520" y="2085120"/>
              <a:ext cx="11412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1"/>
            <p:cNvSpPr/>
            <p:nvPr/>
          </p:nvSpPr>
          <p:spPr>
            <a:xfrm rot="20017200">
              <a:off x="3993480" y="2044080"/>
              <a:ext cx="14508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42"/>
            <p:cNvSpPr/>
            <p:nvPr/>
          </p:nvSpPr>
          <p:spPr>
            <a:xfrm rot="20017200">
              <a:off x="4106160" y="2048040"/>
              <a:ext cx="14508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3"/>
            <p:cNvSpPr/>
            <p:nvPr/>
          </p:nvSpPr>
          <p:spPr>
            <a:xfrm rot="20017200">
              <a:off x="4205520" y="2096280"/>
              <a:ext cx="15876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44"/>
            <p:cNvSpPr/>
            <p:nvPr/>
          </p:nvSpPr>
          <p:spPr>
            <a:xfrm rot="20017200">
              <a:off x="4300920" y="214560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45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8"/>
          <p:cNvSpPr/>
          <p:nvPr/>
        </p:nvSpPr>
        <p:spPr>
          <a:xfrm flipH="1">
            <a:off x="4521240" y="2641680"/>
            <a:ext cx="25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业分析  地域分析  职业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 flipH="1">
            <a:off x="4642560" y="21542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 flipH="1">
            <a:off x="2610720" y="3090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 flipH="1">
            <a:off x="5292000" y="41702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 flipH="1">
            <a:off x="2394720" y="53942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63"/>
          <p:cNvSpPr/>
          <p:nvPr/>
        </p:nvSpPr>
        <p:spPr>
          <a:xfrm flipH="1">
            <a:off x="4122720" y="2546280"/>
            <a:ext cx="2394000" cy="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64"/>
          <p:cNvSpPr/>
          <p:nvPr/>
        </p:nvSpPr>
        <p:spPr>
          <a:xfrm flipH="1">
            <a:off x="2637000" y="3573360"/>
            <a:ext cx="237312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65"/>
          <p:cNvSpPr/>
          <p:nvPr/>
        </p:nvSpPr>
        <p:spPr>
          <a:xfrm flipH="1">
            <a:off x="3970080" y="4653000"/>
            <a:ext cx="2778120" cy="1440"/>
          </a:xfrm>
          <a:prstGeom prst="line">
            <a:avLst/>
          </a:prstGeom>
          <a:ln w="12600">
            <a:solidFill>
              <a:srgbClr val="ff9801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6"/>
          <p:cNvSpPr/>
          <p:nvPr/>
        </p:nvSpPr>
        <p:spPr>
          <a:xfrm flipH="1">
            <a:off x="2395440" y="5805360"/>
            <a:ext cx="2408400" cy="0"/>
          </a:xfrm>
          <a:prstGeom prst="line">
            <a:avLst/>
          </a:prstGeom>
          <a:ln w="12600">
            <a:solidFill>
              <a:srgbClr val="119707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8"/>
          <p:cNvSpPr/>
          <p:nvPr/>
        </p:nvSpPr>
        <p:spPr>
          <a:xfrm>
            <a:off x="2060640" y="5435640"/>
            <a:ext cx="135000" cy="6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8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19"/>
          <p:cNvSpPr/>
          <p:nvPr/>
        </p:nvSpPr>
        <p:spPr>
          <a:xfrm>
            <a:off x="6948360" y="4189320"/>
            <a:ext cx="36036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20"/>
          <p:cNvSpPr/>
          <p:nvPr/>
        </p:nvSpPr>
        <p:spPr>
          <a:xfrm>
            <a:off x="2131920" y="3063960"/>
            <a:ext cx="351000" cy="72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21"/>
          <p:cNvSpPr/>
          <p:nvPr/>
        </p:nvSpPr>
        <p:spPr>
          <a:xfrm>
            <a:off x="6661080" y="2022480"/>
            <a:ext cx="480960" cy="673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26835" t="21046" r="22209" b="34808"/>
          <a:stretch/>
        </p:blipFill>
        <p:spPr>
          <a:xfrm>
            <a:off x="146160" y="-27000"/>
            <a:ext cx="1746000" cy="1717560"/>
          </a:xfrm>
          <a:prstGeom prst="rect">
            <a:avLst/>
          </a:prstGeom>
          <a:ln w="0">
            <a:noFill/>
          </a:ln>
        </p:spPr>
      </p:pic>
      <p:sp>
        <p:nvSpPr>
          <p:cNvPr id="233" name="矩形 69"/>
          <p:cNvSpPr/>
          <p:nvPr/>
        </p:nvSpPr>
        <p:spPr>
          <a:xfrm>
            <a:off x="717480" y="6951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4"/>
          <p:cNvSpPr/>
          <p:nvPr/>
        </p:nvSpPr>
        <p:spPr>
          <a:xfrm>
            <a:off x="0" y="674676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5"/>
          <p:cNvSpPr/>
          <p:nvPr/>
        </p:nvSpPr>
        <p:spPr>
          <a:xfrm>
            <a:off x="-22320" y="6597720"/>
            <a:ext cx="9166320" cy="1062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rcRect l="30443" t="19890" r="29898" b="35769"/>
          <a:stretch/>
        </p:blipFill>
        <p:spPr>
          <a:xfrm>
            <a:off x="-34920" y="-171360"/>
            <a:ext cx="1546200" cy="1968480"/>
          </a:xfrm>
          <a:prstGeom prst="rect">
            <a:avLst/>
          </a:prstGeom>
          <a:ln w="0">
            <a:noFill/>
          </a:ln>
        </p:spPr>
      </p:pic>
      <p:sp>
        <p:nvSpPr>
          <p:cNvPr id="238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23960" y="3019320"/>
          <a:ext cx="7808760" cy="2637000"/>
        </p:xfrm>
        <a:graphic>
          <a:graphicData uri="http://schemas.openxmlformats.org/drawingml/2006/table">
            <a:tbl>
              <a:tblPr/>
              <a:tblGrid>
                <a:gridCol w="1893960"/>
                <a:gridCol w="2977920"/>
                <a:gridCol w="2936880"/>
              </a:tblGrid>
              <a:tr h="371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内部环境因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优势因素（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弱势因素（Ｗ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1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扎实的专业知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优秀的人际交往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踏实稳重独立的性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工作有条理和计划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知识面不够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有独断专行倾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创新意识欠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缺乏灵活反应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部环境因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机会因素（Ｏ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威胁因素（Ｔ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专业人才缺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发展前景广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国家政策鼓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该行业进入者增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行业监管缺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与政策关系紧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矩形 13"/>
          <p:cNvSpPr/>
          <p:nvPr/>
        </p:nvSpPr>
        <p:spPr>
          <a:xfrm>
            <a:off x="6024240" y="228924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SWOT</a:t>
            </a:r>
            <a:r>
              <a:rPr b="1" lang="zh-CN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30443" t="19890" r="29898" b="35769"/>
          <a:stretch/>
        </p:blipFill>
        <p:spPr>
          <a:xfrm>
            <a:off x="-34920" y="-171360"/>
            <a:ext cx="1546200" cy="1968480"/>
          </a:xfrm>
          <a:prstGeom prst="rect">
            <a:avLst/>
          </a:prstGeom>
          <a:ln w="0">
            <a:noFill/>
          </a:ln>
        </p:spPr>
      </p:pic>
      <p:sp>
        <p:nvSpPr>
          <p:cNvPr id="245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5995080" y="2216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我的职业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9640" y="2924280"/>
          <a:ext cx="8064360" cy="2749320"/>
        </p:xfrm>
        <a:graphic>
          <a:graphicData uri="http://schemas.openxmlformats.org/drawingml/2006/table">
            <a:tbl>
              <a:tblPr/>
              <a:tblGrid>
                <a:gridCol w="1511280"/>
                <a:gridCol w="6553080"/>
              </a:tblGrid>
              <a:tr h="48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业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金融分析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业发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与路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职业生涯初期进入四大会计师事务所之一进行职业前期锻炼，期间考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P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注册会计师）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F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特许金融分析师）等相关证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~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去香港或美国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利用工作及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B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期间的经历，进入中国大陆的大型国企或央企工作，如中国国际金融有限公司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IC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前往华尔街打拼，开始在大型投行或证券公司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0" y="645156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8"/>
          <p:cNvSpPr/>
          <p:nvPr/>
        </p:nvSpPr>
        <p:spPr>
          <a:xfrm>
            <a:off x="-22320" y="6302520"/>
            <a:ext cx="9166320" cy="1062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30366" t="23864" r="31383" b="36758"/>
          <a:stretch/>
        </p:blipFill>
        <p:spPr>
          <a:xfrm>
            <a:off x="-96840" y="-31680"/>
            <a:ext cx="1665360" cy="1949400"/>
          </a:xfrm>
          <a:prstGeom prst="rect">
            <a:avLst/>
          </a:prstGeom>
          <a:ln w="0">
            <a:noFill/>
          </a:ln>
        </p:spPr>
      </p:pic>
      <p:sp>
        <p:nvSpPr>
          <p:cNvPr id="254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计划实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50920" y="2089080"/>
          <a:ext cx="8497440" cy="4076640"/>
        </p:xfrm>
        <a:graphic>
          <a:graphicData uri="http://schemas.openxmlformats.org/drawingml/2006/table">
            <a:tbl>
              <a:tblPr/>
              <a:tblGrid>
                <a:gridCol w="2095560"/>
                <a:gridCol w="6401880"/>
              </a:tblGrid>
              <a:tr h="24444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短期计划（本科学习阶段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顺利毕业，进入清华经管读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时认真学习专业知识，大二通过英语四六级，大三通过计算机二级考试及其他英语资格考试，积极准备保研，大四积极寻找实习机会，并保证在毕业时顺利完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CCA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门全球统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多参加学校各类活动，争取一直拥有毕马威华振会计师事务所精英计划学员资格，尽可能发表论文，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GMAT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ELT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雅思）考试中获得高分，并尽可能多的考取与专业相关的资格证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中期计划（本科毕业后五年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生毕业，进入四大会计师事务所之一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学校里跟随导师及师兄师姐完成科研工作，同时积极寻求名企实习锻炼机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生期间尽可能多的发表论文，考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PA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注册会计师）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FA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特许金融分析师）等含金量高的证书。通过在企业的实习积累经验，毕业后能留在北京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长期计划（本科毕业后十年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2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为一名高级金融分析师，进入华尔街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知识结构上不断完善，以大型国企（央企）为跳板，最终进入华尔街核心金融地带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~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去香港或美国读深造，利用工作及深造期间的经历与经验，进入中国大陆的大型国企或央企工作，如中国国际金融有限公司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IC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等。工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~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前往华尔街打拼，开始在大型投行或证券公司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矩形 14"/>
          <p:cNvSpPr/>
          <p:nvPr/>
        </p:nvSpPr>
        <p:spPr>
          <a:xfrm>
            <a:off x="4005000" y="1695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计划实施一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5"/>
          <p:cNvSpPr/>
          <p:nvPr/>
        </p:nvSpPr>
        <p:spPr>
          <a:xfrm>
            <a:off x="1577880" y="2492280"/>
            <a:ext cx="7566120" cy="3913200"/>
          </a:xfrm>
          <a:prstGeom prst="pi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6550200" y="25092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0821" t="21677" r="28950" b="36947"/>
          <a:stretch/>
        </p:blipFill>
        <p:spPr>
          <a:xfrm>
            <a:off x="173160" y="1085760"/>
            <a:ext cx="1881000" cy="219888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861840" y="1973160"/>
            <a:ext cx="25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结束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2556000" y="4051440"/>
            <a:ext cx="624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未来因规划而不同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我的未来我做主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682560" y="3652920"/>
            <a:ext cx="1009800" cy="20811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8"/>
          <p:cNvSpPr/>
          <p:nvPr/>
        </p:nvSpPr>
        <p:spPr>
          <a:xfrm>
            <a:off x="1908000" y="3220920"/>
            <a:ext cx="1008360" cy="251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7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remove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remove" presetClass="emph" presetID="27" repeatCount="4000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64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7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3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1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1">
                                          <p:stCondLst>
                                            <p:cond delay="207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3" fill="hold">
                                          <p:stCondLst>
                                            <p:cond delay="81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21" fill="hold">
                                          <p:stCondLst>
                                            <p:cond delay="8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3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21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3" fill="hold">
                                          <p:stCondLst>
                                            <p:cond delay="20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21" fill="hold">
                                          <p:stCondLst>
                                            <p:cond delay="2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3" fill="hold">
                                          <p:stCondLst>
                                            <p:cond delay="22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21" fill="hold">
                                          <p:stCondLst>
                                            <p:cond delay="22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五角星 1"/>
          <p:cNvSpPr/>
          <p:nvPr/>
        </p:nvSpPr>
        <p:spPr>
          <a:xfrm rot="20877600">
            <a:off x="-936360" y="-4485960"/>
            <a:ext cx="10672920" cy="14228640"/>
          </a:xfrm>
          <a:prstGeom prst="star5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2916360" y="29988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340000" y="37908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敬请各位评委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402-E783-4E56-B59B-3EECC62072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7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3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1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1">
                                          <p:stCondLst>
                                            <p:cond delay="20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3" fill="hold">
                                          <p:stCondLst>
                                            <p:cond delay="8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21" fill="hold">
                                          <p:stCondLst>
                                            <p:cond delay="8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3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21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3" fill="hold">
                                          <p:stCondLst>
                                            <p:cond delay="20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21" fill="hold">
                                          <p:stCondLst>
                                            <p:cond delay="2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3" fill="hold">
                                          <p:stCondLst>
                                            <p:cond delay="22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21" fill="hold">
                                          <p:stCondLst>
                                            <p:cond delay="22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10"/>
                            </p:stCondLst>
                            <p:childTnLst>
                              <p:par>
                                <p:cTn id="5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0" y="1819440"/>
            <a:ext cx="7013520" cy="5038560"/>
            <a:chOff x="0" y="1819440"/>
            <a:chExt cx="7013520" cy="503856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rcRect l="23252" t="0" r="0" b="1933"/>
            <a:stretch/>
          </p:blipFill>
          <p:spPr>
            <a:xfrm>
              <a:off x="0" y="1819440"/>
              <a:ext cx="701352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7"/>
            <p:cNvSpPr/>
            <p:nvPr/>
          </p:nvSpPr>
          <p:spPr>
            <a:xfrm>
              <a:off x="146160" y="3096720"/>
              <a:ext cx="2592360" cy="84132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生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4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693960" y="2205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在职业发展道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重要的不是你现在所处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而是迈出下一步的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3693960" y="3782880"/>
            <a:ext cx="4572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生涯规划简而言之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知己  知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择优选择职业目标和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并用高效行动去达成职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8"/>
          <p:cNvGrpSpPr/>
          <p:nvPr/>
        </p:nvGrpSpPr>
        <p:grpSpPr>
          <a:xfrm>
            <a:off x="3648240" y="3516480"/>
            <a:ext cx="4663800" cy="107640"/>
            <a:chOff x="3648240" y="3516480"/>
            <a:chExt cx="4663800" cy="107640"/>
          </a:xfrm>
        </p:grpSpPr>
        <p:sp>
          <p:nvSpPr>
            <p:cNvPr id="96" name="矩形 10"/>
            <p:cNvSpPr/>
            <p:nvPr/>
          </p:nvSpPr>
          <p:spPr>
            <a:xfrm>
              <a:off x="36482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1"/>
            <p:cNvSpPr/>
            <p:nvPr/>
          </p:nvSpPr>
          <p:spPr>
            <a:xfrm>
              <a:off x="42354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2"/>
            <p:cNvSpPr/>
            <p:nvPr/>
          </p:nvSpPr>
          <p:spPr>
            <a:xfrm>
              <a:off x="482292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4104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4"/>
            <p:cNvSpPr/>
            <p:nvPr/>
          </p:nvSpPr>
          <p:spPr>
            <a:xfrm>
              <a:off x="59976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5"/>
            <p:cNvSpPr/>
            <p:nvPr/>
          </p:nvSpPr>
          <p:spPr>
            <a:xfrm>
              <a:off x="658512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71726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7"/>
            <p:cNvSpPr/>
            <p:nvPr/>
          </p:nvSpPr>
          <p:spPr>
            <a:xfrm>
              <a:off x="77598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2"/>
          <p:cNvGrpSpPr/>
          <p:nvPr/>
        </p:nvGrpSpPr>
        <p:grpSpPr>
          <a:xfrm>
            <a:off x="0" y="0"/>
            <a:ext cx="9144000" cy="1965240"/>
            <a:chOff x="0" y="0"/>
            <a:chExt cx="9144000" cy="1965240"/>
          </a:xfrm>
        </p:grpSpPr>
        <p:sp>
          <p:nvSpPr>
            <p:cNvPr id="105" name="矩形 19"/>
            <p:cNvSpPr/>
            <p:nvPr/>
          </p:nvSpPr>
          <p:spPr>
            <a:xfrm>
              <a:off x="0" y="0"/>
              <a:ext cx="9144000" cy="1819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0"/>
            <p:cNvSpPr/>
            <p:nvPr/>
          </p:nvSpPr>
          <p:spPr>
            <a:xfrm>
              <a:off x="0" y="1858680"/>
              <a:ext cx="9144000" cy="10656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33072" t="22981" r="33856" b="44232"/>
          <a:stretch/>
        </p:blipFill>
        <p:spPr>
          <a:xfrm>
            <a:off x="466560" y="1701720"/>
            <a:ext cx="3313440" cy="44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1547640" y="24447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2340000" y="3573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兴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特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胜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75"/>
                            </p:stCondLst>
                            <p:childTnLst>
                              <p:par>
                                <p:cTn id="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3456000" y="37940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大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国际经济与贸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A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西安交通大学优秀学生标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校甲级社团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XXX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主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毕马威精英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2808360" y="1557360"/>
            <a:ext cx="242640" cy="410364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114720" y="3794040"/>
            <a:ext cx="241200" cy="1866960"/>
          </a:xfrm>
          <a:prstGeom prst="rect">
            <a:avLst/>
          </a:prstGeom>
          <a:solidFill>
            <a:srgbClr val="e3b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lenovo\AppData\Local\Temp\ksohtml\wps_clip_image-6831.png"/>
          <p:cNvPicPr/>
          <p:nvPr/>
        </p:nvPicPr>
        <p:blipFill>
          <a:blip r:embed="rId1"/>
          <a:stretch/>
        </p:blipFill>
        <p:spPr>
          <a:xfrm>
            <a:off x="544680" y="1785960"/>
            <a:ext cx="3090600" cy="3639960"/>
          </a:xfrm>
          <a:prstGeom prst="rect">
            <a:avLst/>
          </a:prstGeom>
          <a:ln w="0">
            <a:noFill/>
          </a:ln>
        </p:spPr>
      </p:pic>
      <p:sp>
        <p:nvSpPr>
          <p:cNvPr id="124" name="矩形 11"/>
          <p:cNvSpPr/>
          <p:nvPr/>
        </p:nvSpPr>
        <p:spPr>
          <a:xfrm>
            <a:off x="1293480" y="5445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霍兰德职业兴趣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067280" y="1628640"/>
            <a:ext cx="475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平均分数</a:t>
            </a:r>
            <a:r>
              <a:rPr b="1" lang="en-US" sz="2800" spc="-1" strike="noStrike">
                <a:solidFill>
                  <a:srgbClr val="e3b325"/>
                </a:solidFill>
                <a:latin typeface="微软雅黑"/>
                <a:ea typeface="微软雅黑"/>
              </a:rPr>
              <a:t>7.167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分  分数极差为</a:t>
            </a:r>
            <a:r>
              <a:rPr b="1" lang="en-US" sz="2800" spc="-1" strike="noStrike">
                <a:solidFill>
                  <a:srgbClr val="e3b325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对应于</a:t>
            </a:r>
            <a:r>
              <a:rPr b="1" lang="zh-CN" sz="2400" spc="-1" strike="noStrike">
                <a:solidFill>
                  <a:srgbClr val="e3b325"/>
                </a:solidFill>
                <a:latin typeface="微软雅黑"/>
                <a:ea typeface="微软雅黑"/>
              </a:rPr>
              <a:t>艺术型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>
                <a:solidFill>
                  <a:srgbClr val="e3b325"/>
                </a:solidFill>
                <a:latin typeface="微软雅黑"/>
                <a:ea typeface="微软雅黑"/>
              </a:rPr>
              <a:t>社会型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之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067280" y="2932200"/>
            <a:ext cx="499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结合我的实际情况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我爱好艺术，对生活有着自己独特的一套见解，总是能从生活中找到自己所感兴趣的东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我喜欢与人交流，能很容易跟周围的人打成一片，够迅速的融入一个新的集体，并且在其中发挥自己的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喜欢钻研一些自己专业的东西，比如每届政府在经济政策方面的变化、产业结构与进出口商品关系、股票及期货市场走势等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对生活的敏感、对知识的渴望，使我有足够的理由认为，我能够成为一个合格的高水平金融工作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5"/>
          <p:cNvGrpSpPr/>
          <p:nvPr/>
        </p:nvGrpSpPr>
        <p:grpSpPr>
          <a:xfrm>
            <a:off x="4122720" y="2492280"/>
            <a:ext cx="4665600" cy="108000"/>
            <a:chOff x="4122720" y="2492280"/>
            <a:chExt cx="4665600" cy="108000"/>
          </a:xfrm>
        </p:grpSpPr>
        <p:sp>
          <p:nvSpPr>
            <p:cNvPr id="128" name="矩形 16"/>
            <p:cNvSpPr/>
            <p:nvPr/>
          </p:nvSpPr>
          <p:spPr>
            <a:xfrm>
              <a:off x="412272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7"/>
            <p:cNvSpPr/>
            <p:nvPr/>
          </p:nvSpPr>
          <p:spPr>
            <a:xfrm>
              <a:off x="471024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"/>
            <p:cNvSpPr/>
            <p:nvPr/>
          </p:nvSpPr>
          <p:spPr>
            <a:xfrm>
              <a:off x="529776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9"/>
            <p:cNvSpPr/>
            <p:nvPr/>
          </p:nvSpPr>
          <p:spPr>
            <a:xfrm>
              <a:off x="58852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0"/>
            <p:cNvSpPr/>
            <p:nvPr/>
          </p:nvSpPr>
          <p:spPr>
            <a:xfrm>
              <a:off x="647316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1"/>
            <p:cNvSpPr/>
            <p:nvPr/>
          </p:nvSpPr>
          <p:spPr>
            <a:xfrm>
              <a:off x="70606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2"/>
            <p:cNvSpPr/>
            <p:nvPr/>
          </p:nvSpPr>
          <p:spPr>
            <a:xfrm>
              <a:off x="764820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3"/>
            <p:cNvSpPr/>
            <p:nvPr/>
          </p:nvSpPr>
          <p:spPr>
            <a:xfrm>
              <a:off x="82360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30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38" name="矩形 32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兴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636560" y="206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测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538360"/>
          <a:ext cx="2900520" cy="2879640"/>
        </p:xfrm>
        <a:graphic>
          <a:graphicData uri="http://schemas.openxmlformats.org/drawingml/2006/table">
            <a:tbl>
              <a:tblPr/>
              <a:tblGrid>
                <a:gridCol w="1675440"/>
                <a:gridCol w="1225080"/>
              </a:tblGrid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力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基本智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言语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推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文素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信息分析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4" name="组合 1"/>
          <p:cNvGrpSpPr/>
          <p:nvPr/>
        </p:nvGrpSpPr>
        <p:grpSpPr>
          <a:xfrm>
            <a:off x="4211640" y="3417840"/>
            <a:ext cx="4249800" cy="2090880"/>
            <a:chOff x="4211640" y="3417840"/>
            <a:chExt cx="4249800" cy="2090880"/>
          </a:xfrm>
        </p:grpSpPr>
        <p:sp>
          <p:nvSpPr>
            <p:cNvPr id="145" name="矩形 25"/>
            <p:cNvSpPr/>
            <p:nvPr/>
          </p:nvSpPr>
          <p:spPr>
            <a:xfrm>
              <a:off x="4211640" y="3608640"/>
              <a:ext cx="4249800" cy="1693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4"/>
            <p:cNvSpPr/>
            <p:nvPr/>
          </p:nvSpPr>
          <p:spPr>
            <a:xfrm>
              <a:off x="4283640" y="3789000"/>
              <a:ext cx="40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具体情况是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维活跃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总有新奇的点子，喜欢从新的视角看问题，见解较独特，做事认真。我善于与人沟通，人际关系很好，这对我成为一名优秀的金融人才很有帮助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7"/>
            <p:cNvSpPr/>
            <p:nvPr/>
          </p:nvSpPr>
          <p:spPr>
            <a:xfrm>
              <a:off x="4211640" y="3417840"/>
              <a:ext cx="4249800" cy="136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8"/>
            <p:cNvSpPr/>
            <p:nvPr/>
          </p:nvSpPr>
          <p:spPr>
            <a:xfrm>
              <a:off x="4211640" y="5372640"/>
              <a:ext cx="4249800" cy="136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31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51" name="矩形 33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4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3760920" y="37004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工作有条不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强势并且直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事情做对最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直述心中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讨厌谈及私事和心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倾向自己解决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2808360" y="1557360"/>
            <a:ext cx="242640" cy="410364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3203640" y="3794040"/>
            <a:ext cx="241200" cy="1866960"/>
          </a:xfrm>
          <a:prstGeom prst="rect">
            <a:avLst/>
          </a:prstGeom>
          <a:solidFill>
            <a:srgbClr val="e3b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3132000" y="307008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人才素质测评报告结果显示我具有支配服从型特征，具体情况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61" name="矩形 25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特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1642320" y="198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人才素质测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067280" y="44053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家庭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我实现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支配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2421000"/>
          <a:ext cx="2736720" cy="3200400"/>
        </p:xfrm>
        <a:graphic>
          <a:graphicData uri="http://schemas.openxmlformats.org/drawingml/2006/table">
            <a:tbl>
              <a:tblPr/>
              <a:tblGrid>
                <a:gridCol w="1619280"/>
                <a:gridCol w="111744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价值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得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营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济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志愿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尊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配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庭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才能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由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我实现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矩形 2"/>
          <p:cNvSpPr/>
          <p:nvPr/>
        </p:nvSpPr>
        <p:spPr>
          <a:xfrm>
            <a:off x="4979880" y="384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其中得分最高的三项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"/>
          <p:cNvSpPr/>
          <p:nvPr/>
        </p:nvSpPr>
        <p:spPr>
          <a:xfrm>
            <a:off x="4211640" y="4365720"/>
            <a:ext cx="3995640" cy="0"/>
          </a:xfrm>
          <a:prstGeom prst="line">
            <a:avLst/>
          </a:prstGeom>
          <a:ln w="28440">
            <a:solidFill>
              <a:srgbClr val="6600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8"/>
          <p:cNvSpPr/>
          <p:nvPr/>
        </p:nvSpPr>
        <p:spPr>
          <a:xfrm>
            <a:off x="4211640" y="5661000"/>
            <a:ext cx="3995640" cy="0"/>
          </a:xfrm>
          <a:prstGeom prst="line">
            <a:avLst/>
          </a:prstGeom>
          <a:ln w="28440">
            <a:solidFill>
              <a:srgbClr val="6600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73" name="矩形 29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0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"/>
                            </p:stCondLst>
                            <p:childTnLst>
                              <p:par>
                                <p:cTn id="2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3068640"/>
          <a:ext cx="8089560" cy="2448000"/>
        </p:xfrm>
        <a:graphic>
          <a:graphicData uri="http://schemas.openxmlformats.org/drawingml/2006/table">
            <a:tbl>
              <a:tblPr/>
              <a:tblGrid>
                <a:gridCol w="4019760"/>
                <a:gridCol w="4069800"/>
              </a:tblGrid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我的优势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我的劣势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5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精力旺盛，追求成就与效率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注意细节与精准度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工作讲究条理与计划性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强势作风完成艰巨任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只谈实际的事务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不信任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会把实情藏在心中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注重追求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矩形 15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7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胜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237360"/>
            <a:ext cx="655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0Z</dcterms:created>
  <dc:creator>www.eeppt.com</dc:creator>
  <dc:description>ppt模板下载网站 http://www.eeppt.com</dc:description>
  <dc:language>en-US</dc:language>
  <cp:lastModifiedBy/>
  <dcterms:modified xsi:type="dcterms:W3CDTF">2015-05-22T15:48:42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