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D83-4EB5-410A-86BB-FB9FF03B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9D8-0EC1-4F4F-A7E5-9F1B568D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BD1-A4C4-4F59-B51E-45F5600B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595-C516-40A1-87C6-A090E3CA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88A-6B12-4E47-A9AA-725CA9C9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D32-B650-4CD9-A4B4-366E0830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EB5-B774-43CF-9AF3-91970808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B49-3639-4104-BA75-53181F23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FDD-AACB-40AB-AED6-FC3CD5F5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534-AEF7-4926-8A6E-4B60497E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4E0-FBB0-4E9B-8932-D77700F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169-6A35-438B-8B21-6CF0C2C7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855-C54C-4F2C-BBFB-B36474B2C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33977.htm" TargetMode="External"/><Relationship Id="rId5" Type="http://schemas.openxmlformats.org/officeDocument/2006/relationships/hyperlink" Target="http://baike.baidu.com/view/2516.htm" TargetMode="External"/><Relationship Id="rId6" Type="http://schemas.openxmlformats.org/officeDocument/2006/relationships/hyperlink" Target="http://baike.baidu.com/view/805104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895.htm" TargetMode="External"/><Relationship Id="rId4" Type="http://schemas.openxmlformats.org/officeDocument/2006/relationships/hyperlink" Target="http://image.baidu.com/i?ct=503316480&amp;z=0&amp;tn=baiduimagedetail&amp;word=%CF%F2%C8&#1407;%FB&#674;%BF%AA&amp;in=24752&amp;cl=2&amp;lm=-1&amp;pn=17&amp;rn=1&amp;di=6622279938&amp;ln=2000&amp;fr=&amp;fmq=&amp;ic=&amp;s=&amp;se=&amp;sme=0&amp;tab=&amp;width=&amp;height=&amp;face=&amp;is=&amp;istype=2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aike.baidu.com/view/58539.htm" TargetMode="External"/><Relationship Id="rId7" Type="http://schemas.openxmlformats.org/officeDocument/2006/relationships/hyperlink" Target="http://image.baidu.com/i?ct=503316480&amp;z=&amp;tn=baiduimagedetail&amp;word=&#687;%F5%FA%C0%BC&amp;in=24161&amp;cl=2&amp;lm=-1&amp;pn=1&amp;rn=1&amp;di=13315498485&amp;ln=2000&amp;fr=&amp;fmq=&amp;ic=0&amp;s=0&amp;se=1&amp;sme=0&amp;tab=&amp;width=&amp;height=&amp;face=0&amp;is=&amp;istype=2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eeppt.com/moban/jier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pic7.nipic.com/20100524/3426142_215804068908_2.jpg"/>
          <p:cNvPicPr/>
          <p:nvPr/>
        </p:nvPicPr>
        <p:blipFill>
          <a:blip r:embed="rId1"/>
          <a:srcRect l="-53" t="0" r="0" b="38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-3024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371600" y="3024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0" y="685800"/>
            <a:ext cx="9126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世界上第一个父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1910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诞生在美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是由住在美国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华盛顿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斯波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Spokane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布鲁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多德夫人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s. Dodd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nora Louise Smart Dodd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倡导的。多德夫人的母亲在生育第六个孩子时，因难产而死；多德夫人的父亲威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斯马特先生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. William Smart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曾参加过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南北战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在妻子过世后，独自一人在华盛顿州东部的一个乡下农场，承担起抚养、教育六个孩子的重任。多德夫人排行老二，是家里唯一的女孩，女性的细心特质，让她更能体会父亲的辛劳：斯马特先生白天辛劳地工作，晚上回家还要照料家务与每一个孩子的生活。经过几十年的辛苦，儿女们终于长大成人。当子女们盼望能让斯马特先生好好安享晚年之际，斯马特先生却因多年的过度劳累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辞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斯马特先生辞世之年，当多德夫人参加完教会的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母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感恩礼拜后，她特别想念父亲；多德夫人心中明白，她的父亲在养育儿女过程中所付出的爱和艰辛，并不亚于任何一个母亲。多德夫人将她的感受告诉给教会的瑞马士牧师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Rev. Rasmus)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希望能有一个特别的日子，纪念全天下伟大的父亲。她的这一想法得到了牧师的赞许，同时得到了各教会组织的支持；多德夫人随即写信向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市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与州政府表达了自己的想法，并建议以她父亲的生日——每年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日作为父亲节。斯波坎市市长与华盛顿州州长公开表示赞成，州政府采纳这一建议的同时，把节期改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的第三个星期日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日，多德夫人所在的华盛顿州斯波坎市，举行了全世界的第一次父亲节庆祝活动。在差不多的时间里，美国各地其它城镇的人们也开始庆祝“父亲节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743200" y="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节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798480"/>
            <a:ext cx="70866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向日葵配剑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——父爱如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花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比海洋更宽阔的是天空，比天空更宽阔的是您的心胸，您额上的皱纹记载着坎坷，您的一生就是一首瑰丽的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灿烂时光——各色太阳花，绿叶适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花语：青春是一颗星星眨着真诚的眼睛，青春是一个微笑，传递着流动的快乐，青春是一首歌，唱出了满怀的激情，青春是一首诗，写满了生活的喜怒哀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1.baidu.com/it/u=1881937537,3139198926&amp;fm=2&amp;gp=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89760" y="1360440"/>
            <a:ext cx="215424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0" y="3773520"/>
            <a:ext cx="75153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父亲节之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——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石斛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。由于石斛兰具有秉性刚强、祥和可亲的气质，有许多国家把它作为每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日的“父亲节之花。”在国外，石斛兰的花语为“欢迎你，亲爱的。”父亲节送石斛兰，这是父亲之花，表示坚毅、勇敢；石斛的花语是：欢迎、祝福、纯洁、吉祥、幸福。黄色的石斛兰是在父亲节或父亲的生日时赠送父亲的花，寓意父亲的刚毅、亲切而威严，表达对父亲的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1.baidu.com/it/u=1800892017,1659295980&amp;fm=0&amp;gp=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3733920"/>
            <a:ext cx="164160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352680"/>
            <a:ext cx="592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6480"/>
            <a:ext cx="9229680" cy="693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030400" y="7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非销话题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礼物选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2280" y="1219320"/>
            <a:ext cx="876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男孩父亲节就要到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给爸爸选什么礼物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没想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给你个建议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选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牛皮腰带怎么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渐渐老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但是不论何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他在儿女心理总是那么伟大。这时候选购一条结实耐用的双面牛皮皮带送给她，让父亲感受到儿女的爱，感受到自身仍然有无穷大的力量和活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祝愿他永远年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美女看你一脸纠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在为父亲节选礼物发愁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记得小时候，每个新学期，父亲都给我们买个新书包，这是新学期让我们最开心的事情。到如今，我们长大了，但是爸爸的包包还是那一个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建议你挑选一款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包包送给爸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想您父亲不是不换包包而是不记得换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因为他心里只有女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节送个包包给爸爸让他知道到，我们心里有着他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欢迎光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帅哥一个人逛街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想给父亲选礼物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您送父亲旅游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真时尚现在最流行送旅游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能留下美好的回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去哪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三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那正好我推荐几款服装您看下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今年椰树风格非常流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正好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而且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服装不仅设计精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面料也是相当舒适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凉爽轻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吸汗透气是我们夏季服装的最大特点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非常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来这边请我给您详细介绍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xinimg.com/uploads/allimg/100409/1_100409082030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38080" y="1430280"/>
            <a:ext cx="74678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长春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全体员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预祝天下所有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父亲节快乐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41Z</dcterms:created>
  <dc:creator>www.eeppt.com; An</dc:creator>
  <dc:description>ppt模板下载网站 http://www.eeppt.com</dc:description>
  <dc:language>en-US</dc:language>
  <cp:lastModifiedBy/>
  <dcterms:modified xsi:type="dcterms:W3CDTF">2015-05-27T15:11:23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