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D1FB-2800-4BC2-92AB-43896147D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2CAB-004F-454F-9D07-327CBFC2C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73A9-BBE1-4B28-BB2A-93B3A3CD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AFF6-1C7E-4938-AA70-8537C49A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476-5DE6-4047-A1AE-A9228C95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C6AB-9736-4284-A788-0D575C3E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792F-1C77-4E37-83EE-BCA26EEFB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371C-DC8E-4AB8-96AC-C0BA6E0D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E0A4-7583-4187-89E7-FC9D4CD80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F1A5-596F-4FEB-A92F-DF2E6533D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3F22-926A-49EA-A2CC-368A4E41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C3B3-985A-4357-A28D-377B40A2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02C3-9959-426E-862B-D01695F7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732-BB21-47C6-9581-96AC483B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487A-5435-45E6-9B46-3E8963F1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29E5-B3EE-4EC0-8A5E-B75C0532E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D054-E8BB-44A1-BBF0-BD566C397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937-661F-44FB-BE53-CE5DA75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0822-A7C8-4B0A-99B0-C65E506F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1509-26A4-4BB1-BFDD-F30E5F1E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F06-C897-4E12-81FC-0E013D85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EBB2-8385-466B-A0F6-6932F57A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45D0-9A63-4E16-89E3-19359150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5AD1-E17D-4933-8864-2A39B193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48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5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1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48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5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1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48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5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1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2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48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5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1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48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8920" y="34448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040" y="36806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8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8920" y="45529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040" y="47887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9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8920" y="55627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040" y="57985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7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120" y="396252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240" y="419832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52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120" y="507060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240" y="530640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60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120" y="6121440"/>
              <a:ext cx="10404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240" y="6357240"/>
              <a:ext cx="42840" cy="5076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92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4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368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00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376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48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272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1200" y="76536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20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088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040"/>
                <a:ext cx="455040" cy="36576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600" y="1100880"/>
                <a:ext cx="25740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AFAAE-1D6D-4599-810B-CFA030CF19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68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760" y="2254320"/>
              <a:ext cx="334080" cy="60948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8000" cy="51084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920" y="1645200"/>
              <a:ext cx="805320" cy="15444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24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360"/>
              <a:ext cx="1122120" cy="26856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480" y="2475000"/>
              <a:ext cx="911520" cy="23436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480"/>
              <a:ext cx="933840" cy="77148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800" y="2352600"/>
              <a:ext cx="52848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688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09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688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09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688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09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2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688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09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4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1880" y="4724280"/>
              <a:ext cx="32868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240" y="5470560"/>
              <a:ext cx="136440" cy="16164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60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2280"/>
              <a:ext cx="385560" cy="183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400" y="5317920"/>
              <a:ext cx="28116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44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560" y="5519520"/>
              <a:ext cx="39384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700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80080"/>
              <a:ext cx="328320" cy="272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199800" cy="5050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5BEC-BD3B-489B-8C4F-D20F3866F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 Box 2"/>
          <p:cNvSpPr/>
          <p:nvPr/>
        </p:nvSpPr>
        <p:spPr>
          <a:xfrm>
            <a:off x="1676520" y="1371600"/>
            <a:ext cx="624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第二节    光的反射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3"/>
          <p:cNvSpPr/>
          <p:nvPr/>
        </p:nvSpPr>
        <p:spPr>
          <a:xfrm>
            <a:off x="1371600" y="4267080"/>
            <a:ext cx="6858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连市汇文中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李新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-457200"/>
            <a:ext cx="777240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581" name="Group 11"/>
          <p:cNvGrpSpPr/>
          <p:nvPr/>
        </p:nvGrpSpPr>
        <p:grpSpPr>
          <a:xfrm>
            <a:off x="1828800" y="4651560"/>
            <a:ext cx="4014000" cy="633960"/>
            <a:chOff x="1828800" y="4651560"/>
            <a:chExt cx="4014000" cy="633960"/>
          </a:xfrm>
        </p:grpSpPr>
        <p:sp>
          <p:nvSpPr>
            <p:cNvPr id="582" name="Line 12"/>
            <p:cNvSpPr/>
            <p:nvPr/>
          </p:nvSpPr>
          <p:spPr>
            <a:xfrm>
              <a:off x="1828800" y="4651560"/>
              <a:ext cx="3886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3" name="Group 13"/>
            <p:cNvGrpSpPr/>
            <p:nvPr/>
          </p:nvGrpSpPr>
          <p:grpSpPr>
            <a:xfrm>
              <a:off x="1929600" y="4667400"/>
              <a:ext cx="3913200" cy="618120"/>
              <a:chOff x="1929600" y="4667400"/>
              <a:chExt cx="3913200" cy="618120"/>
            </a:xfrm>
          </p:grpSpPr>
          <p:sp>
            <p:nvSpPr>
              <p:cNvPr id="584" name="Line 14"/>
              <p:cNvSpPr/>
              <p:nvPr/>
            </p:nvSpPr>
            <p:spPr>
              <a:xfrm>
                <a:off x="1929600" y="4672080"/>
                <a:ext cx="26460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Line 15"/>
              <p:cNvSpPr/>
              <p:nvPr/>
            </p:nvSpPr>
            <p:spPr>
              <a:xfrm>
                <a:off x="2195280" y="4675680"/>
                <a:ext cx="26496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Line 16"/>
              <p:cNvSpPr/>
              <p:nvPr/>
            </p:nvSpPr>
            <p:spPr>
              <a:xfrm>
                <a:off x="2461680" y="4679280"/>
                <a:ext cx="26496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Line 17"/>
              <p:cNvSpPr/>
              <p:nvPr/>
            </p:nvSpPr>
            <p:spPr>
              <a:xfrm>
                <a:off x="2727720" y="4682880"/>
                <a:ext cx="26460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Line 18"/>
              <p:cNvSpPr/>
              <p:nvPr/>
            </p:nvSpPr>
            <p:spPr>
              <a:xfrm>
                <a:off x="2993400" y="4686480"/>
                <a:ext cx="26532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Line 19"/>
              <p:cNvSpPr/>
              <p:nvPr/>
            </p:nvSpPr>
            <p:spPr>
              <a:xfrm>
                <a:off x="3260160" y="4690080"/>
                <a:ext cx="26460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20"/>
              <p:cNvSpPr/>
              <p:nvPr/>
            </p:nvSpPr>
            <p:spPr>
              <a:xfrm>
                <a:off x="3526200" y="4694040"/>
                <a:ext cx="26424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Line 21"/>
              <p:cNvSpPr/>
              <p:nvPr/>
            </p:nvSpPr>
            <p:spPr>
              <a:xfrm>
                <a:off x="3792240" y="4697640"/>
                <a:ext cx="26496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Line 22"/>
              <p:cNvSpPr/>
              <p:nvPr/>
            </p:nvSpPr>
            <p:spPr>
              <a:xfrm>
                <a:off x="4058640" y="4701240"/>
                <a:ext cx="26460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Line 23"/>
              <p:cNvSpPr/>
              <p:nvPr/>
            </p:nvSpPr>
            <p:spPr>
              <a:xfrm>
                <a:off x="4324320" y="4704840"/>
                <a:ext cx="26460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Line 24"/>
              <p:cNvSpPr/>
              <p:nvPr/>
            </p:nvSpPr>
            <p:spPr>
              <a:xfrm>
                <a:off x="4590360" y="4708440"/>
                <a:ext cx="264960" cy="56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Line 25"/>
              <p:cNvSpPr/>
              <p:nvPr/>
            </p:nvSpPr>
            <p:spPr>
              <a:xfrm>
                <a:off x="4857120" y="4712400"/>
                <a:ext cx="264600" cy="56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Line 26"/>
              <p:cNvSpPr/>
              <p:nvPr/>
            </p:nvSpPr>
            <p:spPr>
              <a:xfrm>
                <a:off x="5122800" y="4716000"/>
                <a:ext cx="26460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Line 27"/>
              <p:cNvSpPr/>
              <p:nvPr/>
            </p:nvSpPr>
            <p:spPr>
              <a:xfrm>
                <a:off x="5388840" y="4719600"/>
                <a:ext cx="264960" cy="565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Line 28"/>
              <p:cNvSpPr/>
              <p:nvPr/>
            </p:nvSpPr>
            <p:spPr>
              <a:xfrm>
                <a:off x="5577480" y="4667400"/>
                <a:ext cx="265320" cy="56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29"/>
          <p:cNvGrpSpPr/>
          <p:nvPr/>
        </p:nvGrpSpPr>
        <p:grpSpPr>
          <a:xfrm>
            <a:off x="2637720" y="1836000"/>
            <a:ext cx="3562560" cy="2805120"/>
            <a:chOff x="2637720" y="1836000"/>
            <a:chExt cx="3562560" cy="2805120"/>
          </a:xfrm>
        </p:grpSpPr>
        <p:grpSp>
          <p:nvGrpSpPr>
            <p:cNvPr id="600" name="Group 30"/>
            <p:cNvGrpSpPr/>
            <p:nvPr/>
          </p:nvGrpSpPr>
          <p:grpSpPr>
            <a:xfrm>
              <a:off x="2637720" y="1836000"/>
              <a:ext cx="3562560" cy="2805120"/>
              <a:chOff x="2637720" y="1836000"/>
              <a:chExt cx="3562560" cy="2805120"/>
            </a:xfrm>
          </p:grpSpPr>
          <p:sp>
            <p:nvSpPr>
              <p:cNvPr id="601" name="Line 31"/>
              <p:cNvSpPr/>
              <p:nvPr/>
            </p:nvSpPr>
            <p:spPr>
              <a:xfrm flipH="1">
                <a:off x="2637720" y="1853280"/>
                <a:ext cx="1770840" cy="2787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Line 32"/>
              <p:cNvSpPr/>
              <p:nvPr/>
            </p:nvSpPr>
            <p:spPr>
              <a:xfrm flipH="1">
                <a:off x="2893320" y="1851120"/>
                <a:ext cx="177084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Line 33"/>
              <p:cNvSpPr/>
              <p:nvPr/>
            </p:nvSpPr>
            <p:spPr>
              <a:xfrm flipH="1">
                <a:off x="3149280" y="1848240"/>
                <a:ext cx="1770840" cy="2787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Line 34"/>
              <p:cNvSpPr/>
              <p:nvPr/>
            </p:nvSpPr>
            <p:spPr>
              <a:xfrm flipH="1">
                <a:off x="3405240" y="1845720"/>
                <a:ext cx="177084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Line 35"/>
              <p:cNvSpPr/>
              <p:nvPr/>
            </p:nvSpPr>
            <p:spPr>
              <a:xfrm flipH="1">
                <a:off x="3661200" y="1843200"/>
                <a:ext cx="1770840" cy="2787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Line 36"/>
              <p:cNvSpPr/>
              <p:nvPr/>
            </p:nvSpPr>
            <p:spPr>
              <a:xfrm flipH="1">
                <a:off x="3917880" y="1840680"/>
                <a:ext cx="1770840" cy="27878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Line 37"/>
              <p:cNvSpPr/>
              <p:nvPr/>
            </p:nvSpPr>
            <p:spPr>
              <a:xfrm flipH="1">
                <a:off x="4173480" y="1838520"/>
                <a:ext cx="177084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Line 38"/>
              <p:cNvSpPr/>
              <p:nvPr/>
            </p:nvSpPr>
            <p:spPr>
              <a:xfrm flipH="1">
                <a:off x="4429440" y="1836000"/>
                <a:ext cx="1770840" cy="27874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9" name="Group 39"/>
            <p:cNvGrpSpPr/>
            <p:nvPr/>
          </p:nvGrpSpPr>
          <p:grpSpPr>
            <a:xfrm>
              <a:off x="3444120" y="2867760"/>
              <a:ext cx="2091240" cy="496440"/>
              <a:chOff x="3444120" y="2867760"/>
              <a:chExt cx="2091240" cy="496440"/>
            </a:xfrm>
          </p:grpSpPr>
          <p:sp>
            <p:nvSpPr>
              <p:cNvPr id="610" name="Line 40"/>
              <p:cNvSpPr/>
              <p:nvPr/>
            </p:nvSpPr>
            <p:spPr>
              <a:xfrm flipH="1">
                <a:off x="3444120" y="2885040"/>
                <a:ext cx="29952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Line 41"/>
              <p:cNvSpPr/>
              <p:nvPr/>
            </p:nvSpPr>
            <p:spPr>
              <a:xfrm flipH="1">
                <a:off x="3699720" y="2882880"/>
                <a:ext cx="29952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Line 42"/>
              <p:cNvSpPr/>
              <p:nvPr/>
            </p:nvSpPr>
            <p:spPr>
              <a:xfrm flipH="1">
                <a:off x="3955680" y="2880360"/>
                <a:ext cx="29952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Line 43"/>
              <p:cNvSpPr/>
              <p:nvPr/>
            </p:nvSpPr>
            <p:spPr>
              <a:xfrm flipH="1">
                <a:off x="4212000" y="2877480"/>
                <a:ext cx="29952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Line 44"/>
              <p:cNvSpPr/>
              <p:nvPr/>
            </p:nvSpPr>
            <p:spPr>
              <a:xfrm flipH="1">
                <a:off x="4467600" y="2875320"/>
                <a:ext cx="29952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Line 45"/>
              <p:cNvSpPr/>
              <p:nvPr/>
            </p:nvSpPr>
            <p:spPr>
              <a:xfrm flipH="1">
                <a:off x="4723560" y="2873160"/>
                <a:ext cx="299520" cy="478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Line 46"/>
              <p:cNvSpPr/>
              <p:nvPr/>
            </p:nvSpPr>
            <p:spPr>
              <a:xfrm flipH="1">
                <a:off x="4979880" y="2870280"/>
                <a:ext cx="29988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Line 47"/>
              <p:cNvSpPr/>
              <p:nvPr/>
            </p:nvSpPr>
            <p:spPr>
              <a:xfrm flipH="1">
                <a:off x="5235480" y="2867760"/>
                <a:ext cx="299880" cy="4791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8" name="Group 48"/>
          <p:cNvGrpSpPr/>
          <p:nvPr/>
        </p:nvGrpSpPr>
        <p:grpSpPr>
          <a:xfrm>
            <a:off x="866520" y="1317240"/>
            <a:ext cx="3601080" cy="3360960"/>
            <a:chOff x="866520" y="1317240"/>
            <a:chExt cx="3601080" cy="3360960"/>
          </a:xfrm>
        </p:grpSpPr>
        <p:grpSp>
          <p:nvGrpSpPr>
            <p:cNvPr id="619" name="Group 49"/>
            <p:cNvGrpSpPr/>
            <p:nvPr/>
          </p:nvGrpSpPr>
          <p:grpSpPr>
            <a:xfrm>
              <a:off x="866520" y="1317240"/>
              <a:ext cx="3601080" cy="3360960"/>
              <a:chOff x="866520" y="1317240"/>
              <a:chExt cx="3601080" cy="3360960"/>
            </a:xfrm>
          </p:grpSpPr>
          <p:sp>
            <p:nvSpPr>
              <p:cNvPr id="620" name="Line 50"/>
              <p:cNvSpPr/>
              <p:nvPr/>
            </p:nvSpPr>
            <p:spPr>
              <a:xfrm flipH="1" flipV="1">
                <a:off x="2621880" y="131724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Line 51"/>
              <p:cNvSpPr/>
              <p:nvPr/>
            </p:nvSpPr>
            <p:spPr>
              <a:xfrm flipH="1" flipV="1">
                <a:off x="2371680" y="132264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Line 52"/>
              <p:cNvSpPr/>
              <p:nvPr/>
            </p:nvSpPr>
            <p:spPr>
              <a:xfrm flipH="1" flipV="1">
                <a:off x="2120040" y="132732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Line 53"/>
              <p:cNvSpPr/>
              <p:nvPr/>
            </p:nvSpPr>
            <p:spPr>
              <a:xfrm flipH="1" flipV="1">
                <a:off x="1869480" y="133236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54"/>
              <p:cNvSpPr/>
              <p:nvPr/>
            </p:nvSpPr>
            <p:spPr>
              <a:xfrm flipH="1" flipV="1">
                <a:off x="1618920" y="133740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55"/>
              <p:cNvSpPr/>
              <p:nvPr/>
            </p:nvSpPr>
            <p:spPr>
              <a:xfrm flipH="1" flipV="1">
                <a:off x="1367640" y="134244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56"/>
              <p:cNvSpPr/>
              <p:nvPr/>
            </p:nvSpPr>
            <p:spPr>
              <a:xfrm flipH="1" flipV="1">
                <a:off x="1117080" y="134712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57"/>
              <p:cNvSpPr/>
              <p:nvPr/>
            </p:nvSpPr>
            <p:spPr>
              <a:xfrm flipH="1" flipV="1">
                <a:off x="866520" y="1352160"/>
                <a:ext cx="1845720" cy="33260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8" name="Group 58"/>
            <p:cNvGrpSpPr/>
            <p:nvPr/>
          </p:nvGrpSpPr>
          <p:grpSpPr>
            <a:xfrm>
              <a:off x="1712160" y="2829240"/>
              <a:ext cx="2085840" cy="628560"/>
              <a:chOff x="1712160" y="2829240"/>
              <a:chExt cx="2085840" cy="628560"/>
            </a:xfrm>
          </p:grpSpPr>
          <p:sp>
            <p:nvSpPr>
              <p:cNvPr id="629" name="Line 59"/>
              <p:cNvSpPr/>
              <p:nvPr/>
            </p:nvSpPr>
            <p:spPr>
              <a:xfrm flipH="1" flipV="1">
                <a:off x="3467520" y="2829240"/>
                <a:ext cx="33048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60"/>
              <p:cNvSpPr/>
              <p:nvPr/>
            </p:nvSpPr>
            <p:spPr>
              <a:xfrm flipH="1" flipV="1">
                <a:off x="3216960" y="283428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61"/>
              <p:cNvSpPr/>
              <p:nvPr/>
            </p:nvSpPr>
            <p:spPr>
              <a:xfrm flipH="1" flipV="1">
                <a:off x="2965680" y="283896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62"/>
              <p:cNvSpPr/>
              <p:nvPr/>
            </p:nvSpPr>
            <p:spPr>
              <a:xfrm flipH="1" flipV="1">
                <a:off x="2715120" y="284436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63"/>
              <p:cNvSpPr/>
              <p:nvPr/>
            </p:nvSpPr>
            <p:spPr>
              <a:xfrm flipH="1" flipV="1">
                <a:off x="2464560" y="2849040"/>
                <a:ext cx="330840" cy="5940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64"/>
              <p:cNvSpPr/>
              <p:nvPr/>
            </p:nvSpPr>
            <p:spPr>
              <a:xfrm flipH="1" flipV="1">
                <a:off x="2213280" y="2854080"/>
                <a:ext cx="33048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65"/>
              <p:cNvSpPr/>
              <p:nvPr/>
            </p:nvSpPr>
            <p:spPr>
              <a:xfrm flipH="1" flipV="1">
                <a:off x="1962720" y="285912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66"/>
              <p:cNvSpPr/>
              <p:nvPr/>
            </p:nvSpPr>
            <p:spPr>
              <a:xfrm flipH="1" flipV="1">
                <a:off x="1712160" y="2864160"/>
                <a:ext cx="330840" cy="593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7" name="Rectangle 67"/>
          <p:cNvSpPr/>
          <p:nvPr/>
        </p:nvSpPr>
        <p:spPr>
          <a:xfrm>
            <a:off x="876240" y="549360"/>
            <a:ext cx="63597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镜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8" name="Group 85"/>
          <p:cNvGrpSpPr/>
          <p:nvPr/>
        </p:nvGrpSpPr>
        <p:grpSpPr>
          <a:xfrm>
            <a:off x="2627280" y="979200"/>
            <a:ext cx="1800000" cy="3674880"/>
            <a:chOff x="2627280" y="979200"/>
            <a:chExt cx="1800000" cy="3674880"/>
          </a:xfrm>
        </p:grpSpPr>
        <p:grpSp>
          <p:nvGrpSpPr>
            <p:cNvPr id="639" name="Group 75"/>
            <p:cNvGrpSpPr/>
            <p:nvPr/>
          </p:nvGrpSpPr>
          <p:grpSpPr>
            <a:xfrm>
              <a:off x="2627280" y="979200"/>
              <a:ext cx="258120" cy="3673080"/>
              <a:chOff x="2627280" y="979200"/>
              <a:chExt cx="258120" cy="3673080"/>
            </a:xfrm>
          </p:grpSpPr>
          <p:sp>
            <p:nvSpPr>
              <p:cNvPr id="640" name="Line 68"/>
              <p:cNvSpPr/>
              <p:nvPr/>
            </p:nvSpPr>
            <p:spPr>
              <a:xfrm flipV="1">
                <a:off x="2627280" y="979200"/>
                <a:ext cx="0" cy="36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69"/>
              <p:cNvSpPr/>
              <p:nvPr/>
            </p:nvSpPr>
            <p:spPr>
              <a:xfrm flipV="1">
                <a:off x="2885400" y="979200"/>
                <a:ext cx="0" cy="36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2" name="Group 76"/>
            <p:cNvGrpSpPr/>
            <p:nvPr/>
          </p:nvGrpSpPr>
          <p:grpSpPr>
            <a:xfrm>
              <a:off x="3141720" y="980640"/>
              <a:ext cx="257760" cy="3673440"/>
              <a:chOff x="3141720" y="980640"/>
              <a:chExt cx="257760" cy="3673440"/>
            </a:xfrm>
          </p:grpSpPr>
          <p:sp>
            <p:nvSpPr>
              <p:cNvPr id="643" name="Line 77"/>
              <p:cNvSpPr/>
              <p:nvPr/>
            </p:nvSpPr>
            <p:spPr>
              <a:xfrm flipV="1">
                <a:off x="3141720" y="98064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Line 78"/>
              <p:cNvSpPr/>
              <p:nvPr/>
            </p:nvSpPr>
            <p:spPr>
              <a:xfrm flipV="1">
                <a:off x="3399480" y="98064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Group 79"/>
            <p:cNvGrpSpPr/>
            <p:nvPr/>
          </p:nvGrpSpPr>
          <p:grpSpPr>
            <a:xfrm>
              <a:off x="3655080" y="980640"/>
              <a:ext cx="258120" cy="3673440"/>
              <a:chOff x="3655080" y="980640"/>
              <a:chExt cx="258120" cy="3673440"/>
            </a:xfrm>
          </p:grpSpPr>
          <p:sp>
            <p:nvSpPr>
              <p:cNvPr id="646" name="Line 80"/>
              <p:cNvSpPr/>
              <p:nvPr/>
            </p:nvSpPr>
            <p:spPr>
              <a:xfrm flipV="1">
                <a:off x="3655080" y="98064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81"/>
              <p:cNvSpPr/>
              <p:nvPr/>
            </p:nvSpPr>
            <p:spPr>
              <a:xfrm flipV="1">
                <a:off x="3913200" y="98064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8" name="Group 82"/>
            <p:cNvGrpSpPr/>
            <p:nvPr/>
          </p:nvGrpSpPr>
          <p:grpSpPr>
            <a:xfrm>
              <a:off x="4169520" y="980640"/>
              <a:ext cx="257760" cy="3673440"/>
              <a:chOff x="4169520" y="980640"/>
              <a:chExt cx="257760" cy="3673440"/>
            </a:xfrm>
          </p:grpSpPr>
          <p:sp>
            <p:nvSpPr>
              <p:cNvPr id="649" name="Line 83"/>
              <p:cNvSpPr/>
              <p:nvPr/>
            </p:nvSpPr>
            <p:spPr>
              <a:xfrm flipV="1">
                <a:off x="4169520" y="98064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84"/>
              <p:cNvSpPr/>
              <p:nvPr/>
            </p:nvSpPr>
            <p:spPr>
              <a:xfrm flipV="1">
                <a:off x="4427280" y="980640"/>
                <a:ext cx="0" cy="3673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Freeform 2"/>
          <p:cNvSpPr/>
          <p:nvPr/>
        </p:nvSpPr>
        <p:spPr>
          <a:xfrm>
            <a:off x="639720" y="4575240"/>
            <a:ext cx="8253360" cy="2209680"/>
          </a:xfrm>
          <a:custGeom>
            <a:avLst/>
            <a:gdLst/>
            <a:ahLst/>
            <a:rect l="l" t="t" r="r" b="b"/>
            <a:pathLst>
              <a:path w="4485" h="1392">
                <a:moveTo>
                  <a:pt x="0" y="711"/>
                </a:moveTo>
                <a:cubicBezTo>
                  <a:pt x="16" y="687"/>
                  <a:pt x="33" y="662"/>
                  <a:pt x="49" y="638"/>
                </a:cubicBezTo>
                <a:cubicBezTo>
                  <a:pt x="61" y="621"/>
                  <a:pt x="55" y="596"/>
                  <a:pt x="61" y="576"/>
                </a:cubicBezTo>
                <a:cubicBezTo>
                  <a:pt x="64" y="566"/>
                  <a:pt x="100" y="479"/>
                  <a:pt x="110" y="466"/>
                </a:cubicBezTo>
                <a:cubicBezTo>
                  <a:pt x="128" y="443"/>
                  <a:pt x="152" y="426"/>
                  <a:pt x="171" y="405"/>
                </a:cubicBezTo>
                <a:cubicBezTo>
                  <a:pt x="185" y="390"/>
                  <a:pt x="197" y="373"/>
                  <a:pt x="208" y="356"/>
                </a:cubicBezTo>
                <a:cubicBezTo>
                  <a:pt x="221" y="336"/>
                  <a:pt x="229" y="312"/>
                  <a:pt x="245" y="294"/>
                </a:cubicBezTo>
                <a:cubicBezTo>
                  <a:pt x="302" y="229"/>
                  <a:pt x="387" y="200"/>
                  <a:pt x="453" y="147"/>
                </a:cubicBezTo>
                <a:cubicBezTo>
                  <a:pt x="471" y="133"/>
                  <a:pt x="483" y="112"/>
                  <a:pt x="502" y="98"/>
                </a:cubicBezTo>
                <a:cubicBezTo>
                  <a:pt x="561" y="54"/>
                  <a:pt x="628" y="39"/>
                  <a:pt x="698" y="25"/>
                </a:cubicBezTo>
                <a:cubicBezTo>
                  <a:pt x="782" y="32"/>
                  <a:pt x="864" y="34"/>
                  <a:pt x="944" y="62"/>
                </a:cubicBezTo>
                <a:cubicBezTo>
                  <a:pt x="981" y="90"/>
                  <a:pt x="1029" y="108"/>
                  <a:pt x="1054" y="147"/>
                </a:cubicBezTo>
                <a:cubicBezTo>
                  <a:pt x="1083" y="192"/>
                  <a:pt x="1114" y="232"/>
                  <a:pt x="1152" y="270"/>
                </a:cubicBezTo>
                <a:cubicBezTo>
                  <a:pt x="1162" y="320"/>
                  <a:pt x="1172" y="369"/>
                  <a:pt x="1189" y="417"/>
                </a:cubicBezTo>
                <a:cubicBezTo>
                  <a:pt x="1201" y="670"/>
                  <a:pt x="1131" y="712"/>
                  <a:pt x="1336" y="687"/>
                </a:cubicBezTo>
                <a:cubicBezTo>
                  <a:pt x="1424" y="626"/>
                  <a:pt x="1313" y="696"/>
                  <a:pt x="1421" y="650"/>
                </a:cubicBezTo>
                <a:cubicBezTo>
                  <a:pt x="1474" y="627"/>
                  <a:pt x="1519" y="580"/>
                  <a:pt x="1569" y="552"/>
                </a:cubicBezTo>
                <a:cubicBezTo>
                  <a:pt x="1588" y="541"/>
                  <a:pt x="1611" y="538"/>
                  <a:pt x="1630" y="527"/>
                </a:cubicBezTo>
                <a:cubicBezTo>
                  <a:pt x="1681" y="498"/>
                  <a:pt x="1712" y="456"/>
                  <a:pt x="1765" y="429"/>
                </a:cubicBezTo>
                <a:cubicBezTo>
                  <a:pt x="1789" y="405"/>
                  <a:pt x="1814" y="380"/>
                  <a:pt x="1838" y="356"/>
                </a:cubicBezTo>
                <a:cubicBezTo>
                  <a:pt x="1850" y="344"/>
                  <a:pt x="1875" y="319"/>
                  <a:pt x="1875" y="319"/>
                </a:cubicBezTo>
                <a:cubicBezTo>
                  <a:pt x="1924" y="219"/>
                  <a:pt x="1869" y="311"/>
                  <a:pt x="1936" y="245"/>
                </a:cubicBezTo>
                <a:cubicBezTo>
                  <a:pt x="1980" y="202"/>
                  <a:pt x="1967" y="194"/>
                  <a:pt x="2034" y="172"/>
                </a:cubicBezTo>
                <a:cubicBezTo>
                  <a:pt x="2102" y="126"/>
                  <a:pt x="2177" y="76"/>
                  <a:pt x="2255" y="49"/>
                </a:cubicBezTo>
                <a:cubicBezTo>
                  <a:pt x="2274" y="52"/>
                  <a:pt x="2348" y="58"/>
                  <a:pt x="2377" y="74"/>
                </a:cubicBezTo>
                <a:cubicBezTo>
                  <a:pt x="2403" y="88"/>
                  <a:pt x="2451" y="123"/>
                  <a:pt x="2451" y="123"/>
                </a:cubicBezTo>
                <a:cubicBezTo>
                  <a:pt x="2464" y="163"/>
                  <a:pt x="2487" y="193"/>
                  <a:pt x="2500" y="233"/>
                </a:cubicBezTo>
                <a:cubicBezTo>
                  <a:pt x="2501" y="257"/>
                  <a:pt x="2490" y="481"/>
                  <a:pt x="2537" y="552"/>
                </a:cubicBezTo>
                <a:cubicBezTo>
                  <a:pt x="2566" y="596"/>
                  <a:pt x="2624" y="631"/>
                  <a:pt x="2672" y="650"/>
                </a:cubicBezTo>
                <a:cubicBezTo>
                  <a:pt x="2696" y="660"/>
                  <a:pt x="2745" y="674"/>
                  <a:pt x="2745" y="674"/>
                </a:cubicBezTo>
                <a:cubicBezTo>
                  <a:pt x="2827" y="670"/>
                  <a:pt x="2909" y="671"/>
                  <a:pt x="2990" y="662"/>
                </a:cubicBezTo>
                <a:cubicBezTo>
                  <a:pt x="3016" y="659"/>
                  <a:pt x="3064" y="638"/>
                  <a:pt x="3064" y="638"/>
                </a:cubicBezTo>
                <a:cubicBezTo>
                  <a:pt x="3149" y="581"/>
                  <a:pt x="3113" y="605"/>
                  <a:pt x="3174" y="564"/>
                </a:cubicBezTo>
                <a:cubicBezTo>
                  <a:pt x="3222" y="532"/>
                  <a:pt x="3249" y="473"/>
                  <a:pt x="3297" y="441"/>
                </a:cubicBezTo>
                <a:cubicBezTo>
                  <a:pt x="3309" y="433"/>
                  <a:pt x="3323" y="427"/>
                  <a:pt x="3333" y="417"/>
                </a:cubicBezTo>
                <a:cubicBezTo>
                  <a:pt x="3393" y="357"/>
                  <a:pt x="3437" y="285"/>
                  <a:pt x="3505" y="233"/>
                </a:cubicBezTo>
                <a:cubicBezTo>
                  <a:pt x="3545" y="171"/>
                  <a:pt x="3517" y="204"/>
                  <a:pt x="3603" y="147"/>
                </a:cubicBezTo>
                <a:cubicBezTo>
                  <a:pt x="3622" y="134"/>
                  <a:pt x="3634" y="113"/>
                  <a:pt x="3652" y="98"/>
                </a:cubicBezTo>
                <a:cubicBezTo>
                  <a:pt x="3666" y="86"/>
                  <a:pt x="3779" y="27"/>
                  <a:pt x="3787" y="25"/>
                </a:cubicBezTo>
                <a:cubicBezTo>
                  <a:pt x="3835" y="11"/>
                  <a:pt x="3934" y="0"/>
                  <a:pt x="3934" y="0"/>
                </a:cubicBezTo>
                <a:cubicBezTo>
                  <a:pt x="3971" y="4"/>
                  <a:pt x="4008" y="5"/>
                  <a:pt x="4044" y="13"/>
                </a:cubicBezTo>
                <a:cubicBezTo>
                  <a:pt x="4097" y="25"/>
                  <a:pt x="4177" y="109"/>
                  <a:pt x="4216" y="147"/>
                </a:cubicBezTo>
                <a:cubicBezTo>
                  <a:pt x="4241" y="197"/>
                  <a:pt x="4262" y="230"/>
                  <a:pt x="4301" y="270"/>
                </a:cubicBezTo>
                <a:cubicBezTo>
                  <a:pt x="4321" y="327"/>
                  <a:pt x="4330" y="369"/>
                  <a:pt x="4363" y="417"/>
                </a:cubicBezTo>
                <a:cubicBezTo>
                  <a:pt x="4383" y="562"/>
                  <a:pt x="4428" y="706"/>
                  <a:pt x="4473" y="846"/>
                </a:cubicBezTo>
                <a:cubicBezTo>
                  <a:pt x="4477" y="883"/>
                  <a:pt x="4485" y="919"/>
                  <a:pt x="4485" y="956"/>
                </a:cubicBezTo>
                <a:cubicBezTo>
                  <a:pt x="4485" y="1044"/>
                  <a:pt x="4401" y="1096"/>
                  <a:pt x="4326" y="1116"/>
                </a:cubicBezTo>
                <a:cubicBezTo>
                  <a:pt x="4318" y="1128"/>
                  <a:pt x="4313" y="1144"/>
                  <a:pt x="4301" y="1152"/>
                </a:cubicBezTo>
                <a:cubicBezTo>
                  <a:pt x="4265" y="1176"/>
                  <a:pt x="4136" y="1197"/>
                  <a:pt x="4093" y="1214"/>
                </a:cubicBezTo>
                <a:cubicBezTo>
                  <a:pt x="4006" y="1248"/>
                  <a:pt x="3926" y="1284"/>
                  <a:pt x="3848" y="1336"/>
                </a:cubicBezTo>
                <a:cubicBezTo>
                  <a:pt x="3840" y="1341"/>
                  <a:pt x="3664" y="1392"/>
                  <a:pt x="3664" y="1361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Group 3"/>
          <p:cNvGrpSpPr/>
          <p:nvPr/>
        </p:nvGrpSpPr>
        <p:grpSpPr>
          <a:xfrm>
            <a:off x="1095120" y="2651760"/>
            <a:ext cx="6404040" cy="2890800"/>
            <a:chOff x="1095120" y="2651760"/>
            <a:chExt cx="6404040" cy="2890800"/>
          </a:xfrm>
        </p:grpSpPr>
        <p:grpSp>
          <p:nvGrpSpPr>
            <p:cNvPr id="653" name="Group 4"/>
            <p:cNvGrpSpPr/>
            <p:nvPr/>
          </p:nvGrpSpPr>
          <p:grpSpPr>
            <a:xfrm>
              <a:off x="1095120" y="2956680"/>
              <a:ext cx="3203640" cy="1976400"/>
              <a:chOff x="1095120" y="2956680"/>
              <a:chExt cx="3203640" cy="1976400"/>
            </a:xfrm>
          </p:grpSpPr>
          <p:sp>
            <p:nvSpPr>
              <p:cNvPr id="654" name="Line 5"/>
              <p:cNvSpPr/>
              <p:nvPr/>
            </p:nvSpPr>
            <p:spPr>
              <a:xfrm>
                <a:off x="1095120" y="2956680"/>
                <a:ext cx="3203640" cy="197640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6"/>
              <p:cNvSpPr/>
              <p:nvPr/>
            </p:nvSpPr>
            <p:spPr>
              <a:xfrm>
                <a:off x="2697120" y="3944880"/>
                <a:ext cx="613080" cy="37476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Group 7"/>
            <p:cNvGrpSpPr/>
            <p:nvPr/>
          </p:nvGrpSpPr>
          <p:grpSpPr>
            <a:xfrm>
              <a:off x="4295520" y="2651760"/>
              <a:ext cx="3203640" cy="1976400"/>
              <a:chOff x="4295520" y="2651760"/>
              <a:chExt cx="3203640" cy="1976400"/>
            </a:xfrm>
          </p:grpSpPr>
          <p:sp>
            <p:nvSpPr>
              <p:cNvPr id="657" name="Line 8"/>
              <p:cNvSpPr/>
              <p:nvPr/>
            </p:nvSpPr>
            <p:spPr>
              <a:xfrm>
                <a:off x="4295520" y="2651760"/>
                <a:ext cx="3203640" cy="197640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9"/>
              <p:cNvSpPr/>
              <p:nvPr/>
            </p:nvSpPr>
            <p:spPr>
              <a:xfrm>
                <a:off x="5897520" y="3639960"/>
                <a:ext cx="613080" cy="37476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Group 10"/>
            <p:cNvGrpSpPr/>
            <p:nvPr/>
          </p:nvGrpSpPr>
          <p:grpSpPr>
            <a:xfrm>
              <a:off x="3152520" y="3566160"/>
              <a:ext cx="3203640" cy="1976400"/>
              <a:chOff x="3152520" y="3566160"/>
              <a:chExt cx="3203640" cy="1976400"/>
            </a:xfrm>
          </p:grpSpPr>
          <p:sp>
            <p:nvSpPr>
              <p:cNvPr id="660" name="Line 11"/>
              <p:cNvSpPr/>
              <p:nvPr/>
            </p:nvSpPr>
            <p:spPr>
              <a:xfrm>
                <a:off x="3152520" y="3566160"/>
                <a:ext cx="3203640" cy="1976400"/>
              </a:xfrm>
              <a:prstGeom prst="line">
                <a:avLst/>
              </a:prstGeom>
              <a:ln w="57240">
                <a:solidFill>
                  <a:srgbClr val="1717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2"/>
              <p:cNvSpPr/>
              <p:nvPr/>
            </p:nvSpPr>
            <p:spPr>
              <a:xfrm>
                <a:off x="4754520" y="4554360"/>
                <a:ext cx="613080" cy="374760"/>
              </a:xfrm>
              <a:prstGeom prst="line">
                <a:avLst/>
              </a:prstGeom>
              <a:ln w="38160">
                <a:solidFill>
                  <a:srgbClr val="1717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2" name="Group 13"/>
          <p:cNvGrpSpPr/>
          <p:nvPr/>
        </p:nvGrpSpPr>
        <p:grpSpPr>
          <a:xfrm>
            <a:off x="4287600" y="858240"/>
            <a:ext cx="3872520" cy="4668120"/>
            <a:chOff x="4287600" y="858240"/>
            <a:chExt cx="3872520" cy="4668120"/>
          </a:xfrm>
        </p:grpSpPr>
        <p:grpSp>
          <p:nvGrpSpPr>
            <p:cNvPr id="663" name="Group 14"/>
            <p:cNvGrpSpPr/>
            <p:nvPr/>
          </p:nvGrpSpPr>
          <p:grpSpPr>
            <a:xfrm>
              <a:off x="4287600" y="1148400"/>
              <a:ext cx="18360" cy="3763800"/>
              <a:chOff x="4287600" y="1148400"/>
              <a:chExt cx="18360" cy="3763800"/>
            </a:xfrm>
          </p:grpSpPr>
          <p:sp>
            <p:nvSpPr>
              <p:cNvPr id="664" name="Line 15"/>
              <p:cNvSpPr/>
              <p:nvPr/>
            </p:nvSpPr>
            <p:spPr>
              <a:xfrm flipV="1">
                <a:off x="4287600" y="1148400"/>
                <a:ext cx="18360" cy="37638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6"/>
              <p:cNvSpPr/>
              <p:nvPr/>
            </p:nvSpPr>
            <p:spPr>
              <a:xfrm flipV="1">
                <a:off x="4296600" y="2311560"/>
                <a:ext cx="360" cy="71856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7"/>
            <p:cNvGrpSpPr/>
            <p:nvPr/>
          </p:nvGrpSpPr>
          <p:grpSpPr>
            <a:xfrm>
              <a:off x="7491600" y="858240"/>
              <a:ext cx="468360" cy="3734640"/>
              <a:chOff x="7491600" y="858240"/>
              <a:chExt cx="468360" cy="3734640"/>
            </a:xfrm>
          </p:grpSpPr>
          <p:sp>
            <p:nvSpPr>
              <p:cNvPr id="667" name="Line 18"/>
              <p:cNvSpPr/>
              <p:nvPr/>
            </p:nvSpPr>
            <p:spPr>
              <a:xfrm flipV="1">
                <a:off x="7491600" y="858240"/>
                <a:ext cx="468360" cy="373464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9"/>
              <p:cNvSpPr/>
              <p:nvPr/>
            </p:nvSpPr>
            <p:spPr>
              <a:xfrm flipV="1">
                <a:off x="7725600" y="2011680"/>
                <a:ext cx="86400" cy="71352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" name="Group 20"/>
            <p:cNvGrpSpPr/>
            <p:nvPr/>
          </p:nvGrpSpPr>
          <p:grpSpPr>
            <a:xfrm>
              <a:off x="6378480" y="2210760"/>
              <a:ext cx="1781640" cy="3315600"/>
              <a:chOff x="6378480" y="2210760"/>
              <a:chExt cx="1781640" cy="3315600"/>
            </a:xfrm>
          </p:grpSpPr>
          <p:sp>
            <p:nvSpPr>
              <p:cNvPr id="670" name="Line 21"/>
              <p:cNvSpPr/>
              <p:nvPr/>
            </p:nvSpPr>
            <p:spPr>
              <a:xfrm flipV="1">
                <a:off x="6378480" y="2210760"/>
                <a:ext cx="1781640" cy="331560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Line 22"/>
              <p:cNvSpPr/>
              <p:nvPr/>
            </p:nvSpPr>
            <p:spPr>
              <a:xfrm flipV="1">
                <a:off x="7269120" y="3233880"/>
                <a:ext cx="337320" cy="634680"/>
              </a:xfrm>
              <a:prstGeom prst="line">
                <a:avLst/>
              </a:prstGeom>
              <a:ln w="572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481040" y="380880"/>
            <a:ext cx="6600960" cy="5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漫反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673" name="Group 27"/>
          <p:cNvGrpSpPr/>
          <p:nvPr/>
        </p:nvGrpSpPr>
        <p:grpSpPr>
          <a:xfrm>
            <a:off x="2700000" y="1197000"/>
            <a:ext cx="4751280" cy="4392360"/>
            <a:chOff x="2700000" y="1197000"/>
            <a:chExt cx="4751280" cy="4392360"/>
          </a:xfrm>
        </p:grpSpPr>
        <p:sp>
          <p:nvSpPr>
            <p:cNvPr id="674" name="Line 24"/>
            <p:cNvSpPr/>
            <p:nvPr/>
          </p:nvSpPr>
          <p:spPr>
            <a:xfrm flipH="1" flipV="1">
              <a:off x="2700000" y="2062080"/>
              <a:ext cx="1584360" cy="288000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25"/>
            <p:cNvSpPr/>
            <p:nvPr/>
          </p:nvSpPr>
          <p:spPr>
            <a:xfrm flipH="1" flipV="1">
              <a:off x="5579640" y="1844280"/>
              <a:ext cx="792360" cy="37450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26"/>
            <p:cNvSpPr/>
            <p:nvPr/>
          </p:nvSpPr>
          <p:spPr>
            <a:xfrm flipH="1" flipV="1">
              <a:off x="5866920" y="1197000"/>
              <a:ext cx="1584360" cy="33847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971640" y="6165720"/>
            <a:ext cx="5689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Text Box 4"/>
          <p:cNvSpPr/>
          <p:nvPr/>
        </p:nvSpPr>
        <p:spPr>
          <a:xfrm>
            <a:off x="684360" y="3003480"/>
            <a:ext cx="81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镜面反射和漫反射都遵循反射定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4392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四、巩固练习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533160" y="837720"/>
            <a:ext cx="80643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一）填空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光线与镜面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角射入平面镜上，入射角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反射角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试画出反射光线，标出入射角和反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追问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）上题中，入射光线和反射光线的夹角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光线垂直射到镜面上时，入射角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反射角是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反射光线的方向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　　　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1763640" y="1628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6"/>
          <p:cNvSpPr/>
          <p:nvPr/>
        </p:nvSpPr>
        <p:spPr>
          <a:xfrm>
            <a:off x="5003640" y="1628640"/>
            <a:ext cx="8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2411280" y="29210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1476360" y="42894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5076720" y="429264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2627280" y="4649760"/>
            <a:ext cx="34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垂直镜面返回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2"/>
          <p:cNvSpPr/>
          <p:nvPr/>
        </p:nvSpPr>
        <p:spPr>
          <a:xfrm>
            <a:off x="228600" y="380880"/>
            <a:ext cx="8915400" cy="35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黑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因为发生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射，我们能从不同方向看到黑板上的同一个字，是由于光射到黑板上发生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缘故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反射光线与入射光线的夹角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度，反射角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反射光线与镜面的夹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入射光线和镜面的夹角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改变入射光线的方向，使它逐渐靠近法线，入射角将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增大或减小），当它与法线重合时，入射角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5508720" y="26028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镜面反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755640" y="27781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4140360" y="1049400"/>
            <a:ext cx="15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漫反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7"/>
          <p:cNvSpPr/>
          <p:nvPr/>
        </p:nvSpPr>
        <p:spPr>
          <a:xfrm>
            <a:off x="6518160" y="27781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8"/>
          <p:cNvSpPr/>
          <p:nvPr/>
        </p:nvSpPr>
        <p:spPr>
          <a:xfrm>
            <a:off x="3637080" y="313704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9"/>
          <p:cNvSpPr/>
          <p:nvPr/>
        </p:nvSpPr>
        <p:spPr>
          <a:xfrm>
            <a:off x="5867280" y="350028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10"/>
          <p:cNvSpPr/>
          <p:nvPr/>
        </p:nvSpPr>
        <p:spPr>
          <a:xfrm>
            <a:off x="7669080" y="3933720"/>
            <a:ext cx="7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38876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二）选择题</a:t>
            </a:r>
            <a:br>
              <a:rPr sz="4000"/>
            </a:b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76464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下列说法中错误的是（  　　　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光的反射中，若入射光线靠近法线，反射光线也靠近法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光线垂直入射时，反射角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通过镜面，甲同学能看到乙同学的眼睛，则乙也能看到甲同学的眼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镜面反射遵守反射定律，漫发射不遵守反射定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在光的反射中，入射角等于反射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一束光线射到平面镜上，当入射角增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入射光线与反射光线恰好成直角，则原来的入射角应为（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B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4"/>
          <p:cNvSpPr/>
          <p:nvPr/>
        </p:nvSpPr>
        <p:spPr>
          <a:xfrm>
            <a:off x="5003640" y="404640"/>
            <a:ext cx="16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5"/>
          <p:cNvSpPr/>
          <p:nvPr/>
        </p:nvSpPr>
        <p:spPr>
          <a:xfrm>
            <a:off x="5724360" y="69228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4716360" y="558972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40"/>
          <p:cNvGrpSpPr/>
          <p:nvPr/>
        </p:nvGrpSpPr>
        <p:grpSpPr>
          <a:xfrm>
            <a:off x="4211640" y="1125360"/>
            <a:ext cx="936720" cy="4203000"/>
            <a:chOff x="4211640" y="1125360"/>
            <a:chExt cx="936720" cy="4203000"/>
          </a:xfrm>
        </p:grpSpPr>
        <p:grpSp>
          <p:nvGrpSpPr>
            <p:cNvPr id="701" name="Group 35"/>
            <p:cNvGrpSpPr/>
            <p:nvPr/>
          </p:nvGrpSpPr>
          <p:grpSpPr>
            <a:xfrm>
              <a:off x="4211640" y="1299960"/>
              <a:ext cx="360360" cy="3352680"/>
              <a:chOff x="4211640" y="1299960"/>
              <a:chExt cx="360360" cy="3352680"/>
            </a:xfrm>
          </p:grpSpPr>
          <p:sp>
            <p:nvSpPr>
              <p:cNvPr id="702" name="Line 36"/>
              <p:cNvSpPr/>
              <p:nvPr/>
            </p:nvSpPr>
            <p:spPr>
              <a:xfrm>
                <a:off x="4240080" y="1299960"/>
                <a:ext cx="0" cy="3352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Rectangle 37"/>
              <p:cNvSpPr/>
              <p:nvPr/>
            </p:nvSpPr>
            <p:spPr>
              <a:xfrm>
                <a:off x="4211640" y="4292280"/>
                <a:ext cx="360360" cy="36036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4" name="Text Box 38"/>
            <p:cNvSpPr/>
            <p:nvPr/>
          </p:nvSpPr>
          <p:spPr>
            <a:xfrm>
              <a:off x="4284720" y="11253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Text Box 39"/>
            <p:cNvSpPr/>
            <p:nvPr/>
          </p:nvSpPr>
          <p:spPr>
            <a:xfrm>
              <a:off x="4211640" y="4868640"/>
              <a:ext cx="79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42004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0000"/>
                </a:solidFill>
                <a:latin typeface="Arial"/>
              </a:rPr>
              <a:t>三、做图题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pSp>
        <p:nvGrpSpPr>
          <p:cNvPr id="707" name="Group 3"/>
          <p:cNvGrpSpPr/>
          <p:nvPr/>
        </p:nvGrpSpPr>
        <p:grpSpPr>
          <a:xfrm>
            <a:off x="2270160" y="4651560"/>
            <a:ext cx="4014000" cy="633960"/>
            <a:chOff x="2270160" y="4651560"/>
            <a:chExt cx="4014000" cy="633960"/>
          </a:xfrm>
        </p:grpSpPr>
        <p:sp>
          <p:nvSpPr>
            <p:cNvPr id="708" name="Line 4"/>
            <p:cNvSpPr/>
            <p:nvPr/>
          </p:nvSpPr>
          <p:spPr>
            <a:xfrm>
              <a:off x="2270160" y="4651560"/>
              <a:ext cx="3886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9" name="Group 5"/>
            <p:cNvGrpSpPr/>
            <p:nvPr/>
          </p:nvGrpSpPr>
          <p:grpSpPr>
            <a:xfrm>
              <a:off x="2370960" y="4667400"/>
              <a:ext cx="3913200" cy="618120"/>
              <a:chOff x="2370960" y="4667400"/>
              <a:chExt cx="3913200" cy="618120"/>
            </a:xfrm>
          </p:grpSpPr>
          <p:sp>
            <p:nvSpPr>
              <p:cNvPr id="710" name="Line 6"/>
              <p:cNvSpPr/>
              <p:nvPr/>
            </p:nvSpPr>
            <p:spPr>
              <a:xfrm>
                <a:off x="2370960" y="4672080"/>
                <a:ext cx="26460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Line 7"/>
              <p:cNvSpPr/>
              <p:nvPr/>
            </p:nvSpPr>
            <p:spPr>
              <a:xfrm>
                <a:off x="2636640" y="4675680"/>
                <a:ext cx="26496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Line 8"/>
              <p:cNvSpPr/>
              <p:nvPr/>
            </p:nvSpPr>
            <p:spPr>
              <a:xfrm>
                <a:off x="2903040" y="4679280"/>
                <a:ext cx="26496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9"/>
              <p:cNvSpPr/>
              <p:nvPr/>
            </p:nvSpPr>
            <p:spPr>
              <a:xfrm>
                <a:off x="3169080" y="4682880"/>
                <a:ext cx="26460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10"/>
              <p:cNvSpPr/>
              <p:nvPr/>
            </p:nvSpPr>
            <p:spPr>
              <a:xfrm>
                <a:off x="3434760" y="4686480"/>
                <a:ext cx="26532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Line 11"/>
              <p:cNvSpPr/>
              <p:nvPr/>
            </p:nvSpPr>
            <p:spPr>
              <a:xfrm>
                <a:off x="3701520" y="4690080"/>
                <a:ext cx="26460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Line 12"/>
              <p:cNvSpPr/>
              <p:nvPr/>
            </p:nvSpPr>
            <p:spPr>
              <a:xfrm>
                <a:off x="3967560" y="4694040"/>
                <a:ext cx="26424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Line 13"/>
              <p:cNvSpPr/>
              <p:nvPr/>
            </p:nvSpPr>
            <p:spPr>
              <a:xfrm>
                <a:off x="4233600" y="4697640"/>
                <a:ext cx="26496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Line 14"/>
              <p:cNvSpPr/>
              <p:nvPr/>
            </p:nvSpPr>
            <p:spPr>
              <a:xfrm>
                <a:off x="4500000" y="4701240"/>
                <a:ext cx="26460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Line 15"/>
              <p:cNvSpPr/>
              <p:nvPr/>
            </p:nvSpPr>
            <p:spPr>
              <a:xfrm>
                <a:off x="4765680" y="4704840"/>
                <a:ext cx="26460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Line 16"/>
              <p:cNvSpPr/>
              <p:nvPr/>
            </p:nvSpPr>
            <p:spPr>
              <a:xfrm>
                <a:off x="5031720" y="4708440"/>
                <a:ext cx="264960" cy="566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Line 17"/>
              <p:cNvSpPr/>
              <p:nvPr/>
            </p:nvSpPr>
            <p:spPr>
              <a:xfrm>
                <a:off x="5298480" y="4712400"/>
                <a:ext cx="264600" cy="5652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8"/>
              <p:cNvSpPr/>
              <p:nvPr/>
            </p:nvSpPr>
            <p:spPr>
              <a:xfrm>
                <a:off x="5564160" y="4716000"/>
                <a:ext cx="26460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19"/>
              <p:cNvSpPr/>
              <p:nvPr/>
            </p:nvSpPr>
            <p:spPr>
              <a:xfrm>
                <a:off x="5830200" y="4719600"/>
                <a:ext cx="264960" cy="5659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Line 20"/>
              <p:cNvSpPr/>
              <p:nvPr/>
            </p:nvSpPr>
            <p:spPr>
              <a:xfrm>
                <a:off x="6018840" y="4667400"/>
                <a:ext cx="265320" cy="565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5" name="Group 21"/>
          <p:cNvGrpSpPr/>
          <p:nvPr/>
        </p:nvGrpSpPr>
        <p:grpSpPr>
          <a:xfrm>
            <a:off x="4237560" y="1616760"/>
            <a:ext cx="3484440" cy="3015000"/>
            <a:chOff x="4237560" y="1616760"/>
            <a:chExt cx="3484440" cy="3015000"/>
          </a:xfrm>
        </p:grpSpPr>
        <p:sp>
          <p:nvSpPr>
            <p:cNvPr id="726" name="Line 22"/>
            <p:cNvSpPr/>
            <p:nvPr/>
          </p:nvSpPr>
          <p:spPr>
            <a:xfrm flipH="1">
              <a:off x="4237560" y="1616760"/>
              <a:ext cx="3484440" cy="3015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3"/>
            <p:cNvSpPr/>
            <p:nvPr/>
          </p:nvSpPr>
          <p:spPr>
            <a:xfrm flipH="1">
              <a:off x="5703840" y="2946240"/>
              <a:ext cx="486000" cy="440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Group 24"/>
          <p:cNvGrpSpPr/>
          <p:nvPr/>
        </p:nvGrpSpPr>
        <p:grpSpPr>
          <a:xfrm>
            <a:off x="4913280" y="4038480"/>
            <a:ext cx="1066680" cy="533520"/>
            <a:chOff x="4913280" y="4038480"/>
            <a:chExt cx="1066680" cy="533520"/>
          </a:xfrm>
        </p:grpSpPr>
        <p:sp>
          <p:nvSpPr>
            <p:cNvPr id="729" name="Arc 25"/>
            <p:cNvSpPr/>
            <p:nvPr/>
          </p:nvSpPr>
          <p:spPr>
            <a:xfrm>
              <a:off x="4913280" y="4114800"/>
              <a:ext cx="228600" cy="457200"/>
            </a:xfrm>
            <a:custGeom>
              <a:avLst/>
              <a:gdLst/>
              <a:ahLst/>
              <a:rect l="l" t="t" r="r" b="b"/>
              <a:pathLst>
                <a:path fill="none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1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Text Box 26"/>
            <p:cNvSpPr/>
            <p:nvPr/>
          </p:nvSpPr>
          <p:spPr>
            <a:xfrm>
              <a:off x="5218200" y="4038480"/>
              <a:ext cx="761760" cy="459720"/>
            </a:xfrm>
            <a:prstGeom prst="rect">
              <a:avLst/>
            </a:prstGeom>
            <a:noFill/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1" name="Group 27"/>
          <p:cNvGrpSpPr/>
          <p:nvPr/>
        </p:nvGrpSpPr>
        <p:grpSpPr>
          <a:xfrm>
            <a:off x="901080" y="1439640"/>
            <a:ext cx="3299400" cy="3215880"/>
            <a:chOff x="901080" y="1439640"/>
            <a:chExt cx="3299400" cy="3215880"/>
          </a:xfrm>
        </p:grpSpPr>
        <p:sp>
          <p:nvSpPr>
            <p:cNvPr id="732" name="Line 28"/>
            <p:cNvSpPr/>
            <p:nvPr/>
          </p:nvSpPr>
          <p:spPr>
            <a:xfrm flipH="1" flipV="1">
              <a:off x="901080" y="1439640"/>
              <a:ext cx="3299400" cy="321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29"/>
            <p:cNvSpPr/>
            <p:nvPr/>
          </p:nvSpPr>
          <p:spPr>
            <a:xfrm flipH="1" flipV="1">
              <a:off x="2266200" y="2795040"/>
              <a:ext cx="479520" cy="44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Arc 31"/>
          <p:cNvSpPr/>
          <p:nvPr/>
        </p:nvSpPr>
        <p:spPr>
          <a:xfrm>
            <a:off x="4303800" y="3962520"/>
            <a:ext cx="380880" cy="30456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32"/>
          <p:cNvSpPr/>
          <p:nvPr/>
        </p:nvSpPr>
        <p:spPr>
          <a:xfrm>
            <a:off x="4464360" y="327672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rc 33"/>
          <p:cNvSpPr/>
          <p:nvPr/>
        </p:nvSpPr>
        <p:spPr>
          <a:xfrm flipV="1" rot="10580400">
            <a:off x="3770280" y="3961440"/>
            <a:ext cx="380880" cy="2282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 Box 34"/>
          <p:cNvSpPr/>
          <p:nvPr/>
        </p:nvSpPr>
        <p:spPr>
          <a:xfrm>
            <a:off x="3473640" y="3429000"/>
            <a:ext cx="5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98440" y="49500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探究实验题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39" name="Text Box 3"/>
          <p:cNvSpPr/>
          <p:nvPr/>
        </p:nvSpPr>
        <p:spPr>
          <a:xfrm>
            <a:off x="822240" y="2157480"/>
            <a:ext cx="801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如何使一条光线调转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80</a:t>
            </a:r>
            <a:r>
              <a:rPr b="1" lang="en-US" sz="4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说说你的方法及实验器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457200"/>
            <a:ext cx="9556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复习提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怎样传播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光传播速度是多少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什么能看见日光灯，烛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漆黑的夜晚，我们看不到屋子里的桌子，电视，怎样才能看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46360" y="4005360"/>
            <a:ext cx="326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何打开灯就能看到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3"/>
          <p:cNvSpPr/>
          <p:nvPr/>
        </p:nvSpPr>
        <p:spPr>
          <a:xfrm>
            <a:off x="762120" y="2209680"/>
            <a:ext cx="79246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实验探究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目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i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研究光的反射规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器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平面镜、光屏、激光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步骤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609480" y="38862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755640" y="333360"/>
            <a:ext cx="7238880" cy="5029200"/>
            <a:chOff x="755640" y="333360"/>
            <a:chExt cx="7238880" cy="5029200"/>
          </a:xfrm>
        </p:grpSpPr>
        <p:grpSp>
          <p:nvGrpSpPr>
            <p:cNvPr id="510" name="Group 3"/>
            <p:cNvGrpSpPr/>
            <p:nvPr/>
          </p:nvGrpSpPr>
          <p:grpSpPr>
            <a:xfrm>
              <a:off x="755640" y="333360"/>
              <a:ext cx="7238880" cy="5029200"/>
              <a:chOff x="755640" y="333360"/>
              <a:chExt cx="7238880" cy="5029200"/>
            </a:xfrm>
          </p:grpSpPr>
          <p:grpSp>
            <p:nvGrpSpPr>
              <p:cNvPr id="511" name="Group 4"/>
              <p:cNvGrpSpPr/>
              <p:nvPr/>
            </p:nvGrpSpPr>
            <p:grpSpPr>
              <a:xfrm>
                <a:off x="755640" y="333360"/>
                <a:ext cx="7238880" cy="5029200"/>
                <a:chOff x="755640" y="333360"/>
                <a:chExt cx="7238880" cy="5029200"/>
              </a:xfrm>
            </p:grpSpPr>
            <p:sp>
              <p:nvSpPr>
                <p:cNvPr id="512" name="AutoShape 5"/>
                <p:cNvSpPr/>
                <p:nvPr/>
              </p:nvSpPr>
              <p:spPr>
                <a:xfrm>
                  <a:off x="755640" y="2162160"/>
                  <a:ext cx="7238880" cy="3200400"/>
                </a:xfrm>
                <a:prstGeom prst="parallelogram">
                  <a:avLst>
                    <a:gd name="adj" fmla="val 56547"/>
                  </a:avLst>
                </a:prstGeom>
                <a:solidFill>
                  <a:srgbClr val="9f9fbf">
                    <a:alpha val="50000"/>
                  </a:srgbClr>
                </a:solidFill>
                <a:ln w="12600">
                  <a:solidFill>
                    <a:srgbClr val="9f9fb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Rectangle 6"/>
                <p:cNvSpPr/>
                <p:nvPr/>
              </p:nvSpPr>
              <p:spPr>
                <a:xfrm>
                  <a:off x="2584440" y="333360"/>
                  <a:ext cx="4648320" cy="3276720"/>
                </a:xfrm>
                <a:prstGeom prst="rect">
                  <a:avLst/>
                </a:prstGeom>
                <a:solidFill>
                  <a:srgbClr val="ffe2c5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7"/>
              <p:cNvSpPr/>
              <p:nvPr/>
            </p:nvSpPr>
            <p:spPr>
              <a:xfrm>
                <a:off x="1187280" y="4721040"/>
                <a:ext cx="151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平面镜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" name="Text Box 8"/>
            <p:cNvSpPr/>
            <p:nvPr/>
          </p:nvSpPr>
          <p:spPr>
            <a:xfrm>
              <a:off x="2700360" y="404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光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" name="Text Box 9"/>
          <p:cNvSpPr/>
          <p:nvPr/>
        </p:nvSpPr>
        <p:spPr>
          <a:xfrm>
            <a:off x="4878000" y="35053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5105520" y="0"/>
            <a:ext cx="1143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1"/>
          <p:cNvSpPr/>
          <p:nvPr/>
        </p:nvSpPr>
        <p:spPr>
          <a:xfrm rot="1528800">
            <a:off x="5028840" y="289548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2"/>
          <p:cNvSpPr/>
          <p:nvPr/>
        </p:nvSpPr>
        <p:spPr>
          <a:xfrm rot="19519800">
            <a:off x="4571640" y="289512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3"/>
          <p:cNvSpPr/>
          <p:nvPr/>
        </p:nvSpPr>
        <p:spPr>
          <a:xfrm>
            <a:off x="4180320" y="2286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4"/>
          <p:cNvSpPr/>
          <p:nvPr/>
        </p:nvSpPr>
        <p:spPr>
          <a:xfrm>
            <a:off x="5157720" y="23241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射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15"/>
          <p:cNvSpPr/>
          <p:nvPr/>
        </p:nvSpPr>
        <p:spPr>
          <a:xfrm>
            <a:off x="1187280" y="685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射光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6"/>
          <p:cNvSpPr/>
          <p:nvPr/>
        </p:nvSpPr>
        <p:spPr>
          <a:xfrm>
            <a:off x="7878240" y="5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射光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7"/>
          <p:cNvSpPr/>
          <p:nvPr/>
        </p:nvSpPr>
        <p:spPr>
          <a:xfrm>
            <a:off x="6948360" y="5013360"/>
            <a:ext cx="1656000" cy="576360"/>
          </a:xfrm>
          <a:custGeom>
            <a:avLst/>
            <a:gdLst>
              <a:gd name="textAreaLeft" fmla="*/ 36000 w 1656000"/>
              <a:gd name="textAreaRight" fmla="*/ 1620000 w 1656000"/>
              <a:gd name="textAreaTop" fmla="*/ 36000 h 576360"/>
              <a:gd name="textAreaBottom" fmla="*/ 540360 h 576360"/>
            </a:gdLst>
            <a:ahLst/>
            <a:rect l="textAreaLeft" t="textAreaTop" r="textAreaRight" b="textAreaBottom"/>
            <a:pathLst>
              <a:path w="62036" h="21600">
                <a:moveTo>
                  <a:pt x="0" y="0"/>
                </a:moveTo>
                <a:lnTo>
                  <a:pt x="62036" y="0"/>
                </a:lnTo>
                <a:lnTo>
                  <a:pt x="62036" y="21600"/>
                </a:lnTo>
                <a:lnTo>
                  <a:pt x="0" y="21600"/>
                </a:lnTo>
                <a:close/>
              </a:path>
              <a:path fill="lightenLess" w="62036" h="21600">
                <a:moveTo>
                  <a:pt x="0" y="0"/>
                </a:moveTo>
                <a:lnTo>
                  <a:pt x="62036" y="0"/>
                </a:lnTo>
                <a:lnTo>
                  <a:pt x="60686" y="1350"/>
                </a:lnTo>
                <a:lnTo>
                  <a:pt x="1350" y="1350"/>
                </a:lnTo>
                <a:close/>
              </a:path>
              <a:path fill="darken" w="62036" h="21600">
                <a:moveTo>
                  <a:pt x="62036" y="0"/>
                </a:moveTo>
                <a:lnTo>
                  <a:pt x="62036" y="21600"/>
                </a:lnTo>
                <a:lnTo>
                  <a:pt x="60686" y="20250"/>
                </a:lnTo>
                <a:lnTo>
                  <a:pt x="60686" y="1350"/>
                </a:lnTo>
                <a:close/>
              </a:path>
              <a:path fill="darkenLess" w="62036" h="21600">
                <a:moveTo>
                  <a:pt x="6203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0686" y="20250"/>
                </a:lnTo>
                <a:close/>
              </a:path>
              <a:path fill="lighten" w="6203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e1f4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la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8"/>
          <p:cNvGrpSpPr/>
          <p:nvPr/>
        </p:nvGrpSpPr>
        <p:grpSpPr>
          <a:xfrm>
            <a:off x="5076720" y="260280"/>
            <a:ext cx="360360" cy="3352680"/>
            <a:chOff x="5076720" y="260280"/>
            <a:chExt cx="360360" cy="3352680"/>
          </a:xfrm>
        </p:grpSpPr>
        <p:sp>
          <p:nvSpPr>
            <p:cNvPr id="526" name="Line 19"/>
            <p:cNvSpPr/>
            <p:nvPr/>
          </p:nvSpPr>
          <p:spPr>
            <a:xfrm>
              <a:off x="5105160" y="26028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20"/>
            <p:cNvSpPr/>
            <p:nvPr/>
          </p:nvSpPr>
          <p:spPr>
            <a:xfrm>
              <a:off x="5076720" y="3252600"/>
              <a:ext cx="360360" cy="36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Group 21"/>
          <p:cNvGrpSpPr/>
          <p:nvPr/>
        </p:nvGrpSpPr>
        <p:grpSpPr>
          <a:xfrm>
            <a:off x="5079600" y="1047600"/>
            <a:ext cx="3804480" cy="2523240"/>
            <a:chOff x="5079600" y="1047600"/>
            <a:chExt cx="3804480" cy="2523240"/>
          </a:xfrm>
        </p:grpSpPr>
        <p:sp>
          <p:nvSpPr>
            <p:cNvPr id="529" name="Line 22"/>
            <p:cNvSpPr/>
            <p:nvPr/>
          </p:nvSpPr>
          <p:spPr>
            <a:xfrm flipV="1">
              <a:off x="7246440" y="1802160"/>
              <a:ext cx="488880" cy="371880"/>
            </a:xfrm>
            <a:prstGeom prst="line">
              <a:avLst/>
            </a:prstGeom>
            <a:ln w="1080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23"/>
            <p:cNvSpPr/>
            <p:nvPr/>
          </p:nvSpPr>
          <p:spPr>
            <a:xfrm flipV="1">
              <a:off x="5079600" y="1047600"/>
              <a:ext cx="3804480" cy="2523240"/>
            </a:xfrm>
            <a:prstGeom prst="line">
              <a:avLst/>
            </a:prstGeom>
            <a:ln w="98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Group 24"/>
          <p:cNvGrpSpPr/>
          <p:nvPr/>
        </p:nvGrpSpPr>
        <p:grpSpPr>
          <a:xfrm>
            <a:off x="1692360" y="1341360"/>
            <a:ext cx="3413160" cy="2239920"/>
            <a:chOff x="1692360" y="1341360"/>
            <a:chExt cx="3413160" cy="2239920"/>
          </a:xfrm>
        </p:grpSpPr>
        <p:sp>
          <p:nvSpPr>
            <p:cNvPr id="532" name="Line 25"/>
            <p:cNvSpPr/>
            <p:nvPr/>
          </p:nvSpPr>
          <p:spPr>
            <a:xfrm>
              <a:off x="3603960" y="2630880"/>
              <a:ext cx="477720" cy="271080"/>
            </a:xfrm>
            <a:prstGeom prst="line">
              <a:avLst/>
            </a:prstGeom>
            <a:ln w="10800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6"/>
            <p:cNvSpPr/>
            <p:nvPr/>
          </p:nvSpPr>
          <p:spPr>
            <a:xfrm>
              <a:off x="1692360" y="1341360"/>
              <a:ext cx="3413160" cy="2239920"/>
            </a:xfrm>
            <a:prstGeom prst="line">
              <a:avLst/>
            </a:prstGeom>
            <a:ln w="982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-360" y="45720"/>
            <a:ext cx="609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、光的反射定律</a:t>
            </a:r>
            <a:br>
              <a:rPr sz="4400"/>
            </a:b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探究结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光的反射定律内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反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光线和入射光线、法线在同一反射平           面上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反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光线和入射光线分居在法线两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反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角等于入射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47560" y="5029200"/>
            <a:ext cx="541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概括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字：三线共面，两线分居，两角相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826920" y="549360"/>
            <a:ext cx="727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反射光路图的画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250920" y="3179880"/>
            <a:ext cx="5184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4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、光路是否可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755640" y="333360"/>
            <a:ext cx="7238880" cy="5029200"/>
            <a:chOff x="755640" y="333360"/>
            <a:chExt cx="7238880" cy="5029200"/>
          </a:xfrm>
        </p:grpSpPr>
        <p:grpSp>
          <p:nvGrpSpPr>
            <p:cNvPr id="540" name="Group 3"/>
            <p:cNvGrpSpPr/>
            <p:nvPr/>
          </p:nvGrpSpPr>
          <p:grpSpPr>
            <a:xfrm>
              <a:off x="755640" y="333360"/>
              <a:ext cx="7238880" cy="5029200"/>
              <a:chOff x="755640" y="333360"/>
              <a:chExt cx="7238880" cy="5029200"/>
            </a:xfrm>
          </p:grpSpPr>
          <p:grpSp>
            <p:nvGrpSpPr>
              <p:cNvPr id="541" name="Group 4"/>
              <p:cNvGrpSpPr/>
              <p:nvPr/>
            </p:nvGrpSpPr>
            <p:grpSpPr>
              <a:xfrm>
                <a:off x="755640" y="333360"/>
                <a:ext cx="7238880" cy="5029200"/>
                <a:chOff x="755640" y="333360"/>
                <a:chExt cx="7238880" cy="5029200"/>
              </a:xfrm>
            </p:grpSpPr>
            <p:sp>
              <p:nvSpPr>
                <p:cNvPr id="542" name="AutoShape 5"/>
                <p:cNvSpPr/>
                <p:nvPr/>
              </p:nvSpPr>
              <p:spPr>
                <a:xfrm>
                  <a:off x="755640" y="2162160"/>
                  <a:ext cx="7238880" cy="3200400"/>
                </a:xfrm>
                <a:prstGeom prst="parallelogram">
                  <a:avLst>
                    <a:gd name="adj" fmla="val 56547"/>
                  </a:avLst>
                </a:prstGeom>
                <a:solidFill>
                  <a:srgbClr val="9f9fbf">
                    <a:alpha val="50000"/>
                  </a:srgbClr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Rectangle 6"/>
                <p:cNvSpPr/>
                <p:nvPr/>
              </p:nvSpPr>
              <p:spPr>
                <a:xfrm>
                  <a:off x="2584440" y="333360"/>
                  <a:ext cx="4648320" cy="3276720"/>
                </a:xfrm>
                <a:prstGeom prst="rect">
                  <a:avLst/>
                </a:prstGeom>
                <a:solidFill>
                  <a:srgbClr val="ffe2c5"/>
                </a:solidFill>
                <a:ln w="12600">
                  <a:solidFill>
                    <a:srgbClr val="ddddd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4" name="Text Box 7"/>
              <p:cNvSpPr/>
              <p:nvPr/>
            </p:nvSpPr>
            <p:spPr>
              <a:xfrm>
                <a:off x="1187280" y="4721040"/>
                <a:ext cx="1513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Arial"/>
                  </a:rPr>
                  <a:t>平面镜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5" name="Text Box 8"/>
            <p:cNvSpPr/>
            <p:nvPr/>
          </p:nvSpPr>
          <p:spPr>
            <a:xfrm>
              <a:off x="2700360" y="40464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光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Text Box 9"/>
          <p:cNvSpPr/>
          <p:nvPr/>
        </p:nvSpPr>
        <p:spPr>
          <a:xfrm>
            <a:off x="4878000" y="350532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0"/>
          <p:cNvSpPr/>
          <p:nvPr/>
        </p:nvSpPr>
        <p:spPr>
          <a:xfrm>
            <a:off x="5105520" y="0"/>
            <a:ext cx="1143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法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1"/>
          <p:cNvSpPr/>
          <p:nvPr/>
        </p:nvSpPr>
        <p:spPr>
          <a:xfrm rot="1528800">
            <a:off x="5028840" y="289548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2"/>
          <p:cNvSpPr/>
          <p:nvPr/>
        </p:nvSpPr>
        <p:spPr>
          <a:xfrm rot="19519800">
            <a:off x="4571640" y="2895120"/>
            <a:ext cx="609480" cy="381240"/>
          </a:xfrm>
          <a:custGeom>
            <a:avLst/>
            <a:gdLst>
              <a:gd name="textAreaLeft" fmla="*/ 0 w 609480"/>
              <a:gd name="textAreaRight" fmla="*/ 609840 w 609480"/>
              <a:gd name="textAreaTop" fmla="*/ 0 h 381240"/>
              <a:gd name="textAreaBottom" fmla="*/ 136080 h 381240"/>
            </a:gdLst>
            <a:ahLst/>
            <a:rect l="textAreaLeft" t="textAreaTop" r="textAreaRight" b="textAreaBottom"/>
            <a:pathLst>
              <a:path w="21600" h="108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400"/>
                  <a:pt x="16200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799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3"/>
          <p:cNvGrpSpPr/>
          <p:nvPr/>
        </p:nvGrpSpPr>
        <p:grpSpPr>
          <a:xfrm>
            <a:off x="5076720" y="260280"/>
            <a:ext cx="360360" cy="3352680"/>
            <a:chOff x="5076720" y="260280"/>
            <a:chExt cx="360360" cy="3352680"/>
          </a:xfrm>
        </p:grpSpPr>
        <p:sp>
          <p:nvSpPr>
            <p:cNvPr id="551" name="Line 14"/>
            <p:cNvSpPr/>
            <p:nvPr/>
          </p:nvSpPr>
          <p:spPr>
            <a:xfrm>
              <a:off x="5105160" y="260280"/>
              <a:ext cx="0" cy="335268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5"/>
            <p:cNvSpPr/>
            <p:nvPr/>
          </p:nvSpPr>
          <p:spPr>
            <a:xfrm>
              <a:off x="5076720" y="3252600"/>
              <a:ext cx="360360" cy="3603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" name="Group 16"/>
          <p:cNvGrpSpPr/>
          <p:nvPr/>
        </p:nvGrpSpPr>
        <p:grpSpPr>
          <a:xfrm>
            <a:off x="5079960" y="549000"/>
            <a:ext cx="3803760" cy="3022200"/>
            <a:chOff x="5079960" y="549000"/>
            <a:chExt cx="3803760" cy="3022200"/>
          </a:xfrm>
        </p:grpSpPr>
        <p:sp>
          <p:nvSpPr>
            <p:cNvPr id="554" name="Text Box 17"/>
            <p:cNvSpPr/>
            <p:nvPr/>
          </p:nvSpPr>
          <p:spPr>
            <a:xfrm>
              <a:off x="5157720" y="2323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反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 Box 18"/>
            <p:cNvSpPr/>
            <p:nvPr/>
          </p:nvSpPr>
          <p:spPr>
            <a:xfrm>
              <a:off x="7878240" y="5490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反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19"/>
            <p:cNvGrpSpPr/>
            <p:nvPr/>
          </p:nvGrpSpPr>
          <p:grpSpPr>
            <a:xfrm>
              <a:off x="5079960" y="1047240"/>
              <a:ext cx="3803760" cy="2523960"/>
              <a:chOff x="5079960" y="1047240"/>
              <a:chExt cx="3803760" cy="2523960"/>
            </a:xfrm>
          </p:grpSpPr>
          <p:sp>
            <p:nvSpPr>
              <p:cNvPr id="557" name="Line 20"/>
              <p:cNvSpPr/>
              <p:nvPr/>
            </p:nvSpPr>
            <p:spPr>
              <a:xfrm flipV="1">
                <a:off x="6630840" y="1869840"/>
                <a:ext cx="990720" cy="667800"/>
              </a:xfrm>
              <a:prstGeom prst="line">
                <a:avLst/>
              </a:prstGeom>
              <a:ln w="1080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Line 21"/>
              <p:cNvSpPr/>
              <p:nvPr/>
            </p:nvSpPr>
            <p:spPr>
              <a:xfrm flipV="1">
                <a:off x="5079960" y="1047240"/>
                <a:ext cx="3803760" cy="2523960"/>
              </a:xfrm>
              <a:prstGeom prst="line">
                <a:avLst/>
              </a:prstGeom>
              <a:ln w="98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Group 22"/>
          <p:cNvGrpSpPr/>
          <p:nvPr/>
        </p:nvGrpSpPr>
        <p:grpSpPr>
          <a:xfrm>
            <a:off x="1187280" y="685800"/>
            <a:ext cx="3917880" cy="2895480"/>
            <a:chOff x="1187280" y="685800"/>
            <a:chExt cx="3917880" cy="2895480"/>
          </a:xfrm>
        </p:grpSpPr>
        <p:sp>
          <p:nvSpPr>
            <p:cNvPr id="560" name="Text Box 23"/>
            <p:cNvSpPr/>
            <p:nvPr/>
          </p:nvSpPr>
          <p:spPr>
            <a:xfrm>
              <a:off x="4179960" y="22860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24"/>
            <p:cNvSpPr/>
            <p:nvPr/>
          </p:nvSpPr>
          <p:spPr>
            <a:xfrm>
              <a:off x="1187280" y="68580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2" name="Group 25"/>
            <p:cNvGrpSpPr/>
            <p:nvPr/>
          </p:nvGrpSpPr>
          <p:grpSpPr>
            <a:xfrm>
              <a:off x="1692000" y="1341360"/>
              <a:ext cx="3413160" cy="2239920"/>
              <a:chOff x="1692000" y="1341360"/>
              <a:chExt cx="3413160" cy="2239920"/>
            </a:xfrm>
          </p:grpSpPr>
          <p:sp>
            <p:nvSpPr>
              <p:cNvPr id="563" name="Line 26"/>
              <p:cNvSpPr/>
              <p:nvPr/>
            </p:nvSpPr>
            <p:spPr>
              <a:xfrm>
                <a:off x="2916000" y="2133360"/>
                <a:ext cx="792000" cy="503280"/>
              </a:xfrm>
              <a:prstGeom prst="line">
                <a:avLst/>
              </a:prstGeom>
              <a:ln w="10800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Line 27"/>
              <p:cNvSpPr/>
              <p:nvPr/>
            </p:nvSpPr>
            <p:spPr>
              <a:xfrm>
                <a:off x="1692000" y="1341360"/>
                <a:ext cx="3413160" cy="2239920"/>
              </a:xfrm>
              <a:prstGeom prst="line">
                <a:avLst/>
              </a:prstGeom>
              <a:ln w="982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" name="Group 28"/>
          <p:cNvGrpSpPr/>
          <p:nvPr/>
        </p:nvGrpSpPr>
        <p:grpSpPr>
          <a:xfrm>
            <a:off x="5084280" y="549000"/>
            <a:ext cx="3951720" cy="3022560"/>
            <a:chOff x="5084280" y="549000"/>
            <a:chExt cx="3951720" cy="3022560"/>
          </a:xfrm>
        </p:grpSpPr>
        <p:grpSp>
          <p:nvGrpSpPr>
            <p:cNvPr id="566" name="Group 29"/>
            <p:cNvGrpSpPr/>
            <p:nvPr/>
          </p:nvGrpSpPr>
          <p:grpSpPr>
            <a:xfrm>
              <a:off x="5084280" y="1047600"/>
              <a:ext cx="3803760" cy="2523960"/>
              <a:chOff x="5084280" y="1047600"/>
              <a:chExt cx="3803760" cy="2523960"/>
            </a:xfrm>
          </p:grpSpPr>
          <p:sp>
            <p:nvSpPr>
              <p:cNvPr id="567" name="Line 30"/>
              <p:cNvSpPr/>
              <p:nvPr/>
            </p:nvSpPr>
            <p:spPr>
              <a:xfrm flipH="1">
                <a:off x="6346440" y="2081160"/>
                <a:ext cx="990720" cy="66780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31"/>
              <p:cNvSpPr/>
              <p:nvPr/>
            </p:nvSpPr>
            <p:spPr>
              <a:xfrm flipH="1">
                <a:off x="5084280" y="1047600"/>
                <a:ext cx="3803760" cy="2523960"/>
              </a:xfrm>
              <a:prstGeom prst="line">
                <a:avLst/>
              </a:prstGeom>
              <a:ln w="98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9" name="Text Box 32"/>
            <p:cNvSpPr/>
            <p:nvPr/>
          </p:nvSpPr>
          <p:spPr>
            <a:xfrm>
              <a:off x="5148360" y="232380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入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33"/>
            <p:cNvSpPr/>
            <p:nvPr/>
          </p:nvSpPr>
          <p:spPr>
            <a:xfrm>
              <a:off x="7596360" y="549000"/>
              <a:ext cx="143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入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Group 34"/>
          <p:cNvGrpSpPr/>
          <p:nvPr/>
        </p:nvGrpSpPr>
        <p:grpSpPr>
          <a:xfrm>
            <a:off x="1187280" y="692280"/>
            <a:ext cx="3960720" cy="2888280"/>
            <a:chOff x="1187280" y="692280"/>
            <a:chExt cx="3960720" cy="2888280"/>
          </a:xfrm>
        </p:grpSpPr>
        <p:grpSp>
          <p:nvGrpSpPr>
            <p:cNvPr id="572" name="Group 35"/>
            <p:cNvGrpSpPr/>
            <p:nvPr/>
          </p:nvGrpSpPr>
          <p:grpSpPr>
            <a:xfrm>
              <a:off x="1691640" y="1341000"/>
              <a:ext cx="3413160" cy="2239560"/>
              <a:chOff x="1691640" y="1341000"/>
              <a:chExt cx="3413160" cy="2239560"/>
            </a:xfrm>
          </p:grpSpPr>
          <p:sp>
            <p:nvSpPr>
              <p:cNvPr id="573" name="Line 36"/>
              <p:cNvSpPr/>
              <p:nvPr/>
            </p:nvSpPr>
            <p:spPr>
              <a:xfrm flipH="1" flipV="1">
                <a:off x="3088800" y="2286000"/>
                <a:ext cx="792000" cy="502920"/>
              </a:xfrm>
              <a:prstGeom prst="line">
                <a:avLst/>
              </a:prstGeom>
              <a:ln w="10800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Line 37"/>
              <p:cNvSpPr/>
              <p:nvPr/>
            </p:nvSpPr>
            <p:spPr>
              <a:xfrm flipH="1" flipV="1">
                <a:off x="1691640" y="1341000"/>
                <a:ext cx="3413160" cy="2239560"/>
              </a:xfrm>
              <a:prstGeom prst="line">
                <a:avLst/>
              </a:prstGeom>
              <a:ln w="982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Text Box 38"/>
            <p:cNvSpPr/>
            <p:nvPr/>
          </p:nvSpPr>
          <p:spPr>
            <a:xfrm>
              <a:off x="3995640" y="22762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反射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9"/>
            <p:cNvSpPr/>
            <p:nvPr/>
          </p:nvSpPr>
          <p:spPr>
            <a:xfrm>
              <a:off x="1187280" y="69228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反射光线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23640" y="1412640"/>
            <a:ext cx="835164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探究结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在反射现象中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Arial"/>
              </a:rPr>
              <a:t>光路是</a:t>
            </a:r>
            <a:r>
              <a:rPr b="1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可逆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98440" y="255600"/>
            <a:ext cx="698832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二、镜面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反射</a:t>
            </a: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和漫反射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492200"/>
            <a:ext cx="8686800" cy="51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探究实验：用镜面和白纸反射太阳光或灯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镜面反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平行光线入射到光滑物体表面，反射光线也向同一方向平行射出，其余方向没有反射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漫反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：平行光线入射到凹凸不平的物体表面时，反射光线是向不同方向射出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2T16:43:10Z</dcterms:created>
  <dc:creator>www.eeppt.com</dc:creator>
  <dc:description>ppt模板下载网站 http://www.eeppt.com</dc:description>
  <dc:language>en-US</dc:language>
  <cp:lastModifiedBy/>
  <dcterms:modified xsi:type="dcterms:W3CDTF">2015-05-27T15:16:19Z</dcterms:modified>
  <cp:revision>1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