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7524720" y="542880"/>
            <a:ext cx="61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xtBox 3" descr=""/>
          <p:cNvPicPr/>
          <p:nvPr/>
        </p:nvPicPr>
        <p:blipFill>
          <a:blip r:embed="rId2"/>
          <a:stretch/>
        </p:blipFill>
        <p:spPr>
          <a:xfrm>
            <a:off x="176040" y="11592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4075920" y="1557360"/>
            <a:ext cx="231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您像一支蜡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虽然细弱，但有一分热，发一分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照亮了别人，耗尽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这无私的奉献，令人用志不忘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只因有您的谆谆教诲，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人生路上才得以一次次凯旋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老师您辛苦了！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www.eeppt.com; An</dc:creator>
  <dc:description>ppt模板下载网站 http://www.eeppt.com</dc:description>
  <dc:language>en-US</dc:language>
  <cp:lastModifiedBy/>
  <dcterms:modified xsi:type="dcterms:W3CDTF">2015-05-27T15:12:40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