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C4A4-0BAD-443A-8326-007A2EF50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03F7-D3F4-42F7-99BC-2ED3D437D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83C5-BB18-44BE-89B9-FA725336A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DABE-49CE-4332-AC17-B25D3551A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77AC-F29F-438A-A0D3-D75593B66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5B2A-95E1-4615-824E-10B2EF660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4DD2-5F34-40BE-AE59-8F3DDE795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39F8-C9B1-4065-B329-70D350E25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0AA0-24CC-430B-BA3C-87E3D8194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3A08-8367-4A76-91EB-6A0FAD12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2CD9-9704-4887-8873-C5FBBA1D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425F-83FC-438D-8CCE-F2459491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</a:tabLst>
            </a:pPr>
            <a:fld id="{DBE06837-867B-4A58-B007-81279D5837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7320" y="207720"/>
            <a:ext cx="90471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9160" y="1399680"/>
            <a:ext cx="9842400" cy="575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78000"/>
          </a:bodyPr>
          <a:p>
            <a:pPr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GB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GB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GB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GB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en-GB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en-GB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GB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8032680" y="368280"/>
            <a:ext cx="1532160" cy="3841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1T12:09:12Z</dcterms:created>
  <dc:creator>www.eeppt.com; An</dc:creator>
  <dc:description>ppt模板下载网站 http://www.eeppt.com</dc:description>
  <dc:language>en-US</dc:language>
  <cp:lastModifiedBy/>
  <dcterms:modified xsi:type="dcterms:W3CDTF">2015-05-27T15:20:49Z</dcterms:modified>
  <cp:revision>3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