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080625" cy="7559675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6702-68F4-4BF3-919E-3FAEDFBD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2D5A-1D01-427B-AE5E-625E35744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0789-CB65-43EF-948C-DACBCEEBE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35400-0491-4FC7-955C-B73376B5F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7A35-066B-4B69-BD53-5A9375708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2E7D-4D71-484E-B345-865D175B3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9A65-359D-47F9-AA8E-A2B107D3D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D5653-4290-4ACB-9716-5B3450C40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A987-4163-4460-9B9E-89C437C8A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AAA0-370A-425B-A521-7CDCCE28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2DA9-39E5-445F-8FD6-4DE277EAD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D8EA-0EC2-41B6-8C2A-A8DFE0E6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  <a:tab algn="l" pos="5202360"/>
                <a:tab algn="l" pos="5381640"/>
                <a:tab algn="l" pos="5560920"/>
                <a:tab algn="l" pos="5740560"/>
              </a:tabLst>
            </a:pPr>
            <a:fld id="{FDD4E58A-6CDA-48A8-8E4A-FC0DEA45D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1ppt.com/moban/" TargetMode="External"/><Relationship Id="rId3" Type="http://schemas.openxmlformats.org/officeDocument/2006/relationships/hyperlink" Target="http://www.1ppt.com/hangye/" TargetMode="External"/><Relationship Id="rId4" Type="http://schemas.openxmlformats.org/officeDocument/2006/relationships/hyperlink" Target="http://www.1ppt.com/jieri/" TargetMode="External"/><Relationship Id="rId5" Type="http://schemas.openxmlformats.org/officeDocument/2006/relationships/hyperlink" Target="http://www.1ppt.com/sucai/" TargetMode="External"/><Relationship Id="rId6" Type="http://schemas.openxmlformats.org/officeDocument/2006/relationships/hyperlink" Target="http://www.1ppt.com/beijing/" TargetMode="External"/><Relationship Id="rId7" Type="http://schemas.openxmlformats.org/officeDocument/2006/relationships/hyperlink" Target="http://www.1ppt.com/tubiao/" TargetMode="External"/><Relationship Id="rId8" Type="http://schemas.openxmlformats.org/officeDocument/2006/relationships/hyperlink" Target="http://www.1ppt.com/xiazai/" TargetMode="External"/><Relationship Id="rId9" Type="http://schemas.openxmlformats.org/officeDocument/2006/relationships/hyperlink" Target="http://www.1ppt.com/powerpoint/" TargetMode="External"/><Relationship Id="rId10" Type="http://schemas.openxmlformats.org/officeDocument/2006/relationships/hyperlink" Target="http://www.1ppt.com/word/" TargetMode="External"/><Relationship Id="rId11" Type="http://schemas.openxmlformats.org/officeDocument/2006/relationships/hyperlink" Target="http://www.1ppt.com/excel/" TargetMode="External"/><Relationship Id="rId12" Type="http://schemas.openxmlformats.org/officeDocument/2006/relationships/hyperlink" Target="http://www.1ppt.com/ziliao/" TargetMode="External"/><Relationship Id="rId13" Type="http://schemas.openxmlformats.org/officeDocument/2006/relationships/hyperlink" Target="http://www.1ppt.com/kejian/" TargetMode="External"/><Relationship Id="rId14" Type="http://schemas.openxmlformats.org/officeDocument/2006/relationships/hyperlink" Target="http://www.1ppt.com/fanwen/" TargetMode="External"/><Relationship Id="rId15" Type="http://schemas.openxmlformats.org/officeDocument/2006/relationships/hyperlink" Target="http://www.1ppt.com/shiti/" TargetMode="External"/><Relationship Id="rId16" Type="http://schemas.openxmlformats.org/officeDocument/2006/relationships/hyperlink" Target="http://www.1ppt.com/jiaoan/" TargetMode="External"/><Relationship Id="rId17" Type="http://schemas.openxmlformats.org/officeDocument/2006/relationships/image" Target="../media/image3.png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1401480"/>
            <a:ext cx="9048600" cy="57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  <a:tab algn="l" pos="10942560"/>
              </a:tabLst>
            </a:pPr>
            <a:r>
              <a:rPr b="0" lang="en-GB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国庆节</a:t>
            </a:r>
            <a:r>
              <a:rPr b="0" lang="zh-CN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PPT</a:t>
            </a:r>
            <a:r>
              <a:rPr b="0" lang="en-GB" sz="6600" spc="-1" strike="noStrike">
                <a:solidFill>
                  <a:srgbClr val="ffffff"/>
                </a:solidFill>
                <a:latin typeface="方正姚体"/>
                <a:ea typeface="方正姚体"/>
              </a:rPr>
              <a:t>幻灯片模板</a:t>
            </a: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4"/>
          <p:cNvSpPr/>
          <p:nvPr/>
        </p:nvSpPr>
        <p:spPr>
          <a:xfrm>
            <a:off x="30240" y="0"/>
            <a:ext cx="684000" cy="2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行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节日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优秀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ord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00" spc="-1" strike="noStrike">
                <a:solidFill>
                  <a:srgbClr val="c00000"/>
                </a:solidFill>
                <a:latin typeface="Arial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US" sz="100" spc="-1" strike="noStrike">
                <a:solidFill>
                  <a:srgbClr val="c00000"/>
                </a:solidFill>
                <a:latin typeface="Arial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12"/>
          <p:cNvSpPr/>
          <p:nvPr/>
        </p:nvSpPr>
        <p:spPr>
          <a:xfrm>
            <a:off x="1238400" y="269568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AutoShape 1"/>
          <p:cNvSpPr/>
          <p:nvPr/>
        </p:nvSpPr>
        <p:spPr>
          <a:xfrm>
            <a:off x="1046160" y="2706840"/>
            <a:ext cx="8028000" cy="3765240"/>
          </a:xfrm>
          <a:prstGeom prst="roundRect">
            <a:avLst>
              <a:gd name="adj" fmla="val 5782"/>
            </a:avLst>
          </a:prstGeom>
          <a:gradFill rotWithShape="0">
            <a:gsLst>
              <a:gs pos="0">
                <a:srgbClr val="fd4754"/>
              </a:gs>
              <a:gs pos="100000">
                <a:srgbClr val="d7000f"/>
              </a:gs>
            </a:gsLst>
            <a:lin ang="10800000"/>
          </a:gradFill>
          <a:ln w="36000">
            <a:solidFill>
              <a:srgbClr val="d700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2"/>
          <p:cNvSpPr/>
          <p:nvPr/>
        </p:nvSpPr>
        <p:spPr>
          <a:xfrm>
            <a:off x="905040" y="2224080"/>
            <a:ext cx="8315280" cy="882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b0009"/>
              </a:gs>
              <a:gs pos="100000">
                <a:srgbClr val="fa0011"/>
              </a:gs>
            </a:gsLst>
            <a:lin ang="5400000"/>
          </a:gradFill>
          <a:ln w="3600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1238400" y="2195640"/>
            <a:ext cx="7650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9040" bIns="450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方正姚体"/>
                <a:ea typeface="方正姚体"/>
              </a:rPr>
              <a:t>目录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60600" y="3417840"/>
            <a:ext cx="7010280" cy="5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一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5"/>
          <p:cNvSpPr/>
          <p:nvPr/>
        </p:nvSpPr>
        <p:spPr>
          <a:xfrm>
            <a:off x="1560600" y="3957480"/>
            <a:ext cx="7010280" cy="5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二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6"/>
          <p:cNvSpPr/>
          <p:nvPr/>
        </p:nvSpPr>
        <p:spPr>
          <a:xfrm>
            <a:off x="1562040" y="4497480"/>
            <a:ext cx="7010640" cy="5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三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7"/>
          <p:cNvSpPr/>
          <p:nvPr/>
        </p:nvSpPr>
        <p:spPr>
          <a:xfrm>
            <a:off x="1562040" y="5037120"/>
            <a:ext cx="7010640" cy="5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四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8"/>
          <p:cNvSpPr/>
          <p:nvPr/>
        </p:nvSpPr>
        <p:spPr>
          <a:xfrm>
            <a:off x="1562040" y="5572080"/>
            <a:ext cx="7010640" cy="547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f400"/>
              </a:gs>
              <a:gs pos="100000">
                <a:srgbClr val="fea700"/>
              </a:gs>
            </a:gsLst>
            <a:lin ang="10800000"/>
          </a:gradFill>
          <a:ln w="9360">
            <a:solidFill>
              <a:srgbClr val="fea7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637320"/>
                <a:tab algn="l" pos="6816600"/>
                <a:tab algn="l" pos="6996240"/>
                <a:tab algn="l" pos="717552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           </a:t>
            </a:r>
            <a:r>
              <a:rPr b="1" lang="zh-CN" sz="2000" spc="-1" strike="noStrike">
                <a:solidFill>
                  <a:srgbClr val="ffffff"/>
                </a:solidFill>
                <a:latin typeface="方正姚体"/>
                <a:ea typeface="方正姚体"/>
              </a:rPr>
              <a:t>第五章 ：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9" descr=""/>
          <p:cNvPicPr/>
          <p:nvPr/>
        </p:nvPicPr>
        <p:blipFill>
          <a:blip r:embed="rId17"/>
          <a:stretch/>
        </p:blipFill>
        <p:spPr>
          <a:xfrm>
            <a:off x="8574120" y="4649760"/>
            <a:ext cx="988920" cy="28846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0"/>
          <p:cNvSpPr/>
          <p:nvPr/>
        </p:nvSpPr>
        <p:spPr>
          <a:xfrm>
            <a:off x="144360" y="395280"/>
            <a:ext cx="746280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Documents and Settings\yzhang\桌面\1028960_135113082_2.jpg"/>
          <p:cNvPicPr/>
          <p:nvPr/>
        </p:nvPicPr>
        <p:blipFill>
          <a:blip r:embed="rId2"/>
          <a:stretch/>
        </p:blipFill>
        <p:spPr>
          <a:xfrm>
            <a:off x="287280" y="1763640"/>
            <a:ext cx="3498840" cy="7255080"/>
          </a:xfrm>
          <a:prstGeom prst="rect">
            <a:avLst/>
          </a:prstGeom>
          <a:ln w="0">
            <a:noFill/>
          </a:ln>
        </p:spPr>
      </p:pic>
      <p:sp>
        <p:nvSpPr>
          <p:cNvPr id="56" name="矩形 1"/>
          <p:cNvSpPr/>
          <p:nvPr/>
        </p:nvSpPr>
        <p:spPr>
          <a:xfrm>
            <a:off x="4176720" y="2216160"/>
            <a:ext cx="568800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文字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Documents and Settings\yzhang\桌面\图片3副本.png"/>
          <p:cNvPicPr/>
          <p:nvPr/>
        </p:nvPicPr>
        <p:blipFill>
          <a:blip r:embed="rId2"/>
          <a:stretch/>
        </p:blipFill>
        <p:spPr>
          <a:xfrm>
            <a:off x="0" y="1692360"/>
            <a:ext cx="10094760" cy="518796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13"/>
          <p:cNvGrpSpPr/>
          <p:nvPr/>
        </p:nvGrpSpPr>
        <p:grpSpPr>
          <a:xfrm>
            <a:off x="4398840" y="6264360"/>
            <a:ext cx="3162240" cy="1221480"/>
            <a:chOff x="4398840" y="6264360"/>
            <a:chExt cx="3162240" cy="1221480"/>
          </a:xfrm>
        </p:grpSpPr>
        <p:sp>
          <p:nvSpPr>
            <p:cNvPr id="60" name="Text Box 14"/>
            <p:cNvSpPr/>
            <p:nvPr/>
          </p:nvSpPr>
          <p:spPr>
            <a:xfrm>
              <a:off x="4398840" y="6372360"/>
              <a:ext cx="3162240" cy="11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6520" bIns="4500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方正姚体"/>
                  <a:ea typeface="方正姚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方正姚体"/>
                  <a:ea typeface="方正姚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方正姚体"/>
                  <a:ea typeface="方正姚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r>
                <a:rPr b="1" lang="zh-CN" sz="1400" spc="-1" strike="noStrike">
                  <a:solidFill>
                    <a:srgbClr val="c00000"/>
                  </a:solidFill>
                  <a:latin typeface="方正姚体"/>
                  <a:ea typeface="方正姚体"/>
                </a:rPr>
                <a:t>文字内容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5000"/>
                </a:lnSpc>
                <a:tabLst>
                  <a:tab algn="l" pos="0"/>
                  <a:tab algn="l" pos="723960"/>
                  <a:tab algn="l" pos="144792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  <a:tab algn="l" pos="3767040"/>
                  <a:tab algn="l" pos="3946680"/>
                  <a:tab algn="l" pos="4125960"/>
                  <a:tab algn="l" pos="4305240"/>
                  <a:tab algn="l" pos="4484520"/>
                  <a:tab algn="l" pos="4664160"/>
                  <a:tab algn="l" pos="4843440"/>
                  <a:tab algn="l" pos="502272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Line 15"/>
            <p:cNvSpPr/>
            <p:nvPr/>
          </p:nvSpPr>
          <p:spPr>
            <a:xfrm>
              <a:off x="4405680" y="6264360"/>
              <a:ext cx="2520" cy="107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179280"/>
                  <a:tab algn="l" pos="358920"/>
                  <a:tab algn="l" pos="538200"/>
                  <a:tab algn="l" pos="717480"/>
                  <a:tab algn="l" pos="896760"/>
                  <a:tab algn="l" pos="1076400"/>
                  <a:tab algn="l" pos="1255680"/>
                  <a:tab algn="l" pos="1434960"/>
                  <a:tab algn="l" pos="1614600"/>
                  <a:tab algn="l" pos="1793880"/>
                  <a:tab algn="l" pos="1973160"/>
                  <a:tab algn="l" pos="2152800"/>
                  <a:tab algn="l" pos="2332080"/>
                  <a:tab algn="l" pos="2511360"/>
                  <a:tab algn="l" pos="2690640"/>
                  <a:tab algn="l" pos="2870280"/>
                  <a:tab algn="l" pos="3049560"/>
                  <a:tab algn="l" pos="3228840"/>
                  <a:tab algn="l" pos="3408480"/>
                  <a:tab algn="l" pos="35877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Line 18"/>
          <p:cNvSpPr/>
          <p:nvPr/>
        </p:nvSpPr>
        <p:spPr>
          <a:xfrm>
            <a:off x="7381800" y="5580000"/>
            <a:ext cx="180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8"/>
          <p:cNvSpPr/>
          <p:nvPr/>
        </p:nvSpPr>
        <p:spPr>
          <a:xfrm>
            <a:off x="9864720" y="2195640"/>
            <a:ext cx="1440" cy="157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7421400" y="5651640"/>
            <a:ext cx="31640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7342200" y="2195640"/>
            <a:ext cx="2738520" cy="15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652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zh-CN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方正姚体"/>
                <a:ea typeface="方正姚体"/>
              </a:rPr>
              <a:t>…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  <a:tab algn="l" pos="3767040"/>
                <a:tab algn="l" pos="3946680"/>
                <a:tab algn="l" pos="4125960"/>
                <a:tab algn="l" pos="4305240"/>
                <a:tab algn="l" pos="4484520"/>
                <a:tab algn="l" pos="4664160"/>
                <a:tab algn="l" pos="4843440"/>
                <a:tab algn="l" pos="50227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"/>
          <p:cNvSpPr/>
          <p:nvPr/>
        </p:nvSpPr>
        <p:spPr>
          <a:xfrm>
            <a:off x="289080" y="2771640"/>
            <a:ext cx="5038560" cy="32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2"/>
          <a:stretch/>
        </p:blipFill>
        <p:spPr>
          <a:xfrm>
            <a:off x="0" y="1460520"/>
            <a:ext cx="10080720" cy="6108840"/>
          </a:xfrm>
          <a:prstGeom prst="rect">
            <a:avLst/>
          </a:prstGeom>
          <a:ln w="0">
            <a:noFill/>
          </a:ln>
        </p:spPr>
      </p:pic>
      <p:sp>
        <p:nvSpPr>
          <p:cNvPr id="69" name="矩形 1"/>
          <p:cNvSpPr/>
          <p:nvPr/>
        </p:nvSpPr>
        <p:spPr>
          <a:xfrm>
            <a:off x="0" y="2484360"/>
            <a:ext cx="10080720" cy="3095640"/>
          </a:xfrm>
          <a:prstGeom prst="rect">
            <a:avLst/>
          </a:prstGeom>
          <a:solidFill>
            <a:srgbClr val="ffffff">
              <a:alpha val="5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方正姚体"/>
                <a:ea typeface="方正姚体"/>
              </a:rPr>
              <a:t>文字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2"/>
          <a:stretch/>
        </p:blipFill>
        <p:spPr>
          <a:xfrm>
            <a:off x="-14400" y="1500120"/>
            <a:ext cx="4079880" cy="6081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3"/>
          <p:cNvSpPr/>
          <p:nvPr/>
        </p:nvSpPr>
        <p:spPr>
          <a:xfrm>
            <a:off x="4535640" y="2266920"/>
            <a:ext cx="5329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4464000" y="1774800"/>
            <a:ext cx="1871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组合 9"/>
          <p:cNvGrpSpPr/>
          <p:nvPr/>
        </p:nvGrpSpPr>
        <p:grpSpPr>
          <a:xfrm>
            <a:off x="1015920" y="1827360"/>
            <a:ext cx="8128080" cy="4689360"/>
            <a:chOff x="1015920" y="1827360"/>
            <a:chExt cx="8128080" cy="4689360"/>
          </a:xfrm>
        </p:grpSpPr>
        <p:pic>
          <p:nvPicPr>
            <p:cNvPr id="75" name="Picture 1" descr=""/>
            <p:cNvPicPr/>
            <p:nvPr/>
          </p:nvPicPr>
          <p:blipFill>
            <a:blip r:embed="rId2"/>
            <a:stretch/>
          </p:blipFill>
          <p:spPr>
            <a:xfrm>
              <a:off x="1015920" y="1827360"/>
              <a:ext cx="8128080" cy="46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6" name="组合 8"/>
            <p:cNvGrpSpPr/>
            <p:nvPr/>
          </p:nvGrpSpPr>
          <p:grpSpPr>
            <a:xfrm>
              <a:off x="3255120" y="2982240"/>
              <a:ext cx="1396800" cy="1048320"/>
              <a:chOff x="3255120" y="2982240"/>
              <a:chExt cx="1396800" cy="1048320"/>
            </a:xfrm>
          </p:grpSpPr>
          <p:sp>
            <p:nvSpPr>
              <p:cNvPr id="77" name="任意多边形 2"/>
              <p:cNvSpPr/>
              <p:nvPr/>
            </p:nvSpPr>
            <p:spPr>
              <a:xfrm>
                <a:off x="3255120" y="2982240"/>
                <a:ext cx="1396800" cy="994320"/>
              </a:xfrm>
              <a:custGeom>
                <a:avLst/>
                <a:gdLst/>
                <a:ahLst/>
                <a:rect l="l" t="t" r="r" b="b"/>
                <a:pathLst>
                  <a:path w="1396890" h="994180">
                    <a:moveTo>
                      <a:pt x="315" y="362078"/>
                    </a:moveTo>
                    <a:cubicBezTo>
                      <a:pt x="2872" y="358498"/>
                      <a:pt x="18985" y="358923"/>
                      <a:pt x="27931" y="355941"/>
                    </a:cubicBezTo>
                    <a:cubicBezTo>
                      <a:pt x="33502" y="354084"/>
                      <a:pt x="43055" y="344544"/>
                      <a:pt x="46342" y="340599"/>
                    </a:cubicBezTo>
                    <a:cubicBezTo>
                      <a:pt x="48703" y="337766"/>
                      <a:pt x="49599" y="333697"/>
                      <a:pt x="52479" y="331393"/>
                    </a:cubicBezTo>
                    <a:cubicBezTo>
                      <a:pt x="55005" y="329373"/>
                      <a:pt x="58502" y="328904"/>
                      <a:pt x="61684" y="328325"/>
                    </a:cubicBezTo>
                    <a:cubicBezTo>
                      <a:pt x="69797" y="326850"/>
                      <a:pt x="78049" y="326279"/>
                      <a:pt x="86232" y="325256"/>
                    </a:cubicBezTo>
                    <a:cubicBezTo>
                      <a:pt x="88278" y="322188"/>
                      <a:pt x="89761" y="318659"/>
                      <a:pt x="92369" y="316051"/>
                    </a:cubicBezTo>
                    <a:cubicBezTo>
                      <a:pt x="99674" y="308746"/>
                      <a:pt x="106782" y="308197"/>
                      <a:pt x="116917" y="306846"/>
                    </a:cubicBezTo>
                    <a:cubicBezTo>
                      <a:pt x="127106" y="305487"/>
                      <a:pt x="137373" y="304800"/>
                      <a:pt x="147601" y="303777"/>
                    </a:cubicBezTo>
                    <a:cubicBezTo>
                      <a:pt x="163804" y="298377"/>
                      <a:pt x="155013" y="303400"/>
                      <a:pt x="169080" y="282298"/>
                    </a:cubicBezTo>
                    <a:cubicBezTo>
                      <a:pt x="170874" y="279607"/>
                      <a:pt x="175393" y="280676"/>
                      <a:pt x="178286" y="279229"/>
                    </a:cubicBezTo>
                    <a:cubicBezTo>
                      <a:pt x="181584" y="277580"/>
                      <a:pt x="184423" y="275138"/>
                      <a:pt x="187491" y="273093"/>
                    </a:cubicBezTo>
                    <a:cubicBezTo>
                      <a:pt x="187588" y="271831"/>
                      <a:pt x="187125" y="235704"/>
                      <a:pt x="193628" y="223997"/>
                    </a:cubicBezTo>
                    <a:cubicBezTo>
                      <a:pt x="197210" y="217549"/>
                      <a:pt x="205902" y="205586"/>
                      <a:pt x="205902" y="205586"/>
                    </a:cubicBezTo>
                    <a:cubicBezTo>
                      <a:pt x="214748" y="179045"/>
                      <a:pt x="202734" y="205609"/>
                      <a:pt x="258066" y="193313"/>
                    </a:cubicBezTo>
                    <a:cubicBezTo>
                      <a:pt x="261666" y="192513"/>
                      <a:pt x="262157" y="187176"/>
                      <a:pt x="264203" y="184107"/>
                    </a:cubicBezTo>
                    <a:cubicBezTo>
                      <a:pt x="266699" y="176619"/>
                      <a:pt x="267459" y="171646"/>
                      <a:pt x="273408" y="165697"/>
                    </a:cubicBezTo>
                    <a:cubicBezTo>
                      <a:pt x="276016" y="163089"/>
                      <a:pt x="279545" y="161606"/>
                      <a:pt x="282613" y="159560"/>
                    </a:cubicBezTo>
                    <a:cubicBezTo>
                      <a:pt x="284659" y="156491"/>
                      <a:pt x="286142" y="152962"/>
                      <a:pt x="288750" y="150354"/>
                    </a:cubicBezTo>
                    <a:cubicBezTo>
                      <a:pt x="291358" y="147746"/>
                      <a:pt x="294657" y="145866"/>
                      <a:pt x="297956" y="144217"/>
                    </a:cubicBezTo>
                    <a:cubicBezTo>
                      <a:pt x="311903" y="137244"/>
                      <a:pt x="343339" y="138564"/>
                      <a:pt x="350119" y="138080"/>
                    </a:cubicBezTo>
                    <a:cubicBezTo>
                      <a:pt x="351142" y="135012"/>
                      <a:pt x="351617" y="131702"/>
                      <a:pt x="353188" y="128875"/>
                    </a:cubicBezTo>
                    <a:cubicBezTo>
                      <a:pt x="356770" y="122428"/>
                      <a:pt x="365462" y="110464"/>
                      <a:pt x="365462" y="110464"/>
                    </a:cubicBezTo>
                    <a:cubicBezTo>
                      <a:pt x="367483" y="104399"/>
                      <a:pt x="369259" y="96381"/>
                      <a:pt x="374667" y="92054"/>
                    </a:cubicBezTo>
                    <a:cubicBezTo>
                      <a:pt x="377193" y="90033"/>
                      <a:pt x="380979" y="90432"/>
                      <a:pt x="383872" y="88985"/>
                    </a:cubicBezTo>
                    <a:cubicBezTo>
                      <a:pt x="387171" y="87336"/>
                      <a:pt x="390009" y="84894"/>
                      <a:pt x="393078" y="82848"/>
                    </a:cubicBezTo>
                    <a:cubicBezTo>
                      <a:pt x="398093" y="84520"/>
                      <a:pt x="408358" y="87045"/>
                      <a:pt x="411488" y="92054"/>
                    </a:cubicBezTo>
                    <a:cubicBezTo>
                      <a:pt x="414916" y="97539"/>
                      <a:pt x="417625" y="110464"/>
                      <a:pt x="417625" y="110464"/>
                    </a:cubicBezTo>
                    <a:cubicBezTo>
                      <a:pt x="418648" y="119669"/>
                      <a:pt x="419171" y="128944"/>
                      <a:pt x="420694" y="138080"/>
                    </a:cubicBezTo>
                    <a:cubicBezTo>
                      <a:pt x="422623" y="149653"/>
                      <a:pt x="424596" y="145885"/>
                      <a:pt x="429899" y="156491"/>
                    </a:cubicBezTo>
                    <a:cubicBezTo>
                      <a:pt x="431346" y="159384"/>
                      <a:pt x="431945" y="162628"/>
                      <a:pt x="432968" y="165697"/>
                    </a:cubicBezTo>
                    <a:cubicBezTo>
                      <a:pt x="433936" y="179251"/>
                      <a:pt x="424698" y="209190"/>
                      <a:pt x="445241" y="214792"/>
                    </a:cubicBezTo>
                    <a:cubicBezTo>
                      <a:pt x="453197" y="216962"/>
                      <a:pt x="461606" y="216837"/>
                      <a:pt x="469789" y="217860"/>
                    </a:cubicBezTo>
                    <a:cubicBezTo>
                      <a:pt x="472857" y="218883"/>
                      <a:pt x="476468" y="218908"/>
                      <a:pt x="478994" y="220929"/>
                    </a:cubicBezTo>
                    <a:cubicBezTo>
                      <a:pt x="489340" y="229206"/>
                      <a:pt x="481847" y="229810"/>
                      <a:pt x="488200" y="239340"/>
                    </a:cubicBezTo>
                    <a:cubicBezTo>
                      <a:pt x="490607" y="242950"/>
                      <a:pt x="494337" y="245477"/>
                      <a:pt x="497405" y="248545"/>
                    </a:cubicBezTo>
                    <a:cubicBezTo>
                      <a:pt x="498428" y="251613"/>
                      <a:pt x="498453" y="255224"/>
                      <a:pt x="500474" y="257750"/>
                    </a:cubicBezTo>
                    <a:cubicBezTo>
                      <a:pt x="505772" y="264372"/>
                      <a:pt x="514582" y="265113"/>
                      <a:pt x="521953" y="266956"/>
                    </a:cubicBezTo>
                    <a:cubicBezTo>
                      <a:pt x="522976" y="270024"/>
                      <a:pt x="524132" y="273051"/>
                      <a:pt x="525021" y="276161"/>
                    </a:cubicBezTo>
                    <a:cubicBezTo>
                      <a:pt x="526180" y="280216"/>
                      <a:pt x="525390" y="285195"/>
                      <a:pt x="528090" y="288435"/>
                    </a:cubicBezTo>
                    <a:cubicBezTo>
                      <a:pt x="531018" y="291949"/>
                      <a:pt x="535825" y="294005"/>
                      <a:pt x="540364" y="294572"/>
                    </a:cubicBezTo>
                    <a:cubicBezTo>
                      <a:pt x="560688" y="297112"/>
                      <a:pt x="581277" y="296617"/>
                      <a:pt x="601733" y="297640"/>
                    </a:cubicBezTo>
                    <a:cubicBezTo>
                      <a:pt x="604618" y="298361"/>
                      <a:pt x="619613" y="301778"/>
                      <a:pt x="623212" y="303777"/>
                    </a:cubicBezTo>
                    <a:cubicBezTo>
                      <a:pt x="654865" y="321361"/>
                      <a:pt x="629999" y="312177"/>
                      <a:pt x="650828" y="319119"/>
                    </a:cubicBezTo>
                    <a:cubicBezTo>
                      <a:pt x="653896" y="321165"/>
                      <a:pt x="656735" y="323607"/>
                      <a:pt x="660033" y="325256"/>
                    </a:cubicBezTo>
                    <a:cubicBezTo>
                      <a:pt x="662926" y="326703"/>
                      <a:pt x="666004" y="328325"/>
                      <a:pt x="669239" y="328325"/>
                    </a:cubicBezTo>
                    <a:cubicBezTo>
                      <a:pt x="710164" y="328325"/>
                      <a:pt x="751064" y="326279"/>
                      <a:pt x="791977" y="325256"/>
                    </a:cubicBezTo>
                    <a:cubicBezTo>
                      <a:pt x="810523" y="320620"/>
                      <a:pt x="800257" y="323520"/>
                      <a:pt x="822662" y="316051"/>
                    </a:cubicBezTo>
                    <a:lnTo>
                      <a:pt x="831867" y="312982"/>
                    </a:lnTo>
                    <a:lnTo>
                      <a:pt x="841072" y="309914"/>
                    </a:lnTo>
                    <a:cubicBezTo>
                      <a:pt x="844141" y="307868"/>
                      <a:pt x="847849" y="306552"/>
                      <a:pt x="850278" y="303777"/>
                    </a:cubicBezTo>
                    <a:cubicBezTo>
                      <a:pt x="855135" y="298226"/>
                      <a:pt x="862552" y="285366"/>
                      <a:pt x="862552" y="285366"/>
                    </a:cubicBezTo>
                    <a:lnTo>
                      <a:pt x="868688" y="266956"/>
                    </a:lnTo>
                    <a:cubicBezTo>
                      <a:pt x="871247" y="259279"/>
                      <a:pt x="876038" y="255215"/>
                      <a:pt x="884031" y="254682"/>
                    </a:cubicBezTo>
                    <a:cubicBezTo>
                      <a:pt x="911605" y="252844"/>
                      <a:pt x="939263" y="252636"/>
                      <a:pt x="966879" y="251613"/>
                    </a:cubicBezTo>
                    <a:cubicBezTo>
                      <a:pt x="969947" y="250590"/>
                      <a:pt x="973558" y="250565"/>
                      <a:pt x="976084" y="248545"/>
                    </a:cubicBezTo>
                    <a:cubicBezTo>
                      <a:pt x="978964" y="246241"/>
                      <a:pt x="979754" y="242081"/>
                      <a:pt x="982221" y="239340"/>
                    </a:cubicBezTo>
                    <a:cubicBezTo>
                      <a:pt x="988995" y="231814"/>
                      <a:pt x="996541" y="225020"/>
                      <a:pt x="1003701" y="217860"/>
                    </a:cubicBezTo>
                    <a:cubicBezTo>
                      <a:pt x="1006309" y="215252"/>
                      <a:pt x="1009536" y="213221"/>
                      <a:pt x="1012906" y="211723"/>
                    </a:cubicBezTo>
                    <a:cubicBezTo>
                      <a:pt x="1025648" y="206060"/>
                      <a:pt x="1033533" y="205143"/>
                      <a:pt x="1046659" y="202518"/>
                    </a:cubicBezTo>
                    <a:cubicBezTo>
                      <a:pt x="1045636" y="194335"/>
                      <a:pt x="1050187" y="182918"/>
                      <a:pt x="1043590" y="177970"/>
                    </a:cubicBezTo>
                    <a:cubicBezTo>
                      <a:pt x="1032868" y="169929"/>
                      <a:pt x="1001666" y="176069"/>
                      <a:pt x="988358" y="177970"/>
                    </a:cubicBezTo>
                    <a:cubicBezTo>
                      <a:pt x="966212" y="191259"/>
                      <a:pt x="962204" y="199336"/>
                      <a:pt x="976084" y="147286"/>
                    </a:cubicBezTo>
                    <a:cubicBezTo>
                      <a:pt x="976756" y="144766"/>
                      <a:pt x="997297" y="135165"/>
                      <a:pt x="997564" y="135012"/>
                    </a:cubicBezTo>
                    <a:cubicBezTo>
                      <a:pt x="1000766" y="133182"/>
                      <a:pt x="1003379" y="130328"/>
                      <a:pt x="1006769" y="128875"/>
                    </a:cubicBezTo>
                    <a:cubicBezTo>
                      <a:pt x="1010645" y="127214"/>
                      <a:pt x="1014988" y="126966"/>
                      <a:pt x="1019043" y="125807"/>
                    </a:cubicBezTo>
                    <a:cubicBezTo>
                      <a:pt x="1044854" y="118432"/>
                      <a:pt x="1006284" y="124568"/>
                      <a:pt x="1065070" y="119670"/>
                    </a:cubicBezTo>
                    <a:cubicBezTo>
                      <a:pt x="1068138" y="116601"/>
                      <a:pt x="1070980" y="113288"/>
                      <a:pt x="1074275" y="110464"/>
                    </a:cubicBezTo>
                    <a:cubicBezTo>
                      <a:pt x="1078158" y="107136"/>
                      <a:pt x="1083275" y="105188"/>
                      <a:pt x="1086549" y="101259"/>
                    </a:cubicBezTo>
                    <a:cubicBezTo>
                      <a:pt x="1088620" y="98774"/>
                      <a:pt x="1087823" y="94745"/>
                      <a:pt x="1089617" y="92054"/>
                    </a:cubicBezTo>
                    <a:cubicBezTo>
                      <a:pt x="1092024" y="88443"/>
                      <a:pt x="1096045" y="86182"/>
                      <a:pt x="1098823" y="82848"/>
                    </a:cubicBezTo>
                    <a:cubicBezTo>
                      <a:pt x="1104246" y="76340"/>
                      <a:pt x="1107343" y="68876"/>
                      <a:pt x="1111096" y="61369"/>
                    </a:cubicBezTo>
                    <a:cubicBezTo>
                      <a:pt x="1112119" y="45004"/>
                      <a:pt x="1112448" y="28581"/>
                      <a:pt x="1114165" y="12274"/>
                    </a:cubicBezTo>
                    <a:cubicBezTo>
                      <a:pt x="1114504" y="9057"/>
                      <a:pt x="1114946" y="5355"/>
                      <a:pt x="1117233" y="3068"/>
                    </a:cubicBezTo>
                    <a:cubicBezTo>
                      <a:pt x="1119520" y="781"/>
                      <a:pt x="1123370" y="1023"/>
                      <a:pt x="1126439" y="0"/>
                    </a:cubicBezTo>
                    <a:cubicBezTo>
                      <a:pt x="1166629" y="3653"/>
                      <a:pt x="1149477" y="-504"/>
                      <a:pt x="1178603" y="9205"/>
                    </a:cubicBezTo>
                    <a:lnTo>
                      <a:pt x="1187808" y="12274"/>
                    </a:lnTo>
                    <a:cubicBezTo>
                      <a:pt x="1193125" y="14047"/>
                      <a:pt x="1203229" y="23772"/>
                      <a:pt x="1206219" y="27616"/>
                    </a:cubicBezTo>
                    <a:cubicBezTo>
                      <a:pt x="1220096" y="45458"/>
                      <a:pt x="1217899" y="44249"/>
                      <a:pt x="1224629" y="64437"/>
                    </a:cubicBezTo>
                    <a:lnTo>
                      <a:pt x="1227698" y="73643"/>
                    </a:lnTo>
                    <a:cubicBezTo>
                      <a:pt x="1228721" y="83871"/>
                      <a:pt x="1228872" y="94224"/>
                      <a:pt x="1230766" y="104327"/>
                    </a:cubicBezTo>
                    <a:cubicBezTo>
                      <a:pt x="1231958" y="110685"/>
                      <a:pt x="1234857" y="116601"/>
                      <a:pt x="1236903" y="122738"/>
                    </a:cubicBezTo>
                    <a:cubicBezTo>
                      <a:pt x="1238069" y="126237"/>
                      <a:pt x="1242810" y="127226"/>
                      <a:pt x="1246109" y="128875"/>
                    </a:cubicBezTo>
                    <a:cubicBezTo>
                      <a:pt x="1259567" y="135604"/>
                      <a:pt x="1262419" y="135206"/>
                      <a:pt x="1276793" y="138080"/>
                    </a:cubicBezTo>
                    <a:cubicBezTo>
                      <a:pt x="1278839" y="141149"/>
                      <a:pt x="1281432" y="143916"/>
                      <a:pt x="1282930" y="147286"/>
                    </a:cubicBezTo>
                    <a:cubicBezTo>
                      <a:pt x="1285557" y="153197"/>
                      <a:pt x="1283892" y="161816"/>
                      <a:pt x="1289067" y="165697"/>
                    </a:cubicBezTo>
                    <a:cubicBezTo>
                      <a:pt x="1293158" y="168765"/>
                      <a:pt x="1296767" y="172615"/>
                      <a:pt x="1301341" y="174902"/>
                    </a:cubicBezTo>
                    <a:cubicBezTo>
                      <a:pt x="1305113" y="176788"/>
                      <a:pt x="1309560" y="176811"/>
                      <a:pt x="1313615" y="177970"/>
                    </a:cubicBezTo>
                    <a:cubicBezTo>
                      <a:pt x="1316725" y="178859"/>
                      <a:pt x="1319752" y="180016"/>
                      <a:pt x="1322820" y="181039"/>
                    </a:cubicBezTo>
                    <a:cubicBezTo>
                      <a:pt x="1323806" y="180940"/>
                      <a:pt x="1357437" y="179072"/>
                      <a:pt x="1365778" y="174902"/>
                    </a:cubicBezTo>
                    <a:cubicBezTo>
                      <a:pt x="1370352" y="172615"/>
                      <a:pt x="1373890" y="168669"/>
                      <a:pt x="1378052" y="165697"/>
                    </a:cubicBezTo>
                    <a:cubicBezTo>
                      <a:pt x="1381053" y="163553"/>
                      <a:pt x="1384189" y="161606"/>
                      <a:pt x="1387258" y="159560"/>
                    </a:cubicBezTo>
                    <a:cubicBezTo>
                      <a:pt x="1390326" y="160583"/>
                      <a:pt x="1395017" y="159735"/>
                      <a:pt x="1396463" y="162628"/>
                    </a:cubicBezTo>
                    <a:cubicBezTo>
                      <a:pt x="1397909" y="165521"/>
                      <a:pt x="1395380" y="169280"/>
                      <a:pt x="1393394" y="171833"/>
                    </a:cubicBezTo>
                    <a:cubicBezTo>
                      <a:pt x="1388066" y="178684"/>
                      <a:pt x="1381121" y="184107"/>
                      <a:pt x="1374984" y="190244"/>
                    </a:cubicBezTo>
                    <a:cubicBezTo>
                      <a:pt x="1369769" y="195460"/>
                      <a:pt x="1366801" y="202518"/>
                      <a:pt x="1362710" y="208655"/>
                    </a:cubicBezTo>
                    <a:cubicBezTo>
                      <a:pt x="1359500" y="213469"/>
                      <a:pt x="1354527" y="216838"/>
                      <a:pt x="1350436" y="220929"/>
                    </a:cubicBezTo>
                    <a:lnTo>
                      <a:pt x="1344299" y="239340"/>
                    </a:lnTo>
                    <a:cubicBezTo>
                      <a:pt x="1343276" y="242408"/>
                      <a:pt x="1344299" y="247522"/>
                      <a:pt x="1341231" y="248545"/>
                    </a:cubicBezTo>
                    <a:lnTo>
                      <a:pt x="1322820" y="254682"/>
                    </a:lnTo>
                    <a:lnTo>
                      <a:pt x="1313615" y="257750"/>
                    </a:lnTo>
                    <a:lnTo>
                      <a:pt x="1301341" y="276161"/>
                    </a:lnTo>
                    <a:cubicBezTo>
                      <a:pt x="1299295" y="279229"/>
                      <a:pt x="1296370" y="281868"/>
                      <a:pt x="1295204" y="285366"/>
                    </a:cubicBezTo>
                    <a:lnTo>
                      <a:pt x="1289067" y="303777"/>
                    </a:lnTo>
                    <a:cubicBezTo>
                      <a:pt x="1287046" y="309841"/>
                      <a:pt x="1285270" y="317862"/>
                      <a:pt x="1279862" y="322188"/>
                    </a:cubicBezTo>
                    <a:cubicBezTo>
                      <a:pt x="1277336" y="324209"/>
                      <a:pt x="1273725" y="324233"/>
                      <a:pt x="1270656" y="325256"/>
                    </a:cubicBezTo>
                    <a:cubicBezTo>
                      <a:pt x="1244277" y="342843"/>
                      <a:pt x="1277653" y="321758"/>
                      <a:pt x="1252245" y="334462"/>
                    </a:cubicBezTo>
                    <a:cubicBezTo>
                      <a:pt x="1230100" y="345535"/>
                      <a:pt x="1257669" y="335975"/>
                      <a:pt x="1230766" y="346735"/>
                    </a:cubicBezTo>
                    <a:cubicBezTo>
                      <a:pt x="1224760" y="349137"/>
                      <a:pt x="1218493" y="350826"/>
                      <a:pt x="1212356" y="352872"/>
                    </a:cubicBezTo>
                    <a:cubicBezTo>
                      <a:pt x="1209287" y="353895"/>
                      <a:pt x="1206322" y="355307"/>
                      <a:pt x="1203150" y="355941"/>
                    </a:cubicBezTo>
                    <a:lnTo>
                      <a:pt x="1187808" y="359009"/>
                    </a:lnTo>
                    <a:cubicBezTo>
                      <a:pt x="1183717" y="362078"/>
                      <a:pt x="1178506" y="364053"/>
                      <a:pt x="1175534" y="368215"/>
                    </a:cubicBezTo>
                    <a:cubicBezTo>
                      <a:pt x="1162291" y="386757"/>
                      <a:pt x="1183670" y="376755"/>
                      <a:pt x="1163260" y="383557"/>
                    </a:cubicBezTo>
                    <a:cubicBezTo>
                      <a:pt x="1154210" y="389591"/>
                      <a:pt x="1152232" y="390040"/>
                      <a:pt x="1144850" y="398899"/>
                    </a:cubicBezTo>
                    <a:cubicBezTo>
                      <a:pt x="1142489" y="401732"/>
                      <a:pt x="1141593" y="405801"/>
                      <a:pt x="1138713" y="408105"/>
                    </a:cubicBezTo>
                    <a:cubicBezTo>
                      <a:pt x="1136187" y="410126"/>
                      <a:pt x="1132576" y="410150"/>
                      <a:pt x="1129507" y="411173"/>
                    </a:cubicBezTo>
                    <a:cubicBezTo>
                      <a:pt x="1098302" y="431976"/>
                      <a:pt x="1118455" y="422956"/>
                      <a:pt x="1065070" y="426515"/>
                    </a:cubicBezTo>
                    <a:cubicBezTo>
                      <a:pt x="1059466" y="409707"/>
                      <a:pt x="1060870" y="419409"/>
                      <a:pt x="1068138" y="392762"/>
                    </a:cubicBezTo>
                    <a:cubicBezTo>
                      <a:pt x="1068989" y="389642"/>
                      <a:pt x="1073898" y="385351"/>
                      <a:pt x="1071207" y="383557"/>
                    </a:cubicBezTo>
                    <a:cubicBezTo>
                      <a:pt x="1067698" y="381218"/>
                      <a:pt x="1063024" y="385602"/>
                      <a:pt x="1058933" y="386625"/>
                    </a:cubicBezTo>
                    <a:cubicBezTo>
                      <a:pt x="1049668" y="392801"/>
                      <a:pt x="1046395" y="395896"/>
                      <a:pt x="1034385" y="398899"/>
                    </a:cubicBezTo>
                    <a:cubicBezTo>
                      <a:pt x="1027369" y="400653"/>
                      <a:pt x="1020066" y="400945"/>
                      <a:pt x="1012906" y="401968"/>
                    </a:cubicBezTo>
                    <a:cubicBezTo>
                      <a:pt x="1013929" y="405036"/>
                      <a:pt x="1014403" y="408346"/>
                      <a:pt x="1015974" y="411173"/>
                    </a:cubicBezTo>
                    <a:cubicBezTo>
                      <a:pt x="1019556" y="417621"/>
                      <a:pt x="1028248" y="429584"/>
                      <a:pt x="1028248" y="429584"/>
                    </a:cubicBezTo>
                    <a:cubicBezTo>
                      <a:pt x="1009114" y="442341"/>
                      <a:pt x="1030698" y="430982"/>
                      <a:pt x="1000632" y="432652"/>
                    </a:cubicBezTo>
                    <a:cubicBezTo>
                      <a:pt x="988208" y="433342"/>
                      <a:pt x="976085" y="436743"/>
                      <a:pt x="963811" y="438789"/>
                    </a:cubicBezTo>
                    <a:cubicBezTo>
                      <a:pt x="959786" y="454888"/>
                      <a:pt x="956576" y="461851"/>
                      <a:pt x="963811" y="481748"/>
                    </a:cubicBezTo>
                    <a:cubicBezTo>
                      <a:pt x="964916" y="484788"/>
                      <a:pt x="969878" y="484032"/>
                      <a:pt x="973016" y="484816"/>
                    </a:cubicBezTo>
                    <a:cubicBezTo>
                      <a:pt x="978076" y="486081"/>
                      <a:pt x="983244" y="486861"/>
                      <a:pt x="988358" y="487884"/>
                    </a:cubicBezTo>
                    <a:cubicBezTo>
                      <a:pt x="1004680" y="496045"/>
                      <a:pt x="1004662" y="498814"/>
                      <a:pt x="1028248" y="490953"/>
                    </a:cubicBezTo>
                    <a:cubicBezTo>
                      <a:pt x="1032365" y="489581"/>
                      <a:pt x="1033686" y="483901"/>
                      <a:pt x="1037454" y="481748"/>
                    </a:cubicBezTo>
                    <a:cubicBezTo>
                      <a:pt x="1041115" y="479656"/>
                      <a:pt x="1045636" y="479702"/>
                      <a:pt x="1049727" y="478679"/>
                    </a:cubicBezTo>
                    <a:cubicBezTo>
                      <a:pt x="1058135" y="479880"/>
                      <a:pt x="1083017" y="476168"/>
                      <a:pt x="1068138" y="494021"/>
                    </a:cubicBezTo>
                    <a:cubicBezTo>
                      <a:pt x="1065209" y="497535"/>
                      <a:pt x="1060204" y="498711"/>
                      <a:pt x="1055864" y="500158"/>
                    </a:cubicBezTo>
                    <a:cubicBezTo>
                      <a:pt x="1047863" y="502825"/>
                      <a:pt x="1031317" y="506295"/>
                      <a:pt x="1031317" y="506295"/>
                    </a:cubicBezTo>
                    <a:cubicBezTo>
                      <a:pt x="1019537" y="514148"/>
                      <a:pt x="1020147" y="511844"/>
                      <a:pt x="1012906" y="527774"/>
                    </a:cubicBezTo>
                    <a:cubicBezTo>
                      <a:pt x="1010229" y="533663"/>
                      <a:pt x="1008815" y="540048"/>
                      <a:pt x="1006769" y="546185"/>
                    </a:cubicBezTo>
                    <a:lnTo>
                      <a:pt x="1003701" y="555391"/>
                    </a:lnTo>
                    <a:cubicBezTo>
                      <a:pt x="1004724" y="572779"/>
                      <a:pt x="1004185" y="590329"/>
                      <a:pt x="1006769" y="607554"/>
                    </a:cubicBezTo>
                    <a:cubicBezTo>
                      <a:pt x="1007943" y="615383"/>
                      <a:pt x="1020771" y="622357"/>
                      <a:pt x="1025180" y="625965"/>
                    </a:cubicBezTo>
                    <a:cubicBezTo>
                      <a:pt x="1044642" y="641888"/>
                      <a:pt x="1042435" y="640152"/>
                      <a:pt x="1055864" y="653581"/>
                    </a:cubicBezTo>
                    <a:cubicBezTo>
                      <a:pt x="1034763" y="667649"/>
                      <a:pt x="1039787" y="658858"/>
                      <a:pt x="1034385" y="675060"/>
                    </a:cubicBezTo>
                    <a:cubicBezTo>
                      <a:pt x="1033362" y="684265"/>
                      <a:pt x="1034757" y="694076"/>
                      <a:pt x="1031317" y="702676"/>
                    </a:cubicBezTo>
                    <a:cubicBezTo>
                      <a:pt x="1030116" y="705679"/>
                      <a:pt x="1024398" y="703458"/>
                      <a:pt x="1022111" y="705745"/>
                    </a:cubicBezTo>
                    <a:cubicBezTo>
                      <a:pt x="1019824" y="708032"/>
                      <a:pt x="1020066" y="711882"/>
                      <a:pt x="1019043" y="714950"/>
                    </a:cubicBezTo>
                    <a:cubicBezTo>
                      <a:pt x="1021089" y="723133"/>
                      <a:pt x="1024416" y="731098"/>
                      <a:pt x="1025180" y="739498"/>
                    </a:cubicBezTo>
                    <a:cubicBezTo>
                      <a:pt x="1025473" y="742719"/>
                      <a:pt x="1023905" y="746012"/>
                      <a:pt x="1022111" y="748703"/>
                    </a:cubicBezTo>
                    <a:cubicBezTo>
                      <a:pt x="1015890" y="758035"/>
                      <a:pt x="1010233" y="759246"/>
                      <a:pt x="1000632" y="764046"/>
                    </a:cubicBezTo>
                    <a:cubicBezTo>
                      <a:pt x="998586" y="767114"/>
                      <a:pt x="997103" y="770643"/>
                      <a:pt x="994495" y="773251"/>
                    </a:cubicBezTo>
                    <a:cubicBezTo>
                      <a:pt x="991887" y="775859"/>
                      <a:pt x="987594" y="776508"/>
                      <a:pt x="985290" y="779388"/>
                    </a:cubicBezTo>
                    <a:cubicBezTo>
                      <a:pt x="983269" y="781914"/>
                      <a:pt x="983244" y="785525"/>
                      <a:pt x="982221" y="788593"/>
                    </a:cubicBezTo>
                    <a:cubicBezTo>
                      <a:pt x="987716" y="805078"/>
                      <a:pt x="988232" y="802439"/>
                      <a:pt x="982221" y="828483"/>
                    </a:cubicBezTo>
                    <a:cubicBezTo>
                      <a:pt x="981392" y="832077"/>
                      <a:pt x="978917" y="835328"/>
                      <a:pt x="976084" y="837689"/>
                    </a:cubicBezTo>
                    <a:cubicBezTo>
                      <a:pt x="972570" y="840617"/>
                      <a:pt x="967902" y="841780"/>
                      <a:pt x="963811" y="843825"/>
                    </a:cubicBezTo>
                    <a:lnTo>
                      <a:pt x="945400" y="871442"/>
                    </a:lnTo>
                    <a:cubicBezTo>
                      <a:pt x="943354" y="874510"/>
                      <a:pt x="942561" y="878998"/>
                      <a:pt x="939263" y="880647"/>
                    </a:cubicBezTo>
                    <a:cubicBezTo>
                      <a:pt x="935172" y="882693"/>
                      <a:pt x="931272" y="885178"/>
                      <a:pt x="926989" y="886784"/>
                    </a:cubicBezTo>
                    <a:cubicBezTo>
                      <a:pt x="922043" y="888639"/>
                      <a:pt x="903531" y="892089"/>
                      <a:pt x="899373" y="892921"/>
                    </a:cubicBezTo>
                    <a:cubicBezTo>
                      <a:pt x="888035" y="909927"/>
                      <a:pt x="899723" y="896478"/>
                      <a:pt x="884031" y="905195"/>
                    </a:cubicBezTo>
                    <a:cubicBezTo>
                      <a:pt x="877584" y="908777"/>
                      <a:pt x="871757" y="913377"/>
                      <a:pt x="865620" y="917468"/>
                    </a:cubicBezTo>
                    <a:cubicBezTo>
                      <a:pt x="861814" y="920005"/>
                      <a:pt x="857318" y="921335"/>
                      <a:pt x="853346" y="923605"/>
                    </a:cubicBezTo>
                    <a:cubicBezTo>
                      <a:pt x="850144" y="925435"/>
                      <a:pt x="847531" y="928289"/>
                      <a:pt x="844141" y="929742"/>
                    </a:cubicBezTo>
                    <a:cubicBezTo>
                      <a:pt x="840265" y="931403"/>
                      <a:pt x="835898" y="931571"/>
                      <a:pt x="831867" y="932811"/>
                    </a:cubicBezTo>
                    <a:cubicBezTo>
                      <a:pt x="822593" y="935665"/>
                      <a:pt x="813456" y="938948"/>
                      <a:pt x="804251" y="942016"/>
                    </a:cubicBezTo>
                    <a:cubicBezTo>
                      <a:pt x="800250" y="943350"/>
                      <a:pt x="796032" y="943925"/>
                      <a:pt x="791977" y="945084"/>
                    </a:cubicBezTo>
                    <a:cubicBezTo>
                      <a:pt x="788867" y="945973"/>
                      <a:pt x="785987" y="947796"/>
                      <a:pt x="782772" y="948153"/>
                    </a:cubicBezTo>
                    <a:cubicBezTo>
                      <a:pt x="767490" y="949851"/>
                      <a:pt x="752087" y="950198"/>
                      <a:pt x="736745" y="951221"/>
                    </a:cubicBezTo>
                    <a:cubicBezTo>
                      <a:pt x="721748" y="966218"/>
                      <a:pt x="732174" y="953851"/>
                      <a:pt x="721403" y="972701"/>
                    </a:cubicBezTo>
                    <a:cubicBezTo>
                      <a:pt x="719573" y="975903"/>
                      <a:pt x="716915" y="978608"/>
                      <a:pt x="715266" y="981906"/>
                    </a:cubicBezTo>
                    <a:cubicBezTo>
                      <a:pt x="713819" y="984799"/>
                      <a:pt x="714484" y="988824"/>
                      <a:pt x="712197" y="991111"/>
                    </a:cubicBezTo>
                    <a:cubicBezTo>
                      <a:pt x="709910" y="993398"/>
                      <a:pt x="706060" y="993157"/>
                      <a:pt x="702992" y="994180"/>
                    </a:cubicBezTo>
                    <a:cubicBezTo>
                      <a:pt x="700946" y="991111"/>
                      <a:pt x="698353" y="988344"/>
                      <a:pt x="696855" y="984974"/>
                    </a:cubicBezTo>
                    <a:cubicBezTo>
                      <a:pt x="694228" y="979063"/>
                      <a:pt x="690718" y="966564"/>
                      <a:pt x="690718" y="966564"/>
                    </a:cubicBezTo>
                    <a:cubicBezTo>
                      <a:pt x="692764" y="963495"/>
                      <a:pt x="697578" y="960974"/>
                      <a:pt x="696855" y="957358"/>
                    </a:cubicBezTo>
                    <a:cubicBezTo>
                      <a:pt x="696132" y="953742"/>
                      <a:pt x="691182" y="952281"/>
                      <a:pt x="687650" y="951221"/>
                    </a:cubicBezTo>
                    <a:cubicBezTo>
                      <a:pt x="680722" y="949143"/>
                      <a:pt x="673330" y="949176"/>
                      <a:pt x="666170" y="948153"/>
                    </a:cubicBezTo>
                    <a:cubicBezTo>
                      <a:pt x="659103" y="943441"/>
                      <a:pt x="653896" y="942691"/>
                      <a:pt x="653896" y="932811"/>
                    </a:cubicBezTo>
                    <a:cubicBezTo>
                      <a:pt x="653896" y="929576"/>
                      <a:pt x="655942" y="926674"/>
                      <a:pt x="656965" y="923605"/>
                    </a:cubicBezTo>
                    <a:cubicBezTo>
                      <a:pt x="651757" y="907985"/>
                      <a:pt x="658080" y="918769"/>
                      <a:pt x="644691" y="911331"/>
                    </a:cubicBezTo>
                    <a:cubicBezTo>
                      <a:pt x="638244" y="907749"/>
                      <a:pt x="626280" y="899058"/>
                      <a:pt x="626280" y="899058"/>
                    </a:cubicBezTo>
                    <a:cubicBezTo>
                      <a:pt x="606851" y="903915"/>
                      <a:pt x="617516" y="899787"/>
                      <a:pt x="595596" y="914400"/>
                    </a:cubicBezTo>
                    <a:cubicBezTo>
                      <a:pt x="589035" y="918774"/>
                      <a:pt x="562912" y="920384"/>
                      <a:pt x="561843" y="920537"/>
                    </a:cubicBezTo>
                    <a:cubicBezTo>
                      <a:pt x="555684" y="921417"/>
                      <a:pt x="549569" y="922582"/>
                      <a:pt x="543432" y="923605"/>
                    </a:cubicBezTo>
                    <a:lnTo>
                      <a:pt x="525021" y="929742"/>
                    </a:lnTo>
                    <a:cubicBezTo>
                      <a:pt x="521953" y="930765"/>
                      <a:pt x="518954" y="932027"/>
                      <a:pt x="515816" y="932811"/>
                    </a:cubicBezTo>
                    <a:cubicBezTo>
                      <a:pt x="500404" y="936663"/>
                      <a:pt x="507543" y="934545"/>
                      <a:pt x="494337" y="938948"/>
                    </a:cubicBezTo>
                    <a:cubicBezTo>
                      <a:pt x="490246" y="936902"/>
                      <a:pt x="485536" y="935788"/>
                      <a:pt x="482063" y="932811"/>
                    </a:cubicBezTo>
                    <a:cubicBezTo>
                      <a:pt x="473395" y="925381"/>
                      <a:pt x="472908" y="920688"/>
                      <a:pt x="469789" y="911331"/>
                    </a:cubicBezTo>
                    <a:cubicBezTo>
                      <a:pt x="468766" y="898035"/>
                      <a:pt x="473337" y="883020"/>
                      <a:pt x="466721" y="871442"/>
                    </a:cubicBezTo>
                    <a:cubicBezTo>
                      <a:pt x="463133" y="865162"/>
                      <a:pt x="451850" y="871311"/>
                      <a:pt x="445241" y="868373"/>
                    </a:cubicBezTo>
                    <a:cubicBezTo>
                      <a:pt x="441871" y="866875"/>
                      <a:pt x="441150" y="862236"/>
                      <a:pt x="439105" y="859168"/>
                    </a:cubicBezTo>
                    <a:cubicBezTo>
                      <a:pt x="442173" y="856099"/>
                      <a:pt x="444976" y="852740"/>
                      <a:pt x="448310" y="849962"/>
                    </a:cubicBezTo>
                    <a:cubicBezTo>
                      <a:pt x="452361" y="846586"/>
                      <a:pt x="470714" y="835906"/>
                      <a:pt x="472858" y="834620"/>
                    </a:cubicBezTo>
                    <a:cubicBezTo>
                      <a:pt x="490273" y="808495"/>
                      <a:pt x="489774" y="817446"/>
                      <a:pt x="482063" y="776319"/>
                    </a:cubicBezTo>
                    <a:cubicBezTo>
                      <a:pt x="481383" y="772694"/>
                      <a:pt x="477972" y="770182"/>
                      <a:pt x="475926" y="767114"/>
                    </a:cubicBezTo>
                    <a:cubicBezTo>
                      <a:pt x="474903" y="764046"/>
                      <a:pt x="474429" y="760736"/>
                      <a:pt x="472858" y="757909"/>
                    </a:cubicBezTo>
                    <a:cubicBezTo>
                      <a:pt x="469276" y="751461"/>
                      <a:pt x="460584" y="739498"/>
                      <a:pt x="460584" y="739498"/>
                    </a:cubicBezTo>
                    <a:cubicBezTo>
                      <a:pt x="456493" y="741544"/>
                      <a:pt x="451824" y="742707"/>
                      <a:pt x="448310" y="745635"/>
                    </a:cubicBezTo>
                    <a:cubicBezTo>
                      <a:pt x="445477" y="747996"/>
                      <a:pt x="445671" y="753674"/>
                      <a:pt x="442173" y="754840"/>
                    </a:cubicBezTo>
                    <a:cubicBezTo>
                      <a:pt x="438172" y="756174"/>
                      <a:pt x="433990" y="752795"/>
                      <a:pt x="429899" y="751772"/>
                    </a:cubicBezTo>
                    <a:cubicBezTo>
                      <a:pt x="403185" y="755334"/>
                      <a:pt x="392488" y="755009"/>
                      <a:pt x="371599" y="760977"/>
                    </a:cubicBezTo>
                    <a:cubicBezTo>
                      <a:pt x="368489" y="761866"/>
                      <a:pt x="365514" y="763195"/>
                      <a:pt x="362393" y="764046"/>
                    </a:cubicBezTo>
                    <a:cubicBezTo>
                      <a:pt x="354256" y="766265"/>
                      <a:pt x="337845" y="770182"/>
                      <a:pt x="337845" y="770182"/>
                    </a:cubicBezTo>
                    <a:cubicBezTo>
                      <a:pt x="333754" y="769159"/>
                      <a:pt x="328554" y="770096"/>
                      <a:pt x="325572" y="767114"/>
                    </a:cubicBezTo>
                    <a:cubicBezTo>
                      <a:pt x="320720" y="762262"/>
                      <a:pt x="320172" y="754412"/>
                      <a:pt x="316366" y="748703"/>
                    </a:cubicBezTo>
                    <a:cubicBezTo>
                      <a:pt x="309799" y="738853"/>
                      <a:pt x="307606" y="739646"/>
                      <a:pt x="297956" y="736429"/>
                    </a:cubicBezTo>
                    <a:cubicBezTo>
                      <a:pt x="287728" y="737452"/>
                      <a:pt x="277287" y="737186"/>
                      <a:pt x="267271" y="739498"/>
                    </a:cubicBezTo>
                    <a:cubicBezTo>
                      <a:pt x="263678" y="740327"/>
                      <a:pt x="261364" y="743986"/>
                      <a:pt x="258066" y="745635"/>
                    </a:cubicBezTo>
                    <a:cubicBezTo>
                      <a:pt x="255173" y="747081"/>
                      <a:pt x="251929" y="747680"/>
                      <a:pt x="248860" y="748703"/>
                    </a:cubicBezTo>
                    <a:cubicBezTo>
                      <a:pt x="232658" y="743303"/>
                      <a:pt x="241449" y="748326"/>
                      <a:pt x="227381" y="727224"/>
                    </a:cubicBezTo>
                    <a:cubicBezTo>
                      <a:pt x="225042" y="723715"/>
                      <a:pt x="219282" y="724752"/>
                      <a:pt x="215107" y="724156"/>
                    </a:cubicBezTo>
                    <a:cubicBezTo>
                      <a:pt x="204931" y="722702"/>
                      <a:pt x="194651" y="722110"/>
                      <a:pt x="184423" y="721087"/>
                    </a:cubicBezTo>
                    <a:cubicBezTo>
                      <a:pt x="181354" y="718019"/>
                      <a:pt x="177624" y="715493"/>
                      <a:pt x="175217" y="711882"/>
                    </a:cubicBezTo>
                    <a:cubicBezTo>
                      <a:pt x="173423" y="709191"/>
                      <a:pt x="173720" y="705504"/>
                      <a:pt x="172149" y="702676"/>
                    </a:cubicBezTo>
                    <a:cubicBezTo>
                      <a:pt x="168567" y="696229"/>
                      <a:pt x="163966" y="690403"/>
                      <a:pt x="159875" y="684266"/>
                    </a:cubicBezTo>
                    <a:cubicBezTo>
                      <a:pt x="157338" y="680460"/>
                      <a:pt x="151573" y="680399"/>
                      <a:pt x="147601" y="678129"/>
                    </a:cubicBezTo>
                    <a:cubicBezTo>
                      <a:pt x="144399" y="676299"/>
                      <a:pt x="141464" y="674038"/>
                      <a:pt x="138396" y="671992"/>
                    </a:cubicBezTo>
                    <a:cubicBezTo>
                      <a:pt x="136350" y="668923"/>
                      <a:pt x="135328" y="664832"/>
                      <a:pt x="132259" y="662786"/>
                    </a:cubicBezTo>
                    <a:cubicBezTo>
                      <a:pt x="128750" y="660447"/>
                      <a:pt x="124040" y="660876"/>
                      <a:pt x="119985" y="659718"/>
                    </a:cubicBezTo>
                    <a:cubicBezTo>
                      <a:pt x="116875" y="658830"/>
                      <a:pt x="113848" y="657673"/>
                      <a:pt x="110780" y="656650"/>
                    </a:cubicBezTo>
                    <a:lnTo>
                      <a:pt x="92369" y="644376"/>
                    </a:lnTo>
                    <a:cubicBezTo>
                      <a:pt x="86232" y="640285"/>
                      <a:pt x="84186" y="632102"/>
                      <a:pt x="80095" y="625965"/>
                    </a:cubicBezTo>
                    <a:lnTo>
                      <a:pt x="73958" y="616760"/>
                    </a:lnTo>
                    <a:cubicBezTo>
                      <a:pt x="71912" y="613691"/>
                      <a:pt x="70429" y="610162"/>
                      <a:pt x="67821" y="607554"/>
                    </a:cubicBezTo>
                    <a:lnTo>
                      <a:pt x="46342" y="586075"/>
                    </a:lnTo>
                    <a:cubicBezTo>
                      <a:pt x="52124" y="580293"/>
                      <a:pt x="58266" y="575355"/>
                      <a:pt x="61684" y="567664"/>
                    </a:cubicBezTo>
                    <a:cubicBezTo>
                      <a:pt x="64311" y="561753"/>
                      <a:pt x="67821" y="549254"/>
                      <a:pt x="67821" y="549254"/>
                    </a:cubicBezTo>
                    <a:cubicBezTo>
                      <a:pt x="66798" y="527775"/>
                      <a:pt x="68288" y="506027"/>
                      <a:pt x="64753" y="484816"/>
                    </a:cubicBezTo>
                    <a:cubicBezTo>
                      <a:pt x="64040" y="480536"/>
                      <a:pt x="58881" y="478389"/>
                      <a:pt x="55547" y="475611"/>
                    </a:cubicBezTo>
                    <a:cubicBezTo>
                      <a:pt x="52714" y="473250"/>
                      <a:pt x="49343" y="471618"/>
                      <a:pt x="46342" y="469474"/>
                    </a:cubicBezTo>
                    <a:cubicBezTo>
                      <a:pt x="42180" y="466501"/>
                      <a:pt x="38159" y="463337"/>
                      <a:pt x="34068" y="460268"/>
                    </a:cubicBezTo>
                    <a:cubicBezTo>
                      <a:pt x="33045" y="457200"/>
                      <a:pt x="32446" y="453956"/>
                      <a:pt x="31000" y="451063"/>
                    </a:cubicBezTo>
                    <a:cubicBezTo>
                      <a:pt x="27553" y="444169"/>
                      <a:pt x="21472" y="437497"/>
                      <a:pt x="15658" y="432652"/>
                    </a:cubicBezTo>
                    <a:cubicBezTo>
                      <a:pt x="12825" y="430291"/>
                      <a:pt x="9521" y="428561"/>
                      <a:pt x="6452" y="426515"/>
                    </a:cubicBezTo>
                    <a:cubicBezTo>
                      <a:pt x="5429" y="423447"/>
                      <a:pt x="2361" y="420378"/>
                      <a:pt x="3384" y="417310"/>
                    </a:cubicBezTo>
                    <a:cubicBezTo>
                      <a:pt x="5717" y="410313"/>
                      <a:pt x="15658" y="398899"/>
                      <a:pt x="15658" y="398899"/>
                    </a:cubicBezTo>
                    <a:cubicBezTo>
                      <a:pt x="14635" y="391739"/>
                      <a:pt x="14667" y="384347"/>
                      <a:pt x="12589" y="377420"/>
                    </a:cubicBezTo>
                    <a:cubicBezTo>
                      <a:pt x="11529" y="373888"/>
                      <a:pt x="-2242" y="365658"/>
                      <a:pt x="315" y="362078"/>
                    </a:cubicBezTo>
                    <a:close/>
                  </a:path>
                </a:pathLst>
              </a:custGeom>
              <a:solidFill>
                <a:srgbClr val="c00000"/>
              </a:solidFill>
              <a:ln w="2844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任意多边形 3"/>
              <p:cNvSpPr/>
              <p:nvPr/>
            </p:nvSpPr>
            <p:spPr>
              <a:xfrm>
                <a:off x="3936600" y="3986640"/>
                <a:ext cx="72000" cy="43920"/>
              </a:xfrm>
              <a:custGeom>
                <a:avLst/>
                <a:gdLst/>
                <a:ahLst/>
                <a:rect l="l" t="t" r="r" b="b"/>
                <a:pathLst>
                  <a:path w="72255" h="44145">
                    <a:moveTo>
                      <a:pt x="12458" y="42358"/>
                    </a:moveTo>
                    <a:cubicBezTo>
                      <a:pt x="20348" y="41943"/>
                      <a:pt x="38141" y="44251"/>
                      <a:pt x="49831" y="39867"/>
                    </a:cubicBezTo>
                    <a:cubicBezTo>
                      <a:pt x="53796" y="38380"/>
                      <a:pt x="49974" y="30933"/>
                      <a:pt x="52323" y="27409"/>
                    </a:cubicBezTo>
                    <a:cubicBezTo>
                      <a:pt x="53780" y="25224"/>
                      <a:pt x="57306" y="25748"/>
                      <a:pt x="59797" y="24917"/>
                    </a:cubicBezTo>
                    <a:cubicBezTo>
                      <a:pt x="62289" y="22426"/>
                      <a:pt x="65561" y="20523"/>
                      <a:pt x="67272" y="17443"/>
                    </a:cubicBezTo>
                    <a:cubicBezTo>
                      <a:pt x="69823" y="12851"/>
                      <a:pt x="72255" y="2493"/>
                      <a:pt x="72255" y="2493"/>
                    </a:cubicBezTo>
                    <a:cubicBezTo>
                      <a:pt x="69763" y="1663"/>
                      <a:pt x="67406" y="2"/>
                      <a:pt x="64780" y="2"/>
                    </a:cubicBezTo>
                    <a:cubicBezTo>
                      <a:pt x="29772" y="2"/>
                      <a:pt x="33538" y="-286"/>
                      <a:pt x="12458" y="4985"/>
                    </a:cubicBezTo>
                    <a:cubicBezTo>
                      <a:pt x="9966" y="6646"/>
                      <a:pt x="6570" y="7429"/>
                      <a:pt x="4983" y="9968"/>
                    </a:cubicBezTo>
                    <a:cubicBezTo>
                      <a:pt x="2199" y="14422"/>
                      <a:pt x="0" y="24917"/>
                      <a:pt x="0" y="24917"/>
                    </a:cubicBezTo>
                    <a:cubicBezTo>
                      <a:pt x="831" y="30731"/>
                      <a:pt x="-134" y="37105"/>
                      <a:pt x="2492" y="42358"/>
                    </a:cubicBezTo>
                    <a:cubicBezTo>
                      <a:pt x="4395" y="46164"/>
                      <a:pt x="4568" y="42773"/>
                      <a:pt x="12458" y="42358"/>
                    </a:cubicBezTo>
                    <a:close/>
                  </a:path>
                </a:pathLst>
              </a:cu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任意多边形 5"/>
              <p:cNvSpPr/>
              <p:nvPr/>
            </p:nvSpPr>
            <p:spPr>
              <a:xfrm>
                <a:off x="4240440" y="3841920"/>
                <a:ext cx="39600" cy="84600"/>
              </a:xfrm>
              <a:custGeom>
                <a:avLst/>
                <a:gdLst/>
                <a:ahLst/>
                <a:rect l="l" t="t" r="r" b="b"/>
                <a:pathLst>
                  <a:path w="39864" h="84754">
                    <a:moveTo>
                      <a:pt x="7474" y="84713"/>
                    </a:moveTo>
                    <a:cubicBezTo>
                      <a:pt x="3737" y="84298"/>
                      <a:pt x="4061" y="76443"/>
                      <a:pt x="2491" y="72255"/>
                    </a:cubicBezTo>
                    <a:cubicBezTo>
                      <a:pt x="1569" y="69796"/>
                      <a:pt x="0" y="67406"/>
                      <a:pt x="0" y="64780"/>
                    </a:cubicBezTo>
                    <a:cubicBezTo>
                      <a:pt x="0" y="61648"/>
                      <a:pt x="3807" y="50866"/>
                      <a:pt x="4983" y="47339"/>
                    </a:cubicBezTo>
                    <a:cubicBezTo>
                      <a:pt x="5698" y="40186"/>
                      <a:pt x="5475" y="23930"/>
                      <a:pt x="9966" y="14949"/>
                    </a:cubicBezTo>
                    <a:cubicBezTo>
                      <a:pt x="11305" y="12271"/>
                      <a:pt x="12410" y="9061"/>
                      <a:pt x="14949" y="7474"/>
                    </a:cubicBezTo>
                    <a:cubicBezTo>
                      <a:pt x="19403" y="4690"/>
                      <a:pt x="24915" y="4152"/>
                      <a:pt x="29898" y="2491"/>
                    </a:cubicBezTo>
                    <a:lnTo>
                      <a:pt x="37373" y="0"/>
                    </a:lnTo>
                    <a:cubicBezTo>
                      <a:pt x="38203" y="2491"/>
                      <a:pt x="39864" y="4848"/>
                      <a:pt x="39864" y="7474"/>
                    </a:cubicBezTo>
                    <a:cubicBezTo>
                      <a:pt x="39864" y="20412"/>
                      <a:pt x="36338" y="28023"/>
                      <a:pt x="32390" y="39865"/>
                    </a:cubicBezTo>
                    <a:lnTo>
                      <a:pt x="29898" y="47339"/>
                    </a:lnTo>
                    <a:lnTo>
                      <a:pt x="27407" y="54814"/>
                    </a:lnTo>
                    <a:cubicBezTo>
                      <a:pt x="26576" y="61458"/>
                      <a:pt x="27402" y="68529"/>
                      <a:pt x="24915" y="74746"/>
                    </a:cubicBezTo>
                    <a:cubicBezTo>
                      <a:pt x="21816" y="82493"/>
                      <a:pt x="11211" y="85128"/>
                      <a:pt x="7474" y="84713"/>
                    </a:cubicBezTo>
                    <a:close/>
                  </a:path>
                </a:pathLst>
              </a:custGeom>
              <a:solidFill>
                <a:srgbClr val="c00000"/>
              </a:solidFill>
              <a:ln w="9360">
                <a:solidFill>
                  <a:srgbClr val="c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800" bIns="3780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五角星 6"/>
              <p:cNvSpPr/>
              <p:nvPr/>
            </p:nvSpPr>
            <p:spPr>
              <a:xfrm>
                <a:off x="3462120" y="3319560"/>
                <a:ext cx="72720" cy="72720"/>
              </a:xfrm>
              <a:custGeom>
                <a:avLst/>
                <a:gdLst/>
                <a:ahLst/>
                <a:rect l="l" t="t" r="r" b="b"/>
                <a:pathLst>
                  <a:path w="73025" h="73025">
                    <a:moveTo>
                      <a:pt x="0" y="27893"/>
                    </a:moveTo>
                    <a:lnTo>
                      <a:pt x="27893" y="27893"/>
                    </a:lnTo>
                    <a:lnTo>
                      <a:pt x="36513" y="0"/>
                    </a:lnTo>
                    <a:lnTo>
                      <a:pt x="45132" y="27893"/>
                    </a:lnTo>
                    <a:lnTo>
                      <a:pt x="73025" y="27893"/>
                    </a:lnTo>
                    <a:lnTo>
                      <a:pt x="50459" y="45132"/>
                    </a:lnTo>
                    <a:lnTo>
                      <a:pt x="59078" y="73025"/>
                    </a:lnTo>
                    <a:lnTo>
                      <a:pt x="36513" y="55786"/>
                    </a:lnTo>
                    <a:lnTo>
                      <a:pt x="13947" y="73025"/>
                    </a:lnTo>
                    <a:lnTo>
                      <a:pt x="22566" y="45132"/>
                    </a:lnTo>
                    <a:lnTo>
                      <a:pt x="0" y="27893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五角星 11"/>
              <p:cNvSpPr/>
              <p:nvPr/>
            </p:nvSpPr>
            <p:spPr>
              <a:xfrm>
                <a:off x="3589200" y="3254400"/>
                <a:ext cx="36360" cy="34920"/>
              </a:xfrm>
              <a:custGeom>
                <a:avLst/>
                <a:gdLst/>
                <a:ahLst/>
                <a:rect l="l" t="t" r="r" b="b"/>
                <a:pathLst>
                  <a:path w="36512" h="34925">
                    <a:moveTo>
                      <a:pt x="0" y="13340"/>
                    </a:moveTo>
                    <a:lnTo>
                      <a:pt x="13946" y="13340"/>
                    </a:lnTo>
                    <a:lnTo>
                      <a:pt x="18256" y="0"/>
                    </a:lnTo>
                    <a:lnTo>
                      <a:pt x="22566" y="13340"/>
                    </a:lnTo>
                    <a:lnTo>
                      <a:pt x="36512" y="13340"/>
                    </a:lnTo>
                    <a:lnTo>
                      <a:pt x="25229" y="21585"/>
                    </a:lnTo>
                    <a:lnTo>
                      <a:pt x="29539" y="34925"/>
                    </a:lnTo>
                    <a:lnTo>
                      <a:pt x="18256" y="26680"/>
                    </a:lnTo>
                    <a:lnTo>
                      <a:pt x="6973" y="34925"/>
                    </a:lnTo>
                    <a:lnTo>
                      <a:pt x="11283" y="21585"/>
                    </a:lnTo>
                    <a:lnTo>
                      <a:pt x="0" y="13340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五角星 12"/>
              <p:cNvSpPr/>
              <p:nvPr/>
            </p:nvSpPr>
            <p:spPr>
              <a:xfrm>
                <a:off x="3671640" y="330516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36512" h="36513">
                    <a:moveTo>
                      <a:pt x="0" y="13947"/>
                    </a:moveTo>
                    <a:lnTo>
                      <a:pt x="13946" y="13947"/>
                    </a:lnTo>
                    <a:lnTo>
                      <a:pt x="18256" y="0"/>
                    </a:lnTo>
                    <a:lnTo>
                      <a:pt x="22566" y="13947"/>
                    </a:lnTo>
                    <a:lnTo>
                      <a:pt x="36512" y="13947"/>
                    </a:lnTo>
                    <a:lnTo>
                      <a:pt x="25229" y="22566"/>
                    </a:lnTo>
                    <a:lnTo>
                      <a:pt x="29539" y="36513"/>
                    </a:lnTo>
                    <a:lnTo>
                      <a:pt x="18256" y="27893"/>
                    </a:lnTo>
                    <a:lnTo>
                      <a:pt x="6973" y="36513"/>
                    </a:lnTo>
                    <a:lnTo>
                      <a:pt x="11283" y="22566"/>
                    </a:lnTo>
                    <a:lnTo>
                      <a:pt x="0" y="13947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五角星 13"/>
              <p:cNvSpPr/>
              <p:nvPr/>
            </p:nvSpPr>
            <p:spPr>
              <a:xfrm>
                <a:off x="3674880" y="339264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36512" h="36512">
                    <a:moveTo>
                      <a:pt x="0" y="13946"/>
                    </a:moveTo>
                    <a:lnTo>
                      <a:pt x="13946" y="13946"/>
                    </a:lnTo>
                    <a:lnTo>
                      <a:pt x="18256" y="0"/>
                    </a:lnTo>
                    <a:lnTo>
                      <a:pt x="22566" y="13946"/>
                    </a:lnTo>
                    <a:lnTo>
                      <a:pt x="36512" y="13946"/>
                    </a:lnTo>
                    <a:lnTo>
                      <a:pt x="25229" y="22566"/>
                    </a:lnTo>
                    <a:lnTo>
                      <a:pt x="29539" y="36512"/>
                    </a:lnTo>
                    <a:lnTo>
                      <a:pt x="18256" y="27892"/>
                    </a:lnTo>
                    <a:lnTo>
                      <a:pt x="6973" y="36512"/>
                    </a:lnTo>
                    <a:lnTo>
                      <a:pt x="11283" y="22566"/>
                    </a:lnTo>
                    <a:lnTo>
                      <a:pt x="0" y="13946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五角星 14"/>
              <p:cNvSpPr/>
              <p:nvPr/>
            </p:nvSpPr>
            <p:spPr>
              <a:xfrm>
                <a:off x="3590640" y="3443400"/>
                <a:ext cx="36360" cy="36360"/>
              </a:xfrm>
              <a:custGeom>
                <a:avLst/>
                <a:gdLst/>
                <a:ahLst/>
                <a:rect l="l" t="t" r="r" b="b"/>
                <a:pathLst>
                  <a:path w="36513" h="36512">
                    <a:moveTo>
                      <a:pt x="0" y="13946"/>
                    </a:moveTo>
                    <a:lnTo>
                      <a:pt x="13947" y="13946"/>
                    </a:lnTo>
                    <a:lnTo>
                      <a:pt x="18257" y="0"/>
                    </a:lnTo>
                    <a:lnTo>
                      <a:pt x="22566" y="13946"/>
                    </a:lnTo>
                    <a:lnTo>
                      <a:pt x="36513" y="13946"/>
                    </a:lnTo>
                    <a:lnTo>
                      <a:pt x="25230" y="22566"/>
                    </a:lnTo>
                    <a:lnTo>
                      <a:pt x="29540" y="36512"/>
                    </a:lnTo>
                    <a:lnTo>
                      <a:pt x="18257" y="27892"/>
                    </a:lnTo>
                    <a:lnTo>
                      <a:pt x="6973" y="36512"/>
                    </a:lnTo>
                    <a:lnTo>
                      <a:pt x="11283" y="22566"/>
                    </a:lnTo>
                    <a:lnTo>
                      <a:pt x="0" y="13946"/>
                    </a:lnTo>
                    <a:close/>
                  </a:path>
                </a:pathLst>
              </a:custGeom>
              <a:solidFill>
                <a:srgbClr val="ffc000"/>
              </a:solidFill>
              <a:ln w="9360">
                <a:solidFill>
                  <a:srgbClr val="ffc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179280"/>
                    <a:tab algn="l" pos="358920"/>
                    <a:tab algn="l" pos="538200"/>
                    <a:tab algn="l" pos="717480"/>
                    <a:tab algn="l" pos="896760"/>
                    <a:tab algn="l" pos="1076400"/>
                    <a:tab algn="l" pos="1255680"/>
                    <a:tab algn="l" pos="1434960"/>
                    <a:tab algn="l" pos="1614600"/>
                    <a:tab algn="l" pos="1793880"/>
                    <a:tab algn="l" pos="1973160"/>
                    <a:tab algn="l" pos="2152800"/>
                    <a:tab algn="l" pos="2332080"/>
                    <a:tab algn="l" pos="2511360"/>
                    <a:tab algn="l" pos="2690640"/>
                    <a:tab algn="l" pos="2870280"/>
                    <a:tab algn="l" pos="3049560"/>
                    <a:tab algn="l" pos="3228840"/>
                    <a:tab algn="l" pos="3408480"/>
                    <a:tab algn="l" pos="358776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5" name="Text Box 10"/>
          <p:cNvSpPr/>
          <p:nvPr/>
        </p:nvSpPr>
        <p:spPr>
          <a:xfrm>
            <a:off x="144360" y="395280"/>
            <a:ext cx="99363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354800"/>
                <a:tab algn="l" pos="7534440"/>
                <a:tab algn="l" pos="7713720"/>
                <a:tab algn="l" pos="789300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7"/>
          <p:cNvSpPr/>
          <p:nvPr/>
        </p:nvSpPr>
        <p:spPr>
          <a:xfrm>
            <a:off x="431640" y="4643280"/>
            <a:ext cx="936180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3600" spc="-1" strike="noStrike">
                <a:solidFill>
                  <a:srgbClr val="c00000"/>
                </a:solidFill>
                <a:latin typeface="方正姚体"/>
                <a:ea typeface="方正姚体"/>
              </a:rPr>
              <a:t>文字内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1"/>
          <p:cNvSpPr/>
          <p:nvPr/>
        </p:nvSpPr>
        <p:spPr>
          <a:xfrm>
            <a:off x="0" y="1751040"/>
            <a:ext cx="10080720" cy="130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772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72280"/>
                <a:tab algn="l" pos="8251920"/>
                <a:tab algn="l" pos="8431200"/>
                <a:tab algn="l" pos="8610480"/>
                <a:tab algn="l" pos="8790120"/>
                <a:tab algn="l" pos="8969400"/>
                <a:tab algn="l" pos="9148680"/>
                <a:tab algn="l" pos="9328320"/>
                <a:tab algn="l" pos="9507600"/>
                <a:tab algn="l" pos="9686880"/>
                <a:tab algn="l" pos="9866160"/>
                <a:tab algn="l" pos="10045800"/>
                <a:tab algn="l" pos="10225080"/>
                <a:tab algn="l" pos="10404360"/>
                <a:tab algn="l" pos="10584000"/>
                <a:tab algn="l" pos="10763280"/>
                <a:tab algn="l" pos="10942560"/>
              </a:tabLst>
            </a:pPr>
            <a:r>
              <a:rPr b="0" lang="en-US" sz="8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谢谢</a:t>
            </a:r>
            <a:r>
              <a:rPr b="0" lang="zh-CN" sz="8800" spc="-1" strike="noStrike">
                <a:solidFill>
                  <a:srgbClr val="ffffff"/>
                </a:solidFill>
                <a:latin typeface="方正姚体"/>
                <a:ea typeface="方正姚体"/>
              </a:rPr>
              <a:t>大家观赏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17320" y="207720"/>
            <a:ext cx="9047160" cy="6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9160" y="1399680"/>
            <a:ext cx="9842400" cy="5753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78000"/>
          </a:bodyPr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GB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GB" sz="16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GB" sz="18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en-GB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Aft>
                <a:spcPts val="1426"/>
              </a:spcAft>
              <a:buNone/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8032680" y="368280"/>
            <a:ext cx="1532160" cy="38412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179280"/>
                <a:tab algn="l" pos="358920"/>
                <a:tab algn="l" pos="538200"/>
                <a:tab algn="l" pos="717480"/>
                <a:tab algn="l" pos="896760"/>
                <a:tab algn="l" pos="1076400"/>
                <a:tab algn="l" pos="1255680"/>
                <a:tab algn="l" pos="1434960"/>
                <a:tab algn="l" pos="1614600"/>
                <a:tab algn="l" pos="1793880"/>
                <a:tab algn="l" pos="1973160"/>
                <a:tab algn="l" pos="2152800"/>
                <a:tab algn="l" pos="2332080"/>
                <a:tab algn="l" pos="2511360"/>
                <a:tab algn="l" pos="2690640"/>
                <a:tab algn="l" pos="2870280"/>
                <a:tab algn="l" pos="3049560"/>
                <a:tab algn="l" pos="3228840"/>
                <a:tab algn="l" pos="3408480"/>
                <a:tab algn="l" pos="358776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1T12:09:12Z</dcterms:created>
  <dc:creator>www.eeppt.com; An</dc:creator>
  <dc:description>ppt模板下载网站 http://www.eeppt.com</dc:description>
  <dc:language>en-US</dc:language>
  <cp:lastModifiedBy/>
  <dcterms:modified xsi:type="dcterms:W3CDTF">2015-05-27T15:21:28Z</dcterms:modified>
  <cp:revision>3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