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5.jpeg" ContentType="image/jpeg"/>
  <Override PartName="/ppt/media/image14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2.jpeg" ContentType="image/jpeg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DEF-3DDF-4BD5-8CCD-BDB80F26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AAC-875D-4976-95F4-3E3DE7F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3A6-B3D4-4F0F-8221-D11D11E6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2A2-6BB5-4D68-A1EE-7D073F84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4BC-089B-4774-B80B-B85D8421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602-61AD-4A65-80E4-BF27B290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8D5-F7D2-4F42-89AC-AA69CFB3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71A-2537-4F31-9835-415F3407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C32-357B-4E17-B40C-7EEA3B1C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93B-F862-437C-92A9-5AC50901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EAC-D19E-44C9-96BB-8964E1DB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B65-DEDB-4AF5-B722-7F77575D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7A2-6AA5-41D1-A5DB-7C4F2AFBE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u=2013697164,2697249968&amp;gp=0"/>
          <p:cNvPicPr/>
          <p:nvPr/>
        </p:nvPicPr>
        <p:blipFill>
          <a:blip r:embed="rId1"/>
          <a:stretch/>
        </p:blipFill>
        <p:spPr>
          <a:xfrm>
            <a:off x="0" y="2685960"/>
            <a:ext cx="6588000" cy="4172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0" y="333360"/>
            <a:ext cx="64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00"/>
                </a:solidFill>
                <a:latin typeface="Arial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华文行楷"/>
              </a:rPr>
              <a:t>皇帝的新装</a:t>
            </a:r>
            <a:r>
              <a:rPr b="1" lang="en-US" sz="4800" spc="-1" strike="noStrike">
                <a:solidFill>
                  <a:srgbClr val="e40000"/>
                </a:solidFill>
                <a:latin typeface="Arial"/>
                <a:ea typeface="华文行楷"/>
              </a:rPr>
              <a:t>》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4800" spc="-1" strike="noStrike">
                <a:solidFill>
                  <a:srgbClr val="ff00ff"/>
                </a:solidFill>
                <a:latin typeface="华文新魏"/>
                <a:ea typeface="华文新魏"/>
              </a:rPr>
              <a:t>（ 丹麦）     安徒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gif002"/>
          <p:cNvPicPr/>
          <p:nvPr/>
        </p:nvPicPr>
        <p:blipFill>
          <a:blip r:embed="rId2"/>
          <a:stretch/>
        </p:blipFill>
        <p:spPr>
          <a:xfrm>
            <a:off x="6948360" y="4005360"/>
            <a:ext cx="18352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20041289545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1619280" y="765000"/>
            <a:ext cx="43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Arial"/>
                <a:ea typeface="华文彩云"/>
              </a:rPr>
              <a:t>合作探究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5049720" y="2590920"/>
            <a:ext cx="459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24000" y="206064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皇帝的新装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一文中，是谁在钓鱼？他想钓哪条鱼？他用的的鱼饵又是什么？最后又是谁把丝线剪断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395280" y="5084640"/>
            <a:ext cx="73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请大家扛着这根钓鱼杆，默读课文，寻找答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gif031"/>
          <p:cNvPicPr/>
          <p:nvPr/>
        </p:nvPicPr>
        <p:blipFill>
          <a:blip r:embed="rId2"/>
          <a:stretch/>
        </p:blipFill>
        <p:spPr>
          <a:xfrm>
            <a:off x="395280" y="47628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6108480" y="333360"/>
            <a:ext cx="911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有请皇帝、骗子、小孩上台准备接受大家的评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20041289432244"/>
          <p:cNvPicPr/>
          <p:nvPr/>
        </p:nvPicPr>
        <p:blipFill>
          <a:blip r:embed="rId1"/>
          <a:stretch/>
        </p:blipFill>
        <p:spPr>
          <a:xfrm>
            <a:off x="0" y="0"/>
            <a:ext cx="2771640" cy="3141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3675240" y="1189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  <a:ea typeface="华文彩云"/>
              </a:rPr>
              <a:t>续写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843280" y="3284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隶书"/>
              </a:rPr>
              <a:t>游行大典结束了，可这个故事并没有结束，猜一猜，后来会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太阳花"/>
          <p:cNvPicPr/>
          <p:nvPr/>
        </p:nvPicPr>
        <p:blipFill>
          <a:blip r:embed="rId1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1403280" y="765000"/>
            <a:ext cx="634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  <a:ea typeface="方正舒体"/>
              </a:rPr>
              <a:t>    </a:t>
            </a: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方正舒体"/>
              </a:rPr>
              <a:t>你知道“指鹿为马”这个成语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boy2-3"/>
          <p:cNvPicPr/>
          <p:nvPr/>
        </p:nvPicPr>
        <p:blipFill>
          <a:blip r:embed="rId2"/>
          <a:stretch/>
        </p:blipFill>
        <p:spPr>
          <a:xfrm>
            <a:off x="0" y="0"/>
            <a:ext cx="16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tdex8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2133720" y="1828800"/>
            <a:ext cx="496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你学到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什么？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gif073"/>
          <p:cNvPicPr/>
          <p:nvPr/>
        </p:nvPicPr>
        <p:blipFill>
          <a:blip r:embed="rId2"/>
          <a:stretch/>
        </p:blipFill>
        <p:spPr>
          <a:xfrm>
            <a:off x="468360" y="260280"/>
            <a:ext cx="2592360" cy="2497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71640" y="6165720"/>
            <a:ext cx="562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图片9"/>
          <p:cNvPicPr/>
          <p:nvPr/>
        </p:nvPicPr>
        <p:blipFill>
          <a:blip r:embed="rId1"/>
          <a:stretch/>
        </p:blipFill>
        <p:spPr>
          <a:xfrm>
            <a:off x="0" y="0"/>
            <a:ext cx="2484360" cy="21668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3203640" y="76500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ff"/>
                </a:solidFill>
                <a:latin typeface="Arial"/>
                <a:ea typeface="隶书"/>
              </a:rPr>
              <a:t>作业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124000" y="2637000"/>
            <a:ext cx="60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完成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每课一练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第二部分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探究与体验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的阅读部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预习新课文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天上的街市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中秋5"/>
          <p:cNvPicPr/>
          <p:nvPr/>
        </p:nvPicPr>
        <p:blipFill>
          <a:blip r:embed="rId1"/>
          <a:stretch/>
        </p:blipFill>
        <p:spPr>
          <a:xfrm>
            <a:off x="0" y="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3718080" y="16286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99"/>
                </a:solidFill>
                <a:latin typeface="Arial"/>
                <a:ea typeface="方正舒体"/>
              </a:rPr>
              <a:t>谢谢各位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959760" y="4149720"/>
            <a:ext cx="42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Monotype Corsiva"/>
              </a:rPr>
              <a:t>BYE   BYE  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图片3"/>
          <p:cNvPicPr/>
          <p:nvPr/>
        </p:nvPicPr>
        <p:blipFill>
          <a:blip r:embed="rId5"/>
          <a:stretch/>
        </p:blipFill>
        <p:spPr>
          <a:xfrm>
            <a:off x="6443640" y="3933720"/>
            <a:ext cx="2495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08443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2:12:29Z</dcterms:created>
  <dc:creator>www.eeppt.com; An</dc:creator>
  <dc:description>ppt模板下载网站 http://www.eeppt.com</dc:description>
  <dc:language>en-US</dc:language>
  <cp:lastModifiedBy/>
  <dcterms:modified xsi:type="dcterms:W3CDTF">2015-05-27T15:34:1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