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A8B-D96E-4096-8C0B-9F26C43B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768-055A-44FE-B28C-F91871EB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D98-CD14-45FD-B0BB-B4B65DEA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42C-A56D-4C8F-BFEB-79BAFFE4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40C-F120-4880-86B4-CBABC9E8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BC4-C57E-4910-8C03-DFF61D59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2F0-743F-4D27-9FE5-F768BFA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6B2-E9CF-41E4-9A72-5A823000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B1D-ACFA-4884-B963-F3A97F9B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239-2315-416F-8A35-9D62ADD2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12C-0F09-4122-AB48-52FF7901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DF5-6D1E-466E-83FF-655DE80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879A-BEF1-4948-9E5F-637E000381C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2137-8F30-47FB-B381-F5546D1EE0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jianjie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1187280" y="0"/>
            <a:ext cx="109800" cy="558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936880" y="2155680"/>
            <a:ext cx="108000" cy="470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1646280" y="40464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7"/>
          <p:cNvSpPr/>
          <p:nvPr/>
        </p:nvSpPr>
        <p:spPr>
          <a:xfrm>
            <a:off x="1646280" y="123336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8"/>
          <p:cNvSpPr/>
          <p:nvPr/>
        </p:nvSpPr>
        <p:spPr>
          <a:xfrm>
            <a:off x="1646280" y="206208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"/>
          <p:cNvSpPr/>
          <p:nvPr/>
        </p:nvSpPr>
        <p:spPr>
          <a:xfrm>
            <a:off x="1646280" y="289080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0"/>
          <p:cNvSpPr/>
          <p:nvPr/>
        </p:nvSpPr>
        <p:spPr>
          <a:xfrm>
            <a:off x="1646280" y="371808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1"/>
          <p:cNvSpPr/>
          <p:nvPr/>
        </p:nvSpPr>
        <p:spPr>
          <a:xfrm>
            <a:off x="1646280" y="4546440"/>
            <a:ext cx="9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4962600" y="2890800"/>
            <a:ext cx="72374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 flipV="1">
            <a:off x="6262560" y="3189960"/>
            <a:ext cx="593748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7205760" y="3490920"/>
            <a:ext cx="499428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7807320" y="3790800"/>
            <a:ext cx="439272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8"/>
          <p:cNvSpPr/>
          <p:nvPr/>
        </p:nvSpPr>
        <p:spPr>
          <a:xfrm>
            <a:off x="10580760" y="6372360"/>
            <a:ext cx="145800" cy="48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0" y="2890800"/>
            <a:ext cx="12200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 flipV="1">
            <a:off x="0" y="3189960"/>
            <a:ext cx="12200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"/>
          <p:cNvSpPr/>
          <p:nvPr/>
        </p:nvSpPr>
        <p:spPr>
          <a:xfrm flipV="1">
            <a:off x="0" y="3491280"/>
            <a:ext cx="12200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 flipV="1">
            <a:off x="0" y="3790440"/>
            <a:ext cx="12200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"/>
          <p:cNvSpPr/>
          <p:nvPr/>
        </p:nvSpPr>
        <p:spPr>
          <a:xfrm>
            <a:off x="1562040" y="1257480"/>
            <a:ext cx="3543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目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"/>
          <p:cNvSpPr/>
          <p:nvPr/>
        </p:nvSpPr>
        <p:spPr>
          <a:xfrm>
            <a:off x="5105520" y="2076480"/>
            <a:ext cx="34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"/>
          <p:cNvSpPr/>
          <p:nvPr/>
        </p:nvSpPr>
        <p:spPr>
          <a:xfrm>
            <a:off x="47628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1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8"/>
          <p:cNvSpPr/>
          <p:nvPr/>
        </p:nvSpPr>
        <p:spPr>
          <a:xfrm>
            <a:off x="335916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2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9"/>
          <p:cNvSpPr/>
          <p:nvPr/>
        </p:nvSpPr>
        <p:spPr>
          <a:xfrm>
            <a:off x="624204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3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"/>
          <p:cNvSpPr/>
          <p:nvPr/>
        </p:nvSpPr>
        <p:spPr>
          <a:xfrm>
            <a:off x="912492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4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总结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 flipV="1">
            <a:off x="0" y="2890440"/>
            <a:ext cx="31622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628560" y="33984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1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3162240" y="1181160"/>
            <a:ext cx="36720" cy="567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314880" y="3009960"/>
            <a:ext cx="36360" cy="256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467160" y="3409920"/>
            <a:ext cx="36360" cy="179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6686640" y="1638360"/>
            <a:ext cx="550548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6686640" y="6365880"/>
            <a:ext cx="550548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7920" y="498600"/>
            <a:ext cx="756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简约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70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900"/>
                            </p:stCondLst>
                            <p:childTnLst>
                              <p:par>
                                <p:cTn id="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100"/>
                            </p:stCondLst>
                            <p:childTnLst>
                              <p:par>
                                <p:cTn id="2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-1.11111E-006 L 1.25E-006 0.07292 E">
                                      <p:cBhvr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25E-006 -2.96296E-006 L 1.25E-006 -0.075 E">
                                      <p:cBhvr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"/>
          <p:cNvSpPr/>
          <p:nvPr/>
        </p:nvSpPr>
        <p:spPr>
          <a:xfrm>
            <a:off x="3160800" y="-5448240"/>
            <a:ext cx="3636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3197160" y="16095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2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 rot="1539600">
            <a:off x="7445160" y="-993600"/>
            <a:ext cx="2247840" cy="888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 rot="2905200">
            <a:off x="8985600" y="309960"/>
            <a:ext cx="2247840" cy="837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 rot="1436400">
            <a:off x="10089720" y="1704600"/>
            <a:ext cx="2247840" cy="837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9" descr=""/>
          <p:cNvPicPr/>
          <p:nvPr/>
        </p:nvPicPr>
        <p:blipFill>
          <a:blip r:embed="rId1"/>
          <a:stretch/>
        </p:blipFill>
        <p:spPr>
          <a:xfrm>
            <a:off x="8166240" y="2160720"/>
            <a:ext cx="3535200" cy="4381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"/>
                            </p:stCondLst>
                            <p:childTnLst>
                              <p:par>
                                <p:cTn id="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3.33333E-006 L 2.91667E-006 0.70069 E">
                                      <p:cBhvr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"/>
          <p:cNvSpPr/>
          <p:nvPr/>
        </p:nvSpPr>
        <p:spPr>
          <a:xfrm>
            <a:off x="3160800" y="-343080"/>
            <a:ext cx="3636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3313080" y="-343080"/>
            <a:ext cx="3672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3465360" y="-343080"/>
            <a:ext cx="36720" cy="760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511200" y="66996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3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 rot="5400000">
            <a:off x="6157080" y="-1251720"/>
            <a:ext cx="3672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 rot="5400000">
            <a:off x="6157080" y="-109908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 rot="5400000">
            <a:off x="6157080" y="-94680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ransition spd="slow">
    <p:push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"/>
                            </p:stCondLst>
                            <p:childTnLst>
                              <p:par>
                                <p:cTn id="9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"/>
                            </p:stCondLst>
                            <p:childTnLst>
                              <p:par>
                                <p:cTn id="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"/>
                            </p:stCondLst>
                            <p:childTnLst>
                              <p:par>
                                <p:cTn id="10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00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400"/>
                            </p:stCondLst>
                            <p:childTnLst>
                              <p:par>
                                <p:cTn id="1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700"/>
                            </p:stCondLst>
                            <p:childTnLst>
                              <p:par>
                                <p:cTn id="1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300"/>
                            </p:stCondLst>
                            <p:childTnLst>
                              <p:par>
                                <p:cTn id="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00"/>
                            </p:stCondLst>
                            <p:childTnLst>
                              <p:par>
                                <p:cTn id="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9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"/>
          <p:cNvSpPr/>
          <p:nvPr/>
        </p:nvSpPr>
        <p:spPr>
          <a:xfrm rot="5400000">
            <a:off x="6157080" y="-1251720"/>
            <a:ext cx="3672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 rot="5400000">
            <a:off x="6157080" y="-109908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 rot="5400000">
            <a:off x="6157080" y="-946800"/>
            <a:ext cx="36360" cy="129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9124920" y="44164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4/</a:t>
            </a:r>
            <a:r>
              <a:rPr b="0" lang="zh-CN" sz="3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总结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"/>
          <p:cNvSpPr/>
          <p:nvPr/>
        </p:nvSpPr>
        <p:spPr>
          <a:xfrm>
            <a:off x="3863880" y="1003320"/>
            <a:ext cx="5634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谢谢观赏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9390240" y="-82440"/>
            <a:ext cx="107640" cy="470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2571840" y="2155680"/>
            <a:ext cx="108000" cy="470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10580760" y="6372360"/>
            <a:ext cx="145800" cy="48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E67-6646-49B5-8F50-F9D0B81509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2:04:00Z</dcterms:created>
  <dc:creator>www.eeppt.com</dc:creator>
  <dc:description>ppt模板下载网站 http://www.eeppt.com</dc:description>
  <dc:language>en-US</dc:language>
  <cp:lastModifiedBy/>
  <dcterms:modified xsi:type="dcterms:W3CDTF">2015-05-22T15:18:18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