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F838-DBE0-4300-B267-8BBAB4AF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5536-5B83-4E1E-917C-C5561FAD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A8A5-93A3-485C-82AC-FEF2DB44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1BEC-B81D-4A10-BF86-99F1134F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2866-5247-4229-94DA-DC81F83E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FE1E-6CE6-4FA1-8AD7-7D84BF27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B8D1-632C-4496-A780-14BB8C0E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CACB-7553-400B-80E8-0413251C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138B-253E-45E7-A287-21367895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3900-24D3-4633-BFD8-02F097B0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C049-BAD6-41ED-9DCC-5013C851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5949-71E4-4D22-AF84-4CF7F6FB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EBCA-F260-4776-8C49-6137F4D44E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00240" y="3929040"/>
            <a:ext cx="52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洁白兰花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071880" y="457344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eeppt.com; An</dc:creator>
  <dc:description>ppt模板下载网站 http://www.eeppt.com</dc:description>
  <dc:language>en-US</dc:language>
  <cp:lastModifiedBy/>
  <dcterms:modified xsi:type="dcterms:W3CDTF">2015-05-27T13:14:22Z</dcterms:modified>
  <cp:revision>7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