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A93-F04D-460A-BFCD-109C708F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8F6-34A4-4538-B318-6F34DD62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115-52B6-4029-BF0C-3D49201D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E79-51C5-4030-B877-53152E4F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F98-8370-4DA6-AD63-C36BF6F9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AFA-A661-47C4-9253-183706EB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179-F7BA-4408-AD18-60FD7333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E05-1FB0-46AD-97CF-AAB28C05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C9B-CC25-4A42-9F55-9523DE75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156-F6B4-48F6-986B-B8262C9B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804-8500-4201-B1A9-099A0145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628-D23C-46CA-BAE0-9F2C4A46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78F1-AA2A-425F-926C-9CC98245C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1.jpe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25360" y="450864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ZG329-01"/>
          <p:cNvPicPr/>
          <p:nvPr/>
        </p:nvPicPr>
        <p:blipFill>
          <a:blip r:embed="rId14"/>
          <a:stretch/>
        </p:blipFill>
        <p:spPr>
          <a:xfrm>
            <a:off x="-533520" y="-1219320"/>
            <a:ext cx="10515600" cy="9579240"/>
          </a:xfrm>
          <a:prstGeom prst="rect">
            <a:avLst/>
          </a:prstGeom>
          <a:ln w="0">
            <a:noFill/>
          </a:ln>
        </p:spPr>
      </p:pic>
      <p:pic>
        <p:nvPicPr>
          <p:cNvPr id="43" name="WordArt 3" descr=""/>
          <p:cNvPicPr/>
          <p:nvPr/>
        </p:nvPicPr>
        <p:blipFill>
          <a:blip r:embed="rId15"/>
          <a:stretch/>
        </p:blipFill>
        <p:spPr>
          <a:xfrm>
            <a:off x="1763640" y="1270080"/>
            <a:ext cx="5254560" cy="1670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2400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200-a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ic090边框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590920" y="2514600"/>
            <a:ext cx="44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再  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hengri[1].mp3" descr=""/>
          <p:cNvPicPr/>
          <p:nvPr/>
        </p:nvPicPr>
        <p:blipFill>
          <a:blip r:embed="rId1"/>
          <a:stretch/>
        </p:blipFill>
        <p:spPr>
          <a:xfrm>
            <a:off x="533520" y="5638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183-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>
            <a:off x="3200400" y="380880"/>
            <a:ext cx="32767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生日歌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桃花"/>
          <p:cNvPicPr/>
          <p:nvPr/>
        </p:nvPicPr>
        <p:blipFill>
          <a:blip r:embed="rId1"/>
          <a:stretch/>
        </p:blipFill>
        <p:spPr>
          <a:xfrm>
            <a:off x="-1143000" y="0"/>
            <a:ext cx="10744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970920" y="14144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880" y="363600"/>
            <a:ext cx="210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en-US" sz="8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à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09160" y="457200"/>
            <a:ext cx="444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1" lang="en-US" sz="8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ù   xió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布     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0920" y="3352680"/>
            <a:ext cx="210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Times New Roman"/>
              </a:rPr>
              <a:t>ku</a:t>
            </a:r>
            <a:r>
              <a:rPr b="1" lang="en-US" sz="8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à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快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887280" y="3276720"/>
            <a:ext cx="1648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Times New Roman"/>
              </a:rPr>
              <a:t>z</a:t>
            </a:r>
            <a:r>
              <a:rPr b="1" lang="en-US" sz="8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ĕ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310360" y="44956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</a:rPr>
              <a:t>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4114800" y="5943600"/>
            <a:ext cx="2133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4191120" y="3048120"/>
            <a:ext cx="30477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2333160" y="44956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1066680" y="6019920"/>
            <a:ext cx="1981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2" descr="Idioms7"/>
          <p:cNvPicPr/>
          <p:nvPr/>
        </p:nvPicPr>
        <p:blipFill>
          <a:blip r:embed="rId1"/>
          <a:stretch/>
        </p:blipFill>
        <p:spPr>
          <a:xfrm>
            <a:off x="0" y="-239760"/>
            <a:ext cx="9144000" cy="7097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0" y="3808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ăo  ché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 xi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ăo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y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ú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x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ng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 l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ái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 y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早   晨，小  云  醒   来 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àn zhĕn  tou biān  fàng  zhe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ì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看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,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枕     头   边    放     着  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hī kĕ  ài  de  bù  xió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只  可 爱 的  布    熊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dioms7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53352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ā  ma zŏu guò lái zhù xiáo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ú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妈  妈  走   过  来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祝   小   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h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ēng rì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ku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ài  l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è  xiăo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ú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èn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ā m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生  日 快    乐。小   云  问  妈  妈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ín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ĕn me cóng l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ái bù guò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h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ēng r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您  怎  么    从   来  不 过    生   日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ā ma  xi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ào zhe shuō  w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ŏ w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àng 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妈  妈    笑   着   说：“我   忘   了 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8153280" y="411480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457200" y="49528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>
            <a:off x="5334120" y="6324480"/>
            <a:ext cx="25905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203_a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14-a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771-a"/>
          <p:cNvPicPr/>
          <p:nvPr/>
        </p:nvPicPr>
        <p:blipFill>
          <a:blip r:embed="rId1"/>
          <a:stretch/>
        </p:blipFill>
        <p:spPr>
          <a:xfrm>
            <a:off x="-685800" y="57240"/>
            <a:ext cx="1028700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95-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2286000" y="283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9T03:59:24Z</dcterms:created>
  <dc:creator>www.eeppt.com; An</dc:creator>
  <dc:description>ppt模板下载网站 http://www.eeppt.com</dc:description>
  <dc:language>en-US</dc:language>
  <cp:lastModifiedBy/>
  <dcterms:modified xsi:type="dcterms:W3CDTF">2015-05-27T15:43:39Z</dcterms:modified>
  <cp:revision>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