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E14D-C5C7-4750-85BC-EC8DD4C6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3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3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97A1-57A9-4507-8679-D767C2BC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432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FE45-1C24-4D62-973A-4DA6F759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60020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60020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432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432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ABD3-0E85-40AB-8DCA-45CD4DC8F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17D6-76B8-47ED-9069-0AFF4D9D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3C0C-7D0B-49DC-8E0C-ECF65201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15A2-69D4-409B-9261-EFAB4640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F3AD-4EE5-442A-A329-5581628D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FF10-6379-408C-8A08-8BD95E0B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E3B3-800A-47E6-BF55-1085E31C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8F02-8CC1-4598-8005-387FF44E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4C4C-7CBE-470D-8E9D-C30ACC32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960" y="396432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0487-866D-43D5-8C19-438AD1D2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3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82AD-2C1D-41CF-BAB7-7201EA16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3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3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DD6F-FDCB-4300-AB76-D6723986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960" y="396432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45F8-0F5D-4285-AFF2-AA15D452F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0360" y="160020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3520" y="160020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0360" y="396432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3520" y="396432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1C09-C3E6-4CF9-AF80-FC2EBAC3C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EBDE-407D-4C01-8379-E88651A7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1170-BB4B-48D1-91D7-8308BF73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0894-D87A-4141-BF2A-9C494299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E7BD-DD51-4946-A5B6-3721975E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CA11-A9E8-4201-B3A7-3DC7AA54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432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A1B2-DA7B-457B-91F3-229F2054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3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59F0-F814-4AAF-9B9A-577B58F3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3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87200" indent="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56232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74952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74952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74952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E0DB-73F0-4B9E-8064-3CFCE105178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7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页脚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#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256C-1A54-4441-AAC5-D5F29A4E0A3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7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页脚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#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1"/>
          <p:cNvSpPr/>
          <p:nvPr/>
        </p:nvSpPr>
        <p:spPr>
          <a:xfrm>
            <a:off x="2340000" y="28116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405080" y="5373720"/>
            <a:ext cx="6561000" cy="576360"/>
            <a:chOff x="1405080" y="5373720"/>
            <a:chExt cx="6561000" cy="576360"/>
          </a:xfrm>
        </p:grpSpPr>
        <p:sp>
          <p:nvSpPr>
            <p:cNvPr id="84" name=""/>
            <p:cNvSpPr/>
            <p:nvPr/>
          </p:nvSpPr>
          <p:spPr>
            <a:xfrm>
              <a:off x="7302240" y="5373720"/>
              <a:ext cx="663840" cy="576360"/>
            </a:xfrm>
            <a:prstGeom prst="flowChartDelay">
              <a:avLst/>
            </a:prstGeom>
            <a:solidFill>
              <a:srgbClr val="bfbfbf"/>
            </a:solidFill>
            <a:ln w="3816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&gt;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1405080" y="5373720"/>
              <a:ext cx="663840" cy="576360"/>
            </a:xfrm>
            <a:prstGeom prst="flowChartDelay">
              <a:avLst/>
            </a:prstGeom>
            <a:solidFill>
              <a:srgbClr val="bfbfbf"/>
            </a:solidFill>
            <a:ln w="3816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&lt;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900000" y="6165720"/>
            <a:ext cx="7407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方正粗宋_GBK"/>
                <a:ea typeface="方正粗宋_GBK"/>
              </a:rPr>
              <a:t>Quotes from Lei Feng in Chinese and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图片 1" descr=""/>
          <p:cNvPicPr/>
          <p:nvPr/>
        </p:nvPicPr>
        <p:blipFill>
          <a:blip r:embed="rId1"/>
          <a:stretch/>
        </p:blipFill>
        <p:spPr>
          <a:xfrm>
            <a:off x="-6480" y="0"/>
            <a:ext cx="9044280" cy="51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直接连接符 4"/>
          <p:cNvSpPr/>
          <p:nvPr/>
        </p:nvSpPr>
        <p:spPr>
          <a:xfrm>
            <a:off x="600120" y="5384880"/>
            <a:ext cx="8005680" cy="0"/>
          </a:xfrm>
          <a:prstGeom prst="line">
            <a:avLst/>
          </a:prstGeom>
          <a:ln w="5724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组合 1"/>
          <p:cNvGrpSpPr/>
          <p:nvPr/>
        </p:nvGrpSpPr>
        <p:grpSpPr>
          <a:xfrm>
            <a:off x="844560" y="216000"/>
            <a:ext cx="4462560" cy="5816520"/>
            <a:chOff x="844560" y="216000"/>
            <a:chExt cx="4462560" cy="581652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978480" y="518760"/>
              <a:ext cx="4137840" cy="463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2"/>
            <a:srcRect l="0" t="0" r="-4935" b="0"/>
            <a:stretch/>
          </p:blipFill>
          <p:spPr>
            <a:xfrm rot="5400000">
              <a:off x="-1928880" y="2989440"/>
              <a:ext cx="5816520" cy="2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3"/>
            <a:srcRect l="0" t="0" r="-4935" b="0"/>
            <a:stretch/>
          </p:blipFill>
          <p:spPr>
            <a:xfrm rot="5400000">
              <a:off x="2264040" y="2989440"/>
              <a:ext cx="5816520" cy="26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"/>
          <p:cNvSpPr/>
          <p:nvPr/>
        </p:nvSpPr>
        <p:spPr>
          <a:xfrm rot="19730400">
            <a:off x="117360" y="179280"/>
            <a:ext cx="962640" cy="509400"/>
          </a:xfrm>
          <a:prstGeom prst="roundRect">
            <a:avLst>
              <a:gd name="adj" fmla="val 16662"/>
            </a:avLst>
          </a:prstGeom>
          <a:solidFill>
            <a:srgbClr val="4472c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北魏楷书简体"/>
                <a:ea typeface="方正北魏楷书简体"/>
              </a:rPr>
              <a:t>雷锋语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5653080" y="10126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当祖国和人民处在最危急的关头，我就挺身而出，不怕牺牲。生为人民生，死为人民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600120" y="5381640"/>
            <a:ext cx="8221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When my motherland and her people are at the critical moment, I won’t hesitate to step forward and sacrifice my life. I was born and will die for the people fearless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 rot="19730400">
            <a:off x="117360" y="179280"/>
            <a:ext cx="962640" cy="509400"/>
          </a:xfrm>
          <a:prstGeom prst="roundRect">
            <a:avLst>
              <a:gd name="adj" fmla="val 16662"/>
            </a:avLst>
          </a:prstGeom>
          <a:solidFill>
            <a:srgbClr val="4472c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北魏楷书简体"/>
                <a:ea typeface="方正北魏楷书简体"/>
              </a:rPr>
              <a:t>雷锋语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组合 1"/>
          <p:cNvGrpSpPr/>
          <p:nvPr/>
        </p:nvGrpSpPr>
        <p:grpSpPr>
          <a:xfrm>
            <a:off x="900000" y="189000"/>
            <a:ext cx="4468680" cy="6335640"/>
            <a:chOff x="900000" y="189000"/>
            <a:chExt cx="4468680" cy="633564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900000" y="621000"/>
              <a:ext cx="4406400" cy="467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2"/>
            <a:srcRect l="0" t="0" r="-4935" b="0"/>
            <a:stretch/>
          </p:blipFill>
          <p:spPr>
            <a:xfrm rot="5400000">
              <a:off x="-2049120" y="3285360"/>
              <a:ext cx="6191640" cy="2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3"/>
            <a:srcRect l="0" t="0" r="-4935" b="0"/>
            <a:stretch/>
          </p:blipFill>
          <p:spPr>
            <a:xfrm rot="5400000">
              <a:off x="2237040" y="3033360"/>
              <a:ext cx="5976000" cy="28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直接连接符 6"/>
          <p:cNvSpPr/>
          <p:nvPr/>
        </p:nvSpPr>
        <p:spPr>
          <a:xfrm>
            <a:off x="722160" y="5384880"/>
            <a:ext cx="7883640" cy="0"/>
          </a:xfrm>
          <a:prstGeom prst="line">
            <a:avLst/>
          </a:prstGeom>
          <a:ln w="5724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5365800" y="7732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人的生命是有限的，可是，为人民服务是无限的，我要把有限的生命，投入到无限的“为人民服务”之中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600120" y="5381640"/>
            <a:ext cx="822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There is a limit to one's life, but no limit to serving the people. I would devote my short life to the lifelong career of serving the peo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 rot="19730400">
            <a:off x="117360" y="179280"/>
            <a:ext cx="962640" cy="509400"/>
          </a:xfrm>
          <a:prstGeom prst="roundRect">
            <a:avLst>
              <a:gd name="adj" fmla="val 16662"/>
            </a:avLst>
          </a:prstGeom>
          <a:solidFill>
            <a:srgbClr val="4472c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北魏楷书简体"/>
                <a:ea typeface="方正北魏楷书简体"/>
              </a:rPr>
              <a:t>雷锋语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组合 1"/>
          <p:cNvGrpSpPr/>
          <p:nvPr/>
        </p:nvGrpSpPr>
        <p:grpSpPr>
          <a:xfrm>
            <a:off x="828720" y="333360"/>
            <a:ext cx="4336920" cy="6191280"/>
            <a:chOff x="828720" y="333360"/>
            <a:chExt cx="4336920" cy="619128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828720" y="621360"/>
              <a:ext cx="4266360" cy="483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"/>
            <a:srcRect l="0" t="0" r="-4935" b="0"/>
            <a:stretch/>
          </p:blipFill>
          <p:spPr>
            <a:xfrm rot="5400000">
              <a:off x="-2104200" y="3285720"/>
              <a:ext cx="6191280" cy="28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3"/>
            <a:srcRect l="0" t="0" r="-4935" b="0"/>
            <a:stretch/>
          </p:blipFill>
          <p:spPr>
            <a:xfrm rot="5400000">
              <a:off x="1926360" y="3285720"/>
              <a:ext cx="619128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直接连接符 6"/>
          <p:cNvSpPr/>
          <p:nvPr/>
        </p:nvSpPr>
        <p:spPr>
          <a:xfrm>
            <a:off x="722160" y="5384880"/>
            <a:ext cx="7883640" cy="0"/>
          </a:xfrm>
          <a:prstGeom prst="line">
            <a:avLst/>
          </a:prstGeom>
          <a:ln w="5724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5365800" y="132876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在工作上，要向积极性最高的同志看齐；在生活上，要向水平最低的同志看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600120" y="5381640"/>
            <a:ext cx="8221680" cy="13737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We should model ourselves after comrades with the most ambition in work while keep up with those who has the lowest living standar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 rot="19730400">
            <a:off x="117360" y="179280"/>
            <a:ext cx="962640" cy="509400"/>
          </a:xfrm>
          <a:prstGeom prst="roundRect">
            <a:avLst>
              <a:gd name="adj" fmla="val 16662"/>
            </a:avLst>
          </a:prstGeom>
          <a:solidFill>
            <a:srgbClr val="4472c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北魏楷书简体"/>
                <a:ea typeface="方正北魏楷书简体"/>
              </a:rPr>
              <a:t>雷锋语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组合 1"/>
          <p:cNvGrpSpPr/>
          <p:nvPr/>
        </p:nvGrpSpPr>
        <p:grpSpPr>
          <a:xfrm>
            <a:off x="826920" y="365040"/>
            <a:ext cx="4554720" cy="6145200"/>
            <a:chOff x="826920" y="365040"/>
            <a:chExt cx="4554720" cy="614520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826920" y="556560"/>
              <a:ext cx="4503600" cy="512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2"/>
            <a:srcRect l="0" t="0" r="-4935" b="0"/>
            <a:stretch/>
          </p:blipFill>
          <p:spPr>
            <a:xfrm rot="5400000">
              <a:off x="-2004480" y="3403440"/>
              <a:ext cx="5938200" cy="27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3"/>
            <a:srcRect l="0" t="0" r="-4935" b="0"/>
            <a:stretch/>
          </p:blipFill>
          <p:spPr>
            <a:xfrm rot="5400000">
              <a:off x="2274840" y="3196440"/>
              <a:ext cx="5938200" cy="27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直接连接符 6"/>
          <p:cNvSpPr/>
          <p:nvPr/>
        </p:nvSpPr>
        <p:spPr>
          <a:xfrm>
            <a:off x="722160" y="5384880"/>
            <a:ext cx="7883640" cy="0"/>
          </a:xfrm>
          <a:prstGeom prst="line">
            <a:avLst/>
          </a:prstGeom>
          <a:ln w="5724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5365800" y="14112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钉子有两个长处：一个是挤劲，一个是钻劲，我们在学习上也要提倡钉子精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600120" y="5381640"/>
            <a:ext cx="8221680" cy="13737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The nail has two advantages: one is squeezing and the other is drilling , which should be advocated in our stu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 rot="19730400">
            <a:off x="117360" y="179280"/>
            <a:ext cx="962640" cy="509400"/>
          </a:xfrm>
          <a:prstGeom prst="roundRect">
            <a:avLst>
              <a:gd name="adj" fmla="val 16662"/>
            </a:avLst>
          </a:prstGeom>
          <a:solidFill>
            <a:srgbClr val="4472c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北魏楷书简体"/>
                <a:ea typeface="方正北魏楷书简体"/>
              </a:rPr>
              <a:t>雷锋语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组合 1"/>
          <p:cNvGrpSpPr/>
          <p:nvPr/>
        </p:nvGrpSpPr>
        <p:grpSpPr>
          <a:xfrm>
            <a:off x="873000" y="333360"/>
            <a:ext cx="4464000" cy="6191280"/>
            <a:chOff x="873000" y="333360"/>
            <a:chExt cx="4464000" cy="619128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873000" y="520200"/>
              <a:ext cx="4377960" cy="48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2"/>
            <a:srcRect l="0" t="0" r="-4935" b="0"/>
            <a:stretch/>
          </p:blipFill>
          <p:spPr>
            <a:xfrm rot="5400000">
              <a:off x="-2078280" y="3285720"/>
              <a:ext cx="6191280" cy="28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3"/>
            <a:srcRect l="0" t="0" r="-4935" b="0"/>
            <a:stretch/>
          </p:blipFill>
          <p:spPr>
            <a:xfrm rot="5400000">
              <a:off x="2097720" y="3285720"/>
              <a:ext cx="619128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直接连接符 6"/>
          <p:cNvSpPr/>
          <p:nvPr/>
        </p:nvSpPr>
        <p:spPr>
          <a:xfrm>
            <a:off x="722160" y="5384880"/>
            <a:ext cx="7883640" cy="0"/>
          </a:xfrm>
          <a:prstGeom prst="line">
            <a:avLst/>
          </a:prstGeom>
          <a:ln w="5724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5365800" y="216072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自己活着，就是为了使别人过得更美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600120" y="5381640"/>
            <a:ext cx="822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We live to better others li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090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7640" y="1269720"/>
            <a:ext cx="89298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8200" y="333360"/>
            <a:ext cx="138924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5F13-571D-4643-BA10-DF22FD74AC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5:45:00Z</dcterms:created>
  <dc:creator>www.eeppt.com</dc:creator>
  <dc:description>ppt模板下载网站 http://www.eeppt.com</dc:description>
  <dc:language>en-US</dc:language>
  <cp:lastModifiedBy/>
  <dcterms:modified xsi:type="dcterms:W3CDTF">2015-05-22T15:20:36Z</dcterms:modified>
  <cp:revision>3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