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F00-6678-4A27-A51E-21E249EA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44B-A84F-4D1A-A58E-DA59CA7C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EAA-ADE2-4AF0-989E-50AA5E08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F87E-0070-494C-8868-8B170087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0E2-56E6-49C1-8563-D50C9804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5C4-B8B6-4EF8-90C7-DD79F943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EF6-9416-4933-B9CA-AAA36434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A48D-5ED1-4E2A-98B3-E9831E8F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7B9-4F96-4238-BA5C-B169A557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EEA-15AF-469F-A899-FF101D31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396-E919-4355-91F6-6346F650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0163-1D84-4174-AAFA-1E7AD2F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603A-F34F-466B-AAB9-FEEE9232F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hyperlink" Target="260,3,  d&#242;u       y&#250;     c&#257;ng            t&#257;ng &#36777;&#26007;    &#30424;&#30402;    &#27815;&#27815;&#20937;&#20937;    &#25506;&#27748;   sh&#250; we&#236;       zh&#236;       ji&#275;                 zh&#249;  &#23408;&#20026;&#27741;&#22810;&#30693;&#20046;      &#21983;&#26469;&#20043;&#39135;   &#26426;&#26492;           l&#277;i    j&#299;                   w&#250;    y&#236; &#19968;&#19997;&#32780;&#32047;    &#31293;&#24223;    &#30693;&#20854;&#25152;&#20129;    &#25087;&#24503; " TargetMode="External"/><Relationship Id="rId5" Type="http://schemas.openxmlformats.org/officeDocument/2006/relationships/hyperlink" Target="260,3,  d&#242;u       y&#250;     c&#257;ng            t&#257;ng &#36777;&#26007;    &#30424;&#30402;    &#27815;&#27815;&#20937;&#20937;    &#25506;&#27748;   sh&#250; we&#236;       zh&#236;       ji&#275;                 zh&#249;  &#23408;&#20026;&#27741;&#22810;&#30693;&#20046;      &#21983;&#26469;&#20043;&#39135;   &#26426;&#26492;           l&#277;i    j&#299;                   w&#250;    y&#236; &#19968;&#19997;&#32780;&#32047;    &#31293;&#24223;    &#30693;&#20854;&#25152;&#20129;    &#25087;&#24503; " TargetMode="External"/><Relationship Id="rId6" Type="http://schemas.openxmlformats.org/officeDocument/2006/relationships/hyperlink" Target="256,4,&#24187;&#28783;&#29255; 4" TargetMode="External"/><Relationship Id="rId7" Type="http://schemas.openxmlformats.org/officeDocument/2006/relationships/hyperlink" Target="256,4,&#24187;&#28783;&#29255; 4" TargetMode="External"/><Relationship Id="rId8" Type="http://schemas.openxmlformats.org/officeDocument/2006/relationships/hyperlink" Target="258,5,&#24187;&#28783;&#29255; 5" TargetMode="External"/><Relationship Id="rId9" Type="http://schemas.openxmlformats.org/officeDocument/2006/relationships/hyperlink" Target="258,5,&#24187;&#28783;&#29255; 5" TargetMode="External"/><Relationship Id="rId10" Type="http://schemas.openxmlformats.org/officeDocument/2006/relationships/hyperlink" Target="259,6,&#24187;&#28783;&#29255; 6" TargetMode="External"/><Relationship Id="rId11" Type="http://schemas.openxmlformats.org/officeDocument/2006/relationships/hyperlink" Target="259,6,&#24187;&#28783;&#29255; 6" TargetMode="External"/><Relationship Id="rId12" Type="http://schemas.openxmlformats.org/officeDocument/2006/relationships/hyperlink" Target="257,7,&#24187;&#28783;&#29255; 7" TargetMode="External"/><Relationship Id="rId13" Type="http://schemas.openxmlformats.org/officeDocument/2006/relationships/hyperlink" Target="257,7,&#24187;&#28783;&#29255; 7" TargetMode="External"/><Relationship Id="rId14" Type="http://schemas.openxmlformats.org/officeDocument/2006/relationships/hyperlink" Target="262,7,&#24187;&#28783;&#29255; 7" TargetMode="External"/><Relationship Id="rId15" Type="http://schemas.openxmlformats.org/officeDocument/2006/relationships/hyperlink" Target="262,7,&#24187;&#28783;&#29255; 7" TargetMode="External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7,12,&#24187;&#28783;&#29255; 12" TargetMode="External"/><Relationship Id="rId2" Type="http://schemas.openxmlformats.org/officeDocument/2006/relationships/hyperlink" Target="266,11,&#24187;&#28783;&#29255; 11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262,7,&#24187;&#28783;&#29255; 7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1,1,&#24187;&#28783;&#29255; 1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261,1,&#24187;&#28783;&#29255; 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hyperlink" Target="261,1,&#24187;&#28783;&#29255; 1" TargetMode="External"/><Relationship Id="rId4" Type="http://schemas.openxmlformats.org/officeDocument/2006/relationships/hyperlink" Target="257,6,&#24187;&#28783;&#29255; 6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1,1,&#24187;&#28783;&#29255; 1" TargetMode="External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hyperlink" Target="263,8,&#24187;&#28783;&#29255; 8" TargetMode="External"/><Relationship Id="rId4" Type="http://schemas.openxmlformats.org/officeDocument/2006/relationships/hyperlink" Target="263,8,&#24187;&#28783;&#29255; 8" TargetMode="External"/><Relationship Id="rId5" Type="http://schemas.openxmlformats.org/officeDocument/2006/relationships/hyperlink" Target="265,10,&#24187;&#28783;&#29255; 10" TargetMode="External"/><Relationship Id="rId6" Type="http://schemas.openxmlformats.org/officeDocument/2006/relationships/hyperlink" Target="265,10,&#24187;&#28783;&#29255; 10" TargetMode="External"/><Relationship Id="rId7" Type="http://schemas.openxmlformats.org/officeDocument/2006/relationships/hyperlink" Target="266,11,&#24187;&#28783;&#29255; 11" TargetMode="External"/><Relationship Id="rId8" Type="http://schemas.openxmlformats.org/officeDocument/2006/relationships/hyperlink" Target="266,11,&#24187;&#28783;&#29255; 11" TargetMode="External"/><Relationship Id="rId9" Type="http://schemas.openxmlformats.org/officeDocument/2006/relationships/hyperlink" Target="267,12,&#24187;&#28783;&#29255; 12" TargetMode="External"/><Relationship Id="rId10" Type="http://schemas.openxmlformats.org/officeDocument/2006/relationships/hyperlink" Target="267,12,&#24187;&#28783;&#29255; 12" TargetMode="Externa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64,9,&#24187;&#28783;&#29255; 9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62,7,&#24187;&#28783;&#29255; 7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D:\花草动物园\太阳类\sun6.gif"/>
          <p:cNvPicPr/>
          <p:nvPr/>
        </p:nvPicPr>
        <p:blipFill>
          <a:blip r:embed="rId1"/>
          <a:stretch/>
        </p:blipFill>
        <p:spPr>
          <a:xfrm>
            <a:off x="4191120" y="1905120"/>
            <a:ext cx="3581280" cy="3103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90720" y="380880"/>
            <a:ext cx="6781680" cy="1556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两      小     儿      辩    日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D:\婴儿\baby6.gif"/>
          <p:cNvPicPr/>
          <p:nvPr/>
        </p:nvPicPr>
        <p:blipFill>
          <a:blip r:embed="rId2"/>
          <a:stretch/>
        </p:blipFill>
        <p:spPr>
          <a:xfrm>
            <a:off x="2819520" y="472284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:\婴儿\baby6.gif"/>
          <p:cNvPicPr/>
          <p:nvPr/>
        </p:nvPicPr>
        <p:blipFill>
          <a:blip r:embed="rId3"/>
          <a:stretch/>
        </p:blipFill>
        <p:spPr>
          <a:xfrm>
            <a:off x="457200" y="2590920"/>
            <a:ext cx="2133720" cy="2133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2"/>
          <p:cNvSpPr/>
          <p:nvPr/>
        </p:nvSpPr>
        <p:spPr>
          <a:xfrm>
            <a:off x="3027240" y="1219320"/>
            <a:ext cx="238464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选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列子 汤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7952760" y="42670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/>
              </a:rPr>
              <a:t>1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5"/>
              </a:rPr>
              <a:t>字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795276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6"/>
              </a:rPr>
              <a:t>2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7"/>
              </a:rPr>
              <a:t>字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7952760" y="51814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8"/>
              </a:rPr>
              <a:t>3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9"/>
              </a:rPr>
              <a:t>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7952760" y="56386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0"/>
              </a:rPr>
              <a:t>4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1"/>
              </a:rPr>
              <a:t>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7952760" y="601992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2"/>
              </a:rPr>
              <a:t>5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3"/>
              </a:rPr>
              <a:t>启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8017920" y="6459480"/>
            <a:ext cx="918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4"/>
              </a:rPr>
              <a:t>6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5"/>
              </a:rPr>
              <a:t>乐羊子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209320" y="95400"/>
            <a:ext cx="29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内容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511000" y="160020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把捡到的金子交给妻子，妻子为什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还批评他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511000" y="3809880"/>
            <a:ext cx="487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的做法对吗？为什么？你觉得她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怎样一个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2269080" y="3200400"/>
            <a:ext cx="43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妻先后两次是怎样说服羊子的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143000" y="4572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514040" y="628560"/>
            <a:ext cx="98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请你说一说课文写了哪两件事？用自己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话复述一次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000520" y="5562720"/>
            <a:ext cx="2920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7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从中得到什么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/>
              </a:rPr>
              <a:t>启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434680" y="2590920"/>
            <a:ext cx="49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3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羊子思家而回乡，妻子为什么又批评他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2089800" y="4876920"/>
            <a:ext cx="34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6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你觉得羊子是怎样一个人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85988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板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393200" y="304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4295520" y="2286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乐羊子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171440" y="990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行路捡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99060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拒金劝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924960" y="1066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志士不饮盗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6924960" y="1676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者不受施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117144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捐金求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5605200" y="12952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典故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{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296760" y="2286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危害：拾遗污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1066680" y="-94464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↗↖→ ←←←→</a:t>
            </a:r>
            <a:r>
              <a:rPr b="1" lang="en-US" sz="1400" spc="-1" strike="noStrike">
                <a:solidFill>
                  <a:srgbClr val="660066"/>
                </a:solidFill>
                <a:latin typeface="Times New Roman"/>
              </a:rPr>
              <a:t>→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2851200" y="129528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2927520" y="213372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162432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132372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怀思来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7191000" y="320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引刀趋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421920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劝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5280120" y="4038480"/>
            <a:ext cx="44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比喻 ：丝累成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             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断丝喻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3156120" y="3200400"/>
            <a:ext cx="52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3124080" y="411480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140004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感还终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1776960" y="36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4077720" y="513252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洁身自爱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廉洁自律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品行端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469476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1647000" y="46972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↓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4160520" y="5791320"/>
            <a:ext cx="39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深明大义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才识过人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远见卓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1046160" y="5029200"/>
            <a:ext cx="13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不贪所得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知错改过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励志洁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8180280" y="64594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1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2"/>
          <p:cNvSpPr txBox="1"/>
          <p:nvPr/>
        </p:nvSpPr>
        <p:spPr>
          <a:xfrm>
            <a:off x="1981080" y="304920"/>
            <a:ext cx="3810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启示？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107520" y="2362320"/>
            <a:ext cx="131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人要有较高的品行修养，有奋发努力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积极向上的精神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4176720" y="35053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的人虽然地位比较低，但他也可能有着闪光的思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111040" y="402912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勿贪不义之财，要洁身自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55360" y="456264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问贵在恒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3279960" y="5172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非圣贤，孰能无过。过而改之，善莫大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-88200" y="5781600"/>
            <a:ext cx="49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**…………………………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75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75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dòu       yú     cāng            tāng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辩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斗  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盘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盂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沧沧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凉凉    探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汤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shú weì       zhì          jiē                 zhù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孰为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汝多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知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乎  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嗟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来之食   机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杼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lĕi    jī                   wú    yì</a:t>
            </a:r>
            <a:br>
              <a:rPr sz="3200"/>
            </a:b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一丝而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累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稽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废    知其所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亡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80"/>
                </a:solidFill>
                <a:uFillTx/>
                <a:latin typeface="Times New Roman"/>
              </a:rPr>
              <a:t>懿</a:t>
            </a:r>
            <a:r>
              <a:rPr b="1" lang="zh-CN" sz="3200" spc="-1" strike="noStrike">
                <a:solidFill>
                  <a:srgbClr val="000080"/>
                </a:solidFill>
                <a:latin typeface="Times New Roman"/>
              </a:rPr>
              <a:t>德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8089920" y="58644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1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60400" y="-58680"/>
            <a:ext cx="80802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东游，见两小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辩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（孔子）问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始出时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人近，而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时远也。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以日初远，而日中时近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大如车盖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日中则如盘盂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者小而近者大乎？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儿曰：“日初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沧沧凉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及其日中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探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此不为近者热而远者凉乎？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不能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也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笑曰：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多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乎！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8089920" y="60166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724560" y="53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080680" y="501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争胜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132400" y="57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30229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12880" y="15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距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752256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正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94144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002480" y="3778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清清凉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233840" y="3886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伸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831312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热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433240" y="5410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判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0459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876840" y="6337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认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646160" y="6337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642280" y="6337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通“智”，智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912760" y="380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孔子路遇两小儿辩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07560" y="12193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二两小儿各抒已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973520" y="2057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三孔子不能定谁是谁非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8477280" y="64594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2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144360" y="3962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两小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辩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1913760" y="3581280"/>
            <a:ext cx="23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车盖（大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042640" y="4572000"/>
            <a:ext cx="25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沧沧凉凉（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远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9664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初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481000" y="2819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日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5456160" y="352728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盘盂（小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远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5608440" y="451800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探汤（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近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053200" y="387684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孔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能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1204920" y="41054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681680" y="3952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D:\花草动物园\太阳类\sun8.gif"/>
          <p:cNvPicPr/>
          <p:nvPr/>
        </p:nvPicPr>
        <p:blipFill>
          <a:blip r:embed="rId1"/>
          <a:stretch/>
        </p:blipFill>
        <p:spPr>
          <a:xfrm>
            <a:off x="228600" y="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D:\花草动物园\太阳类\sun9.gif"/>
          <p:cNvPicPr/>
          <p:nvPr/>
        </p:nvPicPr>
        <p:blipFill>
          <a:blip r:embed="rId2"/>
          <a:stretch/>
        </p:blipFill>
        <p:spPr>
          <a:xfrm>
            <a:off x="7848720" y="56372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6"/>
          <p:cNvSpPr/>
          <p:nvPr/>
        </p:nvSpPr>
        <p:spPr>
          <a:xfrm>
            <a:off x="2322000" y="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太阳是远是近，两小儿各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同的结论，其根据是什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1926000" y="4648320"/>
            <a:ext cx="56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孔子 答不出来，他的态度是怎样的？可取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4236840" y="1143000"/>
            <a:ext cx="169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视觉判断，距离近则物体形状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则物体形状小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是根据感觉推论，靠近热源就感觉热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远离热源就感觉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1646280" y="3124080"/>
            <a:ext cx="38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两小儿为什么会有不同的看法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2351160" y="35053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因为两小儿认识事物的角度不同，标准不同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结果也就会不一致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1771200" y="49528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能实事求是，不怕露丑，我们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应该向他学习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6718320" y="609300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3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1251720" y="6019920"/>
            <a:ext cx="34081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故事对你有什么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隶书"/>
                <a:hlinkClick r:id="rId4"/>
              </a:rPr>
              <a:t>启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2205360" y="160020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宇宙无限，知识无穷，学无止境，即使是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多闻的孔子也会有所不知。我们要不断学习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098800" y="289548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自然，探求客观事理，要敢于独立思考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大胆质疑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887480" y="419112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之为知之，不知为不知，不要“强不知以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知”，要诚实谦虚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2"/>
          <p:cNvSpPr/>
          <p:nvPr/>
        </p:nvSpPr>
        <p:spPr>
          <a:xfrm>
            <a:off x="5315040" y="663480"/>
            <a:ext cx="34740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3"/>
          <p:cNvSpPr/>
          <p:nvPr/>
        </p:nvSpPr>
        <p:spPr>
          <a:xfrm>
            <a:off x="56386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4"/>
          <p:cNvSpPr/>
          <p:nvPr/>
        </p:nvSpPr>
        <p:spPr>
          <a:xfrm>
            <a:off x="5562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5056200" y="511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6"/>
          <p:cNvSpPr/>
          <p:nvPr/>
        </p:nvSpPr>
        <p:spPr>
          <a:xfrm>
            <a:off x="50292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11"/>
          <p:cNvSpPr txBox="1"/>
          <p:nvPr/>
        </p:nvSpPr>
        <p:spPr>
          <a:xfrm>
            <a:off x="1752480" y="380880"/>
            <a:ext cx="28767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8558640" y="6172200"/>
            <a:ext cx="424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3333ff"/>
                </a:solidFill>
                <a:uFillTx/>
                <a:latin typeface="Times New Roman"/>
                <a:hlinkClick r:id="rId1"/>
              </a:rPr>
              <a:t>返回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908000" y="5181480"/>
            <a:ext cx="51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事物从不同角度出发考虑，会有不同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论，要注意客观科学地分析事情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6310440"/>
            <a:ext cx="7056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2392200" y="3048120"/>
            <a:ext cx="4130640" cy="1191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范晔， 南北朝史学家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后汉书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纪、传的作者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2057400" y="990720"/>
            <a:ext cx="4191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行楷"/>
              </a:rPr>
              <a:t>乐羊子妻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85508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3"/>
              </a:rPr>
              <a:t>1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字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15072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5"/>
              </a:rPr>
              <a:t>2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6"/>
              </a:rPr>
              <a:t>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52232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7"/>
              </a:rPr>
              <a:t>3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8"/>
              </a:rPr>
              <a:t>板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817600" y="4724280"/>
            <a:ext cx="613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Times New Roman"/>
                <a:hlinkClick r:id="rId9"/>
              </a:rPr>
              <a:t>4</a:t>
            </a: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10"/>
              </a:rPr>
              <a:t>启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11"/>
          <p:cNvSpPr/>
          <p:nvPr/>
        </p:nvSpPr>
        <p:spPr>
          <a:xfrm>
            <a:off x="95400" y="-393840"/>
            <a:ext cx="2044440" cy="2090880"/>
          </a:xfrm>
          <a:custGeom>
            <a:avLst/>
            <a:gdLst/>
            <a:ahLst/>
            <a:rect l="l" t="t" r="r" b="b"/>
            <a:pathLst>
              <a:path w="1288" h="1317">
                <a:moveTo>
                  <a:pt x="49" y="67"/>
                </a:moveTo>
                <a:lnTo>
                  <a:pt x="459" y="0"/>
                </a:lnTo>
                <a:lnTo>
                  <a:pt x="807" y="88"/>
                </a:lnTo>
                <a:lnTo>
                  <a:pt x="1203" y="44"/>
                </a:lnTo>
                <a:lnTo>
                  <a:pt x="1288" y="303"/>
                </a:lnTo>
                <a:lnTo>
                  <a:pt x="1251" y="551"/>
                </a:lnTo>
                <a:lnTo>
                  <a:pt x="1041" y="968"/>
                </a:lnTo>
                <a:lnTo>
                  <a:pt x="744" y="911"/>
                </a:lnTo>
                <a:lnTo>
                  <a:pt x="807" y="1317"/>
                </a:lnTo>
                <a:lnTo>
                  <a:pt x="781" y="1294"/>
                </a:lnTo>
                <a:lnTo>
                  <a:pt x="753" y="1265"/>
                </a:lnTo>
                <a:lnTo>
                  <a:pt x="716" y="1229"/>
                </a:lnTo>
                <a:lnTo>
                  <a:pt x="674" y="1185"/>
                </a:lnTo>
                <a:lnTo>
                  <a:pt x="626" y="1136"/>
                </a:lnTo>
                <a:lnTo>
                  <a:pt x="575" y="1084"/>
                </a:lnTo>
                <a:lnTo>
                  <a:pt x="522" y="1029"/>
                </a:lnTo>
                <a:lnTo>
                  <a:pt x="471" y="974"/>
                </a:lnTo>
                <a:lnTo>
                  <a:pt x="420" y="922"/>
                </a:lnTo>
                <a:lnTo>
                  <a:pt x="373" y="869"/>
                </a:lnTo>
                <a:lnTo>
                  <a:pt x="329" y="823"/>
                </a:lnTo>
                <a:lnTo>
                  <a:pt x="294" y="781"/>
                </a:lnTo>
                <a:lnTo>
                  <a:pt x="269" y="749"/>
                </a:lnTo>
                <a:lnTo>
                  <a:pt x="248" y="709"/>
                </a:lnTo>
                <a:lnTo>
                  <a:pt x="241" y="675"/>
                </a:lnTo>
                <a:lnTo>
                  <a:pt x="216" y="614"/>
                </a:lnTo>
                <a:lnTo>
                  <a:pt x="197" y="577"/>
                </a:lnTo>
                <a:lnTo>
                  <a:pt x="176" y="537"/>
                </a:lnTo>
                <a:lnTo>
                  <a:pt x="153" y="492"/>
                </a:lnTo>
                <a:lnTo>
                  <a:pt x="130" y="450"/>
                </a:lnTo>
                <a:lnTo>
                  <a:pt x="105" y="406"/>
                </a:lnTo>
                <a:lnTo>
                  <a:pt x="81" y="366"/>
                </a:lnTo>
                <a:lnTo>
                  <a:pt x="42" y="295"/>
                </a:lnTo>
                <a:lnTo>
                  <a:pt x="12" y="244"/>
                </a:lnTo>
                <a:lnTo>
                  <a:pt x="0" y="225"/>
                </a:lnTo>
                <a:lnTo>
                  <a:pt x="49" y="67"/>
                </a:lnTo>
                <a:lnTo>
                  <a:pt x="49" y="67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12"/>
          <p:cNvSpPr/>
          <p:nvPr/>
        </p:nvSpPr>
        <p:spPr>
          <a:xfrm>
            <a:off x="0" y="0"/>
            <a:ext cx="9070920" cy="7156440"/>
          </a:xfrm>
          <a:custGeom>
            <a:avLst/>
            <a:gdLst/>
            <a:ahLst/>
            <a:rect l="l" t="t" r="r" b="b"/>
            <a:pathLst>
              <a:path w="5714" h="4792">
                <a:moveTo>
                  <a:pt x="60" y="204"/>
                </a:moveTo>
                <a:lnTo>
                  <a:pt x="209" y="789"/>
                </a:lnTo>
                <a:lnTo>
                  <a:pt x="234" y="1364"/>
                </a:lnTo>
                <a:lnTo>
                  <a:pt x="97" y="1736"/>
                </a:lnTo>
                <a:lnTo>
                  <a:pt x="222" y="2119"/>
                </a:lnTo>
                <a:lnTo>
                  <a:pt x="60" y="2469"/>
                </a:lnTo>
                <a:lnTo>
                  <a:pt x="171" y="3325"/>
                </a:lnTo>
                <a:lnTo>
                  <a:pt x="148" y="3586"/>
                </a:lnTo>
                <a:lnTo>
                  <a:pt x="0" y="4318"/>
                </a:lnTo>
                <a:lnTo>
                  <a:pt x="148" y="4352"/>
                </a:lnTo>
                <a:lnTo>
                  <a:pt x="123" y="4554"/>
                </a:lnTo>
                <a:lnTo>
                  <a:pt x="568" y="4544"/>
                </a:lnTo>
                <a:lnTo>
                  <a:pt x="1163" y="4655"/>
                </a:lnTo>
                <a:lnTo>
                  <a:pt x="1374" y="4588"/>
                </a:lnTo>
                <a:lnTo>
                  <a:pt x="2850" y="4758"/>
                </a:lnTo>
                <a:lnTo>
                  <a:pt x="2850" y="4645"/>
                </a:lnTo>
                <a:lnTo>
                  <a:pt x="3258" y="4678"/>
                </a:lnTo>
                <a:lnTo>
                  <a:pt x="3346" y="4746"/>
                </a:lnTo>
                <a:lnTo>
                  <a:pt x="3679" y="4611"/>
                </a:lnTo>
                <a:lnTo>
                  <a:pt x="3964" y="4678"/>
                </a:lnTo>
                <a:lnTo>
                  <a:pt x="4361" y="4621"/>
                </a:lnTo>
                <a:lnTo>
                  <a:pt x="5118" y="4655"/>
                </a:lnTo>
                <a:lnTo>
                  <a:pt x="5500" y="4792"/>
                </a:lnTo>
                <a:lnTo>
                  <a:pt x="5688" y="4430"/>
                </a:lnTo>
                <a:lnTo>
                  <a:pt x="5514" y="4329"/>
                </a:lnTo>
                <a:lnTo>
                  <a:pt x="5714" y="3933"/>
                </a:lnTo>
                <a:lnTo>
                  <a:pt x="5514" y="3754"/>
                </a:lnTo>
                <a:lnTo>
                  <a:pt x="5341" y="2831"/>
                </a:lnTo>
                <a:lnTo>
                  <a:pt x="5500" y="2311"/>
                </a:lnTo>
                <a:lnTo>
                  <a:pt x="5463" y="2018"/>
                </a:lnTo>
                <a:lnTo>
                  <a:pt x="5674" y="1555"/>
                </a:lnTo>
                <a:lnTo>
                  <a:pt x="5463" y="587"/>
                </a:lnTo>
                <a:lnTo>
                  <a:pt x="5700" y="204"/>
                </a:lnTo>
                <a:lnTo>
                  <a:pt x="5514" y="57"/>
                </a:lnTo>
                <a:lnTo>
                  <a:pt x="5304" y="114"/>
                </a:lnTo>
                <a:lnTo>
                  <a:pt x="4697" y="0"/>
                </a:lnTo>
                <a:lnTo>
                  <a:pt x="4212" y="204"/>
                </a:lnTo>
                <a:lnTo>
                  <a:pt x="3753" y="103"/>
                </a:lnTo>
                <a:lnTo>
                  <a:pt x="2861" y="47"/>
                </a:lnTo>
                <a:lnTo>
                  <a:pt x="2377" y="91"/>
                </a:lnTo>
                <a:lnTo>
                  <a:pt x="1710" y="70"/>
                </a:lnTo>
                <a:lnTo>
                  <a:pt x="1003" y="137"/>
                </a:lnTo>
                <a:lnTo>
                  <a:pt x="841" y="621"/>
                </a:lnTo>
                <a:lnTo>
                  <a:pt x="1844" y="699"/>
                </a:lnTo>
                <a:lnTo>
                  <a:pt x="2106" y="575"/>
                </a:lnTo>
                <a:lnTo>
                  <a:pt x="2699" y="688"/>
                </a:lnTo>
                <a:lnTo>
                  <a:pt x="3109" y="610"/>
                </a:lnTo>
                <a:lnTo>
                  <a:pt x="3557" y="678"/>
                </a:lnTo>
                <a:lnTo>
                  <a:pt x="4076" y="575"/>
                </a:lnTo>
                <a:lnTo>
                  <a:pt x="4523" y="632"/>
                </a:lnTo>
                <a:lnTo>
                  <a:pt x="4560" y="857"/>
                </a:lnTo>
                <a:lnTo>
                  <a:pt x="4819" y="914"/>
                </a:lnTo>
                <a:lnTo>
                  <a:pt x="4708" y="1320"/>
                </a:lnTo>
                <a:lnTo>
                  <a:pt x="4882" y="1421"/>
                </a:lnTo>
                <a:lnTo>
                  <a:pt x="4720" y="1974"/>
                </a:lnTo>
                <a:lnTo>
                  <a:pt x="4856" y="2166"/>
                </a:lnTo>
                <a:lnTo>
                  <a:pt x="4734" y="2593"/>
                </a:lnTo>
                <a:lnTo>
                  <a:pt x="4734" y="2831"/>
                </a:lnTo>
                <a:lnTo>
                  <a:pt x="4819" y="3045"/>
                </a:lnTo>
                <a:lnTo>
                  <a:pt x="4622" y="3449"/>
                </a:lnTo>
                <a:lnTo>
                  <a:pt x="4819" y="3710"/>
                </a:lnTo>
                <a:lnTo>
                  <a:pt x="4646" y="4013"/>
                </a:lnTo>
                <a:lnTo>
                  <a:pt x="4361" y="4093"/>
                </a:lnTo>
                <a:lnTo>
                  <a:pt x="3705" y="4024"/>
                </a:lnTo>
                <a:lnTo>
                  <a:pt x="3469" y="4215"/>
                </a:lnTo>
                <a:lnTo>
                  <a:pt x="3024" y="4047"/>
                </a:lnTo>
                <a:lnTo>
                  <a:pt x="2588" y="4057"/>
                </a:lnTo>
                <a:lnTo>
                  <a:pt x="1995" y="4070"/>
                </a:lnTo>
                <a:lnTo>
                  <a:pt x="1633" y="4182"/>
                </a:lnTo>
                <a:lnTo>
                  <a:pt x="1499" y="4003"/>
                </a:lnTo>
                <a:lnTo>
                  <a:pt x="1163" y="4161"/>
                </a:lnTo>
                <a:lnTo>
                  <a:pt x="1163" y="3866"/>
                </a:lnTo>
                <a:lnTo>
                  <a:pt x="816" y="3754"/>
                </a:lnTo>
                <a:lnTo>
                  <a:pt x="1040" y="3304"/>
                </a:lnTo>
                <a:lnTo>
                  <a:pt x="816" y="3100"/>
                </a:lnTo>
                <a:lnTo>
                  <a:pt x="1003" y="2706"/>
                </a:lnTo>
                <a:lnTo>
                  <a:pt x="755" y="2616"/>
                </a:lnTo>
                <a:lnTo>
                  <a:pt x="890" y="1467"/>
                </a:lnTo>
                <a:lnTo>
                  <a:pt x="841" y="1004"/>
                </a:lnTo>
                <a:lnTo>
                  <a:pt x="741" y="836"/>
                </a:lnTo>
                <a:lnTo>
                  <a:pt x="704" y="531"/>
                </a:lnTo>
                <a:lnTo>
                  <a:pt x="804" y="295"/>
                </a:lnTo>
                <a:lnTo>
                  <a:pt x="60" y="204"/>
                </a:lnTo>
                <a:lnTo>
                  <a:pt x="60" y="204"/>
                </a:lnTo>
                <a:close/>
              </a:path>
            </a:pathLst>
          </a:custGeom>
          <a:solidFill>
            <a:srgbClr val="e0ad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13"/>
          <p:cNvSpPr/>
          <p:nvPr/>
        </p:nvSpPr>
        <p:spPr>
          <a:xfrm>
            <a:off x="723960" y="4237200"/>
            <a:ext cx="409680" cy="1001520"/>
          </a:xfrm>
          <a:custGeom>
            <a:avLst/>
            <a:gdLst/>
            <a:ahLst/>
            <a:rect l="l" t="t" r="r" b="b"/>
            <a:pathLst>
              <a:path w="258" h="631">
                <a:moveTo>
                  <a:pt x="258" y="88"/>
                </a:moveTo>
                <a:lnTo>
                  <a:pt x="244" y="423"/>
                </a:lnTo>
                <a:lnTo>
                  <a:pt x="223" y="534"/>
                </a:lnTo>
                <a:lnTo>
                  <a:pt x="211" y="578"/>
                </a:lnTo>
                <a:lnTo>
                  <a:pt x="183" y="608"/>
                </a:lnTo>
                <a:lnTo>
                  <a:pt x="146" y="627"/>
                </a:lnTo>
                <a:lnTo>
                  <a:pt x="107" y="631"/>
                </a:lnTo>
                <a:lnTo>
                  <a:pt x="31" y="602"/>
                </a:lnTo>
                <a:lnTo>
                  <a:pt x="0" y="524"/>
                </a:lnTo>
                <a:lnTo>
                  <a:pt x="12" y="400"/>
                </a:lnTo>
                <a:lnTo>
                  <a:pt x="24" y="313"/>
                </a:lnTo>
                <a:lnTo>
                  <a:pt x="42" y="240"/>
                </a:lnTo>
                <a:lnTo>
                  <a:pt x="75" y="78"/>
                </a:lnTo>
                <a:lnTo>
                  <a:pt x="84" y="42"/>
                </a:lnTo>
                <a:lnTo>
                  <a:pt x="107" y="17"/>
                </a:lnTo>
                <a:lnTo>
                  <a:pt x="137" y="4"/>
                </a:lnTo>
                <a:lnTo>
                  <a:pt x="170" y="0"/>
                </a:lnTo>
                <a:lnTo>
                  <a:pt x="232" y="25"/>
                </a:lnTo>
                <a:lnTo>
                  <a:pt x="258" y="88"/>
                </a:lnTo>
                <a:lnTo>
                  <a:pt x="258" y="8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4"/>
          <p:cNvSpPr/>
          <p:nvPr/>
        </p:nvSpPr>
        <p:spPr>
          <a:xfrm>
            <a:off x="1739880" y="6191280"/>
            <a:ext cx="1354320" cy="299880"/>
          </a:xfrm>
          <a:custGeom>
            <a:avLst/>
            <a:gdLst/>
            <a:ahLst/>
            <a:rect l="l" t="t" r="r" b="b"/>
            <a:pathLst>
              <a:path w="853" h="189">
                <a:moveTo>
                  <a:pt x="72" y="38"/>
                </a:moveTo>
                <a:lnTo>
                  <a:pt x="252" y="46"/>
                </a:lnTo>
                <a:lnTo>
                  <a:pt x="410" y="31"/>
                </a:lnTo>
                <a:lnTo>
                  <a:pt x="568" y="10"/>
                </a:lnTo>
                <a:lnTo>
                  <a:pt x="748" y="0"/>
                </a:lnTo>
                <a:lnTo>
                  <a:pt x="795" y="8"/>
                </a:lnTo>
                <a:lnTo>
                  <a:pt x="827" y="29"/>
                </a:lnTo>
                <a:lnTo>
                  <a:pt x="853" y="94"/>
                </a:lnTo>
                <a:lnTo>
                  <a:pt x="846" y="128"/>
                </a:lnTo>
                <a:lnTo>
                  <a:pt x="827" y="160"/>
                </a:lnTo>
                <a:lnTo>
                  <a:pt x="795" y="181"/>
                </a:lnTo>
                <a:lnTo>
                  <a:pt x="748" y="189"/>
                </a:lnTo>
                <a:lnTo>
                  <a:pt x="401" y="183"/>
                </a:lnTo>
                <a:lnTo>
                  <a:pt x="53" y="151"/>
                </a:lnTo>
                <a:lnTo>
                  <a:pt x="12" y="126"/>
                </a:lnTo>
                <a:lnTo>
                  <a:pt x="0" y="86"/>
                </a:lnTo>
                <a:lnTo>
                  <a:pt x="7" y="65"/>
                </a:lnTo>
                <a:lnTo>
                  <a:pt x="23" y="50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15"/>
          <p:cNvSpPr/>
          <p:nvPr/>
        </p:nvSpPr>
        <p:spPr>
          <a:xfrm>
            <a:off x="3497400" y="619128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5"/>
                </a:lnTo>
                <a:lnTo>
                  <a:pt x="621" y="36"/>
                </a:lnTo>
                <a:lnTo>
                  <a:pt x="818" y="36"/>
                </a:lnTo>
                <a:lnTo>
                  <a:pt x="865" y="44"/>
                </a:lnTo>
                <a:lnTo>
                  <a:pt x="897" y="65"/>
                </a:lnTo>
                <a:lnTo>
                  <a:pt x="923" y="130"/>
                </a:lnTo>
                <a:lnTo>
                  <a:pt x="916" y="166"/>
                </a:lnTo>
                <a:lnTo>
                  <a:pt x="897" y="195"/>
                </a:lnTo>
                <a:lnTo>
                  <a:pt x="865" y="216"/>
                </a:lnTo>
                <a:lnTo>
                  <a:pt x="818" y="225"/>
                </a:lnTo>
                <a:lnTo>
                  <a:pt x="621" y="225"/>
                </a:lnTo>
                <a:lnTo>
                  <a:pt x="357" y="214"/>
                </a:lnTo>
                <a:lnTo>
                  <a:pt x="93" y="187"/>
                </a:lnTo>
                <a:lnTo>
                  <a:pt x="49" y="177"/>
                </a:lnTo>
                <a:lnTo>
                  <a:pt x="19" y="151"/>
                </a:lnTo>
                <a:lnTo>
                  <a:pt x="0" y="84"/>
                </a:lnTo>
                <a:lnTo>
                  <a:pt x="10" y="50"/>
                </a:lnTo>
                <a:lnTo>
                  <a:pt x="33" y="21"/>
                </a:lnTo>
                <a:lnTo>
                  <a:pt x="68" y="4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6"/>
          <p:cNvSpPr/>
          <p:nvPr/>
        </p:nvSpPr>
        <p:spPr>
          <a:xfrm>
            <a:off x="5727600" y="6176880"/>
            <a:ext cx="1305000" cy="335160"/>
          </a:xfrm>
          <a:custGeom>
            <a:avLst/>
            <a:gdLst/>
            <a:ahLst/>
            <a:rect l="l" t="t" r="r" b="b"/>
            <a:pathLst>
              <a:path w="822" h="211">
                <a:moveTo>
                  <a:pt x="53" y="45"/>
                </a:moveTo>
                <a:lnTo>
                  <a:pt x="257" y="26"/>
                </a:lnTo>
                <a:lnTo>
                  <a:pt x="352" y="9"/>
                </a:lnTo>
                <a:lnTo>
                  <a:pt x="461" y="0"/>
                </a:lnTo>
                <a:lnTo>
                  <a:pt x="616" y="11"/>
                </a:lnTo>
                <a:lnTo>
                  <a:pt x="764" y="47"/>
                </a:lnTo>
                <a:lnTo>
                  <a:pt x="799" y="66"/>
                </a:lnTo>
                <a:lnTo>
                  <a:pt x="820" y="91"/>
                </a:lnTo>
                <a:lnTo>
                  <a:pt x="822" y="152"/>
                </a:lnTo>
                <a:lnTo>
                  <a:pt x="806" y="181"/>
                </a:lnTo>
                <a:lnTo>
                  <a:pt x="780" y="200"/>
                </a:lnTo>
                <a:lnTo>
                  <a:pt x="746" y="211"/>
                </a:lnTo>
                <a:lnTo>
                  <a:pt x="706" y="207"/>
                </a:lnTo>
                <a:lnTo>
                  <a:pt x="583" y="183"/>
                </a:lnTo>
                <a:lnTo>
                  <a:pt x="458" y="179"/>
                </a:lnTo>
                <a:lnTo>
                  <a:pt x="252" y="160"/>
                </a:lnTo>
                <a:lnTo>
                  <a:pt x="157" y="146"/>
                </a:lnTo>
                <a:lnTo>
                  <a:pt x="46" y="135"/>
                </a:lnTo>
                <a:lnTo>
                  <a:pt x="9" y="120"/>
                </a:lnTo>
                <a:lnTo>
                  <a:pt x="0" y="87"/>
                </a:lnTo>
                <a:lnTo>
                  <a:pt x="13" y="57"/>
                </a:lnTo>
                <a:lnTo>
                  <a:pt x="53" y="45"/>
                </a:lnTo>
                <a:lnTo>
                  <a:pt x="53" y="4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17"/>
          <p:cNvSpPr/>
          <p:nvPr/>
        </p:nvSpPr>
        <p:spPr>
          <a:xfrm>
            <a:off x="8051760" y="1039680"/>
            <a:ext cx="379440" cy="1105200"/>
          </a:xfrm>
          <a:custGeom>
            <a:avLst/>
            <a:gdLst/>
            <a:ahLst/>
            <a:rect l="l" t="t" r="r" b="b"/>
            <a:pathLst>
              <a:path w="239" h="696">
                <a:moveTo>
                  <a:pt x="239" y="107"/>
                </a:moveTo>
                <a:lnTo>
                  <a:pt x="222" y="238"/>
                </a:lnTo>
                <a:lnTo>
                  <a:pt x="201" y="355"/>
                </a:lnTo>
                <a:lnTo>
                  <a:pt x="194" y="604"/>
                </a:lnTo>
                <a:lnTo>
                  <a:pt x="192" y="640"/>
                </a:lnTo>
                <a:lnTo>
                  <a:pt x="174" y="669"/>
                </a:lnTo>
                <a:lnTo>
                  <a:pt x="146" y="688"/>
                </a:lnTo>
                <a:lnTo>
                  <a:pt x="113" y="696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4"/>
                </a:lnTo>
                <a:lnTo>
                  <a:pt x="30" y="50"/>
                </a:lnTo>
                <a:lnTo>
                  <a:pt x="55" y="21"/>
                </a:lnTo>
                <a:lnTo>
                  <a:pt x="93" y="4"/>
                </a:lnTo>
                <a:lnTo>
                  <a:pt x="134" y="0"/>
                </a:lnTo>
                <a:lnTo>
                  <a:pt x="208" y="29"/>
                </a:lnTo>
                <a:lnTo>
                  <a:pt x="239" y="107"/>
                </a:lnTo>
                <a:lnTo>
                  <a:pt x="239" y="107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18"/>
          <p:cNvSpPr/>
          <p:nvPr/>
        </p:nvSpPr>
        <p:spPr>
          <a:xfrm>
            <a:off x="8091360" y="2625840"/>
            <a:ext cx="312840" cy="1260360"/>
          </a:xfrm>
          <a:custGeom>
            <a:avLst/>
            <a:gdLst/>
            <a:ahLst/>
            <a:rect l="l" t="t" r="r" b="b"/>
            <a:pathLst>
              <a:path w="197" h="794">
                <a:moveTo>
                  <a:pt x="174" y="78"/>
                </a:moveTo>
                <a:lnTo>
                  <a:pt x="197" y="714"/>
                </a:lnTo>
                <a:lnTo>
                  <a:pt x="188" y="750"/>
                </a:lnTo>
                <a:lnTo>
                  <a:pt x="165" y="775"/>
                </a:lnTo>
                <a:lnTo>
                  <a:pt x="135" y="790"/>
                </a:lnTo>
                <a:lnTo>
                  <a:pt x="102" y="794"/>
                </a:lnTo>
                <a:lnTo>
                  <a:pt x="40" y="768"/>
                </a:lnTo>
                <a:lnTo>
                  <a:pt x="14" y="705"/>
                </a:lnTo>
                <a:lnTo>
                  <a:pt x="19" y="539"/>
                </a:lnTo>
                <a:lnTo>
                  <a:pt x="14" y="394"/>
                </a:lnTo>
                <a:lnTo>
                  <a:pt x="0" y="80"/>
                </a:lnTo>
                <a:lnTo>
                  <a:pt x="7" y="47"/>
                </a:lnTo>
                <a:lnTo>
                  <a:pt x="26" y="21"/>
                </a:lnTo>
                <a:lnTo>
                  <a:pt x="54" y="5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19"/>
          <p:cNvSpPr/>
          <p:nvPr/>
        </p:nvSpPr>
        <p:spPr>
          <a:xfrm>
            <a:off x="8026560" y="4267080"/>
            <a:ext cx="377640" cy="96228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0" y="69"/>
                </a:moveTo>
                <a:lnTo>
                  <a:pt x="238" y="534"/>
                </a:lnTo>
                <a:lnTo>
                  <a:pt x="220" y="572"/>
                </a:lnTo>
                <a:lnTo>
                  <a:pt x="206" y="587"/>
                </a:lnTo>
                <a:lnTo>
                  <a:pt x="190" y="597"/>
                </a:lnTo>
                <a:lnTo>
                  <a:pt x="113" y="606"/>
                </a:lnTo>
                <a:lnTo>
                  <a:pt x="48" y="570"/>
                </a:lnTo>
                <a:lnTo>
                  <a:pt x="34" y="536"/>
                </a:lnTo>
                <a:lnTo>
                  <a:pt x="34" y="494"/>
                </a:lnTo>
                <a:lnTo>
                  <a:pt x="48" y="389"/>
                </a:lnTo>
                <a:lnTo>
                  <a:pt x="41" y="294"/>
                </a:lnTo>
                <a:lnTo>
                  <a:pt x="20" y="202"/>
                </a:lnTo>
                <a:lnTo>
                  <a:pt x="0" y="94"/>
                </a:lnTo>
                <a:lnTo>
                  <a:pt x="2" y="59"/>
                </a:lnTo>
                <a:lnTo>
                  <a:pt x="18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20"/>
          <p:cNvSpPr/>
          <p:nvPr/>
        </p:nvSpPr>
        <p:spPr>
          <a:xfrm>
            <a:off x="6080040" y="-100080"/>
            <a:ext cx="115884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9"/>
                </a:moveTo>
                <a:lnTo>
                  <a:pt x="345" y="23"/>
                </a:lnTo>
                <a:lnTo>
                  <a:pt x="480" y="9"/>
                </a:lnTo>
                <a:lnTo>
                  <a:pt x="630" y="0"/>
                </a:lnTo>
                <a:lnTo>
                  <a:pt x="672" y="9"/>
                </a:lnTo>
                <a:lnTo>
                  <a:pt x="704" y="30"/>
                </a:lnTo>
                <a:lnTo>
                  <a:pt x="730" y="91"/>
                </a:lnTo>
                <a:lnTo>
                  <a:pt x="723" y="124"/>
                </a:lnTo>
                <a:lnTo>
                  <a:pt x="704" y="152"/>
                </a:lnTo>
                <a:lnTo>
                  <a:pt x="672" y="173"/>
                </a:lnTo>
                <a:lnTo>
                  <a:pt x="630" y="181"/>
                </a:lnTo>
                <a:lnTo>
                  <a:pt x="63" y="162"/>
                </a:lnTo>
                <a:lnTo>
                  <a:pt x="14" y="143"/>
                </a:lnTo>
                <a:lnTo>
                  <a:pt x="0" y="105"/>
                </a:lnTo>
                <a:lnTo>
                  <a:pt x="14" y="65"/>
                </a:lnTo>
                <a:lnTo>
                  <a:pt x="35" y="53"/>
                </a:lnTo>
                <a:lnTo>
                  <a:pt x="63" y="49"/>
                </a:lnTo>
                <a:lnTo>
                  <a:pt x="63" y="4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21"/>
          <p:cNvSpPr/>
          <p:nvPr/>
        </p:nvSpPr>
        <p:spPr>
          <a:xfrm>
            <a:off x="2354400" y="-33480"/>
            <a:ext cx="1368360" cy="34452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3"/>
                </a:lnTo>
                <a:lnTo>
                  <a:pt x="435" y="0"/>
                </a:lnTo>
                <a:lnTo>
                  <a:pt x="605" y="4"/>
                </a:lnTo>
                <a:lnTo>
                  <a:pt x="790" y="32"/>
                </a:lnTo>
                <a:lnTo>
                  <a:pt x="829" y="47"/>
                </a:lnTo>
                <a:lnTo>
                  <a:pt x="853" y="72"/>
                </a:lnTo>
                <a:lnTo>
                  <a:pt x="862" y="133"/>
                </a:lnTo>
                <a:lnTo>
                  <a:pt x="848" y="162"/>
                </a:lnTo>
                <a:lnTo>
                  <a:pt x="825" y="183"/>
                </a:lnTo>
                <a:lnTo>
                  <a:pt x="792" y="196"/>
                </a:lnTo>
                <a:lnTo>
                  <a:pt x="751" y="196"/>
                </a:lnTo>
                <a:lnTo>
                  <a:pt x="584" y="173"/>
                </a:lnTo>
                <a:lnTo>
                  <a:pt x="433" y="175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9"/>
                </a:lnTo>
                <a:lnTo>
                  <a:pt x="2" y="112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22"/>
          <p:cNvSpPr/>
          <p:nvPr/>
        </p:nvSpPr>
        <p:spPr>
          <a:xfrm>
            <a:off x="4141800" y="-22320"/>
            <a:ext cx="1357200" cy="300240"/>
          </a:xfrm>
          <a:custGeom>
            <a:avLst/>
            <a:gdLst/>
            <a:ahLst/>
            <a:rect l="l" t="t" r="r" b="b"/>
            <a:pathLst>
              <a:path w="855" h="189">
                <a:moveTo>
                  <a:pt x="90" y="0"/>
                </a:moveTo>
                <a:lnTo>
                  <a:pt x="429" y="10"/>
                </a:lnTo>
                <a:lnTo>
                  <a:pt x="765" y="21"/>
                </a:lnTo>
                <a:lnTo>
                  <a:pt x="804" y="27"/>
                </a:lnTo>
                <a:lnTo>
                  <a:pt x="832" y="46"/>
                </a:lnTo>
                <a:lnTo>
                  <a:pt x="855" y="105"/>
                </a:lnTo>
                <a:lnTo>
                  <a:pt x="850" y="134"/>
                </a:lnTo>
                <a:lnTo>
                  <a:pt x="832" y="162"/>
                </a:lnTo>
                <a:lnTo>
                  <a:pt x="804" y="181"/>
                </a:lnTo>
                <a:lnTo>
                  <a:pt x="765" y="189"/>
                </a:lnTo>
                <a:lnTo>
                  <a:pt x="429" y="176"/>
                </a:lnTo>
                <a:lnTo>
                  <a:pt x="90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2"/>
                </a:lnTo>
                <a:lnTo>
                  <a:pt x="23" y="25"/>
                </a:lnTo>
                <a:lnTo>
                  <a:pt x="51" y="6"/>
                </a:lnTo>
                <a:lnTo>
                  <a:pt x="90" y="0"/>
                </a:lnTo>
                <a:lnTo>
                  <a:pt x="90" y="0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3"/>
          <p:cNvSpPr/>
          <p:nvPr/>
        </p:nvSpPr>
        <p:spPr>
          <a:xfrm>
            <a:off x="801720" y="94932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5"/>
                </a:moveTo>
                <a:lnTo>
                  <a:pt x="211" y="299"/>
                </a:lnTo>
                <a:lnTo>
                  <a:pt x="195" y="391"/>
                </a:lnTo>
                <a:lnTo>
                  <a:pt x="179" y="480"/>
                </a:lnTo>
                <a:lnTo>
                  <a:pt x="137" y="865"/>
                </a:lnTo>
                <a:lnTo>
                  <a:pt x="130" y="892"/>
                </a:lnTo>
                <a:lnTo>
                  <a:pt x="114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5"/>
                </a:lnTo>
                <a:lnTo>
                  <a:pt x="12" y="476"/>
                </a:lnTo>
                <a:lnTo>
                  <a:pt x="35" y="84"/>
                </a:lnTo>
                <a:lnTo>
                  <a:pt x="46" y="46"/>
                </a:lnTo>
                <a:lnTo>
                  <a:pt x="72" y="19"/>
                </a:lnTo>
                <a:lnTo>
                  <a:pt x="104" y="4"/>
                </a:lnTo>
                <a:lnTo>
                  <a:pt x="139" y="0"/>
                </a:lnTo>
                <a:lnTo>
                  <a:pt x="206" y="25"/>
                </a:lnTo>
                <a:lnTo>
                  <a:pt x="234" y="95"/>
                </a:lnTo>
                <a:lnTo>
                  <a:pt x="234" y="95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4"/>
          <p:cNvSpPr/>
          <p:nvPr/>
        </p:nvSpPr>
        <p:spPr>
          <a:xfrm>
            <a:off x="363600" y="543564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7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0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2" y="711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4"/>
                </a:lnTo>
                <a:lnTo>
                  <a:pt x="390" y="530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5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5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25"/>
          <p:cNvSpPr/>
          <p:nvPr/>
        </p:nvSpPr>
        <p:spPr>
          <a:xfrm>
            <a:off x="7423200" y="-363600"/>
            <a:ext cx="128736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18" y="303"/>
                </a:moveTo>
                <a:lnTo>
                  <a:pt x="27" y="286"/>
                </a:lnTo>
                <a:lnTo>
                  <a:pt x="51" y="269"/>
                </a:lnTo>
                <a:lnTo>
                  <a:pt x="129" y="248"/>
                </a:lnTo>
                <a:lnTo>
                  <a:pt x="280" y="227"/>
                </a:lnTo>
                <a:lnTo>
                  <a:pt x="299" y="145"/>
                </a:lnTo>
                <a:lnTo>
                  <a:pt x="315" y="74"/>
                </a:lnTo>
                <a:lnTo>
                  <a:pt x="333" y="44"/>
                </a:lnTo>
                <a:lnTo>
                  <a:pt x="350" y="23"/>
                </a:lnTo>
                <a:lnTo>
                  <a:pt x="380" y="0"/>
                </a:lnTo>
                <a:lnTo>
                  <a:pt x="405" y="2"/>
                </a:lnTo>
                <a:lnTo>
                  <a:pt x="428" y="21"/>
                </a:lnTo>
                <a:lnTo>
                  <a:pt x="475" y="101"/>
                </a:lnTo>
                <a:lnTo>
                  <a:pt x="500" y="151"/>
                </a:lnTo>
                <a:lnTo>
                  <a:pt x="530" y="204"/>
                </a:lnTo>
                <a:lnTo>
                  <a:pt x="623" y="187"/>
                </a:lnTo>
                <a:lnTo>
                  <a:pt x="702" y="175"/>
                </a:lnTo>
                <a:lnTo>
                  <a:pt x="799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4" y="282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1"/>
                </a:lnTo>
                <a:lnTo>
                  <a:pt x="702" y="501"/>
                </a:lnTo>
                <a:lnTo>
                  <a:pt x="732" y="646"/>
                </a:lnTo>
                <a:lnTo>
                  <a:pt x="723" y="699"/>
                </a:lnTo>
                <a:lnTo>
                  <a:pt x="711" y="711"/>
                </a:lnTo>
                <a:lnTo>
                  <a:pt x="692" y="715"/>
                </a:lnTo>
                <a:lnTo>
                  <a:pt x="588" y="673"/>
                </a:lnTo>
                <a:lnTo>
                  <a:pt x="558" y="654"/>
                </a:lnTo>
                <a:lnTo>
                  <a:pt x="528" y="633"/>
                </a:lnTo>
                <a:lnTo>
                  <a:pt x="498" y="612"/>
                </a:lnTo>
                <a:lnTo>
                  <a:pt x="470" y="589"/>
                </a:lnTo>
                <a:lnTo>
                  <a:pt x="445" y="570"/>
                </a:lnTo>
                <a:lnTo>
                  <a:pt x="421" y="553"/>
                </a:lnTo>
                <a:lnTo>
                  <a:pt x="389" y="532"/>
                </a:lnTo>
                <a:lnTo>
                  <a:pt x="352" y="555"/>
                </a:lnTo>
                <a:lnTo>
                  <a:pt x="317" y="579"/>
                </a:lnTo>
                <a:lnTo>
                  <a:pt x="285" y="602"/>
                </a:lnTo>
                <a:lnTo>
                  <a:pt x="255" y="623"/>
                </a:lnTo>
                <a:lnTo>
                  <a:pt x="229" y="640"/>
                </a:lnTo>
                <a:lnTo>
                  <a:pt x="206" y="654"/>
                </a:lnTo>
                <a:lnTo>
                  <a:pt x="169" y="669"/>
                </a:lnTo>
                <a:lnTo>
                  <a:pt x="148" y="663"/>
                </a:lnTo>
                <a:lnTo>
                  <a:pt x="143" y="627"/>
                </a:lnTo>
                <a:lnTo>
                  <a:pt x="160" y="555"/>
                </a:lnTo>
                <a:lnTo>
                  <a:pt x="176" y="507"/>
                </a:lnTo>
                <a:lnTo>
                  <a:pt x="197" y="446"/>
                </a:lnTo>
                <a:lnTo>
                  <a:pt x="146" y="425"/>
                </a:lnTo>
                <a:lnTo>
                  <a:pt x="65" y="389"/>
                </a:lnTo>
                <a:lnTo>
                  <a:pt x="4" y="347"/>
                </a:lnTo>
                <a:lnTo>
                  <a:pt x="0" y="324"/>
                </a:lnTo>
                <a:lnTo>
                  <a:pt x="18" y="303"/>
                </a:lnTo>
                <a:lnTo>
                  <a:pt x="18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6"/>
          <p:cNvSpPr/>
          <p:nvPr/>
        </p:nvSpPr>
        <p:spPr>
          <a:xfrm>
            <a:off x="7521480" y="5535720"/>
            <a:ext cx="128772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3"/>
                </a:moveTo>
                <a:lnTo>
                  <a:pt x="28" y="286"/>
                </a:lnTo>
                <a:lnTo>
                  <a:pt x="51" y="272"/>
                </a:lnTo>
                <a:lnTo>
                  <a:pt x="130" y="249"/>
                </a:lnTo>
                <a:lnTo>
                  <a:pt x="283" y="228"/>
                </a:lnTo>
                <a:lnTo>
                  <a:pt x="299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0" y="0"/>
                </a:lnTo>
                <a:lnTo>
                  <a:pt x="406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4"/>
                </a:lnTo>
                <a:lnTo>
                  <a:pt x="531" y="204"/>
                </a:lnTo>
                <a:lnTo>
                  <a:pt x="626" y="188"/>
                </a:lnTo>
                <a:lnTo>
                  <a:pt x="705" y="175"/>
                </a:lnTo>
                <a:lnTo>
                  <a:pt x="802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5" y="341"/>
                </a:lnTo>
                <a:lnTo>
                  <a:pt x="637" y="364"/>
                </a:lnTo>
                <a:lnTo>
                  <a:pt x="674" y="432"/>
                </a:lnTo>
                <a:lnTo>
                  <a:pt x="702" y="501"/>
                </a:lnTo>
                <a:lnTo>
                  <a:pt x="732" y="646"/>
                </a:lnTo>
                <a:lnTo>
                  <a:pt x="725" y="699"/>
                </a:lnTo>
                <a:lnTo>
                  <a:pt x="712" y="712"/>
                </a:lnTo>
                <a:lnTo>
                  <a:pt x="693" y="716"/>
                </a:lnTo>
                <a:lnTo>
                  <a:pt x="591" y="674"/>
                </a:lnTo>
                <a:lnTo>
                  <a:pt x="559" y="655"/>
                </a:lnTo>
                <a:lnTo>
                  <a:pt x="528" y="634"/>
                </a:lnTo>
                <a:lnTo>
                  <a:pt x="501" y="613"/>
                </a:lnTo>
                <a:lnTo>
                  <a:pt x="471" y="592"/>
                </a:lnTo>
                <a:lnTo>
                  <a:pt x="445" y="571"/>
                </a:lnTo>
                <a:lnTo>
                  <a:pt x="422" y="554"/>
                </a:lnTo>
                <a:lnTo>
                  <a:pt x="389" y="533"/>
                </a:lnTo>
                <a:lnTo>
                  <a:pt x="352" y="556"/>
                </a:lnTo>
                <a:lnTo>
                  <a:pt x="318" y="581"/>
                </a:lnTo>
                <a:lnTo>
                  <a:pt x="285" y="602"/>
                </a:lnTo>
                <a:lnTo>
                  <a:pt x="257" y="623"/>
                </a:lnTo>
                <a:lnTo>
                  <a:pt x="230" y="640"/>
                </a:lnTo>
                <a:lnTo>
                  <a:pt x="206" y="655"/>
                </a:lnTo>
                <a:lnTo>
                  <a:pt x="169" y="672"/>
                </a:lnTo>
                <a:lnTo>
                  <a:pt x="149" y="663"/>
                </a:lnTo>
                <a:lnTo>
                  <a:pt x="146" y="627"/>
                </a:lnTo>
                <a:lnTo>
                  <a:pt x="160" y="558"/>
                </a:lnTo>
                <a:lnTo>
                  <a:pt x="176" y="507"/>
                </a:lnTo>
                <a:lnTo>
                  <a:pt x="199" y="446"/>
                </a:lnTo>
                <a:lnTo>
                  <a:pt x="146" y="425"/>
                </a:lnTo>
                <a:lnTo>
                  <a:pt x="65" y="390"/>
                </a:lnTo>
                <a:lnTo>
                  <a:pt x="5" y="348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7"/>
          <p:cNvSpPr/>
          <p:nvPr/>
        </p:nvSpPr>
        <p:spPr>
          <a:xfrm>
            <a:off x="676440" y="-320760"/>
            <a:ext cx="1287360" cy="113688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1"/>
                </a:moveTo>
                <a:lnTo>
                  <a:pt x="30" y="284"/>
                </a:lnTo>
                <a:lnTo>
                  <a:pt x="54" y="270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4"/>
                </a:lnTo>
                <a:lnTo>
                  <a:pt x="334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2"/>
                </a:lnTo>
                <a:lnTo>
                  <a:pt x="533" y="202"/>
                </a:lnTo>
                <a:lnTo>
                  <a:pt x="626" y="185"/>
                </a:lnTo>
                <a:lnTo>
                  <a:pt x="705" y="173"/>
                </a:lnTo>
                <a:lnTo>
                  <a:pt x="802" y="173"/>
                </a:lnTo>
                <a:lnTo>
                  <a:pt x="811" y="190"/>
                </a:lnTo>
                <a:lnTo>
                  <a:pt x="793" y="225"/>
                </a:lnTo>
                <a:lnTo>
                  <a:pt x="767" y="251"/>
                </a:lnTo>
                <a:lnTo>
                  <a:pt x="735" y="282"/>
                </a:lnTo>
                <a:lnTo>
                  <a:pt x="714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30"/>
                </a:lnTo>
                <a:lnTo>
                  <a:pt x="705" y="499"/>
                </a:lnTo>
                <a:lnTo>
                  <a:pt x="735" y="646"/>
                </a:lnTo>
                <a:lnTo>
                  <a:pt x="726" y="699"/>
                </a:lnTo>
                <a:lnTo>
                  <a:pt x="714" y="712"/>
                </a:lnTo>
                <a:lnTo>
                  <a:pt x="695" y="716"/>
                </a:lnTo>
                <a:lnTo>
                  <a:pt x="591" y="674"/>
                </a:lnTo>
                <a:lnTo>
                  <a:pt x="561" y="655"/>
                </a:lnTo>
                <a:lnTo>
                  <a:pt x="531" y="634"/>
                </a:lnTo>
                <a:lnTo>
                  <a:pt x="501" y="611"/>
                </a:lnTo>
                <a:lnTo>
                  <a:pt x="473" y="590"/>
                </a:lnTo>
                <a:lnTo>
                  <a:pt x="447" y="571"/>
                </a:lnTo>
                <a:lnTo>
                  <a:pt x="424" y="554"/>
                </a:lnTo>
                <a:lnTo>
                  <a:pt x="390" y="531"/>
                </a:lnTo>
                <a:lnTo>
                  <a:pt x="353" y="556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7" y="655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6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90"/>
                </a:lnTo>
                <a:lnTo>
                  <a:pt x="7" y="345"/>
                </a:lnTo>
                <a:lnTo>
                  <a:pt x="0" y="324"/>
                </a:lnTo>
                <a:lnTo>
                  <a:pt x="21" y="301"/>
                </a:lnTo>
                <a:lnTo>
                  <a:pt x="21" y="301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8"/>
          <p:cNvSpPr/>
          <p:nvPr/>
        </p:nvSpPr>
        <p:spPr>
          <a:xfrm>
            <a:off x="820800" y="2676600"/>
            <a:ext cx="374760" cy="961920"/>
          </a:xfrm>
          <a:custGeom>
            <a:avLst/>
            <a:gdLst/>
            <a:ahLst/>
            <a:rect l="l" t="t" r="r" b="b"/>
            <a:pathLst>
              <a:path w="236" h="606">
                <a:moveTo>
                  <a:pt x="180" y="69"/>
                </a:moveTo>
                <a:lnTo>
                  <a:pt x="236" y="534"/>
                </a:lnTo>
                <a:lnTo>
                  <a:pt x="217" y="572"/>
                </a:lnTo>
                <a:lnTo>
                  <a:pt x="204" y="587"/>
                </a:lnTo>
                <a:lnTo>
                  <a:pt x="187" y="598"/>
                </a:lnTo>
                <a:lnTo>
                  <a:pt x="113" y="606"/>
                </a:lnTo>
                <a:lnTo>
                  <a:pt x="48" y="570"/>
                </a:lnTo>
                <a:lnTo>
                  <a:pt x="32" y="537"/>
                </a:lnTo>
                <a:lnTo>
                  <a:pt x="32" y="494"/>
                </a:lnTo>
                <a:lnTo>
                  <a:pt x="46" y="389"/>
                </a:lnTo>
                <a:lnTo>
                  <a:pt x="39" y="295"/>
                </a:lnTo>
                <a:lnTo>
                  <a:pt x="21" y="202"/>
                </a:lnTo>
                <a:lnTo>
                  <a:pt x="0" y="95"/>
                </a:lnTo>
                <a:lnTo>
                  <a:pt x="0" y="59"/>
                </a:lnTo>
                <a:lnTo>
                  <a:pt x="16" y="29"/>
                </a:lnTo>
                <a:lnTo>
                  <a:pt x="44" y="10"/>
                </a:lnTo>
                <a:lnTo>
                  <a:pt x="76" y="0"/>
                </a:lnTo>
                <a:lnTo>
                  <a:pt x="141" y="10"/>
                </a:lnTo>
                <a:lnTo>
                  <a:pt x="180" y="69"/>
                </a:lnTo>
                <a:lnTo>
                  <a:pt x="180" y="69"/>
                </a:lnTo>
                <a:close/>
              </a:path>
            </a:pathLst>
          </a:custGeom>
          <a:solidFill>
            <a:srgbClr val="c275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29"/>
          <p:cNvSpPr/>
          <p:nvPr/>
        </p:nvSpPr>
        <p:spPr>
          <a:xfrm>
            <a:off x="566640" y="4286160"/>
            <a:ext cx="405000" cy="1003320"/>
          </a:xfrm>
          <a:custGeom>
            <a:avLst/>
            <a:gdLst/>
            <a:ahLst/>
            <a:rect l="l" t="t" r="r" b="b"/>
            <a:pathLst>
              <a:path w="255" h="632">
                <a:moveTo>
                  <a:pt x="255" y="89"/>
                </a:moveTo>
                <a:lnTo>
                  <a:pt x="241" y="423"/>
                </a:lnTo>
                <a:lnTo>
                  <a:pt x="220" y="535"/>
                </a:lnTo>
                <a:lnTo>
                  <a:pt x="208" y="579"/>
                </a:lnTo>
                <a:lnTo>
                  <a:pt x="181" y="608"/>
                </a:lnTo>
                <a:lnTo>
                  <a:pt x="146" y="627"/>
                </a:lnTo>
                <a:lnTo>
                  <a:pt x="104" y="632"/>
                </a:lnTo>
                <a:lnTo>
                  <a:pt x="30" y="602"/>
                </a:lnTo>
                <a:lnTo>
                  <a:pt x="0" y="524"/>
                </a:lnTo>
                <a:lnTo>
                  <a:pt x="9" y="400"/>
                </a:lnTo>
                <a:lnTo>
                  <a:pt x="23" y="314"/>
                </a:lnTo>
                <a:lnTo>
                  <a:pt x="42" y="240"/>
                </a:lnTo>
                <a:lnTo>
                  <a:pt x="72" y="80"/>
                </a:lnTo>
                <a:lnTo>
                  <a:pt x="81" y="42"/>
                </a:lnTo>
                <a:lnTo>
                  <a:pt x="104" y="17"/>
                </a:lnTo>
                <a:lnTo>
                  <a:pt x="134" y="4"/>
                </a:lnTo>
                <a:lnTo>
                  <a:pt x="169" y="0"/>
                </a:lnTo>
                <a:lnTo>
                  <a:pt x="229" y="23"/>
                </a:lnTo>
                <a:lnTo>
                  <a:pt x="255" y="89"/>
                </a:lnTo>
                <a:lnTo>
                  <a:pt x="255" y="8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30"/>
          <p:cNvSpPr/>
          <p:nvPr/>
        </p:nvSpPr>
        <p:spPr>
          <a:xfrm>
            <a:off x="1577880" y="6240600"/>
            <a:ext cx="1354320" cy="301320"/>
          </a:xfrm>
          <a:custGeom>
            <a:avLst/>
            <a:gdLst/>
            <a:ahLst/>
            <a:rect l="l" t="t" r="r" b="b"/>
            <a:pathLst>
              <a:path w="853" h="190">
                <a:moveTo>
                  <a:pt x="72" y="38"/>
                </a:moveTo>
                <a:lnTo>
                  <a:pt x="253" y="47"/>
                </a:lnTo>
                <a:lnTo>
                  <a:pt x="410" y="32"/>
                </a:lnTo>
                <a:lnTo>
                  <a:pt x="570" y="11"/>
                </a:lnTo>
                <a:lnTo>
                  <a:pt x="748" y="0"/>
                </a:lnTo>
                <a:lnTo>
                  <a:pt x="795" y="9"/>
                </a:lnTo>
                <a:lnTo>
                  <a:pt x="827" y="30"/>
                </a:lnTo>
                <a:lnTo>
                  <a:pt x="853" y="95"/>
                </a:lnTo>
                <a:lnTo>
                  <a:pt x="846" y="129"/>
                </a:lnTo>
                <a:lnTo>
                  <a:pt x="827" y="160"/>
                </a:lnTo>
                <a:lnTo>
                  <a:pt x="795" y="181"/>
                </a:lnTo>
                <a:lnTo>
                  <a:pt x="748" y="190"/>
                </a:lnTo>
                <a:lnTo>
                  <a:pt x="401" y="183"/>
                </a:lnTo>
                <a:lnTo>
                  <a:pt x="56" y="152"/>
                </a:lnTo>
                <a:lnTo>
                  <a:pt x="12" y="127"/>
                </a:lnTo>
                <a:lnTo>
                  <a:pt x="0" y="87"/>
                </a:lnTo>
                <a:lnTo>
                  <a:pt x="9" y="68"/>
                </a:lnTo>
                <a:lnTo>
                  <a:pt x="23" y="51"/>
                </a:lnTo>
                <a:lnTo>
                  <a:pt x="72" y="38"/>
                </a:lnTo>
                <a:lnTo>
                  <a:pt x="72" y="3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1"/>
          <p:cNvSpPr/>
          <p:nvPr/>
        </p:nvSpPr>
        <p:spPr>
          <a:xfrm>
            <a:off x="3335400" y="6240600"/>
            <a:ext cx="1465200" cy="357120"/>
          </a:xfrm>
          <a:custGeom>
            <a:avLst/>
            <a:gdLst/>
            <a:ahLst/>
            <a:rect l="l" t="t" r="r" b="b"/>
            <a:pathLst>
              <a:path w="923" h="225">
                <a:moveTo>
                  <a:pt x="114" y="0"/>
                </a:moveTo>
                <a:lnTo>
                  <a:pt x="369" y="26"/>
                </a:lnTo>
                <a:lnTo>
                  <a:pt x="621" y="36"/>
                </a:lnTo>
                <a:lnTo>
                  <a:pt x="818" y="36"/>
                </a:lnTo>
                <a:lnTo>
                  <a:pt x="865" y="45"/>
                </a:lnTo>
                <a:lnTo>
                  <a:pt x="897" y="66"/>
                </a:lnTo>
                <a:lnTo>
                  <a:pt x="923" y="131"/>
                </a:lnTo>
                <a:lnTo>
                  <a:pt x="916" y="167"/>
                </a:lnTo>
                <a:lnTo>
                  <a:pt x="897" y="196"/>
                </a:lnTo>
                <a:lnTo>
                  <a:pt x="865" y="217"/>
                </a:lnTo>
                <a:lnTo>
                  <a:pt x="818" y="225"/>
                </a:lnTo>
                <a:lnTo>
                  <a:pt x="621" y="225"/>
                </a:lnTo>
                <a:lnTo>
                  <a:pt x="357" y="215"/>
                </a:lnTo>
                <a:lnTo>
                  <a:pt x="93" y="190"/>
                </a:lnTo>
                <a:lnTo>
                  <a:pt x="49" y="177"/>
                </a:lnTo>
                <a:lnTo>
                  <a:pt x="19" y="152"/>
                </a:lnTo>
                <a:lnTo>
                  <a:pt x="0" y="84"/>
                </a:lnTo>
                <a:lnTo>
                  <a:pt x="10" y="51"/>
                </a:lnTo>
                <a:lnTo>
                  <a:pt x="33" y="23"/>
                </a:lnTo>
                <a:lnTo>
                  <a:pt x="68" y="5"/>
                </a:lnTo>
                <a:lnTo>
                  <a:pt x="114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32"/>
          <p:cNvSpPr/>
          <p:nvPr/>
        </p:nvSpPr>
        <p:spPr>
          <a:xfrm>
            <a:off x="5565600" y="6227640"/>
            <a:ext cx="1305000" cy="333360"/>
          </a:xfrm>
          <a:custGeom>
            <a:avLst/>
            <a:gdLst/>
            <a:ahLst/>
            <a:rect l="l" t="t" r="r" b="b"/>
            <a:pathLst>
              <a:path w="822" h="210">
                <a:moveTo>
                  <a:pt x="53" y="44"/>
                </a:moveTo>
                <a:lnTo>
                  <a:pt x="257" y="25"/>
                </a:lnTo>
                <a:lnTo>
                  <a:pt x="354" y="8"/>
                </a:lnTo>
                <a:lnTo>
                  <a:pt x="463" y="0"/>
                </a:lnTo>
                <a:lnTo>
                  <a:pt x="616" y="10"/>
                </a:lnTo>
                <a:lnTo>
                  <a:pt x="764" y="46"/>
                </a:lnTo>
                <a:lnTo>
                  <a:pt x="801" y="65"/>
                </a:lnTo>
                <a:lnTo>
                  <a:pt x="820" y="90"/>
                </a:lnTo>
                <a:lnTo>
                  <a:pt x="822" y="151"/>
                </a:lnTo>
                <a:lnTo>
                  <a:pt x="806" y="181"/>
                </a:lnTo>
                <a:lnTo>
                  <a:pt x="780" y="200"/>
                </a:lnTo>
                <a:lnTo>
                  <a:pt x="748" y="210"/>
                </a:lnTo>
                <a:lnTo>
                  <a:pt x="706" y="206"/>
                </a:lnTo>
                <a:lnTo>
                  <a:pt x="586" y="183"/>
                </a:lnTo>
                <a:lnTo>
                  <a:pt x="461" y="179"/>
                </a:lnTo>
                <a:lnTo>
                  <a:pt x="254" y="160"/>
                </a:lnTo>
                <a:lnTo>
                  <a:pt x="157" y="145"/>
                </a:lnTo>
                <a:lnTo>
                  <a:pt x="48" y="135"/>
                </a:lnTo>
                <a:lnTo>
                  <a:pt x="11" y="120"/>
                </a:lnTo>
                <a:lnTo>
                  <a:pt x="0" y="86"/>
                </a:lnTo>
                <a:lnTo>
                  <a:pt x="13" y="57"/>
                </a:lnTo>
                <a:lnTo>
                  <a:pt x="53" y="44"/>
                </a:lnTo>
                <a:lnTo>
                  <a:pt x="53" y="4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33"/>
          <p:cNvSpPr/>
          <p:nvPr/>
        </p:nvSpPr>
        <p:spPr>
          <a:xfrm>
            <a:off x="7889760" y="1089000"/>
            <a:ext cx="379440" cy="1106640"/>
          </a:xfrm>
          <a:custGeom>
            <a:avLst/>
            <a:gdLst/>
            <a:ahLst/>
            <a:rect l="l" t="t" r="r" b="b"/>
            <a:pathLst>
              <a:path w="239" h="697">
                <a:moveTo>
                  <a:pt x="239" y="108"/>
                </a:moveTo>
                <a:lnTo>
                  <a:pt x="222" y="238"/>
                </a:lnTo>
                <a:lnTo>
                  <a:pt x="204" y="356"/>
                </a:lnTo>
                <a:lnTo>
                  <a:pt x="195" y="604"/>
                </a:lnTo>
                <a:lnTo>
                  <a:pt x="192" y="640"/>
                </a:lnTo>
                <a:lnTo>
                  <a:pt x="174" y="670"/>
                </a:lnTo>
                <a:lnTo>
                  <a:pt x="146" y="688"/>
                </a:lnTo>
                <a:lnTo>
                  <a:pt x="113" y="697"/>
                </a:lnTo>
                <a:lnTo>
                  <a:pt x="49" y="682"/>
                </a:lnTo>
                <a:lnTo>
                  <a:pt x="11" y="621"/>
                </a:lnTo>
                <a:lnTo>
                  <a:pt x="0" y="358"/>
                </a:lnTo>
                <a:lnTo>
                  <a:pt x="16" y="95"/>
                </a:lnTo>
                <a:lnTo>
                  <a:pt x="30" y="51"/>
                </a:lnTo>
                <a:lnTo>
                  <a:pt x="56" y="21"/>
                </a:lnTo>
                <a:lnTo>
                  <a:pt x="93" y="5"/>
                </a:lnTo>
                <a:lnTo>
                  <a:pt x="134" y="0"/>
                </a:lnTo>
                <a:lnTo>
                  <a:pt x="208" y="30"/>
                </a:lnTo>
                <a:lnTo>
                  <a:pt x="239" y="108"/>
                </a:lnTo>
                <a:lnTo>
                  <a:pt x="239" y="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34"/>
          <p:cNvSpPr/>
          <p:nvPr/>
        </p:nvSpPr>
        <p:spPr>
          <a:xfrm>
            <a:off x="7929720" y="2676600"/>
            <a:ext cx="317520" cy="1258920"/>
          </a:xfrm>
          <a:custGeom>
            <a:avLst/>
            <a:gdLst/>
            <a:ahLst/>
            <a:rect l="l" t="t" r="r" b="b"/>
            <a:pathLst>
              <a:path w="200" h="793">
                <a:moveTo>
                  <a:pt x="174" y="78"/>
                </a:moveTo>
                <a:lnTo>
                  <a:pt x="200" y="713"/>
                </a:lnTo>
                <a:lnTo>
                  <a:pt x="188" y="749"/>
                </a:lnTo>
                <a:lnTo>
                  <a:pt x="167" y="774"/>
                </a:lnTo>
                <a:lnTo>
                  <a:pt x="137" y="789"/>
                </a:lnTo>
                <a:lnTo>
                  <a:pt x="102" y="793"/>
                </a:lnTo>
                <a:lnTo>
                  <a:pt x="40" y="770"/>
                </a:lnTo>
                <a:lnTo>
                  <a:pt x="14" y="705"/>
                </a:lnTo>
                <a:lnTo>
                  <a:pt x="19" y="539"/>
                </a:lnTo>
                <a:lnTo>
                  <a:pt x="14" y="393"/>
                </a:lnTo>
                <a:lnTo>
                  <a:pt x="0" y="80"/>
                </a:lnTo>
                <a:lnTo>
                  <a:pt x="7" y="46"/>
                </a:lnTo>
                <a:lnTo>
                  <a:pt x="26" y="21"/>
                </a:lnTo>
                <a:lnTo>
                  <a:pt x="54" y="4"/>
                </a:lnTo>
                <a:lnTo>
                  <a:pt x="86" y="0"/>
                </a:lnTo>
                <a:lnTo>
                  <a:pt x="146" y="19"/>
                </a:lnTo>
                <a:lnTo>
                  <a:pt x="174" y="78"/>
                </a:lnTo>
                <a:lnTo>
                  <a:pt x="174" y="7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35"/>
          <p:cNvSpPr/>
          <p:nvPr/>
        </p:nvSpPr>
        <p:spPr>
          <a:xfrm>
            <a:off x="7864560" y="4316400"/>
            <a:ext cx="377640" cy="961920"/>
          </a:xfrm>
          <a:custGeom>
            <a:avLst/>
            <a:gdLst/>
            <a:ahLst/>
            <a:rect l="l" t="t" r="r" b="b"/>
            <a:pathLst>
              <a:path w="238" h="606">
                <a:moveTo>
                  <a:pt x="183" y="70"/>
                </a:moveTo>
                <a:lnTo>
                  <a:pt x="238" y="535"/>
                </a:lnTo>
                <a:lnTo>
                  <a:pt x="220" y="573"/>
                </a:lnTo>
                <a:lnTo>
                  <a:pt x="206" y="587"/>
                </a:lnTo>
                <a:lnTo>
                  <a:pt x="190" y="598"/>
                </a:lnTo>
                <a:lnTo>
                  <a:pt x="113" y="606"/>
                </a:lnTo>
                <a:lnTo>
                  <a:pt x="48" y="570"/>
                </a:lnTo>
                <a:lnTo>
                  <a:pt x="34" y="537"/>
                </a:lnTo>
                <a:lnTo>
                  <a:pt x="34" y="495"/>
                </a:lnTo>
                <a:lnTo>
                  <a:pt x="48" y="389"/>
                </a:lnTo>
                <a:lnTo>
                  <a:pt x="41" y="295"/>
                </a:lnTo>
                <a:lnTo>
                  <a:pt x="23" y="202"/>
                </a:lnTo>
                <a:lnTo>
                  <a:pt x="0" y="95"/>
                </a:lnTo>
                <a:lnTo>
                  <a:pt x="2" y="59"/>
                </a:lnTo>
                <a:lnTo>
                  <a:pt x="18" y="30"/>
                </a:lnTo>
                <a:lnTo>
                  <a:pt x="44" y="11"/>
                </a:lnTo>
                <a:lnTo>
                  <a:pt x="76" y="0"/>
                </a:lnTo>
                <a:lnTo>
                  <a:pt x="143" y="11"/>
                </a:lnTo>
                <a:lnTo>
                  <a:pt x="183" y="70"/>
                </a:lnTo>
                <a:lnTo>
                  <a:pt x="183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36"/>
          <p:cNvSpPr/>
          <p:nvPr/>
        </p:nvSpPr>
        <p:spPr>
          <a:xfrm>
            <a:off x="5918040" y="-49320"/>
            <a:ext cx="1159200" cy="287280"/>
          </a:xfrm>
          <a:custGeom>
            <a:avLst/>
            <a:gdLst/>
            <a:ahLst/>
            <a:rect l="l" t="t" r="r" b="b"/>
            <a:pathLst>
              <a:path w="730" h="181">
                <a:moveTo>
                  <a:pt x="63" y="48"/>
                </a:moveTo>
                <a:lnTo>
                  <a:pt x="345" y="25"/>
                </a:lnTo>
                <a:lnTo>
                  <a:pt x="480" y="8"/>
                </a:lnTo>
                <a:lnTo>
                  <a:pt x="630" y="0"/>
                </a:lnTo>
                <a:lnTo>
                  <a:pt x="674" y="8"/>
                </a:lnTo>
                <a:lnTo>
                  <a:pt x="704" y="29"/>
                </a:lnTo>
                <a:lnTo>
                  <a:pt x="730" y="90"/>
                </a:lnTo>
                <a:lnTo>
                  <a:pt x="723" y="124"/>
                </a:lnTo>
                <a:lnTo>
                  <a:pt x="704" y="151"/>
                </a:lnTo>
                <a:lnTo>
                  <a:pt x="674" y="172"/>
                </a:lnTo>
                <a:lnTo>
                  <a:pt x="630" y="181"/>
                </a:lnTo>
                <a:lnTo>
                  <a:pt x="63" y="162"/>
                </a:lnTo>
                <a:lnTo>
                  <a:pt x="16" y="143"/>
                </a:lnTo>
                <a:lnTo>
                  <a:pt x="0" y="105"/>
                </a:lnTo>
                <a:lnTo>
                  <a:pt x="16" y="65"/>
                </a:lnTo>
                <a:lnTo>
                  <a:pt x="35" y="52"/>
                </a:lnTo>
                <a:lnTo>
                  <a:pt x="63" y="48"/>
                </a:lnTo>
                <a:lnTo>
                  <a:pt x="63" y="4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37"/>
          <p:cNvSpPr/>
          <p:nvPr/>
        </p:nvSpPr>
        <p:spPr>
          <a:xfrm>
            <a:off x="2192400" y="17640"/>
            <a:ext cx="1368360" cy="344160"/>
          </a:xfrm>
          <a:custGeom>
            <a:avLst/>
            <a:gdLst/>
            <a:ahLst/>
            <a:rect l="l" t="t" r="r" b="b"/>
            <a:pathLst>
              <a:path w="862" h="217">
                <a:moveTo>
                  <a:pt x="81" y="40"/>
                </a:moveTo>
                <a:lnTo>
                  <a:pt x="269" y="12"/>
                </a:lnTo>
                <a:lnTo>
                  <a:pt x="438" y="0"/>
                </a:lnTo>
                <a:lnTo>
                  <a:pt x="605" y="4"/>
                </a:lnTo>
                <a:lnTo>
                  <a:pt x="792" y="33"/>
                </a:lnTo>
                <a:lnTo>
                  <a:pt x="829" y="48"/>
                </a:lnTo>
                <a:lnTo>
                  <a:pt x="853" y="71"/>
                </a:lnTo>
                <a:lnTo>
                  <a:pt x="862" y="132"/>
                </a:lnTo>
                <a:lnTo>
                  <a:pt x="848" y="162"/>
                </a:lnTo>
                <a:lnTo>
                  <a:pt x="825" y="183"/>
                </a:lnTo>
                <a:lnTo>
                  <a:pt x="792" y="198"/>
                </a:lnTo>
                <a:lnTo>
                  <a:pt x="753" y="196"/>
                </a:lnTo>
                <a:lnTo>
                  <a:pt x="584" y="174"/>
                </a:lnTo>
                <a:lnTo>
                  <a:pt x="433" y="174"/>
                </a:lnTo>
                <a:lnTo>
                  <a:pt x="116" y="217"/>
                </a:lnTo>
                <a:lnTo>
                  <a:pt x="72" y="217"/>
                </a:lnTo>
                <a:lnTo>
                  <a:pt x="37" y="202"/>
                </a:lnTo>
                <a:lnTo>
                  <a:pt x="2" y="145"/>
                </a:lnTo>
                <a:lnTo>
                  <a:pt x="0" y="128"/>
                </a:lnTo>
                <a:lnTo>
                  <a:pt x="2" y="111"/>
                </a:lnTo>
                <a:lnTo>
                  <a:pt x="14" y="80"/>
                </a:lnTo>
                <a:lnTo>
                  <a:pt x="42" y="55"/>
                </a:lnTo>
                <a:lnTo>
                  <a:pt x="81" y="40"/>
                </a:lnTo>
                <a:lnTo>
                  <a:pt x="81" y="4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38"/>
          <p:cNvSpPr/>
          <p:nvPr/>
        </p:nvSpPr>
        <p:spPr>
          <a:xfrm>
            <a:off x="3979800" y="27000"/>
            <a:ext cx="1360440" cy="297000"/>
          </a:xfrm>
          <a:custGeom>
            <a:avLst/>
            <a:gdLst/>
            <a:ahLst/>
            <a:rect l="l" t="t" r="r" b="b"/>
            <a:pathLst>
              <a:path w="857" h="187">
                <a:moveTo>
                  <a:pt x="93" y="0"/>
                </a:moveTo>
                <a:lnTo>
                  <a:pt x="429" y="11"/>
                </a:lnTo>
                <a:lnTo>
                  <a:pt x="765" y="21"/>
                </a:lnTo>
                <a:lnTo>
                  <a:pt x="804" y="27"/>
                </a:lnTo>
                <a:lnTo>
                  <a:pt x="834" y="46"/>
                </a:lnTo>
                <a:lnTo>
                  <a:pt x="857" y="105"/>
                </a:lnTo>
                <a:lnTo>
                  <a:pt x="850" y="135"/>
                </a:lnTo>
                <a:lnTo>
                  <a:pt x="834" y="162"/>
                </a:lnTo>
                <a:lnTo>
                  <a:pt x="804" y="181"/>
                </a:lnTo>
                <a:lnTo>
                  <a:pt x="765" y="187"/>
                </a:lnTo>
                <a:lnTo>
                  <a:pt x="429" y="177"/>
                </a:lnTo>
                <a:lnTo>
                  <a:pt x="93" y="166"/>
                </a:lnTo>
                <a:lnTo>
                  <a:pt x="51" y="160"/>
                </a:lnTo>
                <a:lnTo>
                  <a:pt x="23" y="141"/>
                </a:lnTo>
                <a:lnTo>
                  <a:pt x="0" y="82"/>
                </a:lnTo>
                <a:lnTo>
                  <a:pt x="5" y="53"/>
                </a:lnTo>
                <a:lnTo>
                  <a:pt x="23" y="25"/>
                </a:lnTo>
                <a:lnTo>
                  <a:pt x="51" y="6"/>
                </a:lnTo>
                <a:lnTo>
                  <a:pt x="93" y="0"/>
                </a:lnTo>
                <a:lnTo>
                  <a:pt x="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39"/>
          <p:cNvSpPr/>
          <p:nvPr/>
        </p:nvSpPr>
        <p:spPr>
          <a:xfrm>
            <a:off x="639720" y="1000080"/>
            <a:ext cx="371520" cy="1473120"/>
          </a:xfrm>
          <a:custGeom>
            <a:avLst/>
            <a:gdLst/>
            <a:ahLst/>
            <a:rect l="l" t="t" r="r" b="b"/>
            <a:pathLst>
              <a:path w="234" h="928">
                <a:moveTo>
                  <a:pt x="234" y="94"/>
                </a:moveTo>
                <a:lnTo>
                  <a:pt x="211" y="298"/>
                </a:lnTo>
                <a:lnTo>
                  <a:pt x="195" y="391"/>
                </a:lnTo>
                <a:lnTo>
                  <a:pt x="179" y="479"/>
                </a:lnTo>
                <a:lnTo>
                  <a:pt x="137" y="864"/>
                </a:lnTo>
                <a:lnTo>
                  <a:pt x="130" y="892"/>
                </a:lnTo>
                <a:lnTo>
                  <a:pt x="116" y="911"/>
                </a:lnTo>
                <a:lnTo>
                  <a:pt x="67" y="928"/>
                </a:lnTo>
                <a:lnTo>
                  <a:pt x="21" y="911"/>
                </a:lnTo>
                <a:lnTo>
                  <a:pt x="0" y="864"/>
                </a:lnTo>
                <a:lnTo>
                  <a:pt x="12" y="475"/>
                </a:lnTo>
                <a:lnTo>
                  <a:pt x="37" y="84"/>
                </a:lnTo>
                <a:lnTo>
                  <a:pt x="46" y="46"/>
                </a:lnTo>
                <a:lnTo>
                  <a:pt x="72" y="18"/>
                </a:lnTo>
                <a:lnTo>
                  <a:pt x="104" y="4"/>
                </a:lnTo>
                <a:lnTo>
                  <a:pt x="141" y="0"/>
                </a:lnTo>
                <a:lnTo>
                  <a:pt x="206" y="25"/>
                </a:lnTo>
                <a:lnTo>
                  <a:pt x="234" y="94"/>
                </a:lnTo>
                <a:lnTo>
                  <a:pt x="234" y="9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40"/>
          <p:cNvSpPr/>
          <p:nvPr/>
        </p:nvSpPr>
        <p:spPr>
          <a:xfrm>
            <a:off x="201600" y="5486400"/>
            <a:ext cx="129240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1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5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67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4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8"/>
                </a:lnTo>
                <a:lnTo>
                  <a:pt x="714" y="711"/>
                </a:lnTo>
                <a:lnTo>
                  <a:pt x="696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8"/>
                </a:lnTo>
                <a:lnTo>
                  <a:pt x="288" y="602"/>
                </a:lnTo>
                <a:lnTo>
                  <a:pt x="258" y="621"/>
                </a:lnTo>
                <a:lnTo>
                  <a:pt x="232" y="639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41"/>
          <p:cNvSpPr/>
          <p:nvPr/>
        </p:nvSpPr>
        <p:spPr>
          <a:xfrm>
            <a:off x="7261200" y="-314280"/>
            <a:ext cx="1287360" cy="1136520"/>
          </a:xfrm>
          <a:custGeom>
            <a:avLst/>
            <a:gdLst/>
            <a:ahLst/>
            <a:rect l="l" t="t" r="r" b="b"/>
            <a:pathLst>
              <a:path w="811" h="716">
                <a:moveTo>
                  <a:pt x="21" y="304"/>
                </a:moveTo>
                <a:lnTo>
                  <a:pt x="28" y="287"/>
                </a:lnTo>
                <a:lnTo>
                  <a:pt x="51" y="272"/>
                </a:lnTo>
                <a:lnTo>
                  <a:pt x="129" y="249"/>
                </a:lnTo>
                <a:lnTo>
                  <a:pt x="280" y="228"/>
                </a:lnTo>
                <a:lnTo>
                  <a:pt x="299" y="146"/>
                </a:lnTo>
                <a:lnTo>
                  <a:pt x="315" y="76"/>
                </a:lnTo>
                <a:lnTo>
                  <a:pt x="333" y="45"/>
                </a:lnTo>
                <a:lnTo>
                  <a:pt x="350" y="24"/>
                </a:lnTo>
                <a:lnTo>
                  <a:pt x="380" y="0"/>
                </a:lnTo>
                <a:lnTo>
                  <a:pt x="405" y="3"/>
                </a:lnTo>
                <a:lnTo>
                  <a:pt x="428" y="22"/>
                </a:lnTo>
                <a:lnTo>
                  <a:pt x="475" y="101"/>
                </a:lnTo>
                <a:lnTo>
                  <a:pt x="500" y="152"/>
                </a:lnTo>
                <a:lnTo>
                  <a:pt x="530" y="205"/>
                </a:lnTo>
                <a:lnTo>
                  <a:pt x="623" y="188"/>
                </a:lnTo>
                <a:lnTo>
                  <a:pt x="702" y="175"/>
                </a:lnTo>
                <a:lnTo>
                  <a:pt x="799" y="173"/>
                </a:lnTo>
                <a:lnTo>
                  <a:pt x="811" y="192"/>
                </a:lnTo>
                <a:lnTo>
                  <a:pt x="790" y="228"/>
                </a:lnTo>
                <a:lnTo>
                  <a:pt x="767" y="253"/>
                </a:lnTo>
                <a:lnTo>
                  <a:pt x="734" y="285"/>
                </a:lnTo>
                <a:lnTo>
                  <a:pt x="713" y="301"/>
                </a:lnTo>
                <a:lnTo>
                  <a:pt x="690" y="320"/>
                </a:lnTo>
                <a:lnTo>
                  <a:pt x="665" y="341"/>
                </a:lnTo>
                <a:lnTo>
                  <a:pt x="637" y="365"/>
                </a:lnTo>
                <a:lnTo>
                  <a:pt x="674" y="432"/>
                </a:lnTo>
                <a:lnTo>
                  <a:pt x="702" y="501"/>
                </a:lnTo>
                <a:lnTo>
                  <a:pt x="732" y="647"/>
                </a:lnTo>
                <a:lnTo>
                  <a:pt x="725" y="699"/>
                </a:lnTo>
                <a:lnTo>
                  <a:pt x="711" y="712"/>
                </a:lnTo>
                <a:lnTo>
                  <a:pt x="692" y="716"/>
                </a:lnTo>
                <a:lnTo>
                  <a:pt x="588" y="674"/>
                </a:lnTo>
                <a:lnTo>
                  <a:pt x="558" y="655"/>
                </a:lnTo>
                <a:lnTo>
                  <a:pt x="528" y="634"/>
                </a:lnTo>
                <a:lnTo>
                  <a:pt x="500" y="613"/>
                </a:lnTo>
                <a:lnTo>
                  <a:pt x="470" y="592"/>
                </a:lnTo>
                <a:lnTo>
                  <a:pt x="445" y="571"/>
                </a:lnTo>
                <a:lnTo>
                  <a:pt x="421" y="554"/>
                </a:lnTo>
                <a:lnTo>
                  <a:pt x="389" y="533"/>
                </a:lnTo>
                <a:lnTo>
                  <a:pt x="352" y="556"/>
                </a:lnTo>
                <a:lnTo>
                  <a:pt x="317" y="579"/>
                </a:lnTo>
                <a:lnTo>
                  <a:pt x="285" y="602"/>
                </a:lnTo>
                <a:lnTo>
                  <a:pt x="257" y="623"/>
                </a:lnTo>
                <a:lnTo>
                  <a:pt x="229" y="640"/>
                </a:lnTo>
                <a:lnTo>
                  <a:pt x="206" y="655"/>
                </a:lnTo>
                <a:lnTo>
                  <a:pt x="169" y="672"/>
                </a:lnTo>
                <a:lnTo>
                  <a:pt x="148" y="663"/>
                </a:lnTo>
                <a:lnTo>
                  <a:pt x="143" y="628"/>
                </a:lnTo>
                <a:lnTo>
                  <a:pt x="160" y="556"/>
                </a:lnTo>
                <a:lnTo>
                  <a:pt x="176" y="508"/>
                </a:lnTo>
                <a:lnTo>
                  <a:pt x="197" y="447"/>
                </a:lnTo>
                <a:lnTo>
                  <a:pt x="146" y="426"/>
                </a:lnTo>
                <a:lnTo>
                  <a:pt x="65" y="390"/>
                </a:lnTo>
                <a:lnTo>
                  <a:pt x="4" y="348"/>
                </a:lnTo>
                <a:lnTo>
                  <a:pt x="0" y="325"/>
                </a:lnTo>
                <a:lnTo>
                  <a:pt x="21" y="304"/>
                </a:lnTo>
                <a:lnTo>
                  <a:pt x="21" y="30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42"/>
          <p:cNvSpPr/>
          <p:nvPr/>
        </p:nvSpPr>
        <p:spPr>
          <a:xfrm>
            <a:off x="7359480" y="5586480"/>
            <a:ext cx="1287720" cy="1135080"/>
          </a:xfrm>
          <a:custGeom>
            <a:avLst/>
            <a:gdLst/>
            <a:ahLst/>
            <a:rect l="l" t="t" r="r" b="b"/>
            <a:pathLst>
              <a:path w="811" h="715">
                <a:moveTo>
                  <a:pt x="21" y="303"/>
                </a:moveTo>
                <a:lnTo>
                  <a:pt x="28" y="286"/>
                </a:lnTo>
                <a:lnTo>
                  <a:pt x="51" y="271"/>
                </a:lnTo>
                <a:lnTo>
                  <a:pt x="130" y="248"/>
                </a:lnTo>
                <a:lnTo>
                  <a:pt x="283" y="227"/>
                </a:lnTo>
                <a:lnTo>
                  <a:pt x="301" y="145"/>
                </a:lnTo>
                <a:lnTo>
                  <a:pt x="315" y="76"/>
                </a:lnTo>
                <a:lnTo>
                  <a:pt x="334" y="44"/>
                </a:lnTo>
                <a:lnTo>
                  <a:pt x="352" y="23"/>
                </a:lnTo>
                <a:lnTo>
                  <a:pt x="383" y="0"/>
                </a:lnTo>
                <a:lnTo>
                  <a:pt x="408" y="2"/>
                </a:lnTo>
                <a:lnTo>
                  <a:pt x="429" y="21"/>
                </a:lnTo>
                <a:lnTo>
                  <a:pt x="475" y="103"/>
                </a:lnTo>
                <a:lnTo>
                  <a:pt x="501" y="153"/>
                </a:lnTo>
                <a:lnTo>
                  <a:pt x="533" y="204"/>
                </a:lnTo>
                <a:lnTo>
                  <a:pt x="626" y="187"/>
                </a:lnTo>
                <a:lnTo>
                  <a:pt x="705" y="175"/>
                </a:lnTo>
                <a:lnTo>
                  <a:pt x="802" y="172"/>
                </a:lnTo>
                <a:lnTo>
                  <a:pt x="811" y="191"/>
                </a:lnTo>
                <a:lnTo>
                  <a:pt x="790" y="227"/>
                </a:lnTo>
                <a:lnTo>
                  <a:pt x="767" y="252"/>
                </a:lnTo>
                <a:lnTo>
                  <a:pt x="735" y="284"/>
                </a:lnTo>
                <a:lnTo>
                  <a:pt x="714" y="301"/>
                </a:lnTo>
                <a:lnTo>
                  <a:pt x="691" y="320"/>
                </a:lnTo>
                <a:lnTo>
                  <a:pt x="668" y="341"/>
                </a:lnTo>
                <a:lnTo>
                  <a:pt x="637" y="364"/>
                </a:lnTo>
                <a:lnTo>
                  <a:pt x="675" y="431"/>
                </a:lnTo>
                <a:lnTo>
                  <a:pt x="702" y="501"/>
                </a:lnTo>
                <a:lnTo>
                  <a:pt x="735" y="648"/>
                </a:lnTo>
                <a:lnTo>
                  <a:pt x="725" y="699"/>
                </a:lnTo>
                <a:lnTo>
                  <a:pt x="712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2"/>
                </a:lnTo>
                <a:lnTo>
                  <a:pt x="473" y="591"/>
                </a:lnTo>
                <a:lnTo>
                  <a:pt x="445" y="570"/>
                </a:lnTo>
                <a:lnTo>
                  <a:pt x="424" y="553"/>
                </a:lnTo>
                <a:lnTo>
                  <a:pt x="390" y="532"/>
                </a:lnTo>
                <a:lnTo>
                  <a:pt x="352" y="555"/>
                </a:lnTo>
                <a:lnTo>
                  <a:pt x="318" y="581"/>
                </a:lnTo>
                <a:lnTo>
                  <a:pt x="288" y="602"/>
                </a:lnTo>
                <a:lnTo>
                  <a:pt x="257" y="623"/>
                </a:lnTo>
                <a:lnTo>
                  <a:pt x="230" y="642"/>
                </a:lnTo>
                <a:lnTo>
                  <a:pt x="206" y="654"/>
                </a:lnTo>
                <a:lnTo>
                  <a:pt x="169" y="671"/>
                </a:lnTo>
                <a:lnTo>
                  <a:pt x="149" y="663"/>
                </a:lnTo>
                <a:lnTo>
                  <a:pt x="146" y="627"/>
                </a:lnTo>
                <a:lnTo>
                  <a:pt x="162" y="558"/>
                </a:lnTo>
                <a:lnTo>
                  <a:pt x="176" y="507"/>
                </a:lnTo>
                <a:lnTo>
                  <a:pt x="200" y="446"/>
                </a:lnTo>
                <a:lnTo>
                  <a:pt x="146" y="425"/>
                </a:lnTo>
                <a:lnTo>
                  <a:pt x="65" y="389"/>
                </a:lnTo>
                <a:lnTo>
                  <a:pt x="5" y="347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43"/>
          <p:cNvSpPr/>
          <p:nvPr/>
        </p:nvSpPr>
        <p:spPr>
          <a:xfrm>
            <a:off x="514440" y="-270000"/>
            <a:ext cx="1292040" cy="1135080"/>
          </a:xfrm>
          <a:custGeom>
            <a:avLst/>
            <a:gdLst/>
            <a:ahLst/>
            <a:rect l="l" t="t" r="r" b="b"/>
            <a:pathLst>
              <a:path w="814" h="715">
                <a:moveTo>
                  <a:pt x="21" y="303"/>
                </a:moveTo>
                <a:lnTo>
                  <a:pt x="30" y="284"/>
                </a:lnTo>
                <a:lnTo>
                  <a:pt x="54" y="269"/>
                </a:lnTo>
                <a:lnTo>
                  <a:pt x="130" y="246"/>
                </a:lnTo>
                <a:lnTo>
                  <a:pt x="283" y="225"/>
                </a:lnTo>
                <a:lnTo>
                  <a:pt x="302" y="143"/>
                </a:lnTo>
                <a:lnTo>
                  <a:pt x="318" y="73"/>
                </a:lnTo>
                <a:lnTo>
                  <a:pt x="336" y="44"/>
                </a:lnTo>
                <a:lnTo>
                  <a:pt x="353" y="23"/>
                </a:lnTo>
                <a:lnTo>
                  <a:pt x="383" y="0"/>
                </a:lnTo>
                <a:lnTo>
                  <a:pt x="408" y="0"/>
                </a:lnTo>
                <a:lnTo>
                  <a:pt x="431" y="21"/>
                </a:lnTo>
                <a:lnTo>
                  <a:pt x="475" y="101"/>
                </a:lnTo>
                <a:lnTo>
                  <a:pt x="503" y="151"/>
                </a:lnTo>
                <a:lnTo>
                  <a:pt x="533" y="202"/>
                </a:lnTo>
                <a:lnTo>
                  <a:pt x="626" y="187"/>
                </a:lnTo>
                <a:lnTo>
                  <a:pt x="705" y="172"/>
                </a:lnTo>
                <a:lnTo>
                  <a:pt x="802" y="172"/>
                </a:lnTo>
                <a:lnTo>
                  <a:pt x="814" y="189"/>
                </a:lnTo>
                <a:lnTo>
                  <a:pt x="793" y="225"/>
                </a:lnTo>
                <a:lnTo>
                  <a:pt x="770" y="250"/>
                </a:lnTo>
                <a:lnTo>
                  <a:pt x="735" y="282"/>
                </a:lnTo>
                <a:lnTo>
                  <a:pt x="716" y="301"/>
                </a:lnTo>
                <a:lnTo>
                  <a:pt x="693" y="320"/>
                </a:lnTo>
                <a:lnTo>
                  <a:pt x="668" y="341"/>
                </a:lnTo>
                <a:lnTo>
                  <a:pt x="640" y="362"/>
                </a:lnTo>
                <a:lnTo>
                  <a:pt x="675" y="429"/>
                </a:lnTo>
                <a:lnTo>
                  <a:pt x="705" y="501"/>
                </a:lnTo>
                <a:lnTo>
                  <a:pt x="735" y="646"/>
                </a:lnTo>
                <a:lnTo>
                  <a:pt x="726" y="699"/>
                </a:lnTo>
                <a:lnTo>
                  <a:pt x="714" y="711"/>
                </a:lnTo>
                <a:lnTo>
                  <a:pt x="695" y="715"/>
                </a:lnTo>
                <a:lnTo>
                  <a:pt x="591" y="673"/>
                </a:lnTo>
                <a:lnTo>
                  <a:pt x="561" y="654"/>
                </a:lnTo>
                <a:lnTo>
                  <a:pt x="531" y="633"/>
                </a:lnTo>
                <a:lnTo>
                  <a:pt x="501" y="610"/>
                </a:lnTo>
                <a:lnTo>
                  <a:pt x="473" y="589"/>
                </a:lnTo>
                <a:lnTo>
                  <a:pt x="448" y="570"/>
                </a:lnTo>
                <a:lnTo>
                  <a:pt x="424" y="553"/>
                </a:lnTo>
                <a:lnTo>
                  <a:pt x="390" y="530"/>
                </a:lnTo>
                <a:lnTo>
                  <a:pt x="355" y="555"/>
                </a:lnTo>
                <a:lnTo>
                  <a:pt x="320" y="579"/>
                </a:lnTo>
                <a:lnTo>
                  <a:pt x="288" y="602"/>
                </a:lnTo>
                <a:lnTo>
                  <a:pt x="258" y="623"/>
                </a:lnTo>
                <a:lnTo>
                  <a:pt x="232" y="640"/>
                </a:lnTo>
                <a:lnTo>
                  <a:pt x="209" y="654"/>
                </a:lnTo>
                <a:lnTo>
                  <a:pt x="172" y="669"/>
                </a:lnTo>
                <a:lnTo>
                  <a:pt x="151" y="663"/>
                </a:lnTo>
                <a:lnTo>
                  <a:pt x="146" y="627"/>
                </a:lnTo>
                <a:lnTo>
                  <a:pt x="163" y="555"/>
                </a:lnTo>
                <a:lnTo>
                  <a:pt x="179" y="505"/>
                </a:lnTo>
                <a:lnTo>
                  <a:pt x="200" y="444"/>
                </a:lnTo>
                <a:lnTo>
                  <a:pt x="149" y="425"/>
                </a:lnTo>
                <a:lnTo>
                  <a:pt x="65" y="389"/>
                </a:lnTo>
                <a:lnTo>
                  <a:pt x="7" y="345"/>
                </a:lnTo>
                <a:lnTo>
                  <a:pt x="0" y="324"/>
                </a:lnTo>
                <a:lnTo>
                  <a:pt x="21" y="303"/>
                </a:lnTo>
                <a:lnTo>
                  <a:pt x="21" y="30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4"/>
          <p:cNvSpPr/>
          <p:nvPr/>
        </p:nvSpPr>
        <p:spPr>
          <a:xfrm>
            <a:off x="658800" y="2725560"/>
            <a:ext cx="374760" cy="963720"/>
          </a:xfrm>
          <a:custGeom>
            <a:avLst/>
            <a:gdLst/>
            <a:ahLst/>
            <a:rect l="l" t="t" r="r" b="b"/>
            <a:pathLst>
              <a:path w="236" h="607">
                <a:moveTo>
                  <a:pt x="180" y="70"/>
                </a:moveTo>
                <a:lnTo>
                  <a:pt x="236" y="535"/>
                </a:lnTo>
                <a:lnTo>
                  <a:pt x="218" y="573"/>
                </a:lnTo>
                <a:lnTo>
                  <a:pt x="204" y="588"/>
                </a:lnTo>
                <a:lnTo>
                  <a:pt x="187" y="598"/>
                </a:lnTo>
                <a:lnTo>
                  <a:pt x="113" y="607"/>
                </a:lnTo>
                <a:lnTo>
                  <a:pt x="48" y="571"/>
                </a:lnTo>
                <a:lnTo>
                  <a:pt x="32" y="537"/>
                </a:lnTo>
                <a:lnTo>
                  <a:pt x="34" y="495"/>
                </a:lnTo>
                <a:lnTo>
                  <a:pt x="48" y="390"/>
                </a:lnTo>
                <a:lnTo>
                  <a:pt x="41" y="295"/>
                </a:lnTo>
                <a:lnTo>
                  <a:pt x="21" y="203"/>
                </a:lnTo>
                <a:lnTo>
                  <a:pt x="0" y="95"/>
                </a:lnTo>
                <a:lnTo>
                  <a:pt x="0" y="59"/>
                </a:lnTo>
                <a:lnTo>
                  <a:pt x="16" y="30"/>
                </a:lnTo>
                <a:lnTo>
                  <a:pt x="44" y="11"/>
                </a:lnTo>
                <a:lnTo>
                  <a:pt x="76" y="0"/>
                </a:lnTo>
                <a:lnTo>
                  <a:pt x="141" y="11"/>
                </a:lnTo>
                <a:lnTo>
                  <a:pt x="180" y="70"/>
                </a:lnTo>
                <a:lnTo>
                  <a:pt x="180" y="7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43000" y="866880"/>
            <a:ext cx="6873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河南乐羊子之妻者，不知何氏之女也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尝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行路，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遗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一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饼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还以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（之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与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妻。妻曰：“妾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闻志士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饮盗泉之水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者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不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嗟来之食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况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拾遗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求利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以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污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其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行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乎！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羊子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大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惭，乃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捐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金于野，而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寻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师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学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691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曾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97728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247440" y="189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回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578360" y="1905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把（它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674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交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36780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听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44542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有志气的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786348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方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184760" y="4191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侮辱性的施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36727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何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905000" y="4191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牟取私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87312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玷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6333120" y="4191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771120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品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999000" y="5334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605680" y="5257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丢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89448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565380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寻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694908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求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5555160" y="1897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8011800" y="6168960"/>
            <a:ext cx="435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1"/>
              </a:rPr>
              <a:t>下一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653840" y="380880"/>
            <a:ext cx="62931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一年来归，妻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跪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问其故，羊子曰：“久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怀思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无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也。”妻乃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趋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机而言曰：“此织生自蚕茧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成于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机杼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一丝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以至于寸，累寸不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已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，遂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丈匹。今若断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织也，则捐失成功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稽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时日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子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积学，当‘日知其所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隶书"/>
              </a:rPr>
              <a:t>亡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’，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以就懿德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；若中道而归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何异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断斯 织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乎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？”羊子      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感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其言，复还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终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业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152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跪起身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578360" y="914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心里想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929520" y="1828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特殊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116880" y="1744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831480" y="175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快步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6062760" y="18050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隶书"/>
              </a:rPr>
              <a:t>这织物从养蚕纺丝开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81760" y="28195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在织布机上织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3504240" y="2811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积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74667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停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2599200" y="3809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6429240" y="3809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迟延浪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280600" y="4724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通“无”，没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5436000" y="4716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用来成就美德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963720" y="58104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与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……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有什么不同呢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588000" y="579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修完，完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517280" y="57913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隶书"/>
              </a:rPr>
              <a:t>被感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8478720" y="6459480"/>
            <a:ext cx="485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3333ff"/>
                </a:solidFill>
                <a:uFillTx/>
                <a:latin typeface="Times New Roman"/>
                <a:hlinkClick r:id="rId1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04:11:16Z</dcterms:created>
  <dc:creator>www.eeppt.com; An</dc:creator>
  <dc:description>ppt模板下载网站 http://www.eeppt.com</dc:description>
  <dc:language>en-US</dc:language>
  <cp:lastModifiedBy/>
  <dcterms:modified xsi:type="dcterms:W3CDTF">2015-05-27T15:51:51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