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C88B-FD14-425A-A7F2-9B48CD00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AB5-6705-432C-9796-1930AC56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C5B-DF1E-4711-8F99-29DD13A9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5EFE-D467-462F-BDFB-C1C610A8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A7A-5040-4BAA-9D10-BDB4E8A5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3230-84E6-4D0B-B76A-6AFC88E2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032-E17E-46C2-BBBE-23786C01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8B2B-1C31-4581-9EB8-ECC831B0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BDE-70EC-4A40-AEC9-37020D78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2AF5-3CCE-4E3C-AB74-63AE3D99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CA3E-6A4B-45FB-822C-03D3E6C4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0227-80F4-4DC3-924B-7A42A791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14440" indent="3999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144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371600" indent="-457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28800" indent="-9144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28800" indent="-9144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28800" indent="-9144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5bb9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0187-6090-4031-BE83-6785991184F5}" type="datetime">
              <a:rPr b="0" lang="en-US" sz="1100" spc="-1" strike="noStrike">
                <a:solidFill>
                  <a:srgbClr val="c5bb9b"/>
                </a:solidFill>
                <a:latin typeface="Aria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5bb9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FFF2-3AF2-4CEE-80F3-D8EAAA31F45F}" type="slidenum">
              <a:rPr b="1" lang="en-US" sz="1200" spc="-1" strike="noStrike">
                <a:solidFill>
                  <a:srgbClr val="c5bb9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flourish2.png"/>
          <p:cNvPicPr/>
          <p:nvPr/>
        </p:nvPicPr>
        <p:blipFill>
          <a:blip r:embed="rId1">
            <a:lum bright="-14000"/>
          </a:blip>
          <a:stretch/>
        </p:blipFill>
        <p:spPr>
          <a:xfrm>
            <a:off x="0" y="280044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85904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汉仪大宋简"/>
                <a:ea typeface="汉仪大宋简"/>
              </a:rPr>
              <a:t>欧美花边幻灯片背景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0" y="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Garamond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Garamond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Garamond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Garamond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Garamond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Garamond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Garamond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aramond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Garamond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A224-25E1-4A6D-94F9-619B173026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3:58:00Z</dcterms:created>
  <dc:creator>www.eeppt.com; An</dc:creator>
  <dc:description>ppt模板下载网站 http://www.eeppt.com</dc:description>
  <dc:language>en-US</dc:language>
  <cp:lastModifiedBy/>
  <dcterms:modified xsi:type="dcterms:W3CDTF">2015-05-27T12:15:3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