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440" y="336960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44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60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4792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440" y="336960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36960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4760" y="336960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8440" y="144792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8440" y="228240"/>
            <a:ext cx="8364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844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440" y="144792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60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8440" y="336960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8440" y="336960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844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60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44792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8440" y="336960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36960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4760" y="3369600"/>
            <a:ext cx="269316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228240"/>
            <a:ext cx="8364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44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600" y="336960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44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447920"/>
            <a:ext cx="408168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440" y="3369600"/>
            <a:ext cx="836460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d0d0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4792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8440" y="228240"/>
            <a:ext cx="8364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8440" y="1447920"/>
            <a:ext cx="836460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5.jpe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4"/>
              </a:rPr>
              <a:t>www.1ppt.com/sucai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1" lang="en-US" sz="100" spc="-1" strike="noStrike" u="sng">
                <a:solidFill>
                  <a:srgbClr val="f0ed7b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C:\Users\ADMINI~1\AppData\Local\Temp\Rar$DR01.193\Lighting (1).jpg"/>
          <p:cNvPicPr/>
          <p:nvPr/>
        </p:nvPicPr>
        <p:blipFill>
          <a:blip r:embed="rId16"/>
          <a:srcRect l="0" t="12038" r="0" b="3862"/>
          <a:stretch/>
        </p:blipFill>
        <p:spPr>
          <a:xfrm>
            <a:off x="-1440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动画模板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7"/>
          <a:stretch/>
        </p:blipFill>
        <p:spPr>
          <a:xfrm>
            <a:off x="3164040" y="2023920"/>
            <a:ext cx="2815920" cy="2810160"/>
          </a:xfrm>
          <a:prstGeom prst="rect">
            <a:avLst/>
          </a:prstGeom>
          <a:ln w="0">
            <a:noFill/>
          </a:ln>
        </p:spPr>
      </p:pic>
      <p:sp>
        <p:nvSpPr>
          <p:cNvPr id="80" name="椭圆 2"/>
          <p:cNvSpPr/>
          <p:nvPr/>
        </p:nvSpPr>
        <p:spPr>
          <a:xfrm>
            <a:off x="2646360" y="5103720"/>
            <a:ext cx="3890880" cy="306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7b32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autoRev="1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 0.03495 E">
                                      <p:cBhvr>
                                        <p:cTn id="17" dur="26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600" fill="hold"/>
                                        <p:tgtEl>
                                          <p:spTgt spid="80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Users\ADMINI~1\AppData\Local\Temp\Rar$DR01.193\Lighting (1).jpg"/>
          <p:cNvPicPr/>
          <p:nvPr/>
        </p:nvPicPr>
        <p:blipFill>
          <a:blip r:embed="rId1"/>
          <a:srcRect l="0" t="12038" r="0" b="3862"/>
          <a:stretch/>
        </p:blipFill>
        <p:spPr>
          <a:xfrm>
            <a:off x="-1440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440" y="228600"/>
            <a:ext cx="83646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动画模板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857680" y="2276640"/>
            <a:ext cx="3035160" cy="3035160"/>
          </a:xfrm>
          <a:prstGeom prst="rect">
            <a:avLst/>
          </a:prstGeom>
          <a:ln w="0">
            <a:noFill/>
          </a:ln>
        </p:spPr>
      </p:pic>
    </p:spTree>
  </p:cSld>
  <p:transition advTm="2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autoRev="1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 0.03495 E">
                                      <p:cBhvr>
                                        <p:cTn id="31" dur="26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f0ed7b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2:40:17Z</dcterms:created>
  <dc:creator>www.eeppt.com; An</dc:creator>
  <dc:description>ppt模板下载网站 http://www.eeppt.com</dc:description>
  <dc:language>en-US</dc:language>
  <cp:lastModifiedBy/>
  <dcterms:modified xsi:type="dcterms:W3CDTF">2015-05-27T12:56:13Z</dcterms:modified>
  <cp:revision>1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