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B04-F359-4E6E-80CF-395B9880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FE9-2946-48D8-8066-5CC6F81D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4D2-A64E-42ED-BEE7-6312F087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F30-F5BC-49E7-8BFC-68EC8E96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10D-4419-4C0F-8411-20EB147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82E-309B-48E9-B9EE-D6F49F5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458-1152-4A16-B69B-3BF21FAB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CFA-8F87-44A6-A0CA-3438318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584-EBB3-4AC9-BE22-56B52BA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8A6-926C-41F1-892D-B4F6B0C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30F-1CA7-4882-98C6-A3AB40D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B3E-F6A6-47A3-B0A3-89C64E9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9F1-78F7-4759-9B40-0BC52C23A8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3D7-2E31-4376-8C84-DB79E47D42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151-00BC-42EF-8EDB-8EA65ADC5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5:22:00Z</dcterms:created>
  <dc:creator>www.eeppt.com; An</dc:creator>
  <dc:description>ppt模板下载网站 http://www.eeppt.com</dc:description>
  <dc:language>en-US</dc:language>
  <cp:lastModifiedBy/>
  <dcterms:modified xsi:type="dcterms:W3CDTF">2015-05-27T12:03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