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0A7-2AAE-4BC9-B2CB-F031BBEB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D94A-75ED-47E0-B33E-BCA7CD36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6F0D-0F38-4F4E-A117-C982873E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4D1-2F77-4F1A-9526-90AC6645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3D50-399F-40C8-853F-752EC016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B0FB-2E0B-4E48-8F96-382BCDC6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15B6-E314-4F1F-80E3-4425CF21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422-AF22-479C-8526-95435488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89A-4E2F-4278-BB79-7ABE1587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6254-1A4A-4D11-A03E-351C5E2D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B90B-672D-44DB-991E-46124B87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06A-B33E-4AD9-A488-025F79CB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d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4D59-4F4D-4D4A-AE43-D3A976366B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d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260360" y="836640"/>
            <a:ext cx="129564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171d25"/>
                    </a:gs>
                    <a:gs pos="100000">
                      <a:srgbClr val="dddddd"/>
                    </a:gs>
                  </a:gsLst>
                  <a:lin ang="10800000"/>
                </a:gradFill>
                <a:latin typeface="Times New Roman"/>
              </a:rPr>
              <a:t>please add your logo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171d25"/>
                  </a:gs>
                  <a:gs pos="100000">
                    <a:srgbClr val="dddddd"/>
                  </a:gs>
                </a:gsLst>
                <a:lin ang="10800000"/>
              </a:gradFill>
              <a:latin typeface="Times New Roman"/>
              <a:ea typeface="Times New Roman"/>
            </a:endParaRPr>
          </a:p>
        </p:txBody>
      </p:sp>
      <p:sp>
        <p:nvSpPr>
          <p:cNvPr id="42" name="Oval 3"/>
          <p:cNvSpPr/>
          <p:nvPr/>
        </p:nvSpPr>
        <p:spPr>
          <a:xfrm>
            <a:off x="4354560" y="2205000"/>
            <a:ext cx="2725560" cy="27259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4"/>
          <p:cNvSpPr/>
          <p:nvPr/>
        </p:nvSpPr>
        <p:spPr>
          <a:xfrm>
            <a:off x="4265640" y="2128680"/>
            <a:ext cx="2897280" cy="2897280"/>
          </a:xfrm>
          <a:prstGeom prst="ellipse">
            <a:avLst/>
          </a:prstGeom>
          <a:noFill/>
          <a:ln w="12600">
            <a:solidFill>
              <a:srgbClr val="1496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4152960" y="2021040"/>
            <a:ext cx="3128760" cy="3127320"/>
          </a:xfrm>
          <a:prstGeom prst="ellipse">
            <a:avLst/>
          </a:prstGeom>
          <a:noFill/>
          <a:ln w="6480">
            <a:solidFill>
              <a:srgbClr val="103e61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502160" y="2343240"/>
            <a:ext cx="2438280" cy="2438280"/>
          </a:xfrm>
          <a:prstGeom prst="ellipse">
            <a:avLst/>
          </a:prstGeom>
          <a:noFill/>
          <a:ln w="6480">
            <a:solidFill>
              <a:srgbClr val="1496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3786120" y="1658880"/>
            <a:ext cx="3846600" cy="3848040"/>
          </a:xfrm>
          <a:prstGeom prst="ellipse">
            <a:avLst/>
          </a:prstGeom>
          <a:noFill/>
          <a:ln w="64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中国 52"/>
          <p:cNvGrpSpPr/>
          <p:nvPr/>
        </p:nvGrpSpPr>
        <p:grpSpPr>
          <a:xfrm>
            <a:off x="4745160" y="2584440"/>
            <a:ext cx="1739880" cy="1584360"/>
            <a:chOff x="4745160" y="2584440"/>
            <a:chExt cx="1739880" cy="1584360"/>
          </a:xfrm>
        </p:grpSpPr>
        <p:sp>
          <p:nvSpPr>
            <p:cNvPr id="48" name="Freeform 9"/>
            <p:cNvSpPr/>
            <p:nvPr/>
          </p:nvSpPr>
          <p:spPr>
            <a:xfrm>
              <a:off x="5475600" y="2602080"/>
              <a:ext cx="762480" cy="716760"/>
            </a:xfrm>
            <a:custGeom>
              <a:avLst/>
              <a:gdLst>
                <a:gd name="textAreaLeft" fmla="*/ 0 w 762480"/>
                <a:gd name="textAreaRight" fmla="*/ 762840 w 762480"/>
                <a:gd name="textAreaTop" fmla="*/ 0 h 716760"/>
                <a:gd name="textAreaBottom" fmla="*/ 717120 h 7167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5329440" y="3087000"/>
              <a:ext cx="487080" cy="454320"/>
            </a:xfrm>
            <a:custGeom>
              <a:avLst/>
              <a:gdLst>
                <a:gd name="textAreaLeft" fmla="*/ 0 w 487080"/>
                <a:gd name="textAreaRight" fmla="*/ 487440 w 48708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5675400" y="3244680"/>
              <a:ext cx="98280" cy="1789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4745160" y="2773800"/>
              <a:ext cx="696240" cy="580320"/>
            </a:xfrm>
            <a:custGeom>
              <a:avLst/>
              <a:gdLst>
                <a:gd name="textAreaLeft" fmla="*/ 0 w 696240"/>
                <a:gd name="textAreaRight" fmla="*/ 696600 w 696240"/>
                <a:gd name="textAreaTop" fmla="*/ 0 h 580320"/>
                <a:gd name="textAreaBottom" fmla="*/ 580680 h 58032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5196960" y="3229560"/>
              <a:ext cx="433440" cy="34236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342360"/>
                <a:gd name="textAreaBottom" fmla="*/ 342720 h 3423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445720" y="3469680"/>
              <a:ext cx="374760" cy="36252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362520"/>
                <a:gd name="textAreaBottom" fmla="*/ 362880 h 36252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4822920" y="3322440"/>
              <a:ext cx="670680" cy="449640"/>
            </a:xfrm>
            <a:custGeom>
              <a:avLst/>
              <a:gdLst>
                <a:gd name="textAreaLeft" fmla="*/ 0 w 670680"/>
                <a:gd name="textAreaRight" fmla="*/ 670680 w 6706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5434200" y="3696840"/>
              <a:ext cx="303120" cy="34848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5652000" y="3692160"/>
              <a:ext cx="204840" cy="1951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5685120" y="3812400"/>
              <a:ext cx="267840" cy="2246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722560" y="3565080"/>
              <a:ext cx="151560" cy="16920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722560" y="3235320"/>
              <a:ext cx="172800" cy="3402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5871960" y="3171600"/>
              <a:ext cx="115200" cy="2790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5842080" y="3647520"/>
              <a:ext cx="183600" cy="23544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5820840" y="3512160"/>
              <a:ext cx="260640" cy="1800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5878440" y="3843000"/>
              <a:ext cx="271080" cy="23652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6006600" y="3638160"/>
              <a:ext cx="162360" cy="24336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6091200" y="3702600"/>
              <a:ext cx="150480" cy="20232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6158160" y="3574440"/>
              <a:ext cx="129240" cy="1645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6032160" y="3431880"/>
              <a:ext cx="163440" cy="2199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6064200" y="3177720"/>
              <a:ext cx="42480" cy="680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6021720" y="3147120"/>
              <a:ext cx="56520" cy="669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6117840" y="3013920"/>
              <a:ext cx="200520" cy="2106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6162480" y="2886840"/>
              <a:ext cx="286200" cy="21420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6101640" y="2584440"/>
              <a:ext cx="383400" cy="38376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6025680" y="3273120"/>
              <a:ext cx="231480" cy="159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242760" y="3539160"/>
              <a:ext cx="36000" cy="352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6072840" y="3403800"/>
              <a:ext cx="201600" cy="1717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5967000" y="3075120"/>
              <a:ext cx="187920" cy="29520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5881680" y="3358800"/>
              <a:ext cx="197280" cy="2152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>
              <a:off x="6253560" y="3819240"/>
              <a:ext cx="56520" cy="15048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5836680" y="4086720"/>
              <a:ext cx="85320" cy="820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正圆 87"/>
          <p:cNvSpPr/>
          <p:nvPr/>
        </p:nvSpPr>
        <p:spPr>
          <a:xfrm flipH="1">
            <a:off x="6031080" y="3443400"/>
            <a:ext cx="156960" cy="156960"/>
          </a:xfrm>
          <a:prstGeom prst="ellipse">
            <a:avLst/>
          </a:prstGeom>
          <a:solidFill>
            <a:srgbClr val="1496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正圆 87"/>
          <p:cNvSpPr/>
          <p:nvPr/>
        </p:nvSpPr>
        <p:spPr>
          <a:xfrm flipH="1">
            <a:off x="5985000" y="3395520"/>
            <a:ext cx="247680" cy="246240"/>
          </a:xfrm>
          <a:prstGeom prst="ellipse">
            <a:avLst/>
          </a:prstGeom>
          <a:solidFill>
            <a:srgbClr val="1496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正圆 87"/>
          <p:cNvSpPr/>
          <p:nvPr/>
        </p:nvSpPr>
        <p:spPr>
          <a:xfrm flipH="1">
            <a:off x="6072120" y="3481560"/>
            <a:ext cx="76320" cy="759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4"/>
          <p:cNvSpPr/>
          <p:nvPr/>
        </p:nvSpPr>
        <p:spPr>
          <a:xfrm>
            <a:off x="4824360" y="40989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d your t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</a:rPr>
              <a:t>add your the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5"/>
          <p:cNvSpPr/>
          <p:nvPr/>
        </p:nvSpPr>
        <p:spPr>
          <a:xfrm>
            <a:off x="1187280" y="3139920"/>
            <a:ext cx="1368720" cy="0"/>
          </a:xfrm>
          <a:prstGeom prst="line">
            <a:avLst/>
          </a:prstGeom>
          <a:ln w="25560">
            <a:solidFill>
              <a:srgbClr val="1496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6"/>
          <p:cNvSpPr/>
          <p:nvPr/>
        </p:nvSpPr>
        <p:spPr>
          <a:xfrm>
            <a:off x="1187280" y="3292560"/>
            <a:ext cx="936720" cy="1440"/>
          </a:xfrm>
          <a:prstGeom prst="line">
            <a:avLst/>
          </a:prstGeom>
          <a:ln w="25560">
            <a:solidFill>
              <a:srgbClr val="1496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7"/>
          <p:cNvSpPr/>
          <p:nvPr/>
        </p:nvSpPr>
        <p:spPr>
          <a:xfrm>
            <a:off x="1189080" y="3470400"/>
            <a:ext cx="576360" cy="1440"/>
          </a:xfrm>
          <a:prstGeom prst="line">
            <a:avLst/>
          </a:prstGeom>
          <a:ln w="25560">
            <a:solidFill>
              <a:srgbClr val="1496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8"/>
          <p:cNvSpPr/>
          <p:nvPr/>
        </p:nvSpPr>
        <p:spPr>
          <a:xfrm>
            <a:off x="326880" y="2565360"/>
            <a:ext cx="863640" cy="1079640"/>
          </a:xfrm>
          <a:prstGeom prst="rect">
            <a:avLst/>
          </a:prstGeom>
          <a:solidFill>
            <a:srgbClr val="171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9"/>
          <p:cNvSpPr/>
          <p:nvPr/>
        </p:nvSpPr>
        <p:spPr>
          <a:xfrm>
            <a:off x="1108080" y="2324160"/>
            <a:ext cx="2595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dd your the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6797e"/>
                </a:solidFill>
                <a:latin typeface="Times New Roman"/>
              </a:rPr>
              <a:t>add your t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8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520">
                                      <p:cBhvr>
                                        <p:cTn id="8" dur="8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8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100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10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100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6" repeatCount="indefinite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d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187280" y="1125360"/>
            <a:ext cx="1297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171d25"/>
                    </a:gs>
                    <a:gs pos="100000">
                      <a:srgbClr val="dddddd"/>
                    </a:gs>
                  </a:gsLst>
                  <a:lin ang="10800000"/>
                </a:gradFill>
                <a:latin typeface="Times New Roman"/>
              </a:rPr>
              <a:t>CONTENTS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171d25"/>
                  </a:gs>
                  <a:gs pos="100000">
                    <a:srgbClr val="dddddd"/>
                  </a:gs>
                </a:gsLst>
                <a:lin ang="10800000"/>
              </a:gradFill>
              <a:latin typeface="Times New Roman"/>
              <a:ea typeface="Times New Roman"/>
            </a:endParaRPr>
          </a:p>
        </p:txBody>
      </p:sp>
      <p:sp>
        <p:nvSpPr>
          <p:cNvPr id="90" name="Oval 3"/>
          <p:cNvSpPr/>
          <p:nvPr/>
        </p:nvSpPr>
        <p:spPr>
          <a:xfrm>
            <a:off x="4140360" y="2062080"/>
            <a:ext cx="2725560" cy="27259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4051440" y="1984320"/>
            <a:ext cx="2896920" cy="2898720"/>
          </a:xfrm>
          <a:prstGeom prst="ellipse">
            <a:avLst/>
          </a:prstGeom>
          <a:noFill/>
          <a:ln w="12600">
            <a:solidFill>
              <a:srgbClr val="1496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3938760" y="1876320"/>
            <a:ext cx="3127320" cy="3129120"/>
          </a:xfrm>
          <a:prstGeom prst="ellipse">
            <a:avLst/>
          </a:prstGeom>
          <a:noFill/>
          <a:ln w="6480">
            <a:solidFill>
              <a:srgbClr val="103e61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"/>
          <p:cNvSpPr/>
          <p:nvPr/>
        </p:nvSpPr>
        <p:spPr>
          <a:xfrm>
            <a:off x="4287960" y="2200320"/>
            <a:ext cx="2438280" cy="2438280"/>
          </a:xfrm>
          <a:prstGeom prst="ellipse">
            <a:avLst/>
          </a:prstGeom>
          <a:noFill/>
          <a:ln w="6480">
            <a:solidFill>
              <a:srgbClr val="1496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"/>
          <p:cNvSpPr/>
          <p:nvPr/>
        </p:nvSpPr>
        <p:spPr>
          <a:xfrm>
            <a:off x="3570120" y="1515960"/>
            <a:ext cx="3848400" cy="3846600"/>
          </a:xfrm>
          <a:prstGeom prst="ellipse">
            <a:avLst/>
          </a:prstGeom>
          <a:noFill/>
          <a:ln w="64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中国 52"/>
          <p:cNvGrpSpPr/>
          <p:nvPr/>
        </p:nvGrpSpPr>
        <p:grpSpPr>
          <a:xfrm>
            <a:off x="4570560" y="2637000"/>
            <a:ext cx="1739880" cy="1582560"/>
            <a:chOff x="4570560" y="2637000"/>
            <a:chExt cx="1739880" cy="1582560"/>
          </a:xfrm>
        </p:grpSpPr>
        <p:sp>
          <p:nvSpPr>
            <p:cNvPr id="96" name="Freeform 9"/>
            <p:cNvSpPr/>
            <p:nvPr/>
          </p:nvSpPr>
          <p:spPr>
            <a:xfrm>
              <a:off x="5301000" y="2654640"/>
              <a:ext cx="762480" cy="716040"/>
            </a:xfrm>
            <a:custGeom>
              <a:avLst/>
              <a:gdLst>
                <a:gd name="textAreaLeft" fmla="*/ 0 w 762480"/>
                <a:gd name="textAreaRight" fmla="*/ 762840 w 762480"/>
                <a:gd name="textAreaTop" fmla="*/ 0 h 716040"/>
                <a:gd name="textAreaBottom" fmla="*/ 716040 h 71604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"/>
            <p:cNvSpPr/>
            <p:nvPr/>
          </p:nvSpPr>
          <p:spPr>
            <a:xfrm>
              <a:off x="5154840" y="3138840"/>
              <a:ext cx="487080" cy="453600"/>
            </a:xfrm>
            <a:custGeom>
              <a:avLst/>
              <a:gdLst>
                <a:gd name="textAreaLeft" fmla="*/ 0 w 487080"/>
                <a:gd name="textAreaRight" fmla="*/ 487440 w 487080"/>
                <a:gd name="textAreaTop" fmla="*/ 0 h 453600"/>
                <a:gd name="textAreaBottom" fmla="*/ 453960 h 45360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1"/>
            <p:cNvSpPr/>
            <p:nvPr/>
          </p:nvSpPr>
          <p:spPr>
            <a:xfrm>
              <a:off x="5500800" y="3296520"/>
              <a:ext cx="98280" cy="178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2"/>
            <p:cNvSpPr/>
            <p:nvPr/>
          </p:nvSpPr>
          <p:spPr>
            <a:xfrm>
              <a:off x="4570560" y="2826000"/>
              <a:ext cx="696240" cy="579600"/>
            </a:xfrm>
            <a:custGeom>
              <a:avLst/>
              <a:gdLst>
                <a:gd name="textAreaLeft" fmla="*/ 0 w 696240"/>
                <a:gd name="textAreaRight" fmla="*/ 696600 w 696240"/>
                <a:gd name="textAreaTop" fmla="*/ 0 h 579600"/>
                <a:gd name="textAreaBottom" fmla="*/ 579960 h 57960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3"/>
            <p:cNvSpPr/>
            <p:nvPr/>
          </p:nvSpPr>
          <p:spPr>
            <a:xfrm>
              <a:off x="5022360" y="3281400"/>
              <a:ext cx="433440" cy="3420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4"/>
            <p:cNvSpPr/>
            <p:nvPr/>
          </p:nvSpPr>
          <p:spPr>
            <a:xfrm>
              <a:off x="5271120" y="3521160"/>
              <a:ext cx="374760" cy="36216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5"/>
            <p:cNvSpPr/>
            <p:nvPr/>
          </p:nvSpPr>
          <p:spPr>
            <a:xfrm>
              <a:off x="4648320" y="3374280"/>
              <a:ext cx="670680" cy="448920"/>
            </a:xfrm>
            <a:custGeom>
              <a:avLst/>
              <a:gdLst>
                <a:gd name="textAreaLeft" fmla="*/ 0 w 670680"/>
                <a:gd name="textAreaRight" fmla="*/ 670680 w 67068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6"/>
            <p:cNvSpPr/>
            <p:nvPr/>
          </p:nvSpPr>
          <p:spPr>
            <a:xfrm>
              <a:off x="5259600" y="3748320"/>
              <a:ext cx="303120" cy="34776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7"/>
            <p:cNvSpPr/>
            <p:nvPr/>
          </p:nvSpPr>
          <p:spPr>
            <a:xfrm>
              <a:off x="5477400" y="3743280"/>
              <a:ext cx="204840" cy="1951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8"/>
            <p:cNvSpPr/>
            <p:nvPr/>
          </p:nvSpPr>
          <p:spPr>
            <a:xfrm>
              <a:off x="5510520" y="3863520"/>
              <a:ext cx="267840" cy="22428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24280"/>
                <a:gd name="textAreaBottom" fmla="*/ 224640 h 2242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9"/>
            <p:cNvSpPr/>
            <p:nvPr/>
          </p:nvSpPr>
          <p:spPr>
            <a:xfrm>
              <a:off x="5547960" y="3616560"/>
              <a:ext cx="151560" cy="16920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0"/>
            <p:cNvSpPr/>
            <p:nvPr/>
          </p:nvSpPr>
          <p:spPr>
            <a:xfrm>
              <a:off x="5547960" y="3287160"/>
              <a:ext cx="172800" cy="3398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1"/>
            <p:cNvSpPr/>
            <p:nvPr/>
          </p:nvSpPr>
          <p:spPr>
            <a:xfrm>
              <a:off x="5697360" y="3223800"/>
              <a:ext cx="115200" cy="27864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2"/>
            <p:cNvSpPr/>
            <p:nvPr/>
          </p:nvSpPr>
          <p:spPr>
            <a:xfrm>
              <a:off x="5667480" y="3698640"/>
              <a:ext cx="183600" cy="23508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"/>
            <p:cNvSpPr/>
            <p:nvPr/>
          </p:nvSpPr>
          <p:spPr>
            <a:xfrm>
              <a:off x="5646240" y="3563640"/>
              <a:ext cx="260640" cy="1796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4"/>
            <p:cNvSpPr/>
            <p:nvPr/>
          </p:nvSpPr>
          <p:spPr>
            <a:xfrm>
              <a:off x="5703840" y="3894120"/>
              <a:ext cx="271080" cy="23616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5"/>
            <p:cNvSpPr/>
            <p:nvPr/>
          </p:nvSpPr>
          <p:spPr>
            <a:xfrm>
              <a:off x="5832000" y="3689280"/>
              <a:ext cx="162360" cy="24336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6"/>
            <p:cNvSpPr/>
            <p:nvPr/>
          </p:nvSpPr>
          <p:spPr>
            <a:xfrm>
              <a:off x="5916600" y="3754080"/>
              <a:ext cx="150480" cy="2019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5983560" y="3625920"/>
              <a:ext cx="129240" cy="1645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8"/>
            <p:cNvSpPr/>
            <p:nvPr/>
          </p:nvSpPr>
          <p:spPr>
            <a:xfrm>
              <a:off x="5857560" y="3483720"/>
              <a:ext cx="163440" cy="2196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9"/>
            <p:cNvSpPr/>
            <p:nvPr/>
          </p:nvSpPr>
          <p:spPr>
            <a:xfrm>
              <a:off x="5889600" y="3229560"/>
              <a:ext cx="42480" cy="680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0"/>
            <p:cNvSpPr/>
            <p:nvPr/>
          </p:nvSpPr>
          <p:spPr>
            <a:xfrm>
              <a:off x="5847120" y="3198960"/>
              <a:ext cx="56520" cy="669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1"/>
            <p:cNvSpPr/>
            <p:nvPr/>
          </p:nvSpPr>
          <p:spPr>
            <a:xfrm>
              <a:off x="5943240" y="3066120"/>
              <a:ext cx="200520" cy="21024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2"/>
            <p:cNvSpPr/>
            <p:nvPr/>
          </p:nvSpPr>
          <p:spPr>
            <a:xfrm>
              <a:off x="5987880" y="2939040"/>
              <a:ext cx="286200" cy="21384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3"/>
            <p:cNvSpPr/>
            <p:nvPr/>
          </p:nvSpPr>
          <p:spPr>
            <a:xfrm>
              <a:off x="5927040" y="2637000"/>
              <a:ext cx="383400" cy="38304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851080" y="3324960"/>
              <a:ext cx="231480" cy="159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5"/>
            <p:cNvSpPr/>
            <p:nvPr/>
          </p:nvSpPr>
          <p:spPr>
            <a:xfrm>
              <a:off x="6068160" y="3590640"/>
              <a:ext cx="36000" cy="352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6"/>
            <p:cNvSpPr/>
            <p:nvPr/>
          </p:nvSpPr>
          <p:spPr>
            <a:xfrm>
              <a:off x="5898240" y="3455280"/>
              <a:ext cx="201600" cy="1713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7"/>
            <p:cNvSpPr/>
            <p:nvPr/>
          </p:nvSpPr>
          <p:spPr>
            <a:xfrm>
              <a:off x="5792400" y="3127320"/>
              <a:ext cx="187920" cy="29484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8"/>
            <p:cNvSpPr/>
            <p:nvPr/>
          </p:nvSpPr>
          <p:spPr>
            <a:xfrm>
              <a:off x="5707080" y="3410640"/>
              <a:ext cx="197280" cy="21492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9"/>
            <p:cNvSpPr/>
            <p:nvPr/>
          </p:nvSpPr>
          <p:spPr>
            <a:xfrm>
              <a:off x="6078960" y="3870360"/>
              <a:ext cx="56520" cy="15048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0"/>
            <p:cNvSpPr/>
            <p:nvPr/>
          </p:nvSpPr>
          <p:spPr>
            <a:xfrm>
              <a:off x="5662080" y="4137480"/>
              <a:ext cx="85320" cy="820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正圆 181"/>
          <p:cNvSpPr/>
          <p:nvPr/>
        </p:nvSpPr>
        <p:spPr>
          <a:xfrm>
            <a:off x="5002200" y="1557360"/>
            <a:ext cx="979560" cy="979560"/>
          </a:xfrm>
          <a:prstGeom prst="ellipse">
            <a:avLst/>
          </a:prstGeom>
          <a:solidFill>
            <a:srgbClr val="2a33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566c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正圆 181"/>
          <p:cNvSpPr/>
          <p:nvPr/>
        </p:nvSpPr>
        <p:spPr>
          <a:xfrm>
            <a:off x="3922560" y="3718080"/>
            <a:ext cx="979560" cy="979200"/>
          </a:xfrm>
          <a:prstGeom prst="ellipse">
            <a:avLst/>
          </a:prstGeom>
          <a:solidFill>
            <a:srgbClr val="2a33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566c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正圆 181"/>
          <p:cNvSpPr/>
          <p:nvPr/>
        </p:nvSpPr>
        <p:spPr>
          <a:xfrm>
            <a:off x="6083280" y="3718080"/>
            <a:ext cx="979560" cy="979200"/>
          </a:xfrm>
          <a:prstGeom prst="ellipse">
            <a:avLst/>
          </a:prstGeom>
          <a:solidFill>
            <a:srgbClr val="2a33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566c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4"/>
          <p:cNvGrpSpPr/>
          <p:nvPr/>
        </p:nvGrpSpPr>
        <p:grpSpPr>
          <a:xfrm>
            <a:off x="1116000" y="1989000"/>
            <a:ext cx="1944720" cy="581400"/>
            <a:chOff x="1116000" y="1989000"/>
            <a:chExt cx="1944720" cy="581400"/>
          </a:xfrm>
        </p:grpSpPr>
        <p:sp>
          <p:nvSpPr>
            <p:cNvPr id="132" name="Text Box 45"/>
            <p:cNvSpPr/>
            <p:nvPr/>
          </p:nvSpPr>
          <p:spPr>
            <a:xfrm>
              <a:off x="1260000" y="1989000"/>
              <a:ext cx="180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46"/>
            <p:cNvSpPr/>
            <p:nvPr/>
          </p:nvSpPr>
          <p:spPr>
            <a:xfrm>
              <a:off x="1116000" y="2033280"/>
              <a:ext cx="1080" cy="503280"/>
            </a:xfrm>
            <a:prstGeom prst="line">
              <a:avLst/>
            </a:prstGeom>
            <a:ln w="25560">
              <a:solidFill>
                <a:srgbClr val="1496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47"/>
          <p:cNvGrpSpPr/>
          <p:nvPr/>
        </p:nvGrpSpPr>
        <p:grpSpPr>
          <a:xfrm>
            <a:off x="1116000" y="2905200"/>
            <a:ext cx="1944720" cy="581400"/>
            <a:chOff x="1116000" y="2905200"/>
            <a:chExt cx="1944720" cy="581400"/>
          </a:xfrm>
        </p:grpSpPr>
        <p:sp>
          <p:nvSpPr>
            <p:cNvPr id="135" name="Text Box 48"/>
            <p:cNvSpPr/>
            <p:nvPr/>
          </p:nvSpPr>
          <p:spPr>
            <a:xfrm>
              <a:off x="1260000" y="2905200"/>
              <a:ext cx="180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49"/>
            <p:cNvSpPr/>
            <p:nvPr/>
          </p:nvSpPr>
          <p:spPr>
            <a:xfrm>
              <a:off x="1116000" y="2948040"/>
              <a:ext cx="1080" cy="502560"/>
            </a:xfrm>
            <a:prstGeom prst="line">
              <a:avLst/>
            </a:prstGeom>
            <a:ln w="25560">
              <a:solidFill>
                <a:srgbClr val="1496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50"/>
          <p:cNvGrpSpPr/>
          <p:nvPr/>
        </p:nvGrpSpPr>
        <p:grpSpPr>
          <a:xfrm>
            <a:off x="1116000" y="3835440"/>
            <a:ext cx="1944720" cy="581400"/>
            <a:chOff x="1116000" y="3835440"/>
            <a:chExt cx="1944720" cy="581400"/>
          </a:xfrm>
        </p:grpSpPr>
        <p:sp>
          <p:nvSpPr>
            <p:cNvPr id="138" name="Text Box 51"/>
            <p:cNvSpPr/>
            <p:nvPr/>
          </p:nvSpPr>
          <p:spPr>
            <a:xfrm>
              <a:off x="1260000" y="3835440"/>
              <a:ext cx="180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52"/>
            <p:cNvSpPr/>
            <p:nvPr/>
          </p:nvSpPr>
          <p:spPr>
            <a:xfrm>
              <a:off x="1116000" y="3862440"/>
              <a:ext cx="1080" cy="502560"/>
            </a:xfrm>
            <a:prstGeom prst="line">
              <a:avLst/>
            </a:prstGeom>
            <a:ln w="25560">
              <a:solidFill>
                <a:srgbClr val="1496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847 0.202315 C 0.023681 0.187593 0.103264 0.319815 0.156875 0.322593 C 0.210556 0.325278 0.247361 0.225185 0.24875 0.184722 C 0.250278 0.144259 0.223542 0.066852 0.171389 0.023704 C 0.119375 -0.019444 0.03 0.021667 0.004653 0 E">
                                      <p:cBhvr>
                                        <p:cTn id="31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5764 -0.116759 C 0.092014 -0.117222 0.148125 -0.319907 0.102014 -0.353148 C 0.055764 -0.386481 -0.073194 -0.285 -0.094236 -0.263056 C -0.115069 -0.241019 -0.125764 -0.168796 -0.106736 -0.117407 C -0.087708 -0.066019 0.005903 -0.026759 0.000764 -0.006296 E">
                                      <p:cBhvr>
                                        <p:cTn id="33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3472 -0.113611 C -0.120972 -0.088611 -0.286597 0.042963 -0.261875 0.065556 C -0.237222 0.088241 -0.137292 0.184444 -0.084931 0.171296 C -0.032569 0.158148 -0.019722 0.004352 0 0 E">
                                      <p:cBhvr>
                                        <p:cTn id="35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d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1773360"/>
            <a:ext cx="9144000" cy="3168360"/>
          </a:xfrm>
          <a:prstGeom prst="rect">
            <a:avLst/>
          </a:prstGeom>
          <a:solidFill>
            <a:srgbClr val="4a566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"/>
          <p:cNvSpPr/>
          <p:nvPr/>
        </p:nvSpPr>
        <p:spPr>
          <a:xfrm>
            <a:off x="2987640" y="1967040"/>
            <a:ext cx="0" cy="2770200"/>
          </a:xfrm>
          <a:prstGeom prst="line">
            <a:avLst/>
          </a:prstGeom>
          <a:ln w="12600">
            <a:solidFill>
              <a:srgbClr val="1496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260360" y="693720"/>
            <a:ext cx="1800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d Your 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6797e"/>
                </a:solidFill>
                <a:latin typeface="Times New Roman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1062000" y="4141800"/>
            <a:ext cx="576360" cy="509400"/>
            <a:chOff x="1062000" y="4141800"/>
            <a:chExt cx="576360" cy="509400"/>
          </a:xfrm>
        </p:grpSpPr>
        <p:sp>
          <p:nvSpPr>
            <p:cNvPr id="144" name="圆角矩形2 150"/>
            <p:cNvSpPr/>
            <p:nvPr/>
          </p:nvSpPr>
          <p:spPr>
            <a:xfrm>
              <a:off x="1062000" y="4369680"/>
              <a:ext cx="162360" cy="281520"/>
            </a:xfrm>
            <a:custGeom>
              <a:avLst/>
              <a:gdLst>
                <a:gd name="textAreaLeft" fmla="*/ 7920 w 162360"/>
                <a:gd name="textAreaRight" fmla="*/ 154440 w 162360"/>
                <a:gd name="textAreaTop" fmla="*/ 7920 h 281520"/>
                <a:gd name="textAreaBottom" fmla="*/ 273600 h 281520"/>
              </a:gdLst>
              <a:ahLst/>
              <a:rect l="textAreaLeft" t="textAreaTop" r="textAreaRight" b="textAreaBottom"/>
              <a:pathLst>
                <a:path w="21600" h="37418">
                  <a:moveTo>
                    <a:pt x="3600" y="0"/>
                  </a:moveTo>
                  <a:arcTo wR="3600" hR="3600" stAng="16200000" swAng="-5400000"/>
                  <a:lnTo>
                    <a:pt x="0" y="33818"/>
                  </a:lnTo>
                  <a:arcTo wR="3600" hR="3600" stAng="10800000" swAng="-5400000"/>
                  <a:lnTo>
                    <a:pt x="18000" y="374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圆角矩形2 150"/>
            <p:cNvSpPr/>
            <p:nvPr/>
          </p:nvSpPr>
          <p:spPr>
            <a:xfrm>
              <a:off x="1266480" y="4244760"/>
              <a:ext cx="162360" cy="404280"/>
            </a:xfrm>
            <a:custGeom>
              <a:avLst/>
              <a:gdLst>
                <a:gd name="textAreaLeft" fmla="*/ 7920 w 162360"/>
                <a:gd name="textAreaRight" fmla="*/ 154440 w 162360"/>
                <a:gd name="textAreaTop" fmla="*/ 7920 h 404280"/>
                <a:gd name="textAreaBottom" fmla="*/ 396360 h 404280"/>
              </a:gdLst>
              <a:ahLst/>
              <a:rect l="textAreaLeft" t="textAreaTop" r="textAreaRight" b="textAreaBottom"/>
              <a:pathLst>
                <a:path w="21600" h="53713">
                  <a:moveTo>
                    <a:pt x="3600" y="0"/>
                  </a:moveTo>
                  <a:arcTo wR="3600" hR="3600" stAng="16200000" swAng="-5400000"/>
                  <a:lnTo>
                    <a:pt x="0" y="50113"/>
                  </a:lnTo>
                  <a:arcTo wR="3600" hR="3600" stAng="10800000" swAng="-5400000"/>
                  <a:lnTo>
                    <a:pt x="18000" y="537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圆角矩形2 150"/>
            <p:cNvSpPr/>
            <p:nvPr/>
          </p:nvSpPr>
          <p:spPr>
            <a:xfrm>
              <a:off x="1476000" y="4141800"/>
              <a:ext cx="162360" cy="506160"/>
            </a:xfrm>
            <a:custGeom>
              <a:avLst/>
              <a:gdLst>
                <a:gd name="textAreaLeft" fmla="*/ 7920 w 162360"/>
                <a:gd name="textAreaRight" fmla="*/ 154440 w 162360"/>
                <a:gd name="textAreaTop" fmla="*/ 7920 h 506160"/>
                <a:gd name="textAreaBottom" fmla="*/ 498240 h 506160"/>
              </a:gdLst>
              <a:ahLst/>
              <a:rect l="textAreaLeft" t="textAreaTop" r="textAreaRight" b="textAreaBottom"/>
              <a:pathLst>
                <a:path w="21600" h="67237">
                  <a:moveTo>
                    <a:pt x="3600" y="0"/>
                  </a:moveTo>
                  <a:arcTo wR="3600" hR="3600" stAng="16200000" swAng="-5400000"/>
                  <a:lnTo>
                    <a:pt x="0" y="63637"/>
                  </a:lnTo>
                  <a:arcTo wR="3600" hR="3600" stAng="10800000" swAng="-5400000"/>
                  <a:lnTo>
                    <a:pt x="18000" y="672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信号2 161"/>
          <p:cNvSpPr/>
          <p:nvPr/>
        </p:nvSpPr>
        <p:spPr>
          <a:xfrm>
            <a:off x="4429080" y="4076640"/>
            <a:ext cx="503280" cy="647640"/>
          </a:xfrm>
          <a:custGeom>
            <a:avLst/>
            <a:gdLst>
              <a:gd name="textAreaLeft" fmla="*/ 0 w 503280"/>
              <a:gd name="textAreaRight" fmla="*/ 503640 w 5032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259674" h="1629655">
                <a:moveTo>
                  <a:pt x="653835" y="765559"/>
                </a:moveTo>
                <a:lnTo>
                  <a:pt x="605838" y="765559"/>
                </a:lnTo>
                <a:cubicBezTo>
                  <a:pt x="586150" y="765559"/>
                  <a:pt x="570190" y="781519"/>
                  <a:pt x="570190" y="801207"/>
                </a:cubicBezTo>
                <a:lnTo>
                  <a:pt x="570190" y="1594007"/>
                </a:lnTo>
                <a:cubicBezTo>
                  <a:pt x="570190" y="1613695"/>
                  <a:pt x="586150" y="1629655"/>
                  <a:pt x="605838" y="1629655"/>
                </a:cubicBezTo>
                <a:lnTo>
                  <a:pt x="653835" y="1629655"/>
                </a:lnTo>
                <a:cubicBezTo>
                  <a:pt x="673523" y="1629655"/>
                  <a:pt x="689483" y="1613695"/>
                  <a:pt x="689483" y="1594007"/>
                </a:cubicBezTo>
                <a:lnTo>
                  <a:pt x="689483" y="801207"/>
                </a:lnTo>
                <a:cubicBezTo>
                  <a:pt x="689483" y="781519"/>
                  <a:pt x="673523" y="765559"/>
                  <a:pt x="653835" y="765559"/>
                </a:cubicBezTo>
                <a:close/>
                <a:moveTo>
                  <a:pt x="629837" y="293110"/>
                </a:moveTo>
                <a:cubicBezTo>
                  <a:pt x="540228" y="293110"/>
                  <a:pt x="467586" y="365752"/>
                  <a:pt x="467586" y="455361"/>
                </a:cubicBezTo>
                <a:cubicBezTo>
                  <a:pt x="467586" y="544970"/>
                  <a:pt x="540228" y="617612"/>
                  <a:pt x="629837" y="617612"/>
                </a:cubicBezTo>
                <a:cubicBezTo>
                  <a:pt x="719446" y="617612"/>
                  <a:pt x="792088" y="544970"/>
                  <a:pt x="792088" y="455361"/>
                </a:cubicBezTo>
                <a:cubicBezTo>
                  <a:pt x="792088" y="365752"/>
                  <a:pt x="719446" y="293110"/>
                  <a:pt x="629837" y="293110"/>
                </a:cubicBezTo>
                <a:close/>
                <a:moveTo>
                  <a:pt x="373285" y="134938"/>
                </a:moveTo>
                <a:cubicBezTo>
                  <a:pt x="285152" y="213464"/>
                  <a:pt x="230474" y="328028"/>
                  <a:pt x="230474" y="455361"/>
                </a:cubicBezTo>
                <a:cubicBezTo>
                  <a:pt x="230474" y="582697"/>
                  <a:pt x="285152" y="697259"/>
                  <a:pt x="373285" y="775786"/>
                </a:cubicBezTo>
                <a:lnTo>
                  <a:pt x="467586" y="709160"/>
                </a:lnTo>
                <a:cubicBezTo>
                  <a:pt x="391047" y="651060"/>
                  <a:pt x="342389" y="558892"/>
                  <a:pt x="342389" y="455361"/>
                </a:cubicBezTo>
                <a:cubicBezTo>
                  <a:pt x="342389" y="351830"/>
                  <a:pt x="391047" y="259663"/>
                  <a:pt x="467586" y="201563"/>
                </a:cubicBezTo>
                <a:lnTo>
                  <a:pt x="373285" y="134938"/>
                </a:lnTo>
                <a:close/>
                <a:moveTo>
                  <a:pt x="886389" y="134938"/>
                </a:moveTo>
                <a:lnTo>
                  <a:pt x="792088" y="201563"/>
                </a:lnTo>
                <a:cubicBezTo>
                  <a:pt x="868627" y="259663"/>
                  <a:pt x="917285" y="351830"/>
                  <a:pt x="917285" y="455361"/>
                </a:cubicBezTo>
                <a:cubicBezTo>
                  <a:pt x="917285" y="558892"/>
                  <a:pt x="868627" y="651060"/>
                  <a:pt x="792088" y="709160"/>
                </a:cubicBezTo>
                <a:lnTo>
                  <a:pt x="886389" y="775786"/>
                </a:lnTo>
                <a:cubicBezTo>
                  <a:pt x="974522" y="697259"/>
                  <a:pt x="1029200" y="582697"/>
                  <a:pt x="1029200" y="455361"/>
                </a:cubicBezTo>
                <a:cubicBezTo>
                  <a:pt x="1029200" y="328028"/>
                  <a:pt x="974522" y="213464"/>
                  <a:pt x="886389" y="134938"/>
                </a:cubicBezTo>
                <a:close/>
                <a:moveTo>
                  <a:pt x="182295" y="0"/>
                </a:moveTo>
                <a:cubicBezTo>
                  <a:pt x="68824" y="118079"/>
                  <a:pt x="0" y="278683"/>
                  <a:pt x="0" y="455362"/>
                </a:cubicBezTo>
                <a:cubicBezTo>
                  <a:pt x="0" y="632040"/>
                  <a:pt x="68824" y="792644"/>
                  <a:pt x="182293" y="910723"/>
                </a:cubicBezTo>
                <a:lnTo>
                  <a:pt x="278466" y="842776"/>
                </a:lnTo>
                <a:cubicBezTo>
                  <a:pt x="179286" y="743646"/>
                  <a:pt x="117943" y="606668"/>
                  <a:pt x="117943" y="455362"/>
                </a:cubicBezTo>
                <a:cubicBezTo>
                  <a:pt x="117943" y="304057"/>
                  <a:pt x="179287" y="167078"/>
                  <a:pt x="278467" y="67947"/>
                </a:cubicBezTo>
                <a:lnTo>
                  <a:pt x="182295" y="0"/>
                </a:lnTo>
                <a:close/>
                <a:moveTo>
                  <a:pt x="1077379" y="0"/>
                </a:moveTo>
                <a:lnTo>
                  <a:pt x="981207" y="67947"/>
                </a:lnTo>
                <a:cubicBezTo>
                  <a:pt x="1080387" y="167078"/>
                  <a:pt x="1141731" y="304057"/>
                  <a:pt x="1141731" y="455362"/>
                </a:cubicBezTo>
                <a:cubicBezTo>
                  <a:pt x="1141731" y="606668"/>
                  <a:pt x="1080388" y="743646"/>
                  <a:pt x="981208" y="842776"/>
                </a:cubicBezTo>
                <a:lnTo>
                  <a:pt x="1077381" y="910723"/>
                </a:lnTo>
                <a:cubicBezTo>
                  <a:pt x="1190850" y="792644"/>
                  <a:pt x="1259674" y="632040"/>
                  <a:pt x="1259674" y="455362"/>
                </a:cubicBezTo>
                <a:cubicBezTo>
                  <a:pt x="1259674" y="278683"/>
                  <a:pt x="1190850" y="118079"/>
                  <a:pt x="1077379" y="0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IE浏览器 163"/>
          <p:cNvSpPr/>
          <p:nvPr/>
        </p:nvSpPr>
        <p:spPr>
          <a:xfrm>
            <a:off x="7669080" y="4076640"/>
            <a:ext cx="574920" cy="574560"/>
          </a:xfrm>
          <a:custGeom>
            <a:avLst/>
            <a:gdLst>
              <a:gd name="textAreaLeft" fmla="*/ 0 w 574920"/>
              <a:gd name="textAreaRight" fmla="*/ 575280 w 5749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119349" h="1157433">
                <a:moveTo>
                  <a:pt x="135620" y="818456"/>
                </a:moveTo>
                <a:cubicBezTo>
                  <a:pt x="71450" y="948523"/>
                  <a:pt x="57484" y="1054732"/>
                  <a:pt x="108323" y="1103729"/>
                </a:cubicBezTo>
                <a:cubicBezTo>
                  <a:pt x="164989" y="1158341"/>
                  <a:pt x="289713" y="1129874"/>
                  <a:pt x="437069" y="1040437"/>
                </a:cubicBezTo>
                <a:cubicBezTo>
                  <a:pt x="307239" y="1007168"/>
                  <a:pt x="198946" y="926245"/>
                  <a:pt x="135620" y="818456"/>
                </a:cubicBezTo>
                <a:close/>
                <a:moveTo>
                  <a:pt x="582086" y="345816"/>
                </a:moveTo>
                <a:cubicBezTo>
                  <a:pt x="490772" y="345817"/>
                  <a:pt x="434615" y="407693"/>
                  <a:pt x="413811" y="495363"/>
                </a:cubicBezTo>
                <a:lnTo>
                  <a:pt x="750361" y="495364"/>
                </a:lnTo>
                <a:cubicBezTo>
                  <a:pt x="729557" y="407692"/>
                  <a:pt x="673401" y="345816"/>
                  <a:pt x="582086" y="345816"/>
                </a:cubicBezTo>
                <a:close/>
                <a:moveTo>
                  <a:pt x="954622" y="129"/>
                </a:moveTo>
                <a:cubicBezTo>
                  <a:pt x="1007406" y="-1466"/>
                  <a:pt x="1051113" y="11645"/>
                  <a:pt x="1081775" y="41196"/>
                </a:cubicBezTo>
                <a:cubicBezTo>
                  <a:pt x="1101805" y="60500"/>
                  <a:pt x="1115030" y="85625"/>
                  <a:pt x="1119349" y="116033"/>
                </a:cubicBezTo>
                <a:cubicBezTo>
                  <a:pt x="1112931" y="103633"/>
                  <a:pt x="1104158" y="92219"/>
                  <a:pt x="1093494" y="81508"/>
                </a:cubicBezTo>
                <a:cubicBezTo>
                  <a:pt x="1010899" y="-1451"/>
                  <a:pt x="882017" y="28786"/>
                  <a:pt x="737350" y="130602"/>
                </a:cubicBezTo>
                <a:cubicBezTo>
                  <a:pt x="943277" y="190863"/>
                  <a:pt x="1091569" y="370605"/>
                  <a:pt x="1091569" y="582598"/>
                </a:cubicBezTo>
                <a:lnTo>
                  <a:pt x="1085273" y="640757"/>
                </a:lnTo>
                <a:lnTo>
                  <a:pt x="755888" y="640756"/>
                </a:lnTo>
                <a:lnTo>
                  <a:pt x="719073" y="640757"/>
                </a:lnTo>
                <a:lnTo>
                  <a:pt x="408284" y="640757"/>
                </a:lnTo>
                <a:cubicBezTo>
                  <a:pt x="424002" y="743453"/>
                  <a:pt x="484447" y="819382"/>
                  <a:pt x="582086" y="819383"/>
                </a:cubicBezTo>
                <a:cubicBezTo>
                  <a:pt x="648673" y="819382"/>
                  <a:pt x="697960" y="784070"/>
                  <a:pt x="725617" y="727992"/>
                </a:cubicBezTo>
                <a:lnTo>
                  <a:pt x="1064773" y="727992"/>
                </a:lnTo>
                <a:cubicBezTo>
                  <a:pt x="1000780" y="921122"/>
                  <a:pt x="807116" y="1060320"/>
                  <a:pt x="578539" y="1060320"/>
                </a:cubicBezTo>
                <a:cubicBezTo>
                  <a:pt x="541437" y="1060319"/>
                  <a:pt x="505255" y="1056652"/>
                  <a:pt x="470646" y="1048435"/>
                </a:cubicBezTo>
                <a:cubicBezTo>
                  <a:pt x="288189" y="1159820"/>
                  <a:pt x="124174" y="1191927"/>
                  <a:pt x="45670" y="1116267"/>
                </a:cubicBezTo>
                <a:cubicBezTo>
                  <a:pt x="-38972" y="1034693"/>
                  <a:pt x="-2092" y="849162"/>
                  <a:pt x="124297" y="645271"/>
                </a:cubicBezTo>
                <a:cubicBezTo>
                  <a:pt x="126384" y="641564"/>
                  <a:pt x="128546" y="637931"/>
                  <a:pt x="130887" y="634433"/>
                </a:cubicBezTo>
                <a:cubicBezTo>
                  <a:pt x="140131" y="616742"/>
                  <a:pt x="151256" y="599735"/>
                  <a:pt x="163296" y="582889"/>
                </a:cubicBezTo>
                <a:cubicBezTo>
                  <a:pt x="171413" y="570408"/>
                  <a:pt x="179765" y="558285"/>
                  <a:pt x="189707" y="547372"/>
                </a:cubicBezTo>
                <a:cubicBezTo>
                  <a:pt x="207410" y="520542"/>
                  <a:pt x="227598" y="494496"/>
                  <a:pt x="249351" y="468810"/>
                </a:cubicBezTo>
                <a:cubicBezTo>
                  <a:pt x="261501" y="453873"/>
                  <a:pt x="274484" y="439223"/>
                  <a:pt x="288439" y="424719"/>
                </a:cubicBezTo>
                <a:cubicBezTo>
                  <a:pt x="304701" y="403895"/>
                  <a:pt x="322841" y="384213"/>
                  <a:pt x="341644" y="364703"/>
                </a:cubicBezTo>
                <a:cubicBezTo>
                  <a:pt x="392793" y="311630"/>
                  <a:pt x="445389" y="263415"/>
                  <a:pt x="498166" y="220924"/>
                </a:cubicBezTo>
                <a:cubicBezTo>
                  <a:pt x="310657" y="309270"/>
                  <a:pt x="183697" y="431706"/>
                  <a:pt x="65845" y="579499"/>
                </a:cubicBezTo>
                <a:cubicBezTo>
                  <a:pt x="67312" y="317087"/>
                  <a:pt x="296312" y="104878"/>
                  <a:pt x="578538" y="104878"/>
                </a:cubicBezTo>
                <a:lnTo>
                  <a:pt x="651994" y="111773"/>
                </a:lnTo>
                <a:cubicBezTo>
                  <a:pt x="764896" y="41979"/>
                  <a:pt x="871117" y="2651"/>
                  <a:pt x="954622" y="129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6435720" y="1986120"/>
            <a:ext cx="0" cy="2770200"/>
          </a:xfrm>
          <a:prstGeom prst="line">
            <a:avLst/>
          </a:prstGeom>
          <a:ln w="12600">
            <a:solidFill>
              <a:srgbClr val="1496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01560" y="2379600"/>
            <a:ext cx="1954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679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679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679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3730680" y="2360520"/>
            <a:ext cx="195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679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679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679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6835680" y="2341440"/>
            <a:ext cx="1954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679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679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679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6797e"/>
                </a:solidFill>
                <a:latin typeface="Times New Roman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5"/>
          <p:cNvSpPr/>
          <p:nvPr/>
        </p:nvSpPr>
        <p:spPr>
          <a:xfrm>
            <a:off x="468360" y="620640"/>
            <a:ext cx="93672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6"/>
          <p:cNvGrpSpPr/>
          <p:nvPr/>
        </p:nvGrpSpPr>
        <p:grpSpPr>
          <a:xfrm>
            <a:off x="612720" y="42840"/>
            <a:ext cx="593640" cy="1106640"/>
            <a:chOff x="612720" y="42840"/>
            <a:chExt cx="593640" cy="1106640"/>
          </a:xfrm>
        </p:grpSpPr>
        <p:sp>
          <p:nvSpPr>
            <p:cNvPr id="155" name="Rectangle 17"/>
            <p:cNvSpPr/>
            <p:nvPr/>
          </p:nvSpPr>
          <p:spPr>
            <a:xfrm>
              <a:off x="660600" y="42840"/>
              <a:ext cx="502920" cy="647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8"/>
            <p:cNvSpPr/>
            <p:nvPr/>
          </p:nvSpPr>
          <p:spPr>
            <a:xfrm>
              <a:off x="612720" y="549000"/>
              <a:ext cx="593640" cy="600480"/>
            </a:xfrm>
            <a:custGeom>
              <a:avLst/>
              <a:gdLst>
                <a:gd name="textAreaLeft" fmla="*/ 86760 w 593640"/>
                <a:gd name="textAreaRight" fmla="*/ 506880 w 593640"/>
                <a:gd name="textAreaTop" fmla="*/ 88200 h 600480"/>
                <a:gd name="textAreaBottom" fmla="*/ 512280 h 60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19"/>
          <p:cNvSpPr/>
          <p:nvPr/>
        </p:nvSpPr>
        <p:spPr>
          <a:xfrm>
            <a:off x="325440" y="3240"/>
            <a:ext cx="1295280" cy="620640"/>
          </a:xfrm>
          <a:prstGeom prst="rect">
            <a:avLst/>
          </a:prstGeom>
          <a:solidFill>
            <a:srgbClr val="171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7713 E">
                                      <p:cBhvr>
                                        <p:cTn id="53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d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3358080" y="796680"/>
            <a:ext cx="1601640" cy="1108080"/>
            <a:chOff x="3358080" y="796680"/>
            <a:chExt cx="1601640" cy="1108080"/>
          </a:xfrm>
        </p:grpSpPr>
        <p:sp>
          <p:nvSpPr>
            <p:cNvPr id="159" name="任意多边形 197"/>
            <p:cNvSpPr/>
            <p:nvPr/>
          </p:nvSpPr>
          <p:spPr>
            <a:xfrm rot="8940000">
              <a:off x="3398400" y="1538640"/>
              <a:ext cx="425160" cy="27612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46" y="0"/>
                  </a:lnTo>
                  <a:lnTo>
                    <a:pt x="12369" y="11252"/>
                  </a:lnTo>
                  <a:lnTo>
                    <a:pt x="20110" y="20751"/>
                  </a:lnTo>
                  <a:lnTo>
                    <a:pt x="21600" y="21600"/>
                  </a:lnTo>
                  <a:lnTo>
                    <a:pt x="399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任意多边形 197"/>
            <p:cNvSpPr/>
            <p:nvPr/>
          </p:nvSpPr>
          <p:spPr>
            <a:xfrm rot="19740000">
              <a:off x="4494240" y="886320"/>
              <a:ext cx="424800" cy="27612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46" y="0"/>
                  </a:lnTo>
                  <a:lnTo>
                    <a:pt x="12369" y="11252"/>
                  </a:lnTo>
                  <a:lnTo>
                    <a:pt x="20110" y="20751"/>
                  </a:lnTo>
                  <a:lnTo>
                    <a:pt x="21600" y="21600"/>
                  </a:lnTo>
                  <a:lnTo>
                    <a:pt x="399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"/>
            <p:cNvSpPr/>
            <p:nvPr/>
          </p:nvSpPr>
          <p:spPr>
            <a:xfrm rot="19740000">
              <a:off x="3605760" y="1176120"/>
              <a:ext cx="1062720" cy="2754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496c8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204"/>
            <p:cNvSpPr/>
            <p:nvPr/>
          </p:nvSpPr>
          <p:spPr>
            <a:xfrm rot="19740000">
              <a:off x="4583160" y="1180800"/>
              <a:ext cx="101520" cy="417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1004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1004"/>
                  </a:lnTo>
                  <a:close/>
                </a:path>
              </a:pathLst>
            </a:custGeom>
            <a:solidFill>
              <a:srgbClr val="4a5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208"/>
            <p:cNvSpPr/>
            <p:nvPr/>
          </p:nvSpPr>
          <p:spPr>
            <a:xfrm rot="19740000">
              <a:off x="3756960" y="1676880"/>
              <a:ext cx="105120" cy="3636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8"/>
          <p:cNvGrpSpPr/>
          <p:nvPr/>
        </p:nvGrpSpPr>
        <p:grpSpPr>
          <a:xfrm>
            <a:off x="1265760" y="2768400"/>
            <a:ext cx="1601640" cy="1108080"/>
            <a:chOff x="1265760" y="2768400"/>
            <a:chExt cx="1601640" cy="1108080"/>
          </a:xfrm>
        </p:grpSpPr>
        <p:sp>
          <p:nvSpPr>
            <p:cNvPr id="165" name="任意多边形 197"/>
            <p:cNvSpPr/>
            <p:nvPr/>
          </p:nvSpPr>
          <p:spPr>
            <a:xfrm rot="8940000">
              <a:off x="1306440" y="3510720"/>
              <a:ext cx="425160" cy="27576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46" y="0"/>
                  </a:lnTo>
                  <a:lnTo>
                    <a:pt x="12369" y="11252"/>
                  </a:lnTo>
                  <a:lnTo>
                    <a:pt x="20110" y="20751"/>
                  </a:lnTo>
                  <a:lnTo>
                    <a:pt x="21600" y="21600"/>
                  </a:lnTo>
                  <a:lnTo>
                    <a:pt x="399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任意多边形 197"/>
            <p:cNvSpPr/>
            <p:nvPr/>
          </p:nvSpPr>
          <p:spPr>
            <a:xfrm rot="19740000">
              <a:off x="2401560" y="2858040"/>
              <a:ext cx="424800" cy="27576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46" y="0"/>
                  </a:lnTo>
                  <a:lnTo>
                    <a:pt x="12369" y="11252"/>
                  </a:lnTo>
                  <a:lnTo>
                    <a:pt x="20110" y="20751"/>
                  </a:lnTo>
                  <a:lnTo>
                    <a:pt x="21600" y="21600"/>
                  </a:lnTo>
                  <a:lnTo>
                    <a:pt x="399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1"/>
            <p:cNvSpPr/>
            <p:nvPr/>
          </p:nvSpPr>
          <p:spPr>
            <a:xfrm rot="19740000">
              <a:off x="1513440" y="3147840"/>
              <a:ext cx="1062720" cy="2754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496c8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204"/>
            <p:cNvSpPr/>
            <p:nvPr/>
          </p:nvSpPr>
          <p:spPr>
            <a:xfrm rot="19740000">
              <a:off x="2490840" y="3152160"/>
              <a:ext cx="101520" cy="417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1004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1004"/>
                  </a:lnTo>
                  <a:close/>
                </a:path>
              </a:pathLst>
            </a:custGeom>
            <a:solidFill>
              <a:srgbClr val="4a5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208"/>
            <p:cNvSpPr/>
            <p:nvPr/>
          </p:nvSpPr>
          <p:spPr>
            <a:xfrm rot="19740000">
              <a:off x="1664280" y="3648240"/>
              <a:ext cx="105120" cy="3636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4"/>
          <p:cNvGrpSpPr/>
          <p:nvPr/>
        </p:nvGrpSpPr>
        <p:grpSpPr>
          <a:xfrm>
            <a:off x="4046760" y="2751120"/>
            <a:ext cx="1602360" cy="1109160"/>
            <a:chOff x="4046760" y="2751120"/>
            <a:chExt cx="1602360" cy="1109160"/>
          </a:xfrm>
        </p:grpSpPr>
        <p:sp>
          <p:nvSpPr>
            <p:cNvPr id="171" name="任意多边形 197"/>
            <p:cNvSpPr/>
            <p:nvPr/>
          </p:nvSpPr>
          <p:spPr>
            <a:xfrm rot="8940000">
              <a:off x="4087800" y="3493440"/>
              <a:ext cx="425160" cy="27720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46" y="0"/>
                  </a:lnTo>
                  <a:lnTo>
                    <a:pt x="12369" y="11252"/>
                  </a:lnTo>
                  <a:lnTo>
                    <a:pt x="20110" y="20751"/>
                  </a:lnTo>
                  <a:lnTo>
                    <a:pt x="21600" y="21600"/>
                  </a:lnTo>
                  <a:lnTo>
                    <a:pt x="399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197"/>
            <p:cNvSpPr/>
            <p:nvPr/>
          </p:nvSpPr>
          <p:spPr>
            <a:xfrm rot="19740000">
              <a:off x="5183280" y="2840760"/>
              <a:ext cx="424800" cy="27720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46" y="0"/>
                  </a:lnTo>
                  <a:lnTo>
                    <a:pt x="12369" y="11252"/>
                  </a:lnTo>
                  <a:lnTo>
                    <a:pt x="20110" y="20751"/>
                  </a:lnTo>
                  <a:lnTo>
                    <a:pt x="21600" y="21600"/>
                  </a:lnTo>
                  <a:lnTo>
                    <a:pt x="399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7"/>
            <p:cNvSpPr/>
            <p:nvPr/>
          </p:nvSpPr>
          <p:spPr>
            <a:xfrm rot="19740000">
              <a:off x="4294800" y="3130200"/>
              <a:ext cx="1062720" cy="276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496c8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204"/>
            <p:cNvSpPr/>
            <p:nvPr/>
          </p:nvSpPr>
          <p:spPr>
            <a:xfrm rot="19740000">
              <a:off x="5272560" y="3135960"/>
              <a:ext cx="101520" cy="417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1004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1004"/>
                  </a:lnTo>
                  <a:close/>
                </a:path>
              </a:pathLst>
            </a:custGeom>
            <a:solidFill>
              <a:srgbClr val="4a5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208"/>
            <p:cNvSpPr/>
            <p:nvPr/>
          </p:nvSpPr>
          <p:spPr>
            <a:xfrm rot="19740000">
              <a:off x="4446360" y="3632040"/>
              <a:ext cx="105120" cy="3636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0"/>
          <p:cNvGrpSpPr/>
          <p:nvPr/>
        </p:nvGrpSpPr>
        <p:grpSpPr>
          <a:xfrm>
            <a:off x="3881520" y="1227240"/>
            <a:ext cx="3427200" cy="1898640"/>
            <a:chOff x="3881520" y="1227240"/>
            <a:chExt cx="3427200" cy="1898640"/>
          </a:xfrm>
        </p:grpSpPr>
        <p:sp>
          <p:nvSpPr>
            <p:cNvPr id="177" name="Rectangle 21"/>
            <p:cNvSpPr/>
            <p:nvPr/>
          </p:nvSpPr>
          <p:spPr>
            <a:xfrm>
              <a:off x="3881520" y="1227240"/>
              <a:ext cx="3427200" cy="1898640"/>
            </a:xfrm>
            <a:prstGeom prst="rect">
              <a:avLst/>
            </a:prstGeom>
            <a:solidFill>
              <a:srgbClr val="4a566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2"/>
            <p:cNvSpPr/>
            <p:nvPr/>
          </p:nvSpPr>
          <p:spPr>
            <a:xfrm>
              <a:off x="4533480" y="1628280"/>
              <a:ext cx="19540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3"/>
          <p:cNvGrpSpPr/>
          <p:nvPr/>
        </p:nvGrpSpPr>
        <p:grpSpPr>
          <a:xfrm>
            <a:off x="1766880" y="3189240"/>
            <a:ext cx="2733840" cy="2522520"/>
            <a:chOff x="1766880" y="3189240"/>
            <a:chExt cx="2733840" cy="2522520"/>
          </a:xfrm>
        </p:grpSpPr>
        <p:sp>
          <p:nvSpPr>
            <p:cNvPr id="180" name="Rectangle 24"/>
            <p:cNvSpPr/>
            <p:nvPr/>
          </p:nvSpPr>
          <p:spPr>
            <a:xfrm>
              <a:off x="1766880" y="3189240"/>
              <a:ext cx="2733840" cy="2522520"/>
            </a:xfrm>
            <a:prstGeom prst="rect">
              <a:avLst/>
            </a:prstGeom>
            <a:solidFill>
              <a:srgbClr val="4a566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5"/>
            <p:cNvSpPr/>
            <p:nvPr/>
          </p:nvSpPr>
          <p:spPr>
            <a:xfrm>
              <a:off x="2118960" y="3873240"/>
              <a:ext cx="19540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26"/>
          <p:cNvGrpSpPr/>
          <p:nvPr/>
        </p:nvGrpSpPr>
        <p:grpSpPr>
          <a:xfrm>
            <a:off x="4573440" y="3197160"/>
            <a:ext cx="2735280" cy="2521080"/>
            <a:chOff x="4573440" y="3197160"/>
            <a:chExt cx="2735280" cy="2521080"/>
          </a:xfrm>
        </p:grpSpPr>
        <p:sp>
          <p:nvSpPr>
            <p:cNvPr id="183" name="Rectangle 27"/>
            <p:cNvSpPr/>
            <p:nvPr/>
          </p:nvSpPr>
          <p:spPr>
            <a:xfrm>
              <a:off x="4573440" y="3197160"/>
              <a:ext cx="2735280" cy="2521080"/>
            </a:xfrm>
            <a:prstGeom prst="rect">
              <a:avLst/>
            </a:prstGeom>
            <a:solidFill>
              <a:srgbClr val="4a566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8"/>
            <p:cNvSpPr/>
            <p:nvPr/>
          </p:nvSpPr>
          <p:spPr>
            <a:xfrm>
              <a:off x="4984200" y="3854160"/>
              <a:ext cx="19555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29"/>
          <p:cNvSpPr/>
          <p:nvPr/>
        </p:nvSpPr>
        <p:spPr>
          <a:xfrm>
            <a:off x="1260360" y="693720"/>
            <a:ext cx="1800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d Your 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6797e"/>
                </a:solidFill>
                <a:latin typeface="Times New Roman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0"/>
          <p:cNvSpPr/>
          <p:nvPr/>
        </p:nvSpPr>
        <p:spPr>
          <a:xfrm>
            <a:off x="468360" y="620640"/>
            <a:ext cx="93672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31"/>
          <p:cNvGrpSpPr/>
          <p:nvPr/>
        </p:nvGrpSpPr>
        <p:grpSpPr>
          <a:xfrm>
            <a:off x="612720" y="42840"/>
            <a:ext cx="593640" cy="1106640"/>
            <a:chOff x="612720" y="42840"/>
            <a:chExt cx="593640" cy="1106640"/>
          </a:xfrm>
        </p:grpSpPr>
        <p:sp>
          <p:nvSpPr>
            <p:cNvPr id="188" name="Rectangle 32"/>
            <p:cNvSpPr/>
            <p:nvPr/>
          </p:nvSpPr>
          <p:spPr>
            <a:xfrm>
              <a:off x="660600" y="42840"/>
              <a:ext cx="502920" cy="647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33"/>
            <p:cNvSpPr/>
            <p:nvPr/>
          </p:nvSpPr>
          <p:spPr>
            <a:xfrm>
              <a:off x="612720" y="549000"/>
              <a:ext cx="593640" cy="600480"/>
            </a:xfrm>
            <a:custGeom>
              <a:avLst/>
              <a:gdLst>
                <a:gd name="textAreaLeft" fmla="*/ 86760 w 593640"/>
                <a:gd name="textAreaRight" fmla="*/ 506880 w 593640"/>
                <a:gd name="textAreaTop" fmla="*/ 88200 h 600480"/>
                <a:gd name="textAreaBottom" fmla="*/ 512280 h 60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Rectangle 34"/>
          <p:cNvSpPr/>
          <p:nvPr/>
        </p:nvSpPr>
        <p:spPr>
          <a:xfrm>
            <a:off x="325440" y="3240"/>
            <a:ext cx="1295280" cy="620640"/>
          </a:xfrm>
          <a:prstGeom prst="rect">
            <a:avLst/>
          </a:prstGeom>
          <a:solidFill>
            <a:srgbClr val="171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8720" y="6165720"/>
            <a:ext cx="6362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7713 E">
                                      <p:cBhvr>
                                        <p:cTn id="114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d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5649840" y="2637000"/>
            <a:ext cx="2448000" cy="215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96c8"/>
                </a:solidFill>
                <a:latin typeface="Arial"/>
              </a:rPr>
              <a:t>add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649840" y="3139920"/>
            <a:ext cx="2087640" cy="217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96c8"/>
                </a:solidFill>
                <a:latin typeface="Arial"/>
              </a:rPr>
              <a:t>add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649840" y="3645000"/>
            <a:ext cx="1692360" cy="215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96c8"/>
                </a:solidFill>
                <a:latin typeface="Arial"/>
              </a:rPr>
              <a:t>add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5649840" y="4148280"/>
            <a:ext cx="1324080" cy="217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96c8"/>
                </a:solidFill>
                <a:latin typeface="Arial"/>
              </a:rPr>
              <a:t>add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5649840" y="1917720"/>
            <a:ext cx="1800" cy="3168720"/>
          </a:xfrm>
          <a:prstGeom prst="line">
            <a:avLst/>
          </a:prstGeom>
          <a:ln w="25560">
            <a:solidFill>
              <a:srgbClr val="dddddd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7"/>
          <p:cNvGrpSpPr/>
          <p:nvPr/>
        </p:nvGrpSpPr>
        <p:grpSpPr>
          <a:xfrm>
            <a:off x="1044720" y="2133720"/>
            <a:ext cx="4464000" cy="2952720"/>
            <a:chOff x="1044720" y="2133720"/>
            <a:chExt cx="4464000" cy="2952720"/>
          </a:xfrm>
        </p:grpSpPr>
        <p:sp>
          <p:nvSpPr>
            <p:cNvPr id="198" name="Rectangle 8"/>
            <p:cNvSpPr/>
            <p:nvPr/>
          </p:nvSpPr>
          <p:spPr>
            <a:xfrm>
              <a:off x="1044720" y="2133720"/>
              <a:ext cx="4464000" cy="2952720"/>
            </a:xfrm>
            <a:prstGeom prst="rect">
              <a:avLst/>
            </a:prstGeom>
            <a:noFill/>
            <a:ln w="9360">
              <a:solidFill>
                <a:srgbClr val="4a56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9"/>
            <p:cNvSpPr/>
            <p:nvPr/>
          </p:nvSpPr>
          <p:spPr>
            <a:xfrm>
              <a:off x="3011760" y="2565360"/>
              <a:ext cx="1800360" cy="18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76797e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6797e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看电脑小人 319"/>
            <p:cNvSpPr/>
            <p:nvPr/>
          </p:nvSpPr>
          <p:spPr>
            <a:xfrm>
              <a:off x="1405440" y="2565360"/>
              <a:ext cx="1366200" cy="1726920"/>
            </a:xfrm>
            <a:custGeom>
              <a:avLst/>
              <a:gdLst>
                <a:gd name="textAreaLeft" fmla="*/ 0 w 1366200"/>
                <a:gd name="textAreaRight" fmla="*/ 1366560 w 1366200"/>
                <a:gd name="textAreaTop" fmla="*/ 0 h 1726920"/>
                <a:gd name="textAreaBottom" fmla="*/ 1727280 h 1726920"/>
              </a:gdLst>
              <a:ahLst/>
              <a:rect l="textAreaLeft" t="textAreaTop" r="textAreaRight" b="textAreaBottom"/>
              <a:pathLst>
                <a:path w="78" h="112">
                  <a:moveTo>
                    <a:pt x="21" y="36"/>
                  </a:moveTo>
                  <a:cubicBezTo>
                    <a:pt x="20" y="27"/>
                    <a:pt x="20" y="19"/>
                    <a:pt x="21" y="11"/>
                  </a:cubicBezTo>
                  <a:cubicBezTo>
                    <a:pt x="37" y="0"/>
                    <a:pt x="45" y="13"/>
                    <a:pt x="58" y="11"/>
                  </a:cubicBezTo>
                  <a:cubicBezTo>
                    <a:pt x="59" y="19"/>
                    <a:pt x="59" y="29"/>
                    <a:pt x="57" y="36"/>
                  </a:cubicBezTo>
                  <a:cubicBezTo>
                    <a:pt x="57" y="40"/>
                    <a:pt x="55" y="44"/>
                    <a:pt x="53" y="47"/>
                  </a:cubicBezTo>
                  <a:cubicBezTo>
                    <a:pt x="49" y="51"/>
                    <a:pt x="44" y="53"/>
                    <a:pt x="39" y="53"/>
                  </a:cubicBezTo>
                  <a:cubicBezTo>
                    <a:pt x="39" y="53"/>
                    <a:pt x="39" y="53"/>
                    <a:pt x="39" y="53"/>
                  </a:cubicBezTo>
                  <a:cubicBezTo>
                    <a:pt x="34" y="53"/>
                    <a:pt x="29" y="51"/>
                    <a:pt x="26" y="47"/>
                  </a:cubicBezTo>
                  <a:cubicBezTo>
                    <a:pt x="24" y="44"/>
                    <a:pt x="22" y="40"/>
                    <a:pt x="21" y="36"/>
                  </a:cubicBezTo>
                  <a:close/>
                  <a:moveTo>
                    <a:pt x="13" y="107"/>
                  </a:moveTo>
                  <a:cubicBezTo>
                    <a:pt x="67" y="107"/>
                    <a:pt x="67" y="107"/>
                    <a:pt x="67" y="107"/>
                  </a:cubicBezTo>
                  <a:cubicBezTo>
                    <a:pt x="64" y="112"/>
                    <a:pt x="64" y="112"/>
                    <a:pt x="64" y="112"/>
                  </a:cubicBezTo>
                  <a:cubicBezTo>
                    <a:pt x="16" y="112"/>
                    <a:pt x="16" y="112"/>
                    <a:pt x="16" y="112"/>
                  </a:cubicBezTo>
                  <a:cubicBezTo>
                    <a:pt x="13" y="107"/>
                    <a:pt x="13" y="107"/>
                    <a:pt x="13" y="107"/>
                  </a:cubicBezTo>
                  <a:close/>
                  <a:moveTo>
                    <a:pt x="70" y="67"/>
                  </a:moveTo>
                  <a:cubicBezTo>
                    <a:pt x="76" y="90"/>
                    <a:pt x="76" y="90"/>
                    <a:pt x="76" y="90"/>
                  </a:cubicBezTo>
                  <a:cubicBezTo>
                    <a:pt x="78" y="98"/>
                    <a:pt x="77" y="103"/>
                    <a:pt x="68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6" y="72"/>
                    <a:pt x="66" y="72"/>
                    <a:pt x="66" y="72"/>
                  </a:cubicBezTo>
                  <a:cubicBezTo>
                    <a:pt x="42" y="72"/>
                    <a:pt x="42" y="72"/>
                    <a:pt x="42" y="72"/>
                  </a:cubicBezTo>
                  <a:cubicBezTo>
                    <a:pt x="49" y="56"/>
                    <a:pt x="49" y="56"/>
                    <a:pt x="49" y="56"/>
                  </a:cubicBezTo>
                  <a:cubicBezTo>
                    <a:pt x="51" y="54"/>
                    <a:pt x="51" y="54"/>
                    <a:pt x="51" y="54"/>
                  </a:cubicBezTo>
                  <a:cubicBezTo>
                    <a:pt x="65" y="57"/>
                    <a:pt x="65" y="57"/>
                    <a:pt x="65" y="57"/>
                  </a:cubicBezTo>
                  <a:cubicBezTo>
                    <a:pt x="66" y="57"/>
                    <a:pt x="66" y="57"/>
                    <a:pt x="66" y="57"/>
                  </a:cubicBezTo>
                  <a:cubicBezTo>
                    <a:pt x="66" y="58"/>
                    <a:pt x="66" y="58"/>
                    <a:pt x="66" y="58"/>
                  </a:cubicBezTo>
                  <a:cubicBezTo>
                    <a:pt x="68" y="61"/>
                    <a:pt x="69" y="64"/>
                    <a:pt x="70" y="67"/>
                  </a:cubicBezTo>
                  <a:cubicBezTo>
                    <a:pt x="70" y="67"/>
                    <a:pt x="70" y="67"/>
                    <a:pt x="70" y="67"/>
                  </a:cubicBezTo>
                  <a:close/>
                  <a:moveTo>
                    <a:pt x="14" y="103"/>
                  </a:moveTo>
                  <a:cubicBezTo>
                    <a:pt x="11" y="103"/>
                    <a:pt x="11" y="103"/>
                    <a:pt x="11" y="103"/>
                  </a:cubicBezTo>
                  <a:cubicBezTo>
                    <a:pt x="1" y="103"/>
                    <a:pt x="0" y="98"/>
                    <a:pt x="3" y="90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63"/>
                    <a:pt x="11" y="60"/>
                    <a:pt x="14" y="58"/>
                  </a:cubicBezTo>
                  <a:cubicBezTo>
                    <a:pt x="14" y="57"/>
                    <a:pt x="14" y="57"/>
                    <a:pt x="14" y="57"/>
                  </a:cubicBezTo>
                  <a:cubicBezTo>
                    <a:pt x="14" y="57"/>
                    <a:pt x="14" y="57"/>
                    <a:pt x="14" y="57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30" y="56"/>
                    <a:pt x="30" y="56"/>
                    <a:pt x="30" y="56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10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11"/>
          <p:cNvSpPr/>
          <p:nvPr/>
        </p:nvSpPr>
        <p:spPr>
          <a:xfrm>
            <a:off x="1260360" y="693720"/>
            <a:ext cx="1800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d Your 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6797e"/>
                </a:solidFill>
                <a:latin typeface="Times New Roman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468360" y="620640"/>
            <a:ext cx="93672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3"/>
          <p:cNvGrpSpPr/>
          <p:nvPr/>
        </p:nvGrpSpPr>
        <p:grpSpPr>
          <a:xfrm>
            <a:off x="612720" y="42840"/>
            <a:ext cx="593640" cy="1106640"/>
            <a:chOff x="612720" y="42840"/>
            <a:chExt cx="593640" cy="1106640"/>
          </a:xfrm>
        </p:grpSpPr>
        <p:sp>
          <p:nvSpPr>
            <p:cNvPr id="204" name="Rectangle 14"/>
            <p:cNvSpPr/>
            <p:nvPr/>
          </p:nvSpPr>
          <p:spPr>
            <a:xfrm>
              <a:off x="660600" y="42840"/>
              <a:ext cx="502920" cy="647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612720" y="549000"/>
              <a:ext cx="593640" cy="600480"/>
            </a:xfrm>
            <a:custGeom>
              <a:avLst/>
              <a:gdLst>
                <a:gd name="textAreaLeft" fmla="*/ 86760 w 593640"/>
                <a:gd name="textAreaRight" fmla="*/ 506880 w 593640"/>
                <a:gd name="textAreaTop" fmla="*/ 88200 h 600480"/>
                <a:gd name="textAreaBottom" fmla="*/ 512280 h 60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6"/>
          <p:cNvSpPr/>
          <p:nvPr/>
        </p:nvSpPr>
        <p:spPr>
          <a:xfrm>
            <a:off x="325440" y="3240"/>
            <a:ext cx="1295280" cy="620640"/>
          </a:xfrm>
          <a:prstGeom prst="rect">
            <a:avLst/>
          </a:prstGeom>
          <a:solidFill>
            <a:srgbClr val="171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7713 E">
                                      <p:cBhvr>
                                        <p:cTn id="162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d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2"/>
          <p:cNvSpPr txBox="1"/>
          <p:nvPr/>
        </p:nvSpPr>
        <p:spPr>
          <a:xfrm>
            <a:off x="2700360" y="2997360"/>
            <a:ext cx="41068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gradFill rotWithShape="0">
                  <a:gsLst>
                    <a:gs pos="0">
                      <a:srgbClr val="171d25"/>
                    </a:gs>
                    <a:gs pos="100000">
                      <a:srgbClr val="dddddd"/>
                    </a:gs>
                  </a:gsLst>
                  <a:lin ang="10800000"/>
                </a:gradFill>
                <a:latin typeface="Times New Roman"/>
              </a:rPr>
              <a:t>Thank your!</a:t>
            </a:r>
            <a:endParaRPr b="0" lang="en-US" sz="6000" spc="-1" strike="noStrike">
              <a:ln w="0">
                <a:noFill/>
              </a:ln>
              <a:gradFill rotWithShape="0">
                <a:gsLst>
                  <a:gs pos="0">
                    <a:srgbClr val="171d25"/>
                  </a:gs>
                  <a:gs pos="100000">
                    <a:srgbClr val="dddddd"/>
                  </a:gs>
                </a:gsLst>
                <a:lin ang="108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05:58:55Z</dcterms:created>
  <dc:creator>www.eeppt.com; An</dc:creator>
  <dc:description>ppt模板下载网站 http://www.eeppt.com</dc:description>
  <dc:language>en-US</dc:language>
  <cp:lastModifiedBy/>
  <dcterms:modified xsi:type="dcterms:W3CDTF">2015-05-27T12:23:28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