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BE1-A469-4D7E-8157-98A232E1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633-E0B8-4102-B7CE-351DA921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EFA-10F1-4C1E-A5EA-4CD80EE6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1E9-44D6-4A00-A8FF-C5B86456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95D-3B17-4F2D-A038-22022B2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8F-535D-4336-B99B-FE692F1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B46-B1C3-43CA-B84E-3EBB0B1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934-0E0A-4F38-9CCA-4B4502BB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EB5-E24F-45F2-ACED-CE1464CE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91D-FA27-4A56-8FEF-917CD0D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13F-912C-44D3-857A-79955A8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490-2DAF-40B7-837D-DE073B1F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795-3496-464C-B3CF-FD470E5BCD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42Z</dcterms:created>
  <dc:creator>www.eeppt.com; An</dc:creator>
  <dc:description>ppt模板下载网站 http://www.eeppt.com</dc:description>
  <dc:language>en-US</dc:language>
  <cp:lastModifiedBy/>
  <dcterms:modified xsi:type="dcterms:W3CDTF">2015-05-27T12:5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