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57E-5FCD-4362-AC6C-E30FF68E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B49D-3E53-4B0A-906A-D30FD3E1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540-D390-4A74-B6BC-1C02352F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42A-D921-476A-8F50-14FC4748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709A-8AE7-4D41-9D71-EC532533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D92-5CED-4CA2-BD90-A720665C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8821-A68E-4C7E-8F38-CAC37DCA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D95F-8376-443F-A4FC-FBCE3568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6A8A-D8C8-4DC7-A281-B9D571BE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1FC-CC2A-4EA3-BA65-6D207A7E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3B6-312B-48F5-8749-1719CDF7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18B-20E5-4CCB-B9FA-B148BC04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96D1-AAD9-478A-9959-DBF3141614D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7BF2-03CA-4633-96DF-199E71B5CE5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 flipH="1"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1" descr="png素材 (276).png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46" name="Freeform 2670"/>
          <p:cNvSpPr/>
          <p:nvPr/>
        </p:nvSpPr>
        <p:spPr>
          <a:xfrm>
            <a:off x="2786040" y="6273720"/>
            <a:ext cx="40320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"/>
          <p:cNvGrpSpPr/>
          <p:nvPr/>
        </p:nvGrpSpPr>
        <p:grpSpPr>
          <a:xfrm>
            <a:off x="785880" y="2058840"/>
            <a:ext cx="7602480" cy="2757600"/>
            <a:chOff x="785880" y="2058840"/>
            <a:chExt cx="7602480" cy="2757600"/>
          </a:xfrm>
        </p:grpSpPr>
        <p:grpSp>
          <p:nvGrpSpPr>
            <p:cNvPr id="48" name="Group 14"/>
            <p:cNvGrpSpPr/>
            <p:nvPr/>
          </p:nvGrpSpPr>
          <p:grpSpPr>
            <a:xfrm>
              <a:off x="1135440" y="2058840"/>
              <a:ext cx="6759000" cy="2077920"/>
              <a:chOff x="1135440" y="2058840"/>
              <a:chExt cx="6759000" cy="2077920"/>
            </a:xfrm>
          </p:grpSpPr>
          <p:grpSp>
            <p:nvGrpSpPr>
              <p:cNvPr id="49" name="Group 15"/>
              <p:cNvGrpSpPr/>
              <p:nvPr/>
            </p:nvGrpSpPr>
            <p:grpSpPr>
              <a:xfrm>
                <a:off x="1135440" y="2058840"/>
                <a:ext cx="6755040" cy="2077920"/>
                <a:chOff x="1135440" y="2058840"/>
                <a:chExt cx="6755040" cy="2077920"/>
              </a:xfrm>
            </p:grpSpPr>
            <p:grpSp>
              <p:nvGrpSpPr>
                <p:cNvPr id="50" name="Group 16"/>
                <p:cNvGrpSpPr/>
                <p:nvPr/>
              </p:nvGrpSpPr>
              <p:grpSpPr>
                <a:xfrm>
                  <a:off x="1135440" y="2511000"/>
                  <a:ext cx="995400" cy="1356480"/>
                  <a:chOff x="1135440" y="2511000"/>
                  <a:chExt cx="995400" cy="1356480"/>
                </a:xfrm>
              </p:grpSpPr>
              <p:sp>
                <p:nvSpPr>
                  <p:cNvPr id="51" name="AutoShape 17"/>
                  <p:cNvSpPr/>
                  <p:nvPr/>
                </p:nvSpPr>
                <p:spPr>
                  <a:xfrm>
                    <a:off x="1135440" y="2511000"/>
                    <a:ext cx="995400" cy="930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666b6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AutoShape 18"/>
                  <p:cNvSpPr/>
                  <p:nvPr/>
                </p:nvSpPr>
                <p:spPr>
                  <a:xfrm>
                    <a:off x="1259640" y="2635560"/>
                    <a:ext cx="746640" cy="6717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3941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AutoShape 19"/>
                  <p:cNvSpPr/>
                  <p:nvPr/>
                </p:nvSpPr>
                <p:spPr>
                  <a:xfrm rot="10800000">
                    <a:off x="1491480" y="3433320"/>
                    <a:ext cx="311040" cy="4341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666b6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20"/>
                <p:cNvGrpSpPr/>
                <p:nvPr/>
              </p:nvGrpSpPr>
              <p:grpSpPr>
                <a:xfrm>
                  <a:off x="2558880" y="2058840"/>
                  <a:ext cx="995400" cy="1354320"/>
                  <a:chOff x="2558880" y="2058840"/>
                  <a:chExt cx="995400" cy="1354320"/>
                </a:xfrm>
              </p:grpSpPr>
              <p:sp>
                <p:nvSpPr>
                  <p:cNvPr id="55" name="AutoShape 21"/>
                  <p:cNvSpPr/>
                  <p:nvPr/>
                </p:nvSpPr>
                <p:spPr>
                  <a:xfrm>
                    <a:off x="2558880" y="2058840"/>
                    <a:ext cx="995400" cy="930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3941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AutoShape 22"/>
                  <p:cNvSpPr/>
                  <p:nvPr/>
                </p:nvSpPr>
                <p:spPr>
                  <a:xfrm>
                    <a:off x="2683080" y="2182680"/>
                    <a:ext cx="745920" cy="671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bdd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AutoShape 23"/>
                  <p:cNvSpPr/>
                  <p:nvPr/>
                </p:nvSpPr>
                <p:spPr>
                  <a:xfrm rot="10800000">
                    <a:off x="2914560" y="2978640"/>
                    <a:ext cx="310680" cy="434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3941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" name="Group 24"/>
                <p:cNvGrpSpPr/>
                <p:nvPr/>
              </p:nvGrpSpPr>
              <p:grpSpPr>
                <a:xfrm>
                  <a:off x="3997800" y="2617920"/>
                  <a:ext cx="995400" cy="1354320"/>
                  <a:chOff x="3997800" y="2617920"/>
                  <a:chExt cx="995400" cy="1354320"/>
                </a:xfrm>
              </p:grpSpPr>
              <p:sp>
                <p:nvSpPr>
                  <p:cNvPr id="59" name="AutoShape 25"/>
                  <p:cNvSpPr/>
                  <p:nvPr/>
                </p:nvSpPr>
                <p:spPr>
                  <a:xfrm>
                    <a:off x="3997800" y="2617920"/>
                    <a:ext cx="995400" cy="930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bdd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AutoShape 26"/>
                  <p:cNvSpPr/>
                  <p:nvPr/>
                </p:nvSpPr>
                <p:spPr>
                  <a:xfrm>
                    <a:off x="4122000" y="2741760"/>
                    <a:ext cx="745920" cy="671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9096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AutoShape 27"/>
                  <p:cNvSpPr/>
                  <p:nvPr/>
                </p:nvSpPr>
                <p:spPr>
                  <a:xfrm rot="10800000">
                    <a:off x="4353480" y="3537720"/>
                    <a:ext cx="310680" cy="434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bdd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8"/>
                <p:cNvGrpSpPr/>
                <p:nvPr/>
              </p:nvGrpSpPr>
              <p:grpSpPr>
                <a:xfrm>
                  <a:off x="5447880" y="2782440"/>
                  <a:ext cx="995400" cy="1354320"/>
                  <a:chOff x="5447880" y="2782440"/>
                  <a:chExt cx="995400" cy="1354320"/>
                </a:xfrm>
              </p:grpSpPr>
              <p:sp>
                <p:nvSpPr>
                  <p:cNvPr id="63" name="AutoShape 29"/>
                  <p:cNvSpPr/>
                  <p:nvPr/>
                </p:nvSpPr>
                <p:spPr>
                  <a:xfrm>
                    <a:off x="5447880" y="2782440"/>
                    <a:ext cx="995400" cy="930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9096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AutoShape 30"/>
                  <p:cNvSpPr/>
                  <p:nvPr/>
                </p:nvSpPr>
                <p:spPr>
                  <a:xfrm>
                    <a:off x="5572080" y="2906280"/>
                    <a:ext cx="745920" cy="671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3941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AutoShape 31"/>
                  <p:cNvSpPr/>
                  <p:nvPr/>
                </p:nvSpPr>
                <p:spPr>
                  <a:xfrm rot="10800000">
                    <a:off x="5803560" y="3702240"/>
                    <a:ext cx="310680" cy="434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9096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32"/>
                <p:cNvGrpSpPr/>
                <p:nvPr/>
              </p:nvGrpSpPr>
              <p:grpSpPr>
                <a:xfrm>
                  <a:off x="6895080" y="2157480"/>
                  <a:ext cx="995400" cy="1354320"/>
                  <a:chOff x="6895080" y="2157480"/>
                  <a:chExt cx="995400" cy="1354320"/>
                </a:xfrm>
              </p:grpSpPr>
              <p:sp>
                <p:nvSpPr>
                  <p:cNvPr id="67" name="AutoShape 33"/>
                  <p:cNvSpPr/>
                  <p:nvPr/>
                </p:nvSpPr>
                <p:spPr>
                  <a:xfrm>
                    <a:off x="6895080" y="2157480"/>
                    <a:ext cx="995400" cy="930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bdd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AutoShape 34"/>
                  <p:cNvSpPr/>
                  <p:nvPr/>
                </p:nvSpPr>
                <p:spPr>
                  <a:xfrm>
                    <a:off x="7019280" y="2281320"/>
                    <a:ext cx="745920" cy="671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3941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AutoShape 35"/>
                  <p:cNvSpPr/>
                  <p:nvPr/>
                </p:nvSpPr>
                <p:spPr>
                  <a:xfrm rot="10800000">
                    <a:off x="7250760" y="3077280"/>
                    <a:ext cx="310680" cy="434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bdd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" name="Text Box 36"/>
              <p:cNvSpPr/>
              <p:nvPr/>
            </p:nvSpPr>
            <p:spPr>
              <a:xfrm>
                <a:off x="2554560" y="2329920"/>
                <a:ext cx="995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汉仪中圆简"/>
                    <a:ea typeface="汉仪中圆简"/>
                  </a:rPr>
                  <a:t>¥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  <a:ea typeface="汉仪中圆简"/>
                  </a:rPr>
                  <a:t>15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37"/>
              <p:cNvSpPr/>
              <p:nvPr/>
            </p:nvSpPr>
            <p:spPr>
              <a:xfrm>
                <a:off x="4002840" y="2897640"/>
                <a:ext cx="995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汉仪中圆简"/>
                    <a:ea typeface="汉仪中圆简"/>
                  </a:rPr>
                  <a:t>¥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  <a:ea typeface="汉仪中圆简"/>
                  </a:rPr>
                  <a:t>8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38"/>
              <p:cNvSpPr/>
              <p:nvPr/>
            </p:nvSpPr>
            <p:spPr>
              <a:xfrm>
                <a:off x="5451120" y="3066120"/>
                <a:ext cx="995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汉仪中圆简"/>
                    <a:ea typeface="汉仪中圆简"/>
                  </a:rPr>
                  <a:t>¥</a:t>
                </a: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  <a:ea typeface="汉仪中圆简"/>
                  </a:rPr>
                  <a:t>7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39"/>
              <p:cNvSpPr/>
              <p:nvPr/>
            </p:nvSpPr>
            <p:spPr>
              <a:xfrm>
                <a:off x="6899040" y="2445120"/>
                <a:ext cx="995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汉仪中圆简"/>
                    <a:ea typeface="汉仪中圆简"/>
                  </a:rPr>
                  <a:t>¥</a:t>
                </a: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  <a:ea typeface="汉仪中圆简"/>
                  </a:rPr>
                  <a:t>14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40"/>
              <p:cNvSpPr/>
              <p:nvPr/>
            </p:nvSpPr>
            <p:spPr>
              <a:xfrm>
                <a:off x="1135440" y="2794680"/>
                <a:ext cx="995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汉仪中圆简"/>
                    <a:ea typeface="汉仪中圆简"/>
                  </a:rPr>
                  <a:t>¥</a:t>
                </a: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  <a:ea typeface="汉仪中圆简"/>
                  </a:rPr>
                  <a:t>10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41"/>
            <p:cNvGrpSpPr/>
            <p:nvPr/>
          </p:nvGrpSpPr>
          <p:grpSpPr>
            <a:xfrm>
              <a:off x="785880" y="3597120"/>
              <a:ext cx="7602480" cy="1219320"/>
              <a:chOff x="785880" y="3597120"/>
              <a:chExt cx="7602480" cy="1219320"/>
            </a:xfrm>
          </p:grpSpPr>
          <p:grpSp>
            <p:nvGrpSpPr>
              <p:cNvPr id="76" name="Group 42"/>
              <p:cNvGrpSpPr/>
              <p:nvPr/>
            </p:nvGrpSpPr>
            <p:grpSpPr>
              <a:xfrm>
                <a:off x="1565640" y="3597120"/>
                <a:ext cx="5944320" cy="1219320"/>
                <a:chOff x="1565640" y="3597120"/>
                <a:chExt cx="5944320" cy="1219320"/>
              </a:xfrm>
            </p:grpSpPr>
            <p:sp>
              <p:nvSpPr>
                <p:cNvPr id="77" name="Arc 43"/>
                <p:cNvSpPr/>
                <p:nvPr/>
              </p:nvSpPr>
              <p:spPr>
                <a:xfrm flipH="1" flipV="1" rot="5400000">
                  <a:off x="4250880" y="4481280"/>
                  <a:ext cx="545040" cy="98640"/>
                </a:xfrm>
                <a:prstGeom prst="pie">
                  <a:avLst/>
                </a:prstGeom>
                <a:noFill/>
                <a:ln w="76320">
                  <a:solidFill>
                    <a:srgbClr val="cbdd4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Arc 44"/>
                <p:cNvSpPr/>
                <p:nvPr/>
              </p:nvSpPr>
              <p:spPr>
                <a:xfrm flipH="1" flipV="1" rot="5400000">
                  <a:off x="2522160" y="4214880"/>
                  <a:ext cx="1104480" cy="98640"/>
                </a:xfrm>
                <a:prstGeom prst="pie">
                  <a:avLst/>
                </a:prstGeom>
                <a:noFill/>
                <a:ln w="76320">
                  <a:solidFill>
                    <a:srgbClr val="cbdd4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Arc 45"/>
                <p:cNvSpPr/>
                <p:nvPr/>
              </p:nvSpPr>
              <p:spPr>
                <a:xfrm flipH="1" flipV="1" rot="5400000">
                  <a:off x="1341720" y="4413960"/>
                  <a:ext cx="636120" cy="98640"/>
                </a:xfrm>
                <a:prstGeom prst="pie">
                  <a:avLst/>
                </a:prstGeom>
                <a:noFill/>
                <a:ln w="76320">
                  <a:solidFill>
                    <a:srgbClr val="cbdd4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Arc 46"/>
                <p:cNvSpPr/>
                <p:nvPr/>
              </p:nvSpPr>
              <p:spPr>
                <a:xfrm flipH="1" flipV="1" rot="5400000">
                  <a:off x="5777280" y="4546440"/>
                  <a:ext cx="363240" cy="98640"/>
                </a:xfrm>
                <a:prstGeom prst="pie">
                  <a:avLst/>
                </a:prstGeom>
                <a:noFill/>
                <a:ln w="76320">
                  <a:solidFill>
                    <a:srgbClr val="cbdd4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Arc 47"/>
                <p:cNvSpPr/>
                <p:nvPr/>
              </p:nvSpPr>
              <p:spPr>
                <a:xfrm flipH="1" flipV="1" rot="5400000">
                  <a:off x="6957000" y="4278600"/>
                  <a:ext cx="908640" cy="98640"/>
                </a:xfrm>
                <a:prstGeom prst="pie">
                  <a:avLst/>
                </a:prstGeom>
                <a:noFill/>
                <a:ln w="76320">
                  <a:solidFill>
                    <a:srgbClr val="cbdd4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曲线 568"/>
                <p:cNvSpPr/>
                <p:nvPr/>
              </p:nvSpPr>
              <p:spPr>
                <a:xfrm>
                  <a:off x="1666440" y="3675600"/>
                  <a:ext cx="5800680" cy="916920"/>
                </a:xfrm>
                <a:prstGeom prst="pie">
                  <a:avLst/>
                </a:prstGeom>
                <a:noFill/>
                <a:ln w="28440">
                  <a:solidFill>
                    <a:srgbClr val="909698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AutoShape 49"/>
                <p:cNvSpPr/>
                <p:nvPr/>
              </p:nvSpPr>
              <p:spPr>
                <a:xfrm>
                  <a:off x="1565640" y="4038840"/>
                  <a:ext cx="180720" cy="181440"/>
                </a:xfrm>
                <a:prstGeom prst="sun">
                  <a:avLst>
                    <a:gd name="adj" fmla="val 25000"/>
                  </a:avLst>
                </a:prstGeom>
                <a:solidFill>
                  <a:srgbClr val="3941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AutoShape 50"/>
                <p:cNvSpPr/>
                <p:nvPr/>
              </p:nvSpPr>
              <p:spPr>
                <a:xfrm>
                  <a:off x="2997360" y="3597120"/>
                  <a:ext cx="180720" cy="181440"/>
                </a:xfrm>
                <a:prstGeom prst="sun">
                  <a:avLst>
                    <a:gd name="adj" fmla="val 25000"/>
                  </a:avLst>
                </a:prstGeom>
                <a:solidFill>
                  <a:srgbClr val="3941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AutoShape 51"/>
                <p:cNvSpPr/>
                <p:nvPr/>
              </p:nvSpPr>
              <p:spPr>
                <a:xfrm>
                  <a:off x="7329240" y="3741480"/>
                  <a:ext cx="180720" cy="181440"/>
                </a:xfrm>
                <a:prstGeom prst="sun">
                  <a:avLst>
                    <a:gd name="adj" fmla="val 25000"/>
                  </a:avLst>
                </a:prstGeom>
                <a:solidFill>
                  <a:srgbClr val="3941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AutoShape 52"/>
                <p:cNvSpPr/>
                <p:nvPr/>
              </p:nvSpPr>
              <p:spPr>
                <a:xfrm>
                  <a:off x="4445280" y="4142160"/>
                  <a:ext cx="180720" cy="181800"/>
                </a:xfrm>
                <a:prstGeom prst="sun">
                  <a:avLst>
                    <a:gd name="adj" fmla="val 25000"/>
                  </a:avLst>
                </a:prstGeom>
                <a:solidFill>
                  <a:srgbClr val="3941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AutoShape 53"/>
                <p:cNvSpPr/>
                <p:nvPr/>
              </p:nvSpPr>
              <p:spPr>
                <a:xfrm>
                  <a:off x="5881320" y="4299120"/>
                  <a:ext cx="180720" cy="181440"/>
                </a:xfrm>
                <a:prstGeom prst="sun">
                  <a:avLst>
                    <a:gd name="adj" fmla="val 25000"/>
                  </a:avLst>
                </a:prstGeom>
                <a:solidFill>
                  <a:srgbClr val="3941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785880" y="4772160"/>
                <a:ext cx="7602480" cy="720"/>
                <a:chOff x="785880" y="4772160"/>
                <a:chExt cx="7602480" cy="720"/>
              </a:xfrm>
            </p:grpSpPr>
            <p:sp>
              <p:nvSpPr>
                <p:cNvPr id="89" name="Line 54"/>
                <p:cNvSpPr/>
                <p:nvPr/>
              </p:nvSpPr>
              <p:spPr>
                <a:xfrm>
                  <a:off x="785880" y="4772160"/>
                  <a:ext cx="7602480" cy="720"/>
                </a:xfrm>
                <a:prstGeom prst="line">
                  <a:avLst/>
                </a:prstGeom>
                <a:ln w="76320">
                  <a:solidFill>
                    <a:srgbClr val="666b6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 txBox="1"/>
                <p:nvPr/>
              </p:nvSpPr>
              <p:spPr>
                <a:xfrm>
                  <a:off x="785880" y="4772160"/>
                  <a:ext cx="7602480" cy="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54A0-208C-426E-B73D-E60DAA917C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eeppt.com</dc:creator>
  <dc:description>ppt模板下载网站 http://www.eeppt.com</dc:description>
  <dc:language>en-US</dc:language>
  <cp:lastModifiedBy/>
  <dcterms:modified xsi:type="dcterms:W3CDTF">2015-05-22T15:32:00Z</dcterms:modified>
  <cp:revision>106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Presentation">
    <vt:lpwstr>锐普图表</vt:lpwstr>
  </property>
</Properties>
</file>