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A2D-46DB-46B5-A4B9-9230AFB4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228-7D55-4055-983C-46EE0914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872-0AD2-42FF-B516-ECDE8C3E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584-0C89-4AA4-AFBC-D4C710F5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8A1A-A371-4150-8A16-2D0FDA40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79DD-9B39-4812-9BA3-1FE46583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F055-B222-4A86-99AD-C7FB1839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8A9-A8FE-4267-8034-3517D20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A5E-BD7A-4931-ABA0-493DDA18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A72A-C326-4C61-B4BF-8FA84885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B5C1-75C9-4647-BDBB-F7BC9C9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DF4-8827-42D2-AB13-10728A2A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3582-3489-4C3B-8548-EC5EF7FA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6B68-67D5-41C5-B8C7-93A0834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58A-09B9-49C6-AC27-C458EA98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418C-63D7-4541-9D28-7F8B5F7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DA6-D7E3-4960-A80D-05B7944B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05E-5504-44F9-A6DB-F39DE822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A84-C53E-40CF-B46B-3E38B846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7B1-B530-4DBB-AF5C-AAB1319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69A-DA4E-41F0-B6EB-409DF4C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E4F-6AFC-4EF7-AE32-F6321296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2F1E-BB39-448D-929F-455F2D8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EF16-2B7B-4027-A3E9-876E7148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09B0-68BB-419B-8285-B7A60FD64F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7F4-6072-479F-B8A2-3627C2EE37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000" y="2709360"/>
            <a:ext cx="60721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自然风光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PPT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图片大全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1908000" y="587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2:10:39Z</dcterms:created>
  <dc:creator>www.eeppt.com; An</dc:creator>
  <dc:description>ppt模板下载网站 http://www.eeppt.com</dc:description>
  <dc:language>en-US</dc:language>
  <cp:lastModifiedBy/>
  <dcterms:modified xsi:type="dcterms:W3CDTF">2015-05-27T14:19:55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