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1A4-58EC-4243-9C89-E104CB94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F19-12EF-41C5-8B6F-D83DC78A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1E2-3D65-411B-AC53-0CB68DF7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C26-FC1A-477F-8949-B478EBB6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1D1-3EEA-4559-BA1F-2155B322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BF2-D4AF-4949-8879-5C21FF6F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F68-D606-4CBA-951F-B00EEA5A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35E-2E05-4191-A1B6-205A32CE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5CF-5073-4737-B00C-C76C26DE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59C-0DBD-482D-B7C9-1ACCDF45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A21-AB5E-4D43-A3CB-2A0C310D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E6A2-F4E6-493C-B40D-A06D61F9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EF89-A7A1-43A4-AE79-D163BAD543F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EEBB-EFA0-4199-8606-AA1D4232AA8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144680" cy="27622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2" descr=""/>
          <p:cNvPicPr/>
          <p:nvPr/>
        </p:nvPicPr>
        <p:blipFill>
          <a:blip r:embed="rId3"/>
          <a:stretch/>
        </p:blipFill>
        <p:spPr>
          <a:xfrm>
            <a:off x="4716360" y="836640"/>
            <a:ext cx="4145040" cy="2762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4"/>
          <a:srcRect l="0" t="0" r="8983" b="0"/>
          <a:stretch/>
        </p:blipFill>
        <p:spPr>
          <a:xfrm>
            <a:off x="301680" y="3598920"/>
            <a:ext cx="4145040" cy="30369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5"/>
          <a:stretch/>
        </p:blipFill>
        <p:spPr>
          <a:xfrm>
            <a:off x="4762440" y="3878280"/>
            <a:ext cx="40989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2"/>
          <a:srcRect l="2101" t="0" r="1941" b="0"/>
          <a:stretch/>
        </p:blipFill>
        <p:spPr>
          <a:xfrm>
            <a:off x="4937040" y="825480"/>
            <a:ext cx="3880080" cy="269712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50" name="图片 2" descr=""/>
          <p:cNvPicPr/>
          <p:nvPr/>
        </p:nvPicPr>
        <p:blipFill>
          <a:blip r:embed="rId3"/>
          <a:stretch/>
        </p:blipFill>
        <p:spPr>
          <a:xfrm>
            <a:off x="466560" y="822240"/>
            <a:ext cx="4313520" cy="28767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51" name="图片 4" descr=""/>
          <p:cNvPicPr/>
          <p:nvPr/>
        </p:nvPicPr>
        <p:blipFill>
          <a:blip r:embed="rId4"/>
          <a:stretch/>
        </p:blipFill>
        <p:spPr>
          <a:xfrm>
            <a:off x="314280" y="3860640"/>
            <a:ext cx="5329440" cy="273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2" name="图片 9" descr=""/>
          <p:cNvPicPr/>
          <p:nvPr/>
        </p:nvPicPr>
        <p:blipFill>
          <a:blip r:embed="rId5"/>
          <a:stretch/>
        </p:blipFill>
        <p:spPr>
          <a:xfrm>
            <a:off x="5796000" y="3699000"/>
            <a:ext cx="2986200" cy="2896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346-73AF-4F4E-90B0-F7B2393D09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eeppt.com</dc:creator>
  <dc:description>ppt模板下载网站 http://www.eeppt.com</dc:description>
  <dc:language>en-US</dc:language>
  <cp:lastModifiedBy/>
  <dcterms:modified xsi:type="dcterms:W3CDTF">2015-05-22T15:32:44Z</dcterms:modified>
  <cp:revision>10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Presentation">
    <vt:lpwstr>锐普图表</vt:lpwstr>
  </property>
</Properties>
</file>