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E:\新模板\蓝色的S\未标题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E:\新模板\蓝色的S\未标题-3.png"/>
          <p:cNvPicPr/>
          <p:nvPr/>
        </p:nvPicPr>
        <p:blipFill>
          <a:blip r:embed="rId1"/>
          <a:srcRect l="50004" t="0" r="0" b="50003"/>
          <a:stretch/>
        </p:blipFill>
        <p:spPr>
          <a:xfrm>
            <a:off x="457200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E:\新模板\蓝色的S\未标题-3.png"/>
          <p:cNvPicPr/>
          <p:nvPr/>
        </p:nvPicPr>
        <p:blipFill>
          <a:blip r:embed="rId2"/>
          <a:srcRect l="0" t="50003" r="50004" b="0"/>
          <a:stretch/>
        </p:blipFill>
        <p:spPr>
          <a:xfrm>
            <a:off x="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E:\新模板\蓝色的S\未标题-3.png"/>
          <p:cNvPicPr/>
          <p:nvPr/>
        </p:nvPicPr>
        <p:blipFill>
          <a:blip r:embed="rId3"/>
          <a:srcRect l="50004" t="50003" r="0" b="0"/>
          <a:stretch/>
        </p:blipFill>
        <p:spPr>
          <a:xfrm>
            <a:off x="457200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E:\新模板\蓝色的S\未标题-3.png"/>
          <p:cNvPicPr/>
          <p:nvPr/>
        </p:nvPicPr>
        <p:blipFill>
          <a:blip r:embed="rId4"/>
          <a:srcRect l="0" t="0" r="50004" b="50003"/>
          <a:stretch/>
        </p:blipFill>
        <p:spPr>
          <a:xfrm>
            <a:off x="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E:\新模板\蓝色的S\未标题-4.png"/>
          <p:cNvPicPr/>
          <p:nvPr/>
        </p:nvPicPr>
        <p:blipFill>
          <a:blip r:embed="rId5"/>
          <a:srcRect l="0" t="0" r="50004" b="0"/>
          <a:stretch/>
        </p:blipFill>
        <p:spPr>
          <a:xfrm>
            <a:off x="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E:\新模板\蓝色的S\未标题-4.png"/>
          <p:cNvPicPr/>
          <p:nvPr/>
        </p:nvPicPr>
        <p:blipFill>
          <a:blip r:embed="rId6"/>
          <a:srcRect l="50004" t="0" r="0" b="0"/>
          <a:stretch/>
        </p:blipFill>
        <p:spPr>
          <a:xfrm>
            <a:off x="457200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E:\新模板\蓝色的S\未标题-5.png"/>
          <p:cNvPicPr/>
          <p:nvPr/>
        </p:nvPicPr>
        <p:blipFill>
          <a:blip r:embed="rId7"/>
          <a:srcRect l="0" t="50003" r="0" b="0"/>
          <a:stretch/>
        </p:blipFill>
        <p:spPr>
          <a:xfrm>
            <a:off x="0" y="2857680"/>
            <a:ext cx="9144000" cy="2857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E:\新模板\蓝色的S\未标题-5.png"/>
          <p:cNvPicPr/>
          <p:nvPr/>
        </p:nvPicPr>
        <p:blipFill>
          <a:blip r:embed="rId8"/>
          <a:srcRect l="0" t="0" r="0" b="50003"/>
          <a:stretch/>
        </p:blipFill>
        <p:spPr>
          <a:xfrm>
            <a:off x="0" y="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E:\新模板\蓝色的S\未标题-6.png"/>
          <p:cNvPicPr/>
          <p:nvPr/>
        </p:nvPicPr>
        <p:blipFill>
          <a:blip r:embed="rId9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10"/>
          <p:cNvSpPr/>
          <p:nvPr/>
        </p:nvSpPr>
        <p:spPr>
          <a:xfrm>
            <a:off x="1765440" y="711360"/>
            <a:ext cx="475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文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1990800" y="15717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副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1422000" y="357120"/>
            <a:ext cx="396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黑体"/>
              </a:rPr>
              <a:t>HI-HOO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BatangChe"/>
              </a:rPr>
              <a:t> POWERPOINT TEMPL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2" descr="E:\2010\模板\绿色的地球\未标题-2副本.png"/>
          <p:cNvPicPr/>
          <p:nvPr/>
        </p:nvPicPr>
        <p:blipFill>
          <a:blip r:embed="rId10">
            <a:lum bright="-100000"/>
          </a:blip>
          <a:srcRect l="19068" t="76579" r="12328" b="20276"/>
          <a:stretch/>
        </p:blipFill>
        <p:spPr>
          <a:xfrm>
            <a:off x="1352520" y="5418000"/>
            <a:ext cx="392112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400"/>
                            </p:stCondLst>
                            <p:childTnLst>
                              <p:par>
                                <p:cTn id="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9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4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7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1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700"/>
                            </p:stCondLst>
                            <p:childTnLst>
                              <p:par>
                                <p:cTn id="4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组合 16"/>
          <p:cNvGrpSpPr/>
          <p:nvPr/>
        </p:nvGrpSpPr>
        <p:grpSpPr>
          <a:xfrm>
            <a:off x="1290600" y="1409760"/>
            <a:ext cx="6562800" cy="546120"/>
            <a:chOff x="1290600" y="1409760"/>
            <a:chExt cx="6562800" cy="546120"/>
          </a:xfrm>
        </p:grpSpPr>
        <p:sp>
          <p:nvSpPr>
            <p:cNvPr id="91" name="AutoShape 3"/>
            <p:cNvSpPr/>
            <p:nvPr/>
          </p:nvSpPr>
          <p:spPr>
            <a:xfrm>
              <a:off x="1290600" y="160164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3"/>
            <p:cNvSpPr/>
            <p:nvPr/>
          </p:nvSpPr>
          <p:spPr>
            <a:xfrm>
              <a:off x="1355400" y="1409760"/>
              <a:ext cx="6432840" cy="48132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3"/>
            <p:cNvSpPr/>
            <p:nvPr/>
          </p:nvSpPr>
          <p:spPr>
            <a:xfrm>
              <a:off x="3151080" y="149364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17"/>
          <p:cNvGrpSpPr/>
          <p:nvPr/>
        </p:nvGrpSpPr>
        <p:grpSpPr>
          <a:xfrm>
            <a:off x="1290600" y="2281320"/>
            <a:ext cx="6562800" cy="546120"/>
            <a:chOff x="1290600" y="2281320"/>
            <a:chExt cx="6562800" cy="546120"/>
          </a:xfrm>
        </p:grpSpPr>
        <p:grpSp>
          <p:nvGrpSpPr>
            <p:cNvPr id="95" name="组合 65"/>
            <p:cNvGrpSpPr/>
            <p:nvPr/>
          </p:nvGrpSpPr>
          <p:grpSpPr>
            <a:xfrm>
              <a:off x="1290600" y="2281320"/>
              <a:ext cx="6562800" cy="546120"/>
              <a:chOff x="1290600" y="2281320"/>
              <a:chExt cx="6562800" cy="546120"/>
            </a:xfrm>
          </p:grpSpPr>
          <p:sp>
            <p:nvSpPr>
              <p:cNvPr id="96" name="AutoShape 3"/>
              <p:cNvSpPr/>
              <p:nvPr/>
            </p:nvSpPr>
            <p:spPr>
              <a:xfrm>
                <a:off x="1290600" y="2473200"/>
                <a:ext cx="6562800" cy="35424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AutoShape 3"/>
              <p:cNvSpPr/>
              <p:nvPr/>
            </p:nvSpPr>
            <p:spPr>
              <a:xfrm>
                <a:off x="1355400" y="2281320"/>
                <a:ext cx="6432840" cy="482760"/>
              </a:xfrm>
              <a:prstGeom prst="rect">
                <a:avLst/>
              </a:prstGeom>
              <a:solidFill>
                <a:srgbClr val="7f7f7f">
                  <a:alpha val="88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Rectangle 13"/>
            <p:cNvSpPr/>
            <p:nvPr/>
          </p:nvSpPr>
          <p:spPr>
            <a:xfrm>
              <a:off x="3151080" y="236700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19"/>
          <p:cNvGrpSpPr/>
          <p:nvPr/>
        </p:nvGrpSpPr>
        <p:grpSpPr>
          <a:xfrm>
            <a:off x="1290600" y="3154320"/>
            <a:ext cx="6562800" cy="546120"/>
            <a:chOff x="1290600" y="3154320"/>
            <a:chExt cx="6562800" cy="546120"/>
          </a:xfrm>
        </p:grpSpPr>
        <p:sp>
          <p:nvSpPr>
            <p:cNvPr id="100" name="AutoShape 3"/>
            <p:cNvSpPr/>
            <p:nvPr/>
          </p:nvSpPr>
          <p:spPr>
            <a:xfrm>
              <a:off x="1290600" y="334620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3"/>
            <p:cNvSpPr/>
            <p:nvPr/>
          </p:nvSpPr>
          <p:spPr>
            <a:xfrm>
              <a:off x="1355400" y="3154320"/>
              <a:ext cx="6432840" cy="48132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3"/>
            <p:cNvSpPr/>
            <p:nvPr/>
          </p:nvSpPr>
          <p:spPr>
            <a:xfrm>
              <a:off x="3151080" y="323820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组合 20"/>
          <p:cNvGrpSpPr/>
          <p:nvPr/>
        </p:nvGrpSpPr>
        <p:grpSpPr>
          <a:xfrm>
            <a:off x="1290600" y="4025880"/>
            <a:ext cx="6562800" cy="546120"/>
            <a:chOff x="1290600" y="4025880"/>
            <a:chExt cx="6562800" cy="546120"/>
          </a:xfrm>
        </p:grpSpPr>
        <p:grpSp>
          <p:nvGrpSpPr>
            <p:cNvPr id="104" name="组合 60"/>
            <p:cNvGrpSpPr/>
            <p:nvPr/>
          </p:nvGrpSpPr>
          <p:grpSpPr>
            <a:xfrm>
              <a:off x="1290600" y="4025880"/>
              <a:ext cx="6562800" cy="546120"/>
              <a:chOff x="1290600" y="4025880"/>
              <a:chExt cx="6562800" cy="546120"/>
            </a:xfrm>
          </p:grpSpPr>
          <p:sp>
            <p:nvSpPr>
              <p:cNvPr id="105" name="AutoShape 3"/>
              <p:cNvSpPr/>
              <p:nvPr/>
            </p:nvSpPr>
            <p:spPr>
              <a:xfrm>
                <a:off x="1290600" y="4217760"/>
                <a:ext cx="6562800" cy="35424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utoShape 3"/>
              <p:cNvSpPr/>
              <p:nvPr/>
            </p:nvSpPr>
            <p:spPr>
              <a:xfrm>
                <a:off x="1355400" y="4025880"/>
                <a:ext cx="6432840" cy="482760"/>
              </a:xfrm>
              <a:prstGeom prst="rect">
                <a:avLst/>
              </a:prstGeom>
              <a:solidFill>
                <a:srgbClr val="7f7f7f">
                  <a:alpha val="88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Rectangle 13"/>
            <p:cNvSpPr/>
            <p:nvPr/>
          </p:nvSpPr>
          <p:spPr>
            <a:xfrm>
              <a:off x="3151080" y="411156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Box 13"/>
          <p:cNvSpPr/>
          <p:nvPr/>
        </p:nvSpPr>
        <p:spPr>
          <a:xfrm>
            <a:off x="7580160" y="-87480"/>
            <a:ext cx="151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6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6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1">
                                  <p:stCondLst>
                                    <p:cond delay="2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6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6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1">
                                  <p:stCondLst>
                                    <p:cond delay="4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6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6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1">
                                  <p:stCondLst>
                                    <p:cond delay="6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6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6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3"/>
          <p:cNvSpPr/>
          <p:nvPr/>
        </p:nvSpPr>
        <p:spPr>
          <a:xfrm>
            <a:off x="1290600" y="2798640"/>
            <a:ext cx="6562800" cy="3542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合 5"/>
          <p:cNvGrpSpPr/>
          <p:nvPr/>
        </p:nvGrpSpPr>
        <p:grpSpPr>
          <a:xfrm>
            <a:off x="1355760" y="2606760"/>
            <a:ext cx="6432480" cy="482400"/>
            <a:chOff x="1355760" y="2606760"/>
            <a:chExt cx="6432480" cy="482400"/>
          </a:xfrm>
        </p:grpSpPr>
        <p:sp>
          <p:nvSpPr>
            <p:cNvPr id="111" name="AutoShape 3"/>
            <p:cNvSpPr/>
            <p:nvPr/>
          </p:nvSpPr>
          <p:spPr>
            <a:xfrm>
              <a:off x="1355760" y="2606760"/>
              <a:ext cx="6432480" cy="48240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3151080" y="269244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13"/>
          <p:cNvSpPr/>
          <p:nvPr/>
        </p:nvSpPr>
        <p:spPr>
          <a:xfrm>
            <a:off x="7580160" y="-87480"/>
            <a:ext cx="151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组合 41"/>
          <p:cNvGrpSpPr/>
          <p:nvPr/>
        </p:nvGrpSpPr>
        <p:grpSpPr>
          <a:xfrm>
            <a:off x="1357200" y="1119240"/>
            <a:ext cx="1036800" cy="1036440"/>
            <a:chOff x="1357200" y="1119240"/>
            <a:chExt cx="1036800" cy="1036440"/>
          </a:xfrm>
        </p:grpSpPr>
        <p:sp>
          <p:nvSpPr>
            <p:cNvPr id="115" name="空心弧 2"/>
            <p:cNvSpPr/>
            <p:nvPr/>
          </p:nvSpPr>
          <p:spPr>
            <a:xfrm>
              <a:off x="135720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1036636" y="519065"/>
                  </a:moveTo>
                  <a:cubicBezTo>
                    <a:pt x="1036224" y="805202"/>
                    <a:pt x="804021" y="1036876"/>
                    <a:pt x="517884" y="1036637"/>
                  </a:cubicBezTo>
                  <a:cubicBezTo>
                    <a:pt x="231747" y="1036398"/>
                    <a:pt x="-68" y="804335"/>
                    <a:pt x="-2" y="518198"/>
                  </a:cubicBezTo>
                  <a:cubicBezTo>
                    <a:pt x="64" y="232061"/>
                    <a:pt x="231986" y="106"/>
                    <a:pt x="518124" y="-1"/>
                  </a:cubicBezTo>
                  <a:cubicBezTo>
                    <a:pt x="518157" y="87008"/>
                    <a:pt x="518190" y="174016"/>
                    <a:pt x="518223" y="261025"/>
                  </a:cubicBezTo>
                  <a:cubicBezTo>
                    <a:pt x="376185" y="261078"/>
                    <a:pt x="261059" y="376220"/>
                    <a:pt x="261026" y="518258"/>
                  </a:cubicBezTo>
                  <a:cubicBezTo>
                    <a:pt x="260993" y="660296"/>
                    <a:pt x="376066" y="775492"/>
                    <a:pt x="518104" y="775610"/>
                  </a:cubicBezTo>
                  <a:cubicBezTo>
                    <a:pt x="660142" y="775729"/>
                    <a:pt x="775407" y="660726"/>
                    <a:pt x="775612" y="518688"/>
                  </a:cubicBezTo>
                  <a:lnTo>
                    <a:pt x="1036636" y="519065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空心弧 3"/>
            <p:cNvSpPr/>
            <p:nvPr/>
          </p:nvSpPr>
          <p:spPr>
            <a:xfrm>
              <a:off x="135720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519555" y="1"/>
                  </a:moveTo>
                  <a:cubicBezTo>
                    <a:pt x="805331" y="682"/>
                    <a:pt x="1036638" y="232541"/>
                    <a:pt x="1036638" y="518319"/>
                  </a:cubicBezTo>
                  <a:lnTo>
                    <a:pt x="777478" y="518319"/>
                  </a:lnTo>
                  <a:cubicBezTo>
                    <a:pt x="777478" y="375431"/>
                    <a:pt x="661825" y="259501"/>
                    <a:pt x="518937" y="259161"/>
                  </a:cubicBezTo>
                  <a:lnTo>
                    <a:pt x="519555" y="1"/>
                  </a:ln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158904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组合 42"/>
          <p:cNvGrpSpPr/>
          <p:nvPr/>
        </p:nvGrpSpPr>
        <p:grpSpPr>
          <a:xfrm>
            <a:off x="3154320" y="1119240"/>
            <a:ext cx="1036800" cy="1036440"/>
            <a:chOff x="3154320" y="1119240"/>
            <a:chExt cx="1036800" cy="1036440"/>
          </a:xfrm>
        </p:grpSpPr>
        <p:sp>
          <p:nvSpPr>
            <p:cNvPr id="119" name="空心弧 4"/>
            <p:cNvSpPr/>
            <p:nvPr/>
          </p:nvSpPr>
          <p:spPr>
            <a:xfrm>
              <a:off x="315432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517825" y="1036637"/>
                  </a:moveTo>
                  <a:cubicBezTo>
                    <a:pt x="231700" y="1036365"/>
                    <a:pt x="-83" y="804294"/>
                    <a:pt x="0" y="518168"/>
                  </a:cubicBezTo>
                  <a:cubicBezTo>
                    <a:pt x="83" y="232042"/>
                    <a:pt x="232000" y="106"/>
                    <a:pt x="518126" y="-1"/>
                  </a:cubicBezTo>
                  <a:cubicBezTo>
                    <a:pt x="518158" y="87008"/>
                    <a:pt x="518191" y="174016"/>
                    <a:pt x="518223" y="261025"/>
                  </a:cubicBezTo>
                  <a:cubicBezTo>
                    <a:pt x="376191" y="261078"/>
                    <a:pt x="261067" y="376211"/>
                    <a:pt x="261026" y="518243"/>
                  </a:cubicBezTo>
                  <a:cubicBezTo>
                    <a:pt x="260985" y="660275"/>
                    <a:pt x="376042" y="775475"/>
                    <a:pt x="518074" y="775610"/>
                  </a:cubicBezTo>
                  <a:lnTo>
                    <a:pt x="517825" y="1036637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空心弧 5"/>
            <p:cNvSpPr/>
            <p:nvPr/>
          </p:nvSpPr>
          <p:spPr>
            <a:xfrm>
              <a:off x="315432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519555" y="1"/>
                  </a:moveTo>
                  <a:cubicBezTo>
                    <a:pt x="805224" y="682"/>
                    <a:pt x="1036486" y="232374"/>
                    <a:pt x="1036638" y="518044"/>
                  </a:cubicBezTo>
                  <a:cubicBezTo>
                    <a:pt x="1036790" y="803714"/>
                    <a:pt x="805773" y="1035651"/>
                    <a:pt x="520105" y="1036635"/>
                  </a:cubicBezTo>
                  <a:cubicBezTo>
                    <a:pt x="519804" y="949195"/>
                    <a:pt x="519502" y="861754"/>
                    <a:pt x="519201" y="774314"/>
                  </a:cubicBezTo>
                  <a:cubicBezTo>
                    <a:pt x="660293" y="773828"/>
                    <a:pt x="774392" y="659274"/>
                    <a:pt x="774317" y="518182"/>
                  </a:cubicBezTo>
                  <a:cubicBezTo>
                    <a:pt x="774242" y="377090"/>
                    <a:pt x="660022" y="262657"/>
                    <a:pt x="518930" y="262321"/>
                  </a:cubicBezTo>
                  <a:cubicBezTo>
                    <a:pt x="519138" y="174881"/>
                    <a:pt x="519347" y="87441"/>
                    <a:pt x="519555" y="1"/>
                  </a:cubicBez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>
              <a:off x="338616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43"/>
          <p:cNvGrpSpPr/>
          <p:nvPr/>
        </p:nvGrpSpPr>
        <p:grpSpPr>
          <a:xfrm>
            <a:off x="4952880" y="1119240"/>
            <a:ext cx="1036800" cy="1036440"/>
            <a:chOff x="4952880" y="1119240"/>
            <a:chExt cx="1036800" cy="1036440"/>
          </a:xfrm>
        </p:grpSpPr>
        <p:sp>
          <p:nvSpPr>
            <p:cNvPr id="123" name="空心弧 6"/>
            <p:cNvSpPr/>
            <p:nvPr/>
          </p:nvSpPr>
          <p:spPr>
            <a:xfrm>
              <a:off x="495288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8" h="1036637">
                  <a:moveTo>
                    <a:pt x="1" y="519417"/>
                  </a:moveTo>
                  <a:cubicBezTo>
                    <a:pt x="-291" y="381794"/>
                    <a:pt x="54162" y="249704"/>
                    <a:pt x="151355" y="152268"/>
                  </a:cubicBezTo>
                  <a:cubicBezTo>
                    <a:pt x="248548" y="54832"/>
                    <a:pt x="380502" y="50"/>
                    <a:pt x="518125" y="-1"/>
                  </a:cubicBezTo>
                  <a:cubicBezTo>
                    <a:pt x="518158" y="87008"/>
                    <a:pt x="518190" y="174016"/>
                    <a:pt x="518223" y="261025"/>
                  </a:cubicBezTo>
                  <a:cubicBezTo>
                    <a:pt x="449907" y="261050"/>
                    <a:pt x="384405" y="288244"/>
                    <a:pt x="336158" y="336611"/>
                  </a:cubicBezTo>
                  <a:cubicBezTo>
                    <a:pt x="287911" y="384978"/>
                    <a:pt x="260880" y="450547"/>
                    <a:pt x="261025" y="518864"/>
                  </a:cubicBezTo>
                  <a:lnTo>
                    <a:pt x="1" y="519417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空心弧 7"/>
            <p:cNvSpPr/>
            <p:nvPr/>
          </p:nvSpPr>
          <p:spPr>
            <a:xfrm>
              <a:off x="495288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8" h="1036637">
                  <a:moveTo>
                    <a:pt x="519555" y="1"/>
                  </a:moveTo>
                  <a:cubicBezTo>
                    <a:pt x="805653" y="683"/>
                    <a:pt x="1037092" y="233044"/>
                    <a:pt x="1036637" y="519142"/>
                  </a:cubicBezTo>
                  <a:cubicBezTo>
                    <a:pt x="1036182" y="805240"/>
                    <a:pt x="804005" y="1036864"/>
                    <a:pt x="517907" y="1036637"/>
                  </a:cubicBezTo>
                  <a:cubicBezTo>
                    <a:pt x="231808" y="1036410"/>
                    <a:pt x="0" y="804417"/>
                    <a:pt x="0" y="518318"/>
                  </a:cubicBezTo>
                  <a:lnTo>
                    <a:pt x="260922" y="518319"/>
                  </a:lnTo>
                  <a:cubicBezTo>
                    <a:pt x="260922" y="660396"/>
                    <a:pt x="376038" y="775603"/>
                    <a:pt x="518114" y="775716"/>
                  </a:cubicBezTo>
                  <a:cubicBezTo>
                    <a:pt x="660190" y="775829"/>
                    <a:pt x="775489" y="660805"/>
                    <a:pt x="775715" y="518728"/>
                  </a:cubicBezTo>
                  <a:cubicBezTo>
                    <a:pt x="775941" y="376652"/>
                    <a:pt x="661008" y="261261"/>
                    <a:pt x="518932" y="260923"/>
                  </a:cubicBezTo>
                  <a:cubicBezTo>
                    <a:pt x="519140" y="173949"/>
                    <a:pt x="519347" y="86975"/>
                    <a:pt x="519555" y="1"/>
                  </a:cubicBez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3"/>
            <p:cNvSpPr/>
            <p:nvPr/>
          </p:nvSpPr>
          <p:spPr>
            <a:xfrm>
              <a:off x="518292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44"/>
          <p:cNvGrpSpPr/>
          <p:nvPr/>
        </p:nvGrpSpPr>
        <p:grpSpPr>
          <a:xfrm>
            <a:off x="6750000" y="1119240"/>
            <a:ext cx="1036800" cy="1036440"/>
            <a:chOff x="6750000" y="1119240"/>
            <a:chExt cx="1036800" cy="1036440"/>
          </a:xfrm>
        </p:grpSpPr>
        <p:sp>
          <p:nvSpPr>
            <p:cNvPr id="127" name="同心圆 8"/>
            <p:cNvSpPr/>
            <p:nvPr/>
          </p:nvSpPr>
          <p:spPr>
            <a:xfrm>
              <a:off x="675000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8" h="1036637">
                  <a:moveTo>
                    <a:pt x="0" y="518319"/>
                  </a:moveTo>
                  <a:cubicBezTo>
                    <a:pt x="0" y="232059"/>
                    <a:pt x="232059" y="0"/>
                    <a:pt x="518319" y="0"/>
                  </a:cubicBezTo>
                  <a:cubicBezTo>
                    <a:pt x="804579" y="0"/>
                    <a:pt x="1036638" y="232059"/>
                    <a:pt x="1036638" y="518319"/>
                  </a:cubicBezTo>
                  <a:cubicBezTo>
                    <a:pt x="1036638" y="804579"/>
                    <a:pt x="804579" y="1036638"/>
                    <a:pt x="518319" y="1036638"/>
                  </a:cubicBezTo>
                  <a:cubicBezTo>
                    <a:pt x="232059" y="1036638"/>
                    <a:pt x="0" y="804579"/>
                    <a:pt x="0" y="518319"/>
                  </a:cubicBezTo>
                  <a:close/>
                  <a:moveTo>
                    <a:pt x="259159" y="518319"/>
                  </a:moveTo>
                  <a:cubicBezTo>
                    <a:pt x="259159" y="661449"/>
                    <a:pt x="375189" y="777478"/>
                    <a:pt x="518319" y="777478"/>
                  </a:cubicBezTo>
                  <a:cubicBezTo>
                    <a:pt x="661449" y="777478"/>
                    <a:pt x="777479" y="661449"/>
                    <a:pt x="777479" y="518319"/>
                  </a:cubicBezTo>
                  <a:cubicBezTo>
                    <a:pt x="777479" y="375189"/>
                    <a:pt x="661449" y="259160"/>
                    <a:pt x="518319" y="259160"/>
                  </a:cubicBezTo>
                  <a:cubicBezTo>
                    <a:pt x="375189" y="259160"/>
                    <a:pt x="259159" y="375189"/>
                    <a:pt x="259159" y="518319"/>
                  </a:cubicBez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3"/>
            <p:cNvSpPr/>
            <p:nvPr/>
          </p:nvSpPr>
          <p:spPr>
            <a:xfrm>
              <a:off x="698184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4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13"/>
          <p:cNvGrpSpPr/>
          <p:nvPr/>
        </p:nvGrpSpPr>
        <p:grpSpPr>
          <a:xfrm>
            <a:off x="1616040" y="2201760"/>
            <a:ext cx="519120" cy="346320"/>
            <a:chOff x="1616040" y="2201760"/>
            <a:chExt cx="519120" cy="346320"/>
          </a:xfrm>
        </p:grpSpPr>
        <p:sp>
          <p:nvSpPr>
            <p:cNvPr id="130" name="燕尾形 14"/>
            <p:cNvSpPr/>
            <p:nvPr/>
          </p:nvSpPr>
          <p:spPr>
            <a:xfrm rot="5400000">
              <a:off x="1778760" y="203904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燕尾形 15"/>
            <p:cNvSpPr/>
            <p:nvPr/>
          </p:nvSpPr>
          <p:spPr>
            <a:xfrm rot="5400000">
              <a:off x="1778760" y="219168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17"/>
          <p:cNvGrpSpPr/>
          <p:nvPr/>
        </p:nvGrpSpPr>
        <p:grpSpPr>
          <a:xfrm>
            <a:off x="3414600" y="2201760"/>
            <a:ext cx="517680" cy="346320"/>
            <a:chOff x="3414600" y="2201760"/>
            <a:chExt cx="517680" cy="346320"/>
          </a:xfrm>
        </p:grpSpPr>
        <p:sp>
          <p:nvSpPr>
            <p:cNvPr id="133" name="燕尾形 18"/>
            <p:cNvSpPr/>
            <p:nvPr/>
          </p:nvSpPr>
          <p:spPr>
            <a:xfrm rot="5400000">
              <a:off x="3576600" y="203976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燕尾形 19"/>
            <p:cNvSpPr/>
            <p:nvPr/>
          </p:nvSpPr>
          <p:spPr>
            <a:xfrm rot="5400000">
              <a:off x="3576600" y="219240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21"/>
          <p:cNvGrpSpPr/>
          <p:nvPr/>
        </p:nvGrpSpPr>
        <p:grpSpPr>
          <a:xfrm>
            <a:off x="5211720" y="2201760"/>
            <a:ext cx="517680" cy="346320"/>
            <a:chOff x="5211720" y="2201760"/>
            <a:chExt cx="517680" cy="346320"/>
          </a:xfrm>
        </p:grpSpPr>
        <p:sp>
          <p:nvSpPr>
            <p:cNvPr id="136" name="燕尾形 22"/>
            <p:cNvSpPr/>
            <p:nvPr/>
          </p:nvSpPr>
          <p:spPr>
            <a:xfrm rot="5400000">
              <a:off x="5373720" y="203976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燕尾形 23"/>
            <p:cNvSpPr/>
            <p:nvPr/>
          </p:nvSpPr>
          <p:spPr>
            <a:xfrm rot="5400000">
              <a:off x="5373720" y="219240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25"/>
          <p:cNvGrpSpPr/>
          <p:nvPr/>
        </p:nvGrpSpPr>
        <p:grpSpPr>
          <a:xfrm>
            <a:off x="7008840" y="2201760"/>
            <a:ext cx="519120" cy="346320"/>
            <a:chOff x="7008840" y="2201760"/>
            <a:chExt cx="519120" cy="346320"/>
          </a:xfrm>
        </p:grpSpPr>
        <p:sp>
          <p:nvSpPr>
            <p:cNvPr id="139" name="燕尾形 26"/>
            <p:cNvSpPr/>
            <p:nvPr/>
          </p:nvSpPr>
          <p:spPr>
            <a:xfrm rot="5400000">
              <a:off x="7171560" y="203904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燕尾形 27"/>
            <p:cNvSpPr/>
            <p:nvPr/>
          </p:nvSpPr>
          <p:spPr>
            <a:xfrm rot="5400000">
              <a:off x="7171560" y="219168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45"/>
          <p:cNvGrpSpPr/>
          <p:nvPr/>
        </p:nvGrpSpPr>
        <p:grpSpPr>
          <a:xfrm>
            <a:off x="1033560" y="2641680"/>
            <a:ext cx="1684080" cy="2430360"/>
            <a:chOff x="1033560" y="2641680"/>
            <a:chExt cx="1684080" cy="2430360"/>
          </a:xfrm>
        </p:grpSpPr>
        <p:sp>
          <p:nvSpPr>
            <p:cNvPr id="142" name="矩形 1"/>
            <p:cNvSpPr/>
            <p:nvPr/>
          </p:nvSpPr>
          <p:spPr>
            <a:xfrm>
              <a:off x="103356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146"/>
            <p:cNvSpPr/>
            <p:nvPr/>
          </p:nvSpPr>
          <p:spPr>
            <a:xfrm>
              <a:off x="1055520" y="330660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直接连接符 32"/>
            <p:cNvSpPr/>
            <p:nvPr/>
          </p:nvSpPr>
          <p:spPr>
            <a:xfrm>
              <a:off x="1098360" y="317808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146"/>
            <p:cNvSpPr/>
            <p:nvPr/>
          </p:nvSpPr>
          <p:spPr>
            <a:xfrm>
              <a:off x="1065240" y="276840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组合 46"/>
          <p:cNvGrpSpPr/>
          <p:nvPr/>
        </p:nvGrpSpPr>
        <p:grpSpPr>
          <a:xfrm>
            <a:off x="2830680" y="2641680"/>
            <a:ext cx="1684080" cy="2430360"/>
            <a:chOff x="2830680" y="2641680"/>
            <a:chExt cx="1684080" cy="2430360"/>
          </a:xfrm>
        </p:grpSpPr>
        <p:sp>
          <p:nvSpPr>
            <p:cNvPr id="147" name="矩形 16"/>
            <p:cNvSpPr/>
            <p:nvPr/>
          </p:nvSpPr>
          <p:spPr>
            <a:xfrm>
              <a:off x="283068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146"/>
            <p:cNvSpPr/>
            <p:nvPr/>
          </p:nvSpPr>
          <p:spPr>
            <a:xfrm>
              <a:off x="2854440" y="3306600"/>
              <a:ext cx="161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34"/>
            <p:cNvSpPr/>
            <p:nvPr/>
          </p:nvSpPr>
          <p:spPr>
            <a:xfrm>
              <a:off x="2895480" y="3178080"/>
              <a:ext cx="155556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Box 146"/>
            <p:cNvSpPr/>
            <p:nvPr/>
          </p:nvSpPr>
          <p:spPr>
            <a:xfrm>
              <a:off x="2863800" y="2768400"/>
              <a:ext cx="16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47"/>
          <p:cNvGrpSpPr/>
          <p:nvPr/>
        </p:nvGrpSpPr>
        <p:grpSpPr>
          <a:xfrm>
            <a:off x="4629240" y="2641680"/>
            <a:ext cx="1684080" cy="2430360"/>
            <a:chOff x="4629240" y="2641680"/>
            <a:chExt cx="1684080" cy="2430360"/>
          </a:xfrm>
        </p:grpSpPr>
        <p:sp>
          <p:nvSpPr>
            <p:cNvPr id="152" name="矩形 20"/>
            <p:cNvSpPr/>
            <p:nvPr/>
          </p:nvSpPr>
          <p:spPr>
            <a:xfrm>
              <a:off x="462924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Box 146"/>
            <p:cNvSpPr/>
            <p:nvPr/>
          </p:nvSpPr>
          <p:spPr>
            <a:xfrm>
              <a:off x="4651200" y="3306600"/>
              <a:ext cx="161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直接连接符 36"/>
            <p:cNvSpPr/>
            <p:nvPr/>
          </p:nvSpPr>
          <p:spPr>
            <a:xfrm>
              <a:off x="4692600" y="3178080"/>
              <a:ext cx="155556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146"/>
            <p:cNvSpPr/>
            <p:nvPr/>
          </p:nvSpPr>
          <p:spPr>
            <a:xfrm>
              <a:off x="4660920" y="2768400"/>
              <a:ext cx="16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组合 48"/>
          <p:cNvGrpSpPr/>
          <p:nvPr/>
        </p:nvGrpSpPr>
        <p:grpSpPr>
          <a:xfrm>
            <a:off x="6426360" y="2641680"/>
            <a:ext cx="1684080" cy="2430360"/>
            <a:chOff x="6426360" y="2641680"/>
            <a:chExt cx="1684080" cy="2430360"/>
          </a:xfrm>
        </p:grpSpPr>
        <p:sp>
          <p:nvSpPr>
            <p:cNvPr id="157" name="矩形 24"/>
            <p:cNvSpPr/>
            <p:nvPr/>
          </p:nvSpPr>
          <p:spPr>
            <a:xfrm>
              <a:off x="642636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146"/>
            <p:cNvSpPr/>
            <p:nvPr/>
          </p:nvSpPr>
          <p:spPr>
            <a:xfrm>
              <a:off x="6448320" y="330660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直接连接符 38"/>
            <p:cNvSpPr/>
            <p:nvPr/>
          </p:nvSpPr>
          <p:spPr>
            <a:xfrm>
              <a:off x="6491160" y="317808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146"/>
            <p:cNvSpPr/>
            <p:nvPr/>
          </p:nvSpPr>
          <p:spPr>
            <a:xfrm>
              <a:off x="6458040" y="276840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600"/>
                            </p:stCondLst>
                            <p:childTnLst>
                              <p:par>
                                <p:cTn id="13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100"/>
                            </p:stCondLst>
                            <p:childTnLst>
                              <p:par>
                                <p:cTn id="1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组合 27"/>
          <p:cNvGrpSpPr/>
          <p:nvPr/>
        </p:nvGrpSpPr>
        <p:grpSpPr>
          <a:xfrm>
            <a:off x="1222200" y="1492200"/>
            <a:ext cx="2754360" cy="2752920"/>
            <a:chOff x="1222200" y="1492200"/>
            <a:chExt cx="2754360" cy="2752920"/>
          </a:xfrm>
        </p:grpSpPr>
        <p:grpSp>
          <p:nvGrpSpPr>
            <p:cNvPr id="163" name="组合 1"/>
            <p:cNvGrpSpPr/>
            <p:nvPr/>
          </p:nvGrpSpPr>
          <p:grpSpPr>
            <a:xfrm>
              <a:off x="1222200" y="1492200"/>
              <a:ext cx="2754360" cy="2752920"/>
              <a:chOff x="1222200" y="1492200"/>
              <a:chExt cx="2754360" cy="2752920"/>
            </a:xfrm>
          </p:grpSpPr>
          <p:sp>
            <p:nvSpPr>
              <p:cNvPr id="164" name="椭圆 2"/>
              <p:cNvSpPr/>
              <p:nvPr/>
            </p:nvSpPr>
            <p:spPr>
              <a:xfrm>
                <a:off x="1222200" y="1492200"/>
                <a:ext cx="2754360" cy="2752920"/>
              </a:xfrm>
              <a:prstGeom prst="ellipse">
                <a:avLst/>
              </a:prstGeom>
              <a:noFill/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椭圆 3"/>
              <p:cNvSpPr/>
              <p:nvPr/>
            </p:nvSpPr>
            <p:spPr>
              <a:xfrm>
                <a:off x="1433160" y="1703160"/>
                <a:ext cx="2332080" cy="2330640"/>
              </a:xfrm>
              <a:prstGeom prst="ellipse">
                <a:avLst/>
              </a:prstGeom>
              <a:solidFill>
                <a:srgbClr val="ffffff">
                  <a:alpha val="25000"/>
                </a:srgbClr>
              </a:solidFill>
              <a:ln w="76320">
                <a:solidFill>
                  <a:srgbClr val="595959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Rectangle 13"/>
            <p:cNvSpPr/>
            <p:nvPr/>
          </p:nvSpPr>
          <p:spPr>
            <a:xfrm>
              <a:off x="1912680" y="2514600"/>
              <a:ext cx="137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31"/>
          <p:cNvGrpSpPr/>
          <p:nvPr/>
        </p:nvGrpSpPr>
        <p:grpSpPr>
          <a:xfrm>
            <a:off x="3549600" y="1508040"/>
            <a:ext cx="4372200" cy="389160"/>
            <a:chOff x="3549600" y="1508040"/>
            <a:chExt cx="4372200" cy="389160"/>
          </a:xfrm>
        </p:grpSpPr>
        <p:sp>
          <p:nvSpPr>
            <p:cNvPr id="168" name="矩形 6"/>
            <p:cNvSpPr/>
            <p:nvPr/>
          </p:nvSpPr>
          <p:spPr>
            <a:xfrm>
              <a:off x="3549600" y="1508040"/>
              <a:ext cx="4372200" cy="389160"/>
            </a:xfrm>
            <a:prstGeom prst="rect">
              <a:avLst/>
            </a:prstGeom>
            <a:solidFill>
              <a:srgbClr val="22bad8">
                <a:alpha val="85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Box 146"/>
            <p:cNvSpPr/>
            <p:nvPr/>
          </p:nvSpPr>
          <p:spPr>
            <a:xfrm>
              <a:off x="3743280" y="156348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Box 146"/>
          <p:cNvSpPr/>
          <p:nvPr/>
        </p:nvSpPr>
        <p:spPr>
          <a:xfrm>
            <a:off x="3889440" y="19540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组合 32"/>
          <p:cNvGrpSpPr/>
          <p:nvPr/>
        </p:nvGrpSpPr>
        <p:grpSpPr>
          <a:xfrm>
            <a:off x="4192560" y="2674800"/>
            <a:ext cx="3729240" cy="389160"/>
            <a:chOff x="4192560" y="2674800"/>
            <a:chExt cx="3729240" cy="389160"/>
          </a:xfrm>
        </p:grpSpPr>
        <p:sp>
          <p:nvSpPr>
            <p:cNvPr id="172" name="矩形 5"/>
            <p:cNvSpPr/>
            <p:nvPr/>
          </p:nvSpPr>
          <p:spPr>
            <a:xfrm>
              <a:off x="4192560" y="2674800"/>
              <a:ext cx="3729240" cy="38916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146"/>
            <p:cNvSpPr/>
            <p:nvPr/>
          </p:nvSpPr>
          <p:spPr>
            <a:xfrm>
              <a:off x="4448160" y="273024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Box 146"/>
          <p:cNvSpPr/>
          <p:nvPr/>
        </p:nvSpPr>
        <p:spPr>
          <a:xfrm>
            <a:off x="4257720" y="3114720"/>
            <a:ext cx="36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33"/>
          <p:cNvGrpSpPr/>
          <p:nvPr/>
        </p:nvGrpSpPr>
        <p:grpSpPr>
          <a:xfrm>
            <a:off x="3549600" y="3849840"/>
            <a:ext cx="4372200" cy="388800"/>
            <a:chOff x="3549600" y="3849840"/>
            <a:chExt cx="4372200" cy="388800"/>
          </a:xfrm>
        </p:grpSpPr>
        <p:sp>
          <p:nvSpPr>
            <p:cNvPr id="176" name="矩形 4"/>
            <p:cNvSpPr/>
            <p:nvPr/>
          </p:nvSpPr>
          <p:spPr>
            <a:xfrm>
              <a:off x="3549600" y="3849840"/>
              <a:ext cx="4372200" cy="388800"/>
            </a:xfrm>
            <a:prstGeom prst="rect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146"/>
            <p:cNvSpPr/>
            <p:nvPr/>
          </p:nvSpPr>
          <p:spPr>
            <a:xfrm>
              <a:off x="3743280" y="390528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TextBox 146"/>
          <p:cNvSpPr/>
          <p:nvPr/>
        </p:nvSpPr>
        <p:spPr>
          <a:xfrm>
            <a:off x="3743280" y="4295880"/>
            <a:ext cx="40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组合 28"/>
          <p:cNvGrpSpPr/>
          <p:nvPr/>
        </p:nvGrpSpPr>
        <p:grpSpPr>
          <a:xfrm>
            <a:off x="2873520" y="1332000"/>
            <a:ext cx="747720" cy="741240"/>
            <a:chOff x="2873520" y="1332000"/>
            <a:chExt cx="747720" cy="741240"/>
          </a:xfrm>
        </p:grpSpPr>
        <p:grpSp>
          <p:nvGrpSpPr>
            <p:cNvPr id="180" name="组合 10"/>
            <p:cNvGrpSpPr/>
            <p:nvPr/>
          </p:nvGrpSpPr>
          <p:grpSpPr>
            <a:xfrm>
              <a:off x="2876400" y="1332000"/>
              <a:ext cx="741600" cy="741240"/>
              <a:chOff x="2876400" y="1332000"/>
              <a:chExt cx="741600" cy="741240"/>
            </a:xfrm>
          </p:grpSpPr>
          <p:sp>
            <p:nvSpPr>
              <p:cNvPr id="181" name="椭圆 11"/>
              <p:cNvSpPr/>
              <p:nvPr/>
            </p:nvSpPr>
            <p:spPr>
              <a:xfrm>
                <a:off x="2876400" y="1332000"/>
                <a:ext cx="741600" cy="741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椭圆 12"/>
              <p:cNvSpPr/>
              <p:nvPr/>
            </p:nvSpPr>
            <p:spPr>
              <a:xfrm>
                <a:off x="2922840" y="1378440"/>
                <a:ext cx="648720" cy="648360"/>
              </a:xfrm>
              <a:prstGeom prst="ellipse">
                <a:avLst/>
              </a:prstGeom>
              <a:solidFill>
                <a:srgbClr val="22bad8">
                  <a:alpha val="80000"/>
                </a:srgbClr>
              </a:solidFill>
              <a:ln w="12600">
                <a:solidFill>
                  <a:srgbClr val="1e8f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Rectangle 13"/>
            <p:cNvSpPr/>
            <p:nvPr/>
          </p:nvSpPr>
          <p:spPr>
            <a:xfrm>
              <a:off x="2873520" y="1503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29"/>
          <p:cNvGrpSpPr/>
          <p:nvPr/>
        </p:nvGrpSpPr>
        <p:grpSpPr>
          <a:xfrm>
            <a:off x="3581280" y="2498760"/>
            <a:ext cx="747720" cy="739800"/>
            <a:chOff x="3581280" y="2498760"/>
            <a:chExt cx="747720" cy="739800"/>
          </a:xfrm>
        </p:grpSpPr>
        <p:grpSp>
          <p:nvGrpSpPr>
            <p:cNvPr id="185" name="组合 7"/>
            <p:cNvGrpSpPr/>
            <p:nvPr/>
          </p:nvGrpSpPr>
          <p:grpSpPr>
            <a:xfrm>
              <a:off x="3584160" y="2498760"/>
              <a:ext cx="739800" cy="739800"/>
              <a:chOff x="3584160" y="2498760"/>
              <a:chExt cx="739800" cy="739800"/>
            </a:xfrm>
          </p:grpSpPr>
          <p:sp>
            <p:nvSpPr>
              <p:cNvPr id="186" name="椭圆 8"/>
              <p:cNvSpPr/>
              <p:nvPr/>
            </p:nvSpPr>
            <p:spPr>
              <a:xfrm>
                <a:off x="3584160" y="249876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椭圆 9"/>
              <p:cNvSpPr/>
              <p:nvPr/>
            </p:nvSpPr>
            <p:spPr>
              <a:xfrm>
                <a:off x="3629880" y="2544480"/>
                <a:ext cx="648000" cy="64800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Rectangle 13"/>
            <p:cNvSpPr/>
            <p:nvPr/>
          </p:nvSpPr>
          <p:spPr>
            <a:xfrm>
              <a:off x="3581280" y="266868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组合 30"/>
          <p:cNvGrpSpPr/>
          <p:nvPr/>
        </p:nvGrpSpPr>
        <p:grpSpPr>
          <a:xfrm>
            <a:off x="2873520" y="3673440"/>
            <a:ext cx="747720" cy="739800"/>
            <a:chOff x="2873520" y="3673440"/>
            <a:chExt cx="747720" cy="739800"/>
          </a:xfrm>
        </p:grpSpPr>
        <p:grpSp>
          <p:nvGrpSpPr>
            <p:cNvPr id="190" name="组合 13"/>
            <p:cNvGrpSpPr/>
            <p:nvPr/>
          </p:nvGrpSpPr>
          <p:grpSpPr>
            <a:xfrm>
              <a:off x="2878200" y="3673440"/>
              <a:ext cx="739800" cy="739800"/>
              <a:chOff x="2878200" y="3673440"/>
              <a:chExt cx="739800" cy="739800"/>
            </a:xfrm>
          </p:grpSpPr>
          <p:sp>
            <p:nvSpPr>
              <p:cNvPr id="191" name="椭圆 14"/>
              <p:cNvSpPr/>
              <p:nvPr/>
            </p:nvSpPr>
            <p:spPr>
              <a:xfrm>
                <a:off x="2878200" y="367344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椭圆 15"/>
              <p:cNvSpPr/>
              <p:nvPr/>
            </p:nvSpPr>
            <p:spPr>
              <a:xfrm>
                <a:off x="2923920" y="3719160"/>
                <a:ext cx="648000" cy="648000"/>
              </a:xfrm>
              <a:prstGeom prst="ellipse">
                <a:avLst/>
              </a:prstGeom>
              <a:solidFill>
                <a:srgbClr val="595959">
                  <a:alpha val="80000"/>
                </a:srgbClr>
              </a:solidFill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Rectangle 13"/>
            <p:cNvSpPr/>
            <p:nvPr/>
          </p:nvSpPr>
          <p:spPr>
            <a:xfrm>
              <a:off x="2873520" y="3843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03280" y="5234040"/>
            <a:ext cx="5184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5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1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600"/>
                            </p:stCondLst>
                            <p:childTnLst>
                              <p:par>
                                <p:cTn id="21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组合 70"/>
          <p:cNvGrpSpPr/>
          <p:nvPr/>
        </p:nvGrpSpPr>
        <p:grpSpPr>
          <a:xfrm>
            <a:off x="701640" y="1360440"/>
            <a:ext cx="7740720" cy="3600360"/>
            <a:chOff x="701640" y="1360440"/>
            <a:chExt cx="7740720" cy="3600360"/>
          </a:xfrm>
        </p:grpSpPr>
        <p:sp>
          <p:nvSpPr>
            <p:cNvPr id="197" name="矩形 1"/>
            <p:cNvSpPr/>
            <p:nvPr/>
          </p:nvSpPr>
          <p:spPr>
            <a:xfrm>
              <a:off x="701640" y="1360440"/>
              <a:ext cx="7740720" cy="360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组合 2"/>
            <p:cNvGrpSpPr/>
            <p:nvPr/>
          </p:nvGrpSpPr>
          <p:grpSpPr>
            <a:xfrm>
              <a:off x="1376280" y="2763720"/>
              <a:ext cx="6610680" cy="307080"/>
              <a:chOff x="1376280" y="2763720"/>
              <a:chExt cx="6610680" cy="307080"/>
            </a:xfrm>
          </p:grpSpPr>
          <p:sp>
            <p:nvSpPr>
              <p:cNvPr id="199" name="Rectangle 12"/>
              <p:cNvSpPr/>
              <p:nvPr/>
            </p:nvSpPr>
            <p:spPr>
              <a:xfrm>
                <a:off x="303840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12"/>
              <p:cNvSpPr/>
              <p:nvPr/>
            </p:nvSpPr>
            <p:spPr>
              <a:xfrm>
                <a:off x="387036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2"/>
              <p:cNvSpPr/>
              <p:nvPr/>
            </p:nvSpPr>
            <p:spPr>
              <a:xfrm>
                <a:off x="470052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2"/>
              <p:cNvSpPr/>
              <p:nvPr/>
            </p:nvSpPr>
            <p:spPr>
              <a:xfrm>
                <a:off x="553248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2"/>
              <p:cNvSpPr/>
              <p:nvPr/>
            </p:nvSpPr>
            <p:spPr>
              <a:xfrm>
                <a:off x="6364440" y="276372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12"/>
              <p:cNvSpPr/>
              <p:nvPr/>
            </p:nvSpPr>
            <p:spPr>
              <a:xfrm>
                <a:off x="719496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12"/>
              <p:cNvSpPr/>
              <p:nvPr/>
            </p:nvSpPr>
            <p:spPr>
              <a:xfrm>
                <a:off x="137628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2"/>
              <p:cNvSpPr/>
              <p:nvPr/>
            </p:nvSpPr>
            <p:spPr>
              <a:xfrm>
                <a:off x="2207880" y="276372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组合 11"/>
            <p:cNvGrpSpPr/>
            <p:nvPr/>
          </p:nvGrpSpPr>
          <p:grpSpPr>
            <a:xfrm>
              <a:off x="834840" y="1589040"/>
              <a:ext cx="539640" cy="3353760"/>
              <a:chOff x="834840" y="1589040"/>
              <a:chExt cx="539640" cy="3353760"/>
            </a:xfrm>
          </p:grpSpPr>
          <p:sp>
            <p:nvSpPr>
              <p:cNvPr id="208" name="Rectangle 12"/>
              <p:cNvSpPr/>
              <p:nvPr/>
            </p:nvSpPr>
            <p:spPr>
              <a:xfrm>
                <a:off x="834840" y="20970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2"/>
              <p:cNvSpPr/>
              <p:nvPr/>
            </p:nvSpPr>
            <p:spPr>
              <a:xfrm>
                <a:off x="834840" y="23508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834840" y="26049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2"/>
              <p:cNvSpPr/>
              <p:nvPr/>
            </p:nvSpPr>
            <p:spPr>
              <a:xfrm>
                <a:off x="834840" y="18428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2"/>
              <p:cNvSpPr/>
              <p:nvPr/>
            </p:nvSpPr>
            <p:spPr>
              <a:xfrm>
                <a:off x="834840" y="15890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2"/>
              <p:cNvSpPr/>
              <p:nvPr/>
            </p:nvSpPr>
            <p:spPr>
              <a:xfrm>
                <a:off x="834840" y="28591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12"/>
              <p:cNvSpPr/>
              <p:nvPr/>
            </p:nvSpPr>
            <p:spPr>
              <a:xfrm>
                <a:off x="834840" y="31129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2"/>
              <p:cNvSpPr/>
              <p:nvPr/>
            </p:nvSpPr>
            <p:spPr>
              <a:xfrm>
                <a:off x="834840" y="33656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2"/>
              <p:cNvSpPr/>
              <p:nvPr/>
            </p:nvSpPr>
            <p:spPr>
              <a:xfrm>
                <a:off x="834840" y="36194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2"/>
              <p:cNvSpPr/>
              <p:nvPr/>
            </p:nvSpPr>
            <p:spPr>
              <a:xfrm>
                <a:off x="834840" y="38736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2"/>
              <p:cNvSpPr/>
              <p:nvPr/>
            </p:nvSpPr>
            <p:spPr>
              <a:xfrm>
                <a:off x="834840" y="41277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12"/>
              <p:cNvSpPr/>
              <p:nvPr/>
            </p:nvSpPr>
            <p:spPr>
              <a:xfrm>
                <a:off x="834840" y="43815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12"/>
              <p:cNvSpPr/>
              <p:nvPr/>
            </p:nvSpPr>
            <p:spPr>
              <a:xfrm>
                <a:off x="834840" y="46357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组合 25"/>
            <p:cNvGrpSpPr/>
            <p:nvPr/>
          </p:nvGrpSpPr>
          <p:grpSpPr>
            <a:xfrm>
              <a:off x="1357200" y="1728720"/>
              <a:ext cx="6661440" cy="3060720"/>
              <a:chOff x="1357200" y="1728720"/>
              <a:chExt cx="6661440" cy="3060720"/>
            </a:xfrm>
          </p:grpSpPr>
          <p:sp>
            <p:nvSpPr>
              <p:cNvPr id="222" name="直接连接符 26"/>
              <p:cNvSpPr/>
              <p:nvPr/>
            </p:nvSpPr>
            <p:spPr>
              <a:xfrm>
                <a:off x="635328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直接连接符 27"/>
              <p:cNvSpPr/>
              <p:nvPr/>
            </p:nvSpPr>
            <p:spPr>
              <a:xfrm flipV="1">
                <a:off x="3022560" y="274896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直接连接符 28"/>
              <p:cNvSpPr/>
              <p:nvPr/>
            </p:nvSpPr>
            <p:spPr>
              <a:xfrm>
                <a:off x="38545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直接连接符 29"/>
              <p:cNvSpPr/>
              <p:nvPr/>
            </p:nvSpPr>
            <p:spPr>
              <a:xfrm>
                <a:off x="46879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直接连接符 30"/>
              <p:cNvSpPr/>
              <p:nvPr/>
            </p:nvSpPr>
            <p:spPr>
              <a:xfrm flipV="1">
                <a:off x="2188800" y="274896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直接连接符 31"/>
              <p:cNvSpPr/>
              <p:nvPr/>
            </p:nvSpPr>
            <p:spPr>
              <a:xfrm>
                <a:off x="1357200" y="2749320"/>
                <a:ext cx="66614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直接连接符 32"/>
              <p:cNvSpPr/>
              <p:nvPr/>
            </p:nvSpPr>
            <p:spPr>
              <a:xfrm flipV="1">
                <a:off x="1357200" y="1728720"/>
                <a:ext cx="0" cy="306072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直接连接符 33"/>
              <p:cNvSpPr/>
              <p:nvPr/>
            </p:nvSpPr>
            <p:spPr>
              <a:xfrm>
                <a:off x="1357200" y="19843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直接连接符 34"/>
              <p:cNvSpPr/>
              <p:nvPr/>
            </p:nvSpPr>
            <p:spPr>
              <a:xfrm>
                <a:off x="1357200" y="32590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直接连接符 35"/>
              <p:cNvSpPr/>
              <p:nvPr/>
            </p:nvSpPr>
            <p:spPr>
              <a:xfrm>
                <a:off x="1357200" y="47833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直接连接符 36"/>
              <p:cNvSpPr/>
              <p:nvPr/>
            </p:nvSpPr>
            <p:spPr>
              <a:xfrm>
                <a:off x="1357200" y="1734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直接连接符 37"/>
              <p:cNvSpPr/>
              <p:nvPr/>
            </p:nvSpPr>
            <p:spPr>
              <a:xfrm>
                <a:off x="1357200" y="30034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直接连接符 38"/>
              <p:cNvSpPr/>
              <p:nvPr/>
            </p:nvSpPr>
            <p:spPr>
              <a:xfrm>
                <a:off x="1357200" y="22381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直接连接符 39"/>
              <p:cNvSpPr/>
              <p:nvPr/>
            </p:nvSpPr>
            <p:spPr>
              <a:xfrm>
                <a:off x="1357200" y="24937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直接连接符 40"/>
              <p:cNvSpPr/>
              <p:nvPr/>
            </p:nvSpPr>
            <p:spPr>
              <a:xfrm>
                <a:off x="1357200" y="3768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直接连接符 41"/>
              <p:cNvSpPr/>
              <p:nvPr/>
            </p:nvSpPr>
            <p:spPr>
              <a:xfrm>
                <a:off x="1357200" y="35146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直接连接符 42"/>
              <p:cNvSpPr/>
              <p:nvPr/>
            </p:nvSpPr>
            <p:spPr>
              <a:xfrm>
                <a:off x="1357200" y="4533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直接连接符 43"/>
              <p:cNvSpPr/>
              <p:nvPr/>
            </p:nvSpPr>
            <p:spPr>
              <a:xfrm>
                <a:off x="1357200" y="40244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直接连接符 44"/>
              <p:cNvSpPr/>
              <p:nvPr/>
            </p:nvSpPr>
            <p:spPr>
              <a:xfrm>
                <a:off x="1357200" y="42800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直接连接符 45"/>
              <p:cNvSpPr/>
              <p:nvPr/>
            </p:nvSpPr>
            <p:spPr>
              <a:xfrm>
                <a:off x="80125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直接连接符 46"/>
              <p:cNvSpPr/>
              <p:nvPr/>
            </p:nvSpPr>
            <p:spPr>
              <a:xfrm>
                <a:off x="551988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直接连接符 47"/>
              <p:cNvSpPr/>
              <p:nvPr/>
            </p:nvSpPr>
            <p:spPr>
              <a:xfrm>
                <a:off x="718524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4" name="TextBox 146"/>
          <p:cNvSpPr/>
          <p:nvPr/>
        </p:nvSpPr>
        <p:spPr>
          <a:xfrm>
            <a:off x="701640" y="928800"/>
            <a:ext cx="32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46"/>
          <p:cNvSpPr/>
          <p:nvPr/>
        </p:nvSpPr>
        <p:spPr>
          <a:xfrm>
            <a:off x="701640" y="5046840"/>
            <a:ext cx="77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69"/>
          <p:cNvGrpSpPr/>
          <p:nvPr/>
        </p:nvGrpSpPr>
        <p:grpSpPr>
          <a:xfrm>
            <a:off x="1463760" y="1414440"/>
            <a:ext cx="6448320" cy="3317040"/>
            <a:chOff x="1463760" y="1414440"/>
            <a:chExt cx="6448320" cy="3317040"/>
          </a:xfrm>
        </p:grpSpPr>
        <p:sp>
          <p:nvSpPr>
            <p:cNvPr id="247" name="任意多边形 48"/>
            <p:cNvSpPr/>
            <p:nvPr/>
          </p:nvSpPr>
          <p:spPr>
            <a:xfrm>
              <a:off x="1779480" y="1755720"/>
              <a:ext cx="2716200" cy="992160"/>
            </a:xfrm>
            <a:custGeom>
              <a:avLst/>
              <a:gdLst/>
              <a:ahLst/>
              <a:rect l="l" t="t" r="r" b="b"/>
              <a:pathLst>
                <a:path w="2717006" h="992982">
                  <a:moveTo>
                    <a:pt x="0" y="0"/>
                  </a:moveTo>
                  <a:lnTo>
                    <a:pt x="833437" y="190501"/>
                  </a:lnTo>
                  <a:lnTo>
                    <a:pt x="1664493" y="576263"/>
                  </a:lnTo>
                  <a:lnTo>
                    <a:pt x="2505075" y="678657"/>
                  </a:lnTo>
                  <a:lnTo>
                    <a:pt x="2717006" y="992982"/>
                  </a:lnTo>
                </a:path>
              </a:pathLst>
            </a:custGeom>
            <a:noFill/>
            <a:ln w="3816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任意多边形 49"/>
            <p:cNvSpPr/>
            <p:nvPr/>
          </p:nvSpPr>
          <p:spPr>
            <a:xfrm>
              <a:off x="4495680" y="2747880"/>
              <a:ext cx="3114720" cy="1643040"/>
            </a:xfrm>
            <a:custGeom>
              <a:avLst/>
              <a:gdLst/>
              <a:ahLst/>
              <a:rect l="l" t="t" r="r" b="b"/>
              <a:pathLst>
                <a:path w="3114675" h="1643063">
                  <a:moveTo>
                    <a:pt x="0" y="0"/>
                  </a:moveTo>
                  <a:lnTo>
                    <a:pt x="611981" y="1052512"/>
                  </a:lnTo>
                  <a:lnTo>
                    <a:pt x="1445419" y="538163"/>
                  </a:lnTo>
                  <a:lnTo>
                    <a:pt x="2274094" y="781050"/>
                  </a:lnTo>
                  <a:lnTo>
                    <a:pt x="3114675" y="1643063"/>
                  </a:lnTo>
                </a:path>
              </a:pathLst>
            </a:custGeom>
            <a:noFill/>
            <a:ln w="3816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矩形 50"/>
            <p:cNvSpPr/>
            <p:nvPr/>
          </p:nvSpPr>
          <p:spPr>
            <a:xfrm>
              <a:off x="1701720" y="1680840"/>
              <a:ext cx="144360" cy="1425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矩形 51"/>
            <p:cNvSpPr/>
            <p:nvPr/>
          </p:nvSpPr>
          <p:spPr>
            <a:xfrm>
              <a:off x="5864400" y="321156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矩形 52"/>
            <p:cNvSpPr/>
            <p:nvPr/>
          </p:nvSpPr>
          <p:spPr>
            <a:xfrm>
              <a:off x="2533680" y="1871640"/>
              <a:ext cx="144360" cy="1443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矩形 53"/>
            <p:cNvSpPr/>
            <p:nvPr/>
          </p:nvSpPr>
          <p:spPr>
            <a:xfrm>
              <a:off x="3367080" y="2252520"/>
              <a:ext cx="144360" cy="1443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矩形 54"/>
            <p:cNvSpPr/>
            <p:nvPr/>
          </p:nvSpPr>
          <p:spPr>
            <a:xfrm>
              <a:off x="4199040" y="2360520"/>
              <a:ext cx="144360" cy="1425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55"/>
            <p:cNvSpPr/>
            <p:nvPr/>
          </p:nvSpPr>
          <p:spPr>
            <a:xfrm>
              <a:off x="5032440" y="3722760"/>
              <a:ext cx="142560" cy="1425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56"/>
            <p:cNvSpPr/>
            <p:nvPr/>
          </p:nvSpPr>
          <p:spPr>
            <a:xfrm>
              <a:off x="6697800" y="3448080"/>
              <a:ext cx="1425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矩形 57"/>
            <p:cNvSpPr/>
            <p:nvPr/>
          </p:nvSpPr>
          <p:spPr>
            <a:xfrm>
              <a:off x="7529760" y="431640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146"/>
            <p:cNvSpPr/>
            <p:nvPr/>
          </p:nvSpPr>
          <p:spPr>
            <a:xfrm>
              <a:off x="4803840" y="38527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Box 146"/>
            <p:cNvSpPr/>
            <p:nvPr/>
          </p:nvSpPr>
          <p:spPr>
            <a:xfrm>
              <a:off x="5629320" y="33321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Box 146"/>
            <p:cNvSpPr/>
            <p:nvPr/>
          </p:nvSpPr>
          <p:spPr>
            <a:xfrm>
              <a:off x="6810480" y="33829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146"/>
            <p:cNvSpPr/>
            <p:nvPr/>
          </p:nvSpPr>
          <p:spPr>
            <a:xfrm>
              <a:off x="7293240" y="442440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146"/>
            <p:cNvSpPr/>
            <p:nvPr/>
          </p:nvSpPr>
          <p:spPr>
            <a:xfrm>
              <a:off x="3965400" y="208728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Box 146"/>
            <p:cNvSpPr/>
            <p:nvPr/>
          </p:nvSpPr>
          <p:spPr>
            <a:xfrm>
              <a:off x="3139920" y="19875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146"/>
            <p:cNvSpPr/>
            <p:nvPr/>
          </p:nvSpPr>
          <p:spPr>
            <a:xfrm>
              <a:off x="2301840" y="15919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146"/>
            <p:cNvSpPr/>
            <p:nvPr/>
          </p:nvSpPr>
          <p:spPr>
            <a:xfrm>
              <a:off x="1463760" y="14144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组合 27"/>
          <p:cNvGrpSpPr/>
          <p:nvPr/>
        </p:nvGrpSpPr>
        <p:grpSpPr>
          <a:xfrm>
            <a:off x="5162400" y="1965240"/>
            <a:ext cx="3552840" cy="2366640"/>
            <a:chOff x="5162400" y="1965240"/>
            <a:chExt cx="3552840" cy="2366640"/>
          </a:xfrm>
        </p:grpSpPr>
        <p:sp>
          <p:nvSpPr>
            <p:cNvPr id="267" name="任意多边形 3"/>
            <p:cNvSpPr/>
            <p:nvPr/>
          </p:nvSpPr>
          <p:spPr>
            <a:xfrm flipH="1">
              <a:off x="5162400" y="1965240"/>
              <a:ext cx="11872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任意多边形 4"/>
            <p:cNvSpPr/>
            <p:nvPr/>
          </p:nvSpPr>
          <p:spPr>
            <a:xfrm flipH="1" flipV="1">
              <a:off x="5162400" y="4079160"/>
              <a:ext cx="11872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直接连接符 5"/>
            <p:cNvSpPr/>
            <p:nvPr/>
          </p:nvSpPr>
          <p:spPr>
            <a:xfrm>
              <a:off x="5704560" y="276912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直接连接符 6"/>
            <p:cNvSpPr/>
            <p:nvPr/>
          </p:nvSpPr>
          <p:spPr>
            <a:xfrm flipV="1">
              <a:off x="5704560" y="355824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Box 146"/>
            <p:cNvSpPr/>
            <p:nvPr/>
          </p:nvSpPr>
          <p:spPr>
            <a:xfrm>
              <a:off x="6333840" y="204768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20% </a:t>
              </a: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146"/>
            <p:cNvSpPr/>
            <p:nvPr/>
          </p:nvSpPr>
          <p:spPr>
            <a:xfrm>
              <a:off x="6333840" y="26715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6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146"/>
            <p:cNvSpPr/>
            <p:nvPr/>
          </p:nvSpPr>
          <p:spPr>
            <a:xfrm>
              <a:off x="6333840" y="340344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1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Box 146"/>
            <p:cNvSpPr/>
            <p:nvPr/>
          </p:nvSpPr>
          <p:spPr>
            <a:xfrm>
              <a:off x="6333840" y="39369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2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组合 26"/>
          <p:cNvGrpSpPr/>
          <p:nvPr/>
        </p:nvGrpSpPr>
        <p:grpSpPr>
          <a:xfrm>
            <a:off x="357120" y="2081160"/>
            <a:ext cx="3562560" cy="2207880"/>
            <a:chOff x="357120" y="2081160"/>
            <a:chExt cx="3562560" cy="2207880"/>
          </a:xfrm>
        </p:grpSpPr>
        <p:sp>
          <p:nvSpPr>
            <p:cNvPr id="276" name="任意多边形 1"/>
            <p:cNvSpPr/>
            <p:nvPr/>
          </p:nvSpPr>
          <p:spPr>
            <a:xfrm>
              <a:off x="2730600" y="2081160"/>
              <a:ext cx="11890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任意多边形 2"/>
            <p:cNvSpPr/>
            <p:nvPr/>
          </p:nvSpPr>
          <p:spPr>
            <a:xfrm flipV="1">
              <a:off x="2730600" y="4036320"/>
              <a:ext cx="11890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直接连接符 7"/>
            <p:cNvSpPr/>
            <p:nvPr/>
          </p:nvSpPr>
          <p:spPr>
            <a:xfrm>
              <a:off x="2730600" y="3336840"/>
              <a:ext cx="64764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Box 146"/>
            <p:cNvSpPr/>
            <p:nvPr/>
          </p:nvSpPr>
          <p:spPr>
            <a:xfrm>
              <a:off x="357120" y="387828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146"/>
            <p:cNvSpPr/>
            <p:nvPr/>
          </p:nvSpPr>
          <p:spPr>
            <a:xfrm>
              <a:off x="357120" y="318276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Box 146"/>
            <p:cNvSpPr/>
            <p:nvPr/>
          </p:nvSpPr>
          <p:spPr>
            <a:xfrm>
              <a:off x="357120" y="216504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25"/>
          <p:cNvGrpSpPr/>
          <p:nvPr/>
        </p:nvGrpSpPr>
        <p:grpSpPr>
          <a:xfrm>
            <a:off x="3222720" y="1785960"/>
            <a:ext cx="2698560" cy="2700360"/>
            <a:chOff x="3222720" y="1785960"/>
            <a:chExt cx="2698560" cy="2700360"/>
          </a:xfrm>
        </p:grpSpPr>
        <p:sp>
          <p:nvSpPr>
            <p:cNvPr id="283" name="饼形 15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2527672" y="692188"/>
                  </a:moveTo>
                  <a:cubicBezTo>
                    <a:pt x="2639417" y="892534"/>
                    <a:pt x="2698295" y="1118069"/>
                    <a:pt x="2698747" y="1347503"/>
                  </a:cubicBezTo>
                  <a:lnTo>
                    <a:pt x="1349375" y="1350169"/>
                  </a:lnTo>
                  <a:lnTo>
                    <a:pt x="2527672" y="692188"/>
                  </a:lnTo>
                  <a:close/>
                </a:path>
              </a:pathLst>
            </a:custGeom>
            <a:solidFill>
              <a:srgbClr val="f2f2f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饼形 16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2698748" y="1347766"/>
                  </a:moveTo>
                  <a:cubicBezTo>
                    <a:pt x="2699317" y="1667776"/>
                    <a:pt x="2586271" y="1977586"/>
                    <a:pt x="2379767" y="2221948"/>
                  </a:cubicBezTo>
                  <a:lnTo>
                    <a:pt x="1349375" y="1350169"/>
                  </a:lnTo>
                  <a:lnTo>
                    <a:pt x="2698748" y="1347766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饼形 17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2379817" y="2221888"/>
                  </a:moveTo>
                  <a:cubicBezTo>
                    <a:pt x="2121317" y="2527815"/>
                    <a:pt x="1740389" y="2703083"/>
                    <a:pt x="1340019" y="2700305"/>
                  </a:cubicBezTo>
                  <a:cubicBezTo>
                    <a:pt x="1343138" y="2250260"/>
                    <a:pt x="1346256" y="1800214"/>
                    <a:pt x="1349375" y="1350169"/>
                  </a:cubicBezTo>
                  <a:lnTo>
                    <a:pt x="2379817" y="2221888"/>
                  </a:lnTo>
                  <a:close/>
                </a:path>
              </a:pathLst>
            </a:cu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饼形 18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1343158" y="2700323"/>
                  </a:moveTo>
                  <a:cubicBezTo>
                    <a:pt x="917762" y="2698362"/>
                    <a:pt x="518197" y="2495797"/>
                    <a:pt x="265013" y="2153743"/>
                  </a:cubicBezTo>
                  <a:lnTo>
                    <a:pt x="1349375" y="1350169"/>
                  </a:lnTo>
                  <a:cubicBezTo>
                    <a:pt x="1347303" y="1800220"/>
                    <a:pt x="1345230" y="2250272"/>
                    <a:pt x="1343158" y="2700323"/>
                  </a:cubicBezTo>
                  <a:close/>
                </a:path>
              </a:pathLst>
            </a:custGeom>
            <a:solidFill>
              <a:srgbClr val="a6a6a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饼形 19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268728" y="2158737"/>
                  </a:moveTo>
                  <a:cubicBezTo>
                    <a:pt x="11565" y="1814635"/>
                    <a:pt x="-66560" y="1368605"/>
                    <a:pt x="58325" y="957506"/>
                  </a:cubicBezTo>
                  <a:lnTo>
                    <a:pt x="1349375" y="1350169"/>
                  </a:lnTo>
                  <a:lnTo>
                    <a:pt x="268728" y="2158737"/>
                  </a:lnTo>
                  <a:close/>
                </a:path>
              </a:pathLst>
            </a:custGeom>
            <a:solidFill>
              <a:srgbClr val="7f7f7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饼形 20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59938" y="952236"/>
                  </a:moveTo>
                  <a:cubicBezTo>
                    <a:pt x="234431" y="386154"/>
                    <a:pt x="757328" y="-1"/>
                    <a:pt x="1349376" y="-1"/>
                  </a:cubicBezTo>
                  <a:cubicBezTo>
                    <a:pt x="1349376" y="450056"/>
                    <a:pt x="1349375" y="900112"/>
                    <a:pt x="1349375" y="1350169"/>
                  </a:cubicBezTo>
                  <a:lnTo>
                    <a:pt x="59938" y="952236"/>
                  </a:lnTo>
                  <a:close/>
                </a:path>
              </a:pathLst>
            </a:cu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饼形 21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1348134" y="1"/>
                  </a:moveTo>
                  <a:cubicBezTo>
                    <a:pt x="1839103" y="-451"/>
                    <a:pt x="2291574" y="265962"/>
                    <a:pt x="2529586" y="695634"/>
                  </a:cubicBezTo>
                  <a:lnTo>
                    <a:pt x="1349375" y="1350169"/>
                  </a:lnTo>
                  <a:cubicBezTo>
                    <a:pt x="1348961" y="900113"/>
                    <a:pt x="1348548" y="450057"/>
                    <a:pt x="1348134" y="1"/>
                  </a:cubicBezTo>
                  <a:close/>
                </a:path>
              </a:pathLst>
            </a:custGeom>
            <a:solidFill>
              <a:srgbClr val="22bad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椭圆 22"/>
          <p:cNvSpPr/>
          <p:nvPr/>
        </p:nvSpPr>
        <p:spPr>
          <a:xfrm>
            <a:off x="3078000" y="1641600"/>
            <a:ext cx="2988000" cy="298764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46"/>
          <p:cNvSpPr/>
          <p:nvPr/>
        </p:nvSpPr>
        <p:spPr>
          <a:xfrm>
            <a:off x="2948040" y="998640"/>
            <a:ext cx="32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5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200"/>
                            </p:stCondLst>
                            <p:childTnLst>
                              <p:par>
                                <p:cTn id="2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F:\02 PPT相关收藏\下载图表\下载图表\5.19flickr\3778876854_bbe3360293_o.jpg"/>
          <p:cNvPicPr/>
          <p:nvPr/>
        </p:nvPicPr>
        <p:blipFill>
          <a:blip r:embed="rId1"/>
          <a:srcRect l="0" t="6791" r="0" b="0"/>
          <a:stretch/>
        </p:blipFill>
        <p:spPr>
          <a:xfrm>
            <a:off x="285840" y="857160"/>
            <a:ext cx="2995560" cy="440712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294" name="矩形 6"/>
          <p:cNvSpPr/>
          <p:nvPr/>
        </p:nvSpPr>
        <p:spPr>
          <a:xfrm>
            <a:off x="3500280" y="3408480"/>
            <a:ext cx="5286600" cy="1928520"/>
          </a:xfrm>
          <a:prstGeom prst="rect">
            <a:avLst/>
          </a:prstGeom>
          <a:solidFill>
            <a:srgbClr val="7f7f7f">
              <a:alpha val="10000"/>
            </a:srgbClr>
          </a:solidFill>
          <a:ln w="12600">
            <a:solidFill>
              <a:srgbClr val="7f7f7f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46"/>
          <p:cNvSpPr/>
          <p:nvPr/>
        </p:nvSpPr>
        <p:spPr>
          <a:xfrm>
            <a:off x="3411360" y="3005280"/>
            <a:ext cx="34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E:\新模板\蓝色的S\未标题-3.png"/>
          <p:cNvPicPr/>
          <p:nvPr/>
        </p:nvPicPr>
        <p:blipFill>
          <a:blip r:embed="rId1"/>
          <a:srcRect l="50004" t="0" r="0" b="50003"/>
          <a:stretch/>
        </p:blipFill>
        <p:spPr>
          <a:xfrm>
            <a:off x="457200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" descr="E:\新模板\蓝色的S\未标题-3.png"/>
          <p:cNvPicPr/>
          <p:nvPr/>
        </p:nvPicPr>
        <p:blipFill>
          <a:blip r:embed="rId2"/>
          <a:srcRect l="0" t="50003" r="50004" b="0"/>
          <a:stretch/>
        </p:blipFill>
        <p:spPr>
          <a:xfrm>
            <a:off x="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E:\新模板\蓝色的S\未标题-3.png"/>
          <p:cNvPicPr/>
          <p:nvPr/>
        </p:nvPicPr>
        <p:blipFill>
          <a:blip r:embed="rId3"/>
          <a:srcRect l="50004" t="50003" r="0" b="0"/>
          <a:stretch/>
        </p:blipFill>
        <p:spPr>
          <a:xfrm>
            <a:off x="457200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E:\新模板\蓝色的S\未标题-3.png"/>
          <p:cNvPicPr/>
          <p:nvPr/>
        </p:nvPicPr>
        <p:blipFill>
          <a:blip r:embed="rId4"/>
          <a:srcRect l="0" t="0" r="50004" b="50003"/>
          <a:stretch/>
        </p:blipFill>
        <p:spPr>
          <a:xfrm>
            <a:off x="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E:\新模板\蓝色的S\未标题-4.png"/>
          <p:cNvPicPr/>
          <p:nvPr/>
        </p:nvPicPr>
        <p:blipFill>
          <a:blip r:embed="rId5"/>
          <a:srcRect l="0" t="0" r="50004" b="0"/>
          <a:stretch/>
        </p:blipFill>
        <p:spPr>
          <a:xfrm>
            <a:off x="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E:\新模板\蓝色的S\未标题-4.png"/>
          <p:cNvPicPr/>
          <p:nvPr/>
        </p:nvPicPr>
        <p:blipFill>
          <a:blip r:embed="rId6"/>
          <a:srcRect l="50004" t="0" r="0" b="0"/>
          <a:stretch/>
        </p:blipFill>
        <p:spPr>
          <a:xfrm>
            <a:off x="457200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" descr="E:\新模板\蓝色的S\未标题-5.png"/>
          <p:cNvPicPr/>
          <p:nvPr/>
        </p:nvPicPr>
        <p:blipFill>
          <a:blip r:embed="rId7"/>
          <a:srcRect l="0" t="50003" r="0" b="0"/>
          <a:stretch/>
        </p:blipFill>
        <p:spPr>
          <a:xfrm>
            <a:off x="0" y="2857680"/>
            <a:ext cx="9144000" cy="28573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E:\新模板\蓝色的S\未标题-5.png"/>
          <p:cNvPicPr/>
          <p:nvPr/>
        </p:nvPicPr>
        <p:blipFill>
          <a:blip r:embed="rId8"/>
          <a:srcRect l="0" t="0" r="0" b="50003"/>
          <a:stretch/>
        </p:blipFill>
        <p:spPr>
          <a:xfrm>
            <a:off x="0" y="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E:\新模板\蓝色的S\未标题-6.png"/>
          <p:cNvPicPr/>
          <p:nvPr/>
        </p:nvPicPr>
        <p:blipFill>
          <a:blip r:embed="rId9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2" descr="E:\2010\模板\绿色的地球\未标题-2副本.png"/>
          <p:cNvPicPr/>
          <p:nvPr/>
        </p:nvPicPr>
        <p:blipFill>
          <a:blip r:embed="rId10">
            <a:lum bright="-100000"/>
          </a:blip>
          <a:srcRect l="19068" t="76579" r="12328" b="20276"/>
          <a:stretch/>
        </p:blipFill>
        <p:spPr>
          <a:xfrm>
            <a:off x="1352520" y="5418000"/>
            <a:ext cx="3921120" cy="287640"/>
          </a:xfrm>
          <a:prstGeom prst="rect">
            <a:avLst/>
          </a:prstGeom>
          <a:ln w="0">
            <a:noFill/>
          </a:ln>
        </p:spPr>
      </p:pic>
      <p:sp>
        <p:nvSpPr>
          <p:cNvPr id="307" name="TextBox 6"/>
          <p:cNvSpPr/>
          <p:nvPr/>
        </p:nvSpPr>
        <p:spPr>
          <a:xfrm>
            <a:off x="1474920" y="584280"/>
            <a:ext cx="296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THAN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8"/>
          <p:cNvSpPr/>
          <p:nvPr/>
        </p:nvSpPr>
        <p:spPr>
          <a:xfrm>
            <a:off x="1698120" y="233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400"/>
                            </p:stCondLst>
                            <p:childTnLst>
                              <p:par>
                                <p:cTn id="3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900"/>
                            </p:stCondLst>
                            <p:childTnLst>
                              <p:par>
                                <p:cTn id="30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400"/>
                            </p:stCondLst>
                            <p:childTnLst>
                              <p:par>
                                <p:cTn id="3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7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100"/>
                            </p:stCondLst>
                            <p:childTnLst>
                              <p:par>
                                <p:cTn id="31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600"/>
                            </p:stCondLst>
                            <p:childTnLst>
                              <p:par>
                                <p:cTn id="32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2:33:18Z</dcterms:created>
  <dc:creator>www.eeppt.com; An</dc:creator>
  <dc:description>ppt模板下载网站 http://www.eeppt.com</dc:description>
  <dc:language>en-US</dc:language>
  <cp:lastModifiedBy/>
  <dcterms:modified xsi:type="dcterms:W3CDTF">2015-05-27T14:33:17Z</dcterms:modified>
  <cp:revision>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