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FBE-0A0F-4EE2-9BF3-35C660FB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843-4CC6-4842-A66C-7F22DC3C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717-4F56-4395-946C-266E4617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256-9A42-4F23-83C3-BFA85D7E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6DF-21B5-4E4D-9301-9071E502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433-52EF-4B96-9E88-B15C2E6F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6B1-C63D-4F07-AFDA-7B68649D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FB7-FC77-480B-8FA9-8B4ACB90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31A-6FAF-4EAB-82F5-15F1DBFF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C1E-EF34-455D-A59D-0208B8DA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DF0-990B-478E-9CDB-242E16C0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140-6A44-435A-8E55-53896EBD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77ED-3497-4C18-914E-34596C4C25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673-836F-4579-B987-F8BE1D0766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718400" y="117360"/>
            <a:ext cx="14018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"/>
          <p:cNvPicPr/>
          <p:nvPr/>
        </p:nvPicPr>
        <p:blipFill>
          <a:blip r:embed="rId1"/>
          <a:srcRect l="0" t="91256" r="0" b="0"/>
          <a:stretch/>
        </p:blipFill>
        <p:spPr>
          <a:xfrm>
            <a:off x="-20520" y="0"/>
            <a:ext cx="9164520" cy="600120"/>
          </a:xfrm>
          <a:prstGeom prst="rect">
            <a:avLst/>
          </a:prstGeom>
          <a:ln w="0">
            <a:noFill/>
          </a:ln>
        </p:spPr>
      </p:pic>
      <p:pic>
        <p:nvPicPr>
          <p:cNvPr id="46" name="内容占位符 3" descr=""/>
          <p:cNvPicPr/>
          <p:nvPr/>
        </p:nvPicPr>
        <p:blipFill>
          <a:blip r:embed="rId2"/>
          <a:stretch/>
        </p:blipFill>
        <p:spPr>
          <a:xfrm>
            <a:off x="0" y="1123920"/>
            <a:ext cx="9139320" cy="5734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7742160" y="5157720"/>
            <a:ext cx="14018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内容占位符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-252360" y="3718080"/>
            <a:ext cx="140184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115-B19B-4564-982E-49A7BDF9F2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1:51:00Z</dcterms:created>
  <dc:creator>www.eeppt.com</dc:creator>
  <dc:description>ppt模板下载网站 http://www.eeppt.com</dc:description>
  <dc:language>en-US</dc:language>
  <cp:lastModifiedBy/>
  <dcterms:modified xsi:type="dcterms:W3CDTF">2015-05-22T16:19:2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