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12D-96E8-479B-BF4B-00EF45B9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676-337A-4774-8DD6-7E59D61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CB5-2E65-4D47-AD4A-6E56D6FC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D46-6026-4F53-9B96-94C2E094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7C2A-405D-4E1C-AC6A-B89937FA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3F3B-F131-420C-A18A-7E20A56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7951-2E2A-4112-886D-4275BAB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A72-82F3-408B-97C8-0E9607AC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F1EB-80A7-413B-9B47-F80D59E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0453-1AEE-40FF-9DCC-286E536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F66-8F40-4D3E-8AD6-6274D27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BF2-8065-493F-BE79-BE81832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950-E331-48B3-8994-1D16A5B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4A5F-CE01-4DD0-BAA6-C479F35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CD45-841D-4B75-8FEB-CE70FEB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891-B30B-4E0A-98AF-467C9092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2A6-956E-440B-8902-9D694BA9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908-5031-4197-97E3-CF385D55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F0E-70E6-449A-B515-A8729F1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444-F2BD-47BD-8C93-5A60CCC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D46-B70A-4469-ABAC-00E02CF6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7BD-C2E3-44B3-A43B-7A5F080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C56-F954-40A4-A0CA-6E07948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6B2-0277-41F2-8199-2904913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AA8-E48C-4A85-A8AA-14B8F09B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9AF4-8EDB-45C4-A4E3-E107B62A4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qq_xiao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qq_kwzs.exe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hyperlink" Target="qq_pyxx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4099320" y="603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4" descr="牛郎织女"/>
          <p:cNvPicPr/>
          <p:nvPr/>
        </p:nvPicPr>
        <p:blipFill>
          <a:blip r:embed="rId3"/>
          <a:stretch/>
        </p:blipFill>
        <p:spPr>
          <a:xfrm>
            <a:off x="1905120" y="15238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523880" y="16765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放声朗读课文，想一想古代人是怎样过乞巧节的。结合拼音认读生字，同学间可互相交流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743200" y="1371600"/>
            <a:ext cx="380988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　巧</a:t>
            </a:r>
            <a:br>
              <a:rPr sz="28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林 杰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七 夕 今 宵 看 碧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ea typeface="楷体_GB2312"/>
                <a:hlinkClick r:id="rId3"/>
              </a:rPr>
              <a:t>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牵 牛 织 女渡 河 桥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家 家乞巧 望 秋 月，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穿 尽 红 丝 几 万 条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038480" y="2666880"/>
            <a:ext cx="2133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xiāo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　　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小学语文(古诗词)02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sn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657440"/>
            <a:ext cx="6019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(古诗词)03"/>
          <p:cNvPicPr/>
          <p:nvPr/>
        </p:nvPicPr>
        <p:blipFill>
          <a:blip r:embed="rId2"/>
          <a:stretch/>
        </p:blipFill>
        <p:spPr>
          <a:xfrm>
            <a:off x="1143000" y="1009800"/>
            <a:ext cx="1600200" cy="514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752480" y="1447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反复朗诵，体会诗歌的感情。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1" name="Picture 4" descr="snap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038320"/>
            <a:ext cx="5715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371600" y="2241720"/>
            <a:ext cx="7086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背诵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乞巧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阅读牛郎织女的故事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371600" y="3187800"/>
            <a:ext cx="693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☆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课后搜集一些民间故事，开个故事会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小学语文(古诗词)04"/>
          <p:cNvPicPr/>
          <p:nvPr/>
        </p:nvPicPr>
        <p:blipFill>
          <a:blip r:embed="rId2"/>
          <a:stretch/>
        </p:blipFill>
        <p:spPr>
          <a:xfrm>
            <a:off x="1143000" y="10206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402300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牛郎织女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Picture 4" descr="牛郎织女"/>
          <p:cNvPicPr/>
          <p:nvPr/>
        </p:nvPicPr>
        <p:blipFill>
          <a:blip r:embed="rId3"/>
          <a:stretch/>
        </p:blipFill>
        <p:spPr>
          <a:xfrm>
            <a:off x="1143000" y="1589040"/>
            <a:ext cx="6972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143000" y="1752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七月七鹊桥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七夕乞巧女儿节。“乞巧节”，源于我国四大民间爱情传说之一的牛郎织女的故事。相传在七月初七，也就是七夕这天，牛郎和织女要在银河鹊桥相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219320" y="1523880"/>
            <a:ext cx="7315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汉代时，民间便开始向织女乞巧了，不但祈求心灵手巧，还祈求得到财富、早日有美满甜蜜的婚姻和早得子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七夕节最普遍的习俗，就是妇女们在七月初七的夜晚进行的各种乞巧活动。乞巧的方式大多是姑娘们穿针引线验巧，做些小物品赛巧，摆上些瓜果乞巧，各个地区的乞巧的方式不尽相同，各有趣味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8"/>
          <p:cNvSpPr/>
          <p:nvPr/>
        </p:nvSpPr>
        <p:spPr>
          <a:xfrm>
            <a:off x="241128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2" descr="背景0084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11430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   巧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林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7920" y="2514240"/>
            <a:ext cx="5040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夕 今宵 看碧霄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牛 织女 渡河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 乞巧 望秋月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尽 红丝 几万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3505320" y="259092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>
            <a:off x="4800240" y="259092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3505320" y="3352680"/>
            <a:ext cx="30456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4723920" y="3352680"/>
            <a:ext cx="304920" cy="6098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3505320" y="41148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4800240" y="41148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3505320" y="4800600"/>
            <a:ext cx="30456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00240" y="4800600"/>
            <a:ext cx="304920" cy="6094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Picture 13" descr="花边01"/>
          <p:cNvPicPr/>
          <p:nvPr/>
        </p:nvPicPr>
        <p:blipFill>
          <a:blip r:embed="rId2"/>
          <a:stretch/>
        </p:blipFill>
        <p:spPr>
          <a:xfrm>
            <a:off x="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花边01"/>
          <p:cNvPicPr/>
          <p:nvPr/>
        </p:nvPicPr>
        <p:blipFill>
          <a:blip r:embed="rId3"/>
          <a:stretch/>
        </p:blipFill>
        <p:spPr>
          <a:xfrm>
            <a:off x="434340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5" descr=""/>
          <p:cNvPicPr/>
          <p:nvPr/>
        </p:nvPicPr>
        <p:blipFill>
          <a:blip r:embed="rId4"/>
          <a:stretch/>
        </p:blipFill>
        <p:spPr>
          <a:xfrm>
            <a:off x="0" y="380880"/>
            <a:ext cx="304920" cy="41626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16" descr=""/>
          <p:cNvPicPr/>
          <p:nvPr/>
        </p:nvPicPr>
        <p:blipFill>
          <a:blip r:embed="rId5"/>
          <a:stretch/>
        </p:blipFill>
        <p:spPr>
          <a:xfrm>
            <a:off x="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17" descr=""/>
          <p:cNvPicPr/>
          <p:nvPr/>
        </p:nvPicPr>
        <p:blipFill>
          <a:blip r:embed="rId6"/>
          <a:stretch/>
        </p:blipFill>
        <p:spPr>
          <a:xfrm>
            <a:off x="8839080" y="380880"/>
            <a:ext cx="304920" cy="370548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18" descr=""/>
          <p:cNvPicPr/>
          <p:nvPr/>
        </p:nvPicPr>
        <p:blipFill>
          <a:blip r:embed="rId7"/>
          <a:stretch/>
        </p:blipFill>
        <p:spPr>
          <a:xfrm>
            <a:off x="8839080" y="3152880"/>
            <a:ext cx="304920" cy="37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花边01"/>
          <p:cNvPicPr/>
          <p:nvPr/>
        </p:nvPicPr>
        <p:blipFill>
          <a:blip r:embed="rId8"/>
          <a:stretch/>
        </p:blipFill>
        <p:spPr>
          <a:xfrm>
            <a:off x="4767120" y="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花边01"/>
          <p:cNvPicPr/>
          <p:nvPr/>
        </p:nvPicPr>
        <p:blipFill>
          <a:blip r:embed="rId9"/>
          <a:stretch/>
        </p:blipFill>
        <p:spPr>
          <a:xfrm>
            <a:off x="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花边01"/>
          <p:cNvPicPr/>
          <p:nvPr/>
        </p:nvPicPr>
        <p:blipFill>
          <a:blip r:embed="rId10"/>
          <a:stretch/>
        </p:blipFill>
        <p:spPr>
          <a:xfrm>
            <a:off x="4267080" y="6477120"/>
            <a:ext cx="4376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花边01"/>
          <p:cNvPicPr/>
          <p:nvPr/>
        </p:nvPicPr>
        <p:blipFill>
          <a:blip r:embed="rId11"/>
          <a:stretch/>
        </p:blipFill>
        <p:spPr>
          <a:xfrm>
            <a:off x="4767120" y="6477120"/>
            <a:ext cx="43768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594360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ǐ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4191120" y="2057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iā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133720" y="32004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巧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Picture 4" descr="乞巧"/>
          <p:cNvPicPr/>
          <p:nvPr/>
        </p:nvPicPr>
        <p:blipFill>
          <a:blip r:embed="rId3"/>
          <a:stretch/>
        </p:blipFill>
        <p:spPr>
          <a:xfrm>
            <a:off x="2948040" y="1219320"/>
            <a:ext cx="4672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99348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 巧 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4" descr="乞巧节"/>
          <p:cNvPicPr/>
          <p:nvPr/>
        </p:nvPicPr>
        <p:blipFill>
          <a:blip r:embed="rId3"/>
          <a:stretch/>
        </p:blipFill>
        <p:spPr>
          <a:xfrm>
            <a:off x="1600200" y="1600200"/>
            <a:ext cx="6095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099320" y="588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巧供桌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1" name="Picture 4" descr="乞巧供桌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902760" y="5904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乞 巧 馍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4" name="Picture 4" descr="乞巧馍"/>
          <p:cNvPicPr/>
          <p:nvPr/>
        </p:nvPicPr>
        <p:blipFill>
          <a:blip r:embed="rId3"/>
          <a:stretch/>
        </p:blipFill>
        <p:spPr>
          <a:xfrm>
            <a:off x="1828800" y="1646280"/>
            <a:ext cx="5740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小学语文(古诗词)01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956400" y="588168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巧　芽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Picture 4" descr="巧芽"/>
          <p:cNvPicPr/>
          <p:nvPr/>
        </p:nvPicPr>
        <p:blipFill>
          <a:blip r:embed="rId3"/>
          <a:stretch/>
        </p:blipFill>
        <p:spPr>
          <a:xfrm>
            <a:off x="1447920" y="1523880"/>
            <a:ext cx="6045120" cy="4284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8720" y="1235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47Z</dcterms:created>
  <dc:creator>www.eeppt.com; An</dc:creator>
  <dc:description>ppt模板下载网站 http://www.eeppt.com</dc:description>
  <dc:language>en-US</dc:language>
  <cp:lastModifiedBy/>
  <dcterms:modified xsi:type="dcterms:W3CDTF">2015-05-27T16:07:3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