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FBF-44D3-4740-B8C4-1A52FFAA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B32-F1F1-4133-8F7E-70C2628D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59F-FA88-4DFC-B68B-023CB43D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2AB-F3EC-4C9C-BD04-12C772E4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916D-121C-496E-BED6-05293300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3F20-E8D9-40DF-ACE5-B20A24D8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494F-248C-49F3-B8AB-0EF1AA32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6E15-0547-4011-BF94-38BD579E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C90D-71C7-45DE-A759-B74BF38A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9CE4-E595-4B3E-9A0A-6FCD2094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0B30-FFB3-41C9-9EB2-67788B0B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C39-DD48-4B58-93EF-3FFABE46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2D9A-975C-4B46-A2B3-A6C8D82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FB38-953A-4CDB-953A-D979F592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53E7-5A97-4946-868E-4C4F410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09FA-6468-438D-AF0A-D3967C91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68EC-8F45-4011-A82D-F5C11F29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DF4-5C5D-4F51-8EFD-C4FF2047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C61-9EE2-43FD-AF0F-ED957CF1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81E-FCDE-48B2-A4FE-396CF686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3EF-7ECC-4B2B-B6F8-D108E78D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011-C89D-4971-A7A3-A048B2E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B63-183B-4392-9498-4C4A3CFB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6D9-4821-4B42-9909-20FD14E0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E8F9-0330-44A9-971A-51C5085A8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96B5-455D-4892-8194-AF211B55F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79280" y="3429000"/>
            <a:ext cx="568800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凤辣子”初见林黛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324000" y="1197000"/>
            <a:ext cx="532764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8183" dir="2700000" blurRad="0" rotWithShape="0">
                    <a:srgbClr val="000000">
                      <a:alpha val="42000"/>
                    </a:srgbClr>
                  </a:outerShdw>
                </a:effectLst>
                <a:latin typeface="华文新魏"/>
              </a:rPr>
              <a:t>人物描写一组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8183" dir="2700000" blurRad="0" rotWithShape="0">
                  <a:srgbClr val="000000">
                    <a:alpha val="42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600200" y="3049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09680" y="12193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84360" y="1628640"/>
            <a:ext cx="7772400" cy="22885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年貌虽小，举止不俗，身体面庞虽怯懦不胜却有一段自然的风流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--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众人眼中的黛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弯似蹙非蹙罥烟眉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一双似喜非喜含情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态生两靥之态，  娇袭一身之病．泪光点点， 娇喘微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闲静时如姣花照水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行动处似弱柳扶风．心较比干多一窍，病如西子胜三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-----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宝玉眼中的黛玉</a:t>
            </a:r>
            <a:r>
              <a:rPr b="0" lang="zh-CN" sz="2400" spc="-1" strike="noStrike">
                <a:solidFill>
                  <a:srgbClr val="3333cc"/>
                </a:solidFill>
                <a:latin typeface="华文楷体"/>
                <a:ea typeface="华文楷体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76360" y="0"/>
            <a:ext cx="62485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阅读下列两段文字，回答问题</a:t>
            </a:r>
            <a:r>
              <a:rPr b="0" lang="en-US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826920" y="4724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上是属于什么描写？说明黛玉的什么 样的性格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403280" y="5229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仿宋"/>
              </a:rPr>
              <a:t>肖像描写；（美貌）多情、（体弱）多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539640" y="260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林黛玉形象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3240" y="1916280"/>
            <a:ext cx="1094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      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403280" y="1413000"/>
            <a:ext cx="152640" cy="4267080"/>
          </a:xfrm>
          <a:custGeom>
            <a:avLst/>
            <a:gdLst>
              <a:gd name="textAreaLeft" fmla="*/ 97560 w 152640"/>
              <a:gd name="textAreaRight" fmla="*/ 153000 w 1526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76360" y="1413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美貌）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476360" y="31417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体弱）多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403280" y="47973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言行）多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xsgs487"/>
          <p:cNvPicPr/>
          <p:nvPr/>
        </p:nvPicPr>
        <p:blipFill>
          <a:blip r:embed="rId2"/>
          <a:stretch/>
        </p:blipFill>
        <p:spPr>
          <a:xfrm>
            <a:off x="179280" y="692280"/>
            <a:ext cx="704880" cy="99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2"/>
          <p:cNvSpPr txBox="1"/>
          <p:nvPr/>
        </p:nvSpPr>
        <p:spPr>
          <a:xfrm rot="5400000">
            <a:off x="5990760" y="1504800"/>
            <a:ext cx="2808360" cy="1614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8000"/>
                    </a:srgbClr>
                  </a:outerShdw>
                </a:effectLst>
                <a:latin typeface="宋体"/>
              </a:rPr>
              <a:t>再见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3" name="Picture 3" descr="xsgs1-026"/>
          <p:cNvPicPr/>
          <p:nvPr/>
        </p:nvPicPr>
        <p:blipFill>
          <a:blip r:embed="rId2"/>
          <a:stretch/>
        </p:blipFill>
        <p:spPr>
          <a:xfrm>
            <a:off x="8286840" y="2924280"/>
            <a:ext cx="857160" cy="2857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"/>
          <p:cNvSpPr/>
          <p:nvPr/>
        </p:nvSpPr>
        <p:spPr>
          <a:xfrm>
            <a:off x="1187280" y="90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3132000" y="0"/>
            <a:ext cx="6012000" cy="278532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红楼梦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，又名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石头记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，是一部具有高度思想性和艺术性的伟大作品，在我国文学史和世界文学史上都占有重要的地位。本文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节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自第三回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林黛玉进荣国 府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。作者曹雪芹，名霑，字梦阮，号雪芹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全书以林黛玉和贾宝玉的爱情故事为中心，揭露了封建统治阶级的罪恶和腐朽本质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揭示了封建社会必然崩溃的历史发展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95280" y="1989000"/>
            <a:ext cx="676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凡鸟偏从末世来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,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87280" y="4221000"/>
            <a:ext cx="53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哭向金陵事更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767760" y="2708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都知爱慕此生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233880" y="3860640"/>
            <a:ext cx="108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一从二令三人木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700360" y="404640"/>
            <a:ext cx="345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判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286000" y="573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方正粗圆简体"/>
              </a:rPr>
              <a:t>王熙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500720" y="54936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猜一猜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79520" y="610236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50920" y="5950080"/>
            <a:ext cx="350496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肖像描写的浓墨重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3755880" y="610236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56080" y="5950080"/>
            <a:ext cx="3505320" cy="5205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貌似可喜，实则可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68360" y="260280"/>
            <a:ext cx="8459640" cy="1873440"/>
          </a:xfrm>
          <a:prstGeom prst="rect">
            <a:avLst/>
          </a:prstGeom>
          <a:solidFill>
            <a:srgbClr val="ff00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容貌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双丹凤三角眼，两弯柳叶吊梢眉，身量苗条，体格风骚，粉面含春威不露，丹唇未启笑先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195640" y="4076640"/>
            <a:ext cx="4824360" cy="642600"/>
          </a:xfrm>
          <a:prstGeom prst="rect">
            <a:avLst/>
          </a:prstGeom>
          <a:solidFill>
            <a:srgbClr val="0000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美丽俊俏，狡猾刁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20040525122356(1)_200405251223561"/>
          <p:cNvPicPr/>
          <p:nvPr/>
        </p:nvPicPr>
        <p:blipFill>
          <a:blip r:embed="rId5"/>
          <a:stretch/>
        </p:blipFill>
        <p:spPr>
          <a:xfrm>
            <a:off x="3132000" y="6095880"/>
            <a:ext cx="95256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50920" y="5734080"/>
            <a:ext cx="3886200" cy="581400"/>
          </a:xfrm>
          <a:prstGeom prst="rect">
            <a:avLst/>
          </a:prstGeom>
          <a:solidFill>
            <a:srgbClr val="ff00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老祖宗戏为“凤辣子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4356000" y="5877000"/>
            <a:ext cx="1752840" cy="304560"/>
          </a:xfrm>
          <a:prstGeom prst="rightArrow">
            <a:avLst>
              <a:gd name="adj1" fmla="val 50000"/>
              <a:gd name="adj2" fmla="val 143883"/>
            </a:avLst>
          </a:prstGeom>
          <a:solidFill>
            <a:srgbClr val="00cc9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516720" y="5734080"/>
            <a:ext cx="2158920" cy="6426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深受喜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7308720" y="1557360"/>
            <a:ext cx="1224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受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宠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79280" y="4365720"/>
            <a:ext cx="8748720" cy="13842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先恭维，再拭泪，后转悲为喜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视贾母态度而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539640" y="1484280"/>
            <a:ext cx="8604360" cy="855720"/>
            <a:chOff x="539640" y="1484280"/>
            <a:chExt cx="8604360" cy="855720"/>
          </a:xfrm>
        </p:grpSpPr>
        <p:sp>
          <p:nvSpPr>
            <p:cNvPr id="112" name="Text Box 4"/>
            <p:cNvSpPr/>
            <p:nvPr/>
          </p:nvSpPr>
          <p:spPr>
            <a:xfrm>
              <a:off x="539640" y="1484280"/>
              <a:ext cx="261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察颜观色，</a:t>
              </a:r>
              <a:br>
                <a:rPr sz="1800"/>
              </a:b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6804000" y="1484280"/>
              <a:ext cx="23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随机应变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7688880" y="189000"/>
            <a:ext cx="1155240" cy="5410080"/>
          </a:xfrm>
          <a:prstGeom prst="rect">
            <a:avLst/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天下真有这样标致的人物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1476360" y="3068640"/>
            <a:ext cx="22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邀宠取幸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364680" y="115920"/>
            <a:ext cx="1277640" cy="6553080"/>
          </a:xfrm>
          <a:prstGeom prst="rect">
            <a:avLst/>
          </a:prstGeom>
          <a:solidFill>
            <a:srgbClr val="ffff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只可怜我这妹妹这么命苦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124080" y="6248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763640" y="5805360"/>
            <a:ext cx="2448000" cy="6426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悦贾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219640" y="5805360"/>
            <a:ext cx="2448000" cy="6426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取悦贾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340000" y="1628640"/>
            <a:ext cx="2362320" cy="703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肖像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92720" y="1628640"/>
            <a:ext cx="2362320" cy="703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语言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40000" y="3500280"/>
            <a:ext cx="2362320" cy="703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行动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292720" y="3519360"/>
            <a:ext cx="2362320" cy="703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995640" y="4941720"/>
            <a:ext cx="2362320" cy="70344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华文琥珀"/>
                <a:ea typeface="华文琥珀"/>
              </a:rPr>
              <a:t>侧面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095120" y="1341360"/>
            <a:ext cx="546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26920" y="26028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采   用   的   方   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050920" y="692280"/>
            <a:ext cx="47466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自读课文，思考下列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900000" y="1484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从王熙凤的服饰中，你能看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900000" y="2637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贾母怎样戏谑王熙凤，说明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900000" y="357336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王熙凤对林黛玉说了什么，这又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900000" y="51577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华文仿宋"/>
                <a:ea typeface="华文仿宋"/>
              </a:rPr>
              <a:t>、王熙凤为林黛玉流眼泪，该如何看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573408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2:46:18Z</dcterms:created>
  <dc:creator>www.eeppt.com; An</dc:creator>
  <dc:description>ppt模板下载网站 http://www.eeppt.com</dc:description>
  <dc:language>en-US</dc:language>
  <cp:lastModifiedBy/>
  <dcterms:modified xsi:type="dcterms:W3CDTF">2015-05-27T16:08:15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