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676-2741-4731-A40B-39EDA8D8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C8B-1C94-4D66-A22E-901128C6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294-4549-4DFF-AF8D-2EFA8408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7A4-134F-43CC-A353-6BCF355D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D11-B6B4-495D-9C5C-434DA323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D48-4DA3-4F40-9DAC-88383088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5E0-E008-4246-B4D3-CBB41371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490-2B3F-4D5A-831A-9994B737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D1F3-71A3-4CBB-A4AB-DFF2660E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27D4-6804-4A33-9760-C16738B6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C0A9-C70D-4C11-92E7-0F7EA648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C811-3C9F-472A-BAEB-08637FA4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DF48BC-5E98-4A14-B857-722DAD0385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"/>
          <p:cNvGrpSpPr/>
          <p:nvPr/>
        </p:nvGrpSpPr>
        <p:grpSpPr>
          <a:xfrm>
            <a:off x="2252520" y="1606680"/>
            <a:ext cx="4608720" cy="1346400"/>
            <a:chOff x="2252520" y="1606680"/>
            <a:chExt cx="4608720" cy="1346400"/>
          </a:xfrm>
        </p:grpSpPr>
        <p:sp>
          <p:nvSpPr>
            <p:cNvPr id="42" name="Text Box 2"/>
            <p:cNvSpPr/>
            <p:nvPr/>
          </p:nvSpPr>
          <p:spPr>
            <a:xfrm>
              <a:off x="2252520" y="2225520"/>
              <a:ext cx="4608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兰亭纤黑_GBK"/>
                  <a:ea typeface="方正兰亭纤黑_GBK"/>
                </a:rPr>
                <a:t>市场营销定位提案 </a:t>
              </a:r>
              <a:r>
                <a:rPr b="0" lang="en-US" sz="1800" spc="-1" strike="noStrike">
                  <a:solidFill>
                    <a:srgbClr val="000000"/>
                  </a:solidFill>
                  <a:latin typeface="方正兰亭纤黑_GBK"/>
                  <a:ea typeface="方正兰亭纤黑_GBK"/>
                </a:rPr>
                <a:t>&amp; 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兰亭纤黑_GBK"/>
                  <a:ea typeface="方正兰亭纤黑_GBK"/>
                </a:rPr>
                <a:t>广告推广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Text Box 3"/>
            <p:cNvSpPr/>
            <p:nvPr/>
          </p:nvSpPr>
          <p:spPr>
            <a:xfrm>
              <a:off x="2550960" y="2676600"/>
              <a:ext cx="40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方正兰亭纤黑_GBK"/>
                  <a:ea typeface="方正兰亭纤黑_GBK"/>
                </a:rPr>
                <a:t>Positioning proposal &amp; advertis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矩形 2"/>
            <p:cNvSpPr/>
            <p:nvPr/>
          </p:nvSpPr>
          <p:spPr>
            <a:xfrm>
              <a:off x="3701880" y="1606680"/>
              <a:ext cx="1710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方正兰亭特黑_GBK"/>
                  <a:ea typeface="方正兰亭特黑_GBK"/>
                </a:rPr>
                <a:t>【</a:t>
              </a:r>
              <a:r>
                <a:rPr b="0" lang="en-US" sz="3200" spc="-1" strike="noStrike">
                  <a:solidFill>
                    <a:srgbClr val="000000"/>
                  </a:solidFill>
                  <a:latin typeface="方正兰亭特黑_GBK"/>
                  <a:ea typeface="方正兰亭特黑_GBK"/>
                </a:rPr>
                <a:t>xxxx</a:t>
              </a:r>
              <a:r>
                <a:rPr b="0" lang="en-US" sz="3200" spc="-1" strike="noStrike">
                  <a:solidFill>
                    <a:srgbClr val="000000"/>
                  </a:solidFill>
                  <a:latin typeface="方正兰亭特黑_GBK"/>
                  <a:ea typeface="方正兰亭特黑_GBK"/>
                </a:rPr>
                <a:t>】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469800" y="1781280"/>
            <a:ext cx="462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最佳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品质</a:t>
            </a: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楼盘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188" name="椭圆 25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圆角矩形 26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圆角矩形 27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圆角矩形 28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圆角矩形 29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圆角矩形 30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等腰三角形 32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6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197" name="矩形 34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35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23"/>
          <p:cNvSpPr/>
          <p:nvPr/>
        </p:nvSpPr>
        <p:spPr>
          <a:xfrm>
            <a:off x="469800" y="1781280"/>
            <a:ext cx="462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最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完美配套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207" name="椭圆 25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圆角矩形 26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圆角矩形 27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圆角矩形 28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圆角矩形 29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圆角矩形 30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等腰三角形 32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5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216" name="矩形 34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35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23"/>
          <p:cNvSpPr/>
          <p:nvPr/>
        </p:nvSpPr>
        <p:spPr>
          <a:xfrm>
            <a:off x="469800" y="1781280"/>
            <a:ext cx="462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超高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性价比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226" name="椭圆 25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圆角矩形 26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圆角矩形 27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圆角矩形 28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圆角矩形 29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圆角矩形 30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等腰三角形 32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4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235" name="矩形 34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35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2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23"/>
          <p:cNvSpPr/>
          <p:nvPr/>
        </p:nvSpPr>
        <p:spPr>
          <a:xfrm>
            <a:off x="469800" y="1781280"/>
            <a:ext cx="5612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最具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升值潜力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245" name="椭圆 25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圆角矩形 26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圆角矩形 27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圆角矩形 28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圆角矩形 29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圆角矩形 30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等腰三角形 32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3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254" name="矩形 34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35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2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矩形 9"/>
          <p:cNvSpPr/>
          <p:nvPr/>
        </p:nvSpPr>
        <p:spPr>
          <a:xfrm>
            <a:off x="0" y="2556000"/>
            <a:ext cx="9144000" cy="820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文本框 6"/>
          <p:cNvSpPr/>
          <p:nvPr/>
        </p:nvSpPr>
        <p:spPr>
          <a:xfrm>
            <a:off x="1995840" y="257040"/>
            <a:ext cx="178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找出</a:t>
            </a: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的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17"/>
          <p:cNvSpPr/>
          <p:nvPr/>
        </p:nvSpPr>
        <p:spPr>
          <a:xfrm>
            <a:off x="3697200" y="987480"/>
            <a:ext cx="54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品牌核心价值</a:t>
            </a:r>
            <a:r>
              <a:rPr b="0" lang="zh-CN" sz="2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（</a:t>
            </a: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VELUE</a:t>
            </a:r>
            <a:r>
              <a:rPr b="0" lang="zh-CN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1"/>
          <p:cNvSpPr/>
          <p:nvPr/>
        </p:nvSpPr>
        <p:spPr>
          <a:xfrm>
            <a:off x="2389320" y="270684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方正兰亭特黑_GBK"/>
                <a:ea typeface="方正兰亭特黑_GBK"/>
              </a:rPr>
              <a:t>满足客户根本需求，才能掌握核心价值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7"/>
          <p:cNvSpPr/>
          <p:nvPr/>
        </p:nvSpPr>
        <p:spPr>
          <a:xfrm>
            <a:off x="3780000" y="1563840"/>
            <a:ext cx="53640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5"/>
          <p:cNvSpPr/>
          <p:nvPr/>
        </p:nvSpPr>
        <p:spPr>
          <a:xfrm>
            <a:off x="718560" y="933480"/>
            <a:ext cx="21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XXXX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0"/>
          <p:cNvSpPr/>
          <p:nvPr/>
        </p:nvSpPr>
        <p:spPr>
          <a:xfrm>
            <a:off x="1914480" y="644400"/>
            <a:ext cx="53229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9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客户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11"/>
          <p:cNvSpPr/>
          <p:nvPr/>
        </p:nvSpPr>
        <p:spPr>
          <a:xfrm>
            <a:off x="2065320" y="3244680"/>
            <a:ext cx="517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CLIEN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圆角矩形 21"/>
          <p:cNvSpPr/>
          <p:nvPr/>
        </p:nvSpPr>
        <p:spPr>
          <a:xfrm>
            <a:off x="201600" y="2273400"/>
            <a:ext cx="8748720" cy="2065320"/>
          </a:xfrm>
          <a:prstGeom prst="roundRect">
            <a:avLst>
              <a:gd name="adj" fmla="val 296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文本框 1"/>
          <p:cNvSpPr/>
          <p:nvPr/>
        </p:nvSpPr>
        <p:spPr>
          <a:xfrm>
            <a:off x="31932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客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直接连接符 3"/>
          <p:cNvSpPr/>
          <p:nvPr/>
        </p:nvSpPr>
        <p:spPr>
          <a:xfrm>
            <a:off x="9572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6"/>
          <p:cNvSpPr/>
          <p:nvPr/>
        </p:nvSpPr>
        <p:spPr>
          <a:xfrm>
            <a:off x="1358640" y="2570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购房理由 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7"/>
          <p:cNvSpPr/>
          <p:nvPr/>
        </p:nvSpPr>
        <p:spPr>
          <a:xfrm>
            <a:off x="254160" y="1924200"/>
            <a:ext cx="8638920" cy="568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5"/>
          <p:cNvSpPr/>
          <p:nvPr/>
        </p:nvSpPr>
        <p:spPr>
          <a:xfrm>
            <a:off x="2868120" y="7714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客户问卷调查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90520" y="2300400"/>
          <a:ext cx="8575560" cy="1890720"/>
        </p:xfrm>
        <a:graphic>
          <a:graphicData uri="http://schemas.openxmlformats.org/drawingml/2006/table">
            <a:tbl>
              <a:tblPr/>
              <a:tblGrid>
                <a:gridCol w="606600"/>
                <a:gridCol w="804600"/>
                <a:gridCol w="733680"/>
                <a:gridCol w="741240"/>
                <a:gridCol w="722160"/>
                <a:gridCol w="1413000"/>
                <a:gridCol w="882720"/>
                <a:gridCol w="639720"/>
                <a:gridCol w="677880"/>
                <a:gridCol w="655560"/>
                <a:gridCol w="698400"/>
              </a:tblGrid>
              <a:tr h="519120">
                <a:tc gridSpan="9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问题买房自住，主要是出于什么考虑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项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扩大住房面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给子女准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给父母养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给自己养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有一个更好的社区自然环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有一个更好的社区生活配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上班方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孩子上学方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周末过去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合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人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所占比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方正兰亭纤黑_GBK"/>
                          <a:ea typeface="方正兰亭纤黑_GBK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5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文本框 1"/>
          <p:cNvSpPr/>
          <p:nvPr/>
        </p:nvSpPr>
        <p:spPr>
          <a:xfrm>
            <a:off x="31932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客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接连接符 3"/>
          <p:cNvSpPr/>
          <p:nvPr/>
        </p:nvSpPr>
        <p:spPr>
          <a:xfrm>
            <a:off x="9572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6"/>
          <p:cNvSpPr/>
          <p:nvPr/>
        </p:nvSpPr>
        <p:spPr>
          <a:xfrm>
            <a:off x="1413360" y="257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客户说什么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7"/>
          <p:cNvSpPr/>
          <p:nvPr/>
        </p:nvSpPr>
        <p:spPr>
          <a:xfrm>
            <a:off x="3745080" y="1851120"/>
            <a:ext cx="53640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5"/>
          <p:cNvSpPr/>
          <p:nvPr/>
        </p:nvSpPr>
        <p:spPr>
          <a:xfrm>
            <a:off x="792360" y="700200"/>
            <a:ext cx="232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听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客户在说话</a:t>
            </a:r>
            <a:r>
              <a:rPr b="0" lang="en-US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6"/>
          <p:cNvSpPr/>
          <p:nvPr/>
        </p:nvSpPr>
        <p:spPr>
          <a:xfrm>
            <a:off x="3924360" y="555480"/>
            <a:ext cx="56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对乡镇人群人性最根本的诉求追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当初为何想买房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组合 1"/>
          <p:cNvGrpSpPr/>
          <p:nvPr/>
        </p:nvGrpSpPr>
        <p:grpSpPr>
          <a:xfrm>
            <a:off x="4510080" y="2689200"/>
            <a:ext cx="5027760" cy="1312920"/>
            <a:chOff x="4510080" y="2689200"/>
            <a:chExt cx="5027760" cy="1312920"/>
          </a:xfrm>
        </p:grpSpPr>
        <p:sp>
          <p:nvSpPr>
            <p:cNvPr id="283" name="剪去单角的矩形 15"/>
            <p:cNvSpPr/>
            <p:nvPr/>
          </p:nvSpPr>
          <p:spPr>
            <a:xfrm flipH="1">
              <a:off x="5436360" y="2733480"/>
              <a:ext cx="3706920" cy="1257480"/>
            </a:xfrm>
            <a:custGeom>
              <a:avLst/>
              <a:gdLst/>
              <a:ahLst/>
              <a:rect l="l" t="t" r="r" b="b"/>
              <a:pathLst>
                <a:path w="3706813" h="1258299">
                  <a:moveTo>
                    <a:pt x="0" y="0"/>
                  </a:moveTo>
                  <a:lnTo>
                    <a:pt x="3407413" y="0"/>
                  </a:lnTo>
                  <a:lnTo>
                    <a:pt x="3706813" y="299400"/>
                  </a:lnTo>
                  <a:lnTo>
                    <a:pt x="3706813" y="1258299"/>
                  </a:lnTo>
                  <a:lnTo>
                    <a:pt x="0" y="1258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8"/>
            <p:cNvSpPr/>
            <p:nvPr/>
          </p:nvSpPr>
          <p:spPr>
            <a:xfrm>
              <a:off x="4510080" y="2689200"/>
              <a:ext cx="5027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      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客户不是单一的群体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         </a:t>
              </a:r>
              <a:r>
                <a:rPr b="0" lang="zh-CN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必须抓住所有群体的</a:t>
              </a:r>
              <a:r>
                <a:rPr b="0" lang="en-US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     </a:t>
              </a:r>
              <a:r>
                <a:rPr b="0" lang="zh-CN" sz="32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共性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矩形 12"/>
          <p:cNvSpPr/>
          <p:nvPr/>
        </p:nvSpPr>
        <p:spPr>
          <a:xfrm>
            <a:off x="471600" y="7108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纤黑_GBK"/>
                <a:ea typeface="方正兰亭纤黑_GBK"/>
              </a:rPr>
              <a:t>在严重同质化的市场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纤黑_GBK"/>
                <a:ea typeface="方正兰亭纤黑_GBK"/>
              </a:rPr>
              <a:t>我们必须给客户解答一个问题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14" descr=""/>
          <p:cNvPicPr/>
          <p:nvPr/>
        </p:nvPicPr>
        <p:blipFill>
          <a:blip r:embed="rId1"/>
          <a:stretch/>
        </p:blipFill>
        <p:spPr>
          <a:xfrm>
            <a:off x="230040" y="2287440"/>
            <a:ext cx="5154840" cy="2668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2"/>
          <p:cNvSpPr/>
          <p:nvPr/>
        </p:nvSpPr>
        <p:spPr>
          <a:xfrm>
            <a:off x="1619280" y="191448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——————</a:t>
            </a:r>
            <a:r>
              <a:rPr b="0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客户渴望加入他们，找到组织，加入</a:t>
            </a:r>
            <a:r>
              <a:rPr b="0" lang="en-US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的生活符号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3"/>
          <p:cNvSpPr/>
          <p:nvPr/>
        </p:nvSpPr>
        <p:spPr>
          <a:xfrm>
            <a:off x="1631520" y="879480"/>
            <a:ext cx="438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这就是被归纳概括的</a:t>
            </a:r>
            <a:r>
              <a:rPr b="1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幸福的家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直接连接符 5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文本框 6"/>
          <p:cNvSpPr/>
          <p:nvPr/>
        </p:nvSpPr>
        <p:spPr>
          <a:xfrm>
            <a:off x="18388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推广定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1"/>
          <p:cNvSpPr/>
          <p:nvPr/>
        </p:nvSpPr>
        <p:spPr>
          <a:xfrm>
            <a:off x="1578600" y="2868480"/>
            <a:ext cx="548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方正兰亭纤黑_GBK"/>
                <a:ea typeface="方正兰亭纤黑_GBK"/>
              </a:rPr>
              <a:t>新</a:t>
            </a:r>
            <a:r>
              <a:rPr b="1" lang="en-US" sz="6600" spc="-1" strike="noStrike">
                <a:solidFill>
                  <a:srgbClr val="c00000"/>
                </a:solidFill>
                <a:latin typeface="方正兰亭纤黑_GBK"/>
                <a:ea typeface="方正兰亭纤黑_GBK"/>
              </a:rPr>
              <a:t>xxxxxxx</a:t>
            </a:r>
            <a:r>
              <a:rPr b="1" lang="zh-CN" sz="6600" spc="-1" strike="noStrike">
                <a:solidFill>
                  <a:srgbClr val="c00000"/>
                </a:solidFill>
                <a:latin typeface="方正兰亭纤黑_GBK"/>
                <a:ea typeface="方正兰亭纤黑_GBK"/>
              </a:rPr>
              <a:t>社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 8"/>
          <p:cNvSpPr/>
          <p:nvPr/>
        </p:nvSpPr>
        <p:spPr>
          <a:xfrm>
            <a:off x="412920" y="2500200"/>
            <a:ext cx="7992720" cy="10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9"/>
          <p:cNvSpPr/>
          <p:nvPr/>
        </p:nvSpPr>
        <p:spPr>
          <a:xfrm>
            <a:off x="423720" y="4192560"/>
            <a:ext cx="7993080" cy="10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6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6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3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8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0"/>
          <p:cNvSpPr/>
          <p:nvPr/>
        </p:nvSpPr>
        <p:spPr>
          <a:xfrm>
            <a:off x="1914480" y="644400"/>
            <a:ext cx="53229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9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推广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11"/>
          <p:cNvSpPr/>
          <p:nvPr/>
        </p:nvSpPr>
        <p:spPr>
          <a:xfrm>
            <a:off x="600120" y="3305160"/>
            <a:ext cx="798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SPREA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914480" y="644400"/>
            <a:ext cx="53229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99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市场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2"/>
          <p:cNvSpPr/>
          <p:nvPr/>
        </p:nvSpPr>
        <p:spPr>
          <a:xfrm>
            <a:off x="2065320" y="3244680"/>
            <a:ext cx="51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方正兰亭特黑_GBK"/>
                <a:ea typeface="方正兰亭特黑_GBK"/>
              </a:rPr>
              <a:t>MARKE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文本框 6"/>
          <p:cNvSpPr/>
          <p:nvPr/>
        </p:nvSpPr>
        <p:spPr>
          <a:xfrm>
            <a:off x="1885320" y="257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核心推广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5"/>
          <p:cNvSpPr/>
          <p:nvPr/>
        </p:nvSpPr>
        <p:spPr>
          <a:xfrm>
            <a:off x="1130760" y="843120"/>
            <a:ext cx="663156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推广第一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你</a:t>
            </a:r>
            <a:r>
              <a:rPr b="1" lang="en-US" sz="13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XXX</a:t>
            </a:r>
            <a:r>
              <a:rPr b="1" lang="zh-CN" sz="13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？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文本框 6"/>
          <p:cNvSpPr/>
          <p:nvPr/>
        </p:nvSpPr>
        <p:spPr>
          <a:xfrm>
            <a:off x="1885320" y="257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核心推广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5"/>
          <p:cNvSpPr/>
          <p:nvPr/>
        </p:nvSpPr>
        <p:spPr>
          <a:xfrm>
            <a:off x="1045800" y="700200"/>
            <a:ext cx="54475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推广第二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</a:t>
            </a:r>
            <a:r>
              <a:rPr b="1" lang="en-US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XXXXXXXXX</a:t>
            </a:r>
            <a:r>
              <a:rPr b="1" lang="zh-CN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文本框 6"/>
          <p:cNvSpPr/>
          <p:nvPr/>
        </p:nvSpPr>
        <p:spPr>
          <a:xfrm>
            <a:off x="1885320" y="257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核心推广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 5"/>
          <p:cNvSpPr/>
          <p:nvPr/>
        </p:nvSpPr>
        <p:spPr>
          <a:xfrm>
            <a:off x="1122480" y="700200"/>
            <a:ext cx="5904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推广第三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我</a:t>
            </a:r>
            <a:r>
              <a:rPr b="1" lang="en-US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XXXXXXXXXX</a:t>
            </a:r>
            <a:r>
              <a:rPr b="1" lang="zh-CN" sz="54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组合 1"/>
          <p:cNvGrpSpPr/>
          <p:nvPr/>
        </p:nvGrpSpPr>
        <p:grpSpPr>
          <a:xfrm>
            <a:off x="1187280" y="1422360"/>
            <a:ext cx="8483760" cy="2293920"/>
            <a:chOff x="1187280" y="1422360"/>
            <a:chExt cx="8483760" cy="2293920"/>
          </a:xfrm>
        </p:grpSpPr>
        <p:sp>
          <p:nvSpPr>
            <p:cNvPr id="315" name="圆角矩形 6"/>
            <p:cNvSpPr/>
            <p:nvPr/>
          </p:nvSpPr>
          <p:spPr>
            <a:xfrm>
              <a:off x="3419280" y="2360520"/>
              <a:ext cx="6251760" cy="326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b0f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16" name="Picture 12" descr=""/>
            <p:cNvPicPr/>
            <p:nvPr/>
          </p:nvPicPr>
          <p:blipFill>
            <a:blip r:embed="rId1"/>
            <a:stretch/>
          </p:blipFill>
          <p:spPr>
            <a:xfrm>
              <a:off x="1187280" y="1422360"/>
              <a:ext cx="2232360" cy="22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Box 8"/>
            <p:cNvSpPr/>
            <p:nvPr/>
          </p:nvSpPr>
          <p:spPr>
            <a:xfrm>
              <a:off x="3670200" y="1976400"/>
              <a:ext cx="4537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5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Skycean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市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6"/>
          <p:cNvSpPr/>
          <p:nvPr/>
        </p:nvSpPr>
        <p:spPr>
          <a:xfrm>
            <a:off x="1298880" y="2570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区位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组合 34"/>
          <p:cNvGrpSpPr/>
          <p:nvPr/>
        </p:nvGrpSpPr>
        <p:grpSpPr>
          <a:xfrm>
            <a:off x="1817640" y="700200"/>
            <a:ext cx="5256360" cy="3946320"/>
            <a:chOff x="1817640" y="700200"/>
            <a:chExt cx="5256360" cy="3946320"/>
          </a:xfrm>
        </p:grpSpPr>
        <p:pic>
          <p:nvPicPr>
            <p:cNvPr id="52" name="Picture 24" descr="夹江卫星地图"/>
            <p:cNvPicPr/>
            <p:nvPr/>
          </p:nvPicPr>
          <p:blipFill>
            <a:blip r:embed="rId1"/>
            <a:stretch/>
          </p:blipFill>
          <p:spPr>
            <a:xfrm>
              <a:off x="1817640" y="734040"/>
              <a:ext cx="5256360" cy="3912480"/>
            </a:xfrm>
            <a:prstGeom prst="rect">
              <a:avLst/>
            </a:prstGeom>
            <a:ln w="25560">
              <a:solidFill>
                <a:srgbClr val="c00000"/>
              </a:solidFill>
              <a:miter/>
            </a:ln>
          </p:spPr>
        </p:pic>
        <p:sp>
          <p:nvSpPr>
            <p:cNvPr id="53" name="椭圆 2"/>
            <p:cNvSpPr/>
            <p:nvPr/>
          </p:nvSpPr>
          <p:spPr>
            <a:xfrm>
              <a:off x="3159720" y="2165760"/>
              <a:ext cx="956520" cy="956160"/>
            </a:xfrm>
            <a:prstGeom prst="ellipse">
              <a:avLst/>
            </a:prstGeom>
            <a:solidFill>
              <a:srgbClr val="c0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TextBox 3"/>
            <p:cNvSpPr/>
            <p:nvPr/>
          </p:nvSpPr>
          <p:spPr>
            <a:xfrm>
              <a:off x="3174480" y="2428560"/>
              <a:ext cx="1229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1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商业生活区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1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老城区）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五角星 4"/>
            <p:cNvSpPr/>
            <p:nvPr/>
          </p:nvSpPr>
          <p:spPr>
            <a:xfrm>
              <a:off x="3506760" y="2846520"/>
              <a:ext cx="255600" cy="253800"/>
            </a:xfrm>
            <a:custGeom>
              <a:avLst/>
              <a:gdLst/>
              <a:ahLst/>
              <a:rect l="l" t="t" r="r" b="b"/>
              <a:pathLst>
                <a:path w="255605" h="254026">
                  <a:moveTo>
                    <a:pt x="0" y="97029"/>
                  </a:moveTo>
                  <a:lnTo>
                    <a:pt x="97633" y="97030"/>
                  </a:lnTo>
                  <a:lnTo>
                    <a:pt x="127803" y="0"/>
                  </a:lnTo>
                  <a:lnTo>
                    <a:pt x="157972" y="97030"/>
                  </a:lnTo>
                  <a:lnTo>
                    <a:pt x="255605" y="97029"/>
                  </a:lnTo>
                  <a:lnTo>
                    <a:pt x="176618" y="156996"/>
                  </a:lnTo>
                  <a:lnTo>
                    <a:pt x="206789" y="254025"/>
                  </a:lnTo>
                  <a:lnTo>
                    <a:pt x="127803" y="194057"/>
                  </a:lnTo>
                  <a:lnTo>
                    <a:pt x="48816" y="254025"/>
                  </a:lnTo>
                  <a:lnTo>
                    <a:pt x="78987" y="156996"/>
                  </a:lnTo>
                  <a:lnTo>
                    <a:pt x="0" y="970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椭圆 25"/>
            <p:cNvSpPr/>
            <p:nvPr/>
          </p:nvSpPr>
          <p:spPr>
            <a:xfrm>
              <a:off x="2792160" y="3061440"/>
              <a:ext cx="1530000" cy="1530000"/>
            </a:xfrm>
            <a:prstGeom prst="ellipse">
              <a:avLst/>
            </a:prstGeom>
            <a:solidFill>
              <a:srgbClr val="00b0f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椭圆 26"/>
            <p:cNvSpPr/>
            <p:nvPr/>
          </p:nvSpPr>
          <p:spPr>
            <a:xfrm>
              <a:off x="4594320" y="2439720"/>
              <a:ext cx="1083240" cy="1082880"/>
            </a:xfrm>
            <a:prstGeom prst="ellipse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椭圆 27"/>
            <p:cNvSpPr/>
            <p:nvPr/>
          </p:nvSpPr>
          <p:spPr>
            <a:xfrm>
              <a:off x="5202000" y="2922840"/>
              <a:ext cx="1440000" cy="1440000"/>
            </a:xfrm>
            <a:prstGeom prst="ellipse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椭圆 28"/>
            <p:cNvSpPr/>
            <p:nvPr/>
          </p:nvSpPr>
          <p:spPr>
            <a:xfrm>
              <a:off x="4464720" y="1093320"/>
              <a:ext cx="1123920" cy="1123920"/>
            </a:xfrm>
            <a:prstGeom prst="ellipse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椭圆 29"/>
            <p:cNvSpPr/>
            <p:nvPr/>
          </p:nvSpPr>
          <p:spPr>
            <a:xfrm>
              <a:off x="5513400" y="700200"/>
              <a:ext cx="1041840" cy="1041840"/>
            </a:xfrm>
            <a:prstGeom prst="ellipse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泪滴形 8"/>
            <p:cNvSpPr/>
            <p:nvPr/>
          </p:nvSpPr>
          <p:spPr>
            <a:xfrm rot="7954800">
              <a:off x="4045320" y="1973880"/>
              <a:ext cx="141120" cy="139680"/>
            </a:xfrm>
            <a:custGeom>
              <a:avLst/>
              <a:gdLst/>
              <a:ahLst/>
              <a:rect l="l" t="t" r="r" b="b"/>
              <a:pathLst>
                <a:path w="141301" h="139710">
                  <a:moveTo>
                    <a:pt x="0" y="69855"/>
                  </a:moveTo>
                  <a:cubicBezTo>
                    <a:pt x="0" y="31275"/>
                    <a:pt x="31632" y="0"/>
                    <a:pt x="70651" y="0"/>
                  </a:cubicBezTo>
                  <a:cubicBezTo>
                    <a:pt x="111157" y="0"/>
                    <a:pt x="151663" y="-16765"/>
                    <a:pt x="192169" y="-50296"/>
                  </a:cubicBezTo>
                  <a:cubicBezTo>
                    <a:pt x="158257" y="-10245"/>
                    <a:pt x="141301" y="29805"/>
                    <a:pt x="141301" y="69855"/>
                  </a:cubicBezTo>
                  <a:cubicBezTo>
                    <a:pt x="141301" y="108435"/>
                    <a:pt x="109669" y="139710"/>
                    <a:pt x="70650" y="139710"/>
                  </a:cubicBezTo>
                  <a:cubicBezTo>
                    <a:pt x="31631" y="139710"/>
                    <a:pt x="-1" y="108435"/>
                    <a:pt x="-1" y="69855"/>
                  </a:cubicBezTo>
                  <a:lnTo>
                    <a:pt x="0" y="698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泪滴形 30"/>
            <p:cNvSpPr/>
            <p:nvPr/>
          </p:nvSpPr>
          <p:spPr>
            <a:xfrm rot="7954800">
              <a:off x="4260960" y="3571560"/>
              <a:ext cx="141120" cy="141120"/>
            </a:xfrm>
            <a:custGeom>
              <a:avLst/>
              <a:gdLst/>
              <a:ahLst/>
              <a:rect l="l" t="t" r="r" b="b"/>
              <a:pathLst>
                <a:path w="141302" h="141298">
                  <a:moveTo>
                    <a:pt x="0" y="70649"/>
                  </a:moveTo>
                  <a:cubicBezTo>
                    <a:pt x="0" y="31631"/>
                    <a:pt x="31632" y="0"/>
                    <a:pt x="70651" y="0"/>
                  </a:cubicBezTo>
                  <a:cubicBezTo>
                    <a:pt x="111158" y="0"/>
                    <a:pt x="151664" y="-16956"/>
                    <a:pt x="192171" y="-50867"/>
                  </a:cubicBezTo>
                  <a:cubicBezTo>
                    <a:pt x="158258" y="-10362"/>
                    <a:pt x="141302" y="30144"/>
                    <a:pt x="141302" y="70649"/>
                  </a:cubicBezTo>
                  <a:cubicBezTo>
                    <a:pt x="141302" y="109667"/>
                    <a:pt x="109670" y="141298"/>
                    <a:pt x="70651" y="141298"/>
                  </a:cubicBezTo>
                  <a:cubicBezTo>
                    <a:pt x="31632" y="141298"/>
                    <a:pt x="0" y="109667"/>
                    <a:pt x="0" y="706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泪滴形 31"/>
            <p:cNvSpPr/>
            <p:nvPr/>
          </p:nvSpPr>
          <p:spPr>
            <a:xfrm rot="7954800">
              <a:off x="4413240" y="3087360"/>
              <a:ext cx="141120" cy="141120"/>
            </a:xfrm>
            <a:custGeom>
              <a:avLst/>
              <a:gdLst/>
              <a:ahLst/>
              <a:rect l="l" t="t" r="r" b="b"/>
              <a:pathLst>
                <a:path w="141301" h="141298">
                  <a:moveTo>
                    <a:pt x="0" y="70649"/>
                  </a:moveTo>
                  <a:cubicBezTo>
                    <a:pt x="0" y="31631"/>
                    <a:pt x="31632" y="0"/>
                    <a:pt x="70651" y="0"/>
                  </a:cubicBezTo>
                  <a:cubicBezTo>
                    <a:pt x="111157" y="0"/>
                    <a:pt x="151663" y="-16956"/>
                    <a:pt x="192169" y="-50867"/>
                  </a:cubicBezTo>
                  <a:cubicBezTo>
                    <a:pt x="158257" y="-10362"/>
                    <a:pt x="141301" y="30144"/>
                    <a:pt x="141301" y="70649"/>
                  </a:cubicBezTo>
                  <a:cubicBezTo>
                    <a:pt x="141301" y="109667"/>
                    <a:pt x="109669" y="141298"/>
                    <a:pt x="70650" y="141298"/>
                  </a:cubicBezTo>
                  <a:cubicBezTo>
                    <a:pt x="31631" y="141298"/>
                    <a:pt x="-1" y="109667"/>
                    <a:pt x="-1" y="70649"/>
                  </a:cubicBezTo>
                  <a:lnTo>
                    <a:pt x="0" y="706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泪滴形 32"/>
            <p:cNvSpPr/>
            <p:nvPr/>
          </p:nvSpPr>
          <p:spPr>
            <a:xfrm rot="7954800">
              <a:off x="3463920" y="4292280"/>
              <a:ext cx="141120" cy="141120"/>
            </a:xfrm>
            <a:custGeom>
              <a:avLst/>
              <a:gdLst/>
              <a:ahLst/>
              <a:rect l="l" t="t" r="r" b="b"/>
              <a:pathLst>
                <a:path w="141302" h="141298">
                  <a:moveTo>
                    <a:pt x="0" y="70649"/>
                  </a:moveTo>
                  <a:cubicBezTo>
                    <a:pt x="0" y="31631"/>
                    <a:pt x="31632" y="0"/>
                    <a:pt x="70651" y="0"/>
                  </a:cubicBezTo>
                  <a:cubicBezTo>
                    <a:pt x="111158" y="0"/>
                    <a:pt x="151664" y="-16956"/>
                    <a:pt x="192171" y="-50867"/>
                  </a:cubicBezTo>
                  <a:cubicBezTo>
                    <a:pt x="158258" y="-10362"/>
                    <a:pt x="141302" y="30144"/>
                    <a:pt x="141302" y="70649"/>
                  </a:cubicBezTo>
                  <a:cubicBezTo>
                    <a:pt x="141302" y="109667"/>
                    <a:pt x="109670" y="141298"/>
                    <a:pt x="70651" y="141298"/>
                  </a:cubicBezTo>
                  <a:cubicBezTo>
                    <a:pt x="31632" y="141298"/>
                    <a:pt x="0" y="109667"/>
                    <a:pt x="0" y="706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泪滴形 33"/>
            <p:cNvSpPr/>
            <p:nvPr/>
          </p:nvSpPr>
          <p:spPr>
            <a:xfrm rot="7954800">
              <a:off x="4739400" y="2648520"/>
              <a:ext cx="141120" cy="139680"/>
            </a:xfrm>
            <a:custGeom>
              <a:avLst/>
              <a:gdLst/>
              <a:ahLst/>
              <a:rect l="l" t="t" r="r" b="b"/>
              <a:pathLst>
                <a:path w="141302" h="139710">
                  <a:moveTo>
                    <a:pt x="0" y="69855"/>
                  </a:moveTo>
                  <a:cubicBezTo>
                    <a:pt x="0" y="31275"/>
                    <a:pt x="31632" y="0"/>
                    <a:pt x="70651" y="0"/>
                  </a:cubicBezTo>
                  <a:cubicBezTo>
                    <a:pt x="111158" y="0"/>
                    <a:pt x="151664" y="-16765"/>
                    <a:pt x="192171" y="-50296"/>
                  </a:cubicBezTo>
                  <a:cubicBezTo>
                    <a:pt x="158258" y="-10245"/>
                    <a:pt x="141302" y="29805"/>
                    <a:pt x="141302" y="69855"/>
                  </a:cubicBezTo>
                  <a:cubicBezTo>
                    <a:pt x="141302" y="108435"/>
                    <a:pt x="109670" y="139710"/>
                    <a:pt x="70651" y="139710"/>
                  </a:cubicBezTo>
                  <a:cubicBezTo>
                    <a:pt x="31632" y="139710"/>
                    <a:pt x="0" y="108435"/>
                    <a:pt x="0" y="698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9"/>
          <p:cNvSpPr/>
          <p:nvPr/>
        </p:nvSpPr>
        <p:spPr>
          <a:xfrm>
            <a:off x="-23760" y="2860560"/>
            <a:ext cx="9167760" cy="1079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需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接连接符 3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6"/>
          <p:cNvSpPr/>
          <p:nvPr/>
        </p:nvSpPr>
        <p:spPr>
          <a:xfrm>
            <a:off x="133704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品牌愿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1"/>
          <p:cNvSpPr/>
          <p:nvPr/>
        </p:nvSpPr>
        <p:spPr>
          <a:xfrm>
            <a:off x="309600" y="3024360"/>
            <a:ext cx="83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兰亭纤黑_GBK"/>
                <a:ea typeface="方正兰亭纤黑_GBK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方正兰亭纤黑_GBK"/>
                <a:ea typeface="方正兰亭纤黑_GBK"/>
              </a:rPr>
              <a:t>打造“不走寻常路”的品牌风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700200" y="1203480"/>
            <a:ext cx="850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    </a:t>
            </a:r>
            <a:r>
              <a:rPr b="0" lang="zh-CN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我们需要的是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什么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531720" y="3506760"/>
            <a:ext cx="5985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684360" y="3003480"/>
            <a:ext cx="42703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6"/>
          <p:cNvSpPr/>
          <p:nvPr/>
        </p:nvSpPr>
        <p:spPr>
          <a:xfrm>
            <a:off x="1147680" y="257040"/>
            <a:ext cx="41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推广重心在何方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2"/>
          <p:cNvSpPr/>
          <p:nvPr/>
        </p:nvSpPr>
        <p:spPr>
          <a:xfrm>
            <a:off x="393840" y="1919160"/>
            <a:ext cx="439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感染力、号召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崭新推广语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触动人心的感性表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40404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客户思维的导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3"/>
          <p:cNvSpPr/>
          <p:nvPr/>
        </p:nvSpPr>
        <p:spPr>
          <a:xfrm>
            <a:off x="1370880" y="971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推广重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23"/>
          <p:cNvSpPr/>
          <p:nvPr/>
        </p:nvSpPr>
        <p:spPr>
          <a:xfrm>
            <a:off x="3276720" y="1203480"/>
            <a:ext cx="58608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25"/>
          <p:cNvSpPr/>
          <p:nvPr/>
        </p:nvSpPr>
        <p:spPr>
          <a:xfrm>
            <a:off x="6480" y="1203480"/>
            <a:ext cx="7920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组合 1"/>
          <p:cNvGrpSpPr/>
          <p:nvPr/>
        </p:nvGrpSpPr>
        <p:grpSpPr>
          <a:xfrm>
            <a:off x="5219640" y="2066760"/>
            <a:ext cx="4125960" cy="1930680"/>
            <a:chOff x="5219640" y="2066760"/>
            <a:chExt cx="4125960" cy="1930680"/>
          </a:xfrm>
        </p:grpSpPr>
        <p:grpSp>
          <p:nvGrpSpPr>
            <p:cNvPr id="84" name="组合 32"/>
            <p:cNvGrpSpPr/>
            <p:nvPr/>
          </p:nvGrpSpPr>
          <p:grpSpPr>
            <a:xfrm>
              <a:off x="5724360" y="2153160"/>
              <a:ext cx="3621240" cy="1676880"/>
              <a:chOff x="5724360" y="2153160"/>
              <a:chExt cx="3621240" cy="1676880"/>
            </a:xfrm>
          </p:grpSpPr>
          <p:sp>
            <p:nvSpPr>
              <p:cNvPr id="85" name="剪去单角的矩形 29"/>
              <p:cNvSpPr/>
              <p:nvPr/>
            </p:nvSpPr>
            <p:spPr>
              <a:xfrm>
                <a:off x="5724360" y="2153160"/>
                <a:ext cx="3240360" cy="1676880"/>
              </a:xfrm>
              <a:custGeom>
                <a:avLst/>
                <a:gdLst/>
                <a:ahLst/>
                <a:rect l="l" t="t" r="r" b="b"/>
                <a:pathLst>
                  <a:path w="3241107" h="1677083">
                    <a:moveTo>
                      <a:pt x="0" y="0"/>
                    </a:moveTo>
                    <a:lnTo>
                      <a:pt x="2758375" y="0"/>
                    </a:lnTo>
                    <a:lnTo>
                      <a:pt x="3241107" y="482732"/>
                    </a:lnTo>
                    <a:lnTo>
                      <a:pt x="3241107" y="1677083"/>
                    </a:lnTo>
                    <a:lnTo>
                      <a:pt x="0" y="167708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矩形 4"/>
              <p:cNvSpPr/>
              <p:nvPr/>
            </p:nvSpPr>
            <p:spPr>
              <a:xfrm>
                <a:off x="5925600" y="2329200"/>
                <a:ext cx="34200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zh-CN" sz="4000" spc="-1" strike="noStrike">
                    <a:solidFill>
                      <a:srgbClr val="ffffff"/>
                    </a:solidFill>
                    <a:latin typeface="方正兰亭纤黑_GBK"/>
                    <a:ea typeface="方正兰亭纤黑_GBK"/>
                  </a:rPr>
                  <a:t>不走寻常路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方正兰亭纤黑_GBK"/>
                    <a:ea typeface="方正兰亭纤黑_GBK"/>
                  </a:rPr>
                  <a:t>  </a:t>
                </a:r>
                <a:r>
                  <a:rPr b="0" lang="zh-CN" sz="40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品牌风格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" name="直接连接符 26"/>
            <p:cNvSpPr/>
            <p:nvPr/>
          </p:nvSpPr>
          <p:spPr>
            <a:xfrm>
              <a:off x="5219640" y="2066760"/>
              <a:ext cx="0" cy="19306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6"/>
          <p:cNvSpPr/>
          <p:nvPr/>
        </p:nvSpPr>
        <p:spPr>
          <a:xfrm>
            <a:off x="1147680" y="257040"/>
            <a:ext cx="41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推广重心在何方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1370880" y="971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推广重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23"/>
          <p:cNvSpPr/>
          <p:nvPr/>
        </p:nvSpPr>
        <p:spPr>
          <a:xfrm>
            <a:off x="3276720" y="1203480"/>
            <a:ext cx="58608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25"/>
          <p:cNvSpPr/>
          <p:nvPr/>
        </p:nvSpPr>
        <p:spPr>
          <a:xfrm>
            <a:off x="6480" y="1203480"/>
            <a:ext cx="79200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5" descr="http://img.ea3w.com/165_500x375/164103.jpg"/>
          <p:cNvPicPr/>
          <p:nvPr/>
        </p:nvPicPr>
        <p:blipFill>
          <a:blip r:embed="rId1"/>
          <a:stretch/>
        </p:blipFill>
        <p:spPr>
          <a:xfrm>
            <a:off x="6084720" y="2021040"/>
            <a:ext cx="2533680" cy="190008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pic>
        <p:nvPicPr>
          <p:cNvPr id="96" name="Picture 17" descr="http://i1.cvimage.cn/c/thump/2010/06/24/9b2f8af42363e4df466a9eb69e4fc811_3__337_100.jpg"/>
          <p:cNvPicPr/>
          <p:nvPr/>
        </p:nvPicPr>
        <p:blipFill>
          <a:blip r:embed="rId2"/>
          <a:srcRect l="-729" t="0" r="740" b="22086"/>
          <a:stretch/>
        </p:blipFill>
        <p:spPr>
          <a:xfrm>
            <a:off x="252360" y="1995480"/>
            <a:ext cx="2340000" cy="193680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pic>
        <p:nvPicPr>
          <p:cNvPr id="97" name="Picture 2" descr="http://www.cuec.net.cn/uploadfiles/201022714142594878.jpg"/>
          <p:cNvPicPr/>
          <p:nvPr/>
        </p:nvPicPr>
        <p:blipFill>
          <a:blip r:embed="rId3"/>
          <a:stretch/>
        </p:blipFill>
        <p:spPr>
          <a:xfrm>
            <a:off x="3059280" y="2009880"/>
            <a:ext cx="2535120" cy="1922400"/>
          </a:xfrm>
          <a:prstGeom prst="rect">
            <a:avLst/>
          </a:prstGeom>
          <a:ln w="25560">
            <a:solidFill>
              <a:srgbClr val="c00000"/>
            </a:solidFill>
            <a:miter/>
          </a:ln>
        </p:spPr>
      </p:pic>
      <p:pic>
        <p:nvPicPr>
          <p:cNvPr id="98" name="Picture 7" descr=""/>
          <p:cNvPicPr/>
          <p:nvPr/>
        </p:nvPicPr>
        <p:blipFill>
          <a:blip r:embed="rId4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2"/>
          <p:cNvSpPr/>
          <p:nvPr/>
        </p:nvSpPr>
        <p:spPr>
          <a:xfrm>
            <a:off x="-36360" y="1695600"/>
            <a:ext cx="5329080" cy="215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品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直接连接符 3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6"/>
          <p:cNvSpPr/>
          <p:nvPr/>
        </p:nvSpPr>
        <p:spPr>
          <a:xfrm>
            <a:off x="1954080" y="25704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如何打造“不走寻常路”的品牌风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539640" y="949320"/>
            <a:ext cx="850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How</a:t>
            </a:r>
            <a:r>
              <a:rPr b="0" lang="zh-CN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 </a:t>
            </a:r>
            <a:r>
              <a:rPr b="0" lang="en-US" sz="48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to do i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5619240" y="48420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15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6465960" y="1695600"/>
            <a:ext cx="271440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6"/>
          <p:cNvGrpSpPr/>
          <p:nvPr/>
        </p:nvGrpSpPr>
        <p:grpSpPr>
          <a:xfrm>
            <a:off x="-11160" y="2054160"/>
            <a:ext cx="8753400" cy="3240000"/>
            <a:chOff x="-11160" y="2054160"/>
            <a:chExt cx="8753400" cy="3240000"/>
          </a:xfrm>
        </p:grpSpPr>
        <p:sp>
          <p:nvSpPr>
            <p:cNvPr id="107" name="矩形 7"/>
            <p:cNvSpPr/>
            <p:nvPr/>
          </p:nvSpPr>
          <p:spPr>
            <a:xfrm>
              <a:off x="393120" y="3456000"/>
              <a:ext cx="445968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矩形 8"/>
            <p:cNvSpPr/>
            <p:nvPr/>
          </p:nvSpPr>
          <p:spPr>
            <a:xfrm>
              <a:off x="506880" y="3149640"/>
              <a:ext cx="3182040" cy="74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" name="组合 1"/>
            <p:cNvGrpSpPr/>
            <p:nvPr/>
          </p:nvGrpSpPr>
          <p:grpSpPr>
            <a:xfrm>
              <a:off x="-11160" y="2440080"/>
              <a:ext cx="5665320" cy="2653560"/>
              <a:chOff x="-11160" y="2440080"/>
              <a:chExt cx="5665320" cy="2653560"/>
            </a:xfrm>
          </p:grpSpPr>
          <p:sp>
            <p:nvSpPr>
              <p:cNvPr id="110" name="矩形 15"/>
              <p:cNvSpPr/>
              <p:nvPr/>
            </p:nvSpPr>
            <p:spPr>
              <a:xfrm>
                <a:off x="-11160" y="2523960"/>
                <a:ext cx="5469120" cy="1518840"/>
              </a:xfrm>
              <a:custGeom>
                <a:avLst/>
                <a:gdLst/>
                <a:ahLst/>
                <a:rect l="l" t="t" r="r" b="b"/>
                <a:pathLst>
                  <a:path w="7339012" h="2267556">
                    <a:moveTo>
                      <a:pt x="0" y="12700"/>
                    </a:moveTo>
                    <a:lnTo>
                      <a:pt x="5967412" y="0"/>
                    </a:lnTo>
                    <a:lnTo>
                      <a:pt x="7339012" y="2267556"/>
                    </a:lnTo>
                    <a:lnTo>
                      <a:pt x="0" y="2267556"/>
                    </a:lnTo>
                    <a:lnTo>
                      <a:pt x="0" y="1270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矩形 10"/>
              <p:cNvSpPr/>
              <p:nvPr/>
            </p:nvSpPr>
            <p:spPr>
              <a:xfrm>
                <a:off x="77400" y="2440080"/>
                <a:ext cx="5576760" cy="26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一个品牌核心价值（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VELUE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     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一句核心传播语（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SLOGEN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）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	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        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一个具延展性的画面（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IMAGE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）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2" name="矩形 16" descr=""/>
            <p:cNvPicPr/>
            <p:nvPr/>
          </p:nvPicPr>
          <p:blipFill>
            <a:blip r:embed="rId1"/>
            <a:stretch/>
          </p:blipFill>
          <p:spPr>
            <a:xfrm>
              <a:off x="4590000" y="2054160"/>
              <a:ext cx="4152240" cy="324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1"/>
          <p:cNvSpPr/>
          <p:nvPr/>
        </p:nvSpPr>
        <p:spPr>
          <a:xfrm>
            <a:off x="413280" y="257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接连接符 3"/>
          <p:cNvSpPr/>
          <p:nvPr/>
        </p:nvSpPr>
        <p:spPr>
          <a:xfrm>
            <a:off x="147636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6"/>
          <p:cNvSpPr/>
          <p:nvPr/>
        </p:nvSpPr>
        <p:spPr>
          <a:xfrm>
            <a:off x="2121480" y="2570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品牌核心价值在哪里 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组合 14"/>
          <p:cNvGrpSpPr/>
          <p:nvPr/>
        </p:nvGrpSpPr>
        <p:grpSpPr>
          <a:xfrm>
            <a:off x="1212840" y="874800"/>
            <a:ext cx="1359000" cy="1301760"/>
            <a:chOff x="1212840" y="874800"/>
            <a:chExt cx="1359000" cy="1301760"/>
          </a:xfrm>
        </p:grpSpPr>
        <p:sp>
          <p:nvSpPr>
            <p:cNvPr id="118" name="椭圆 13"/>
            <p:cNvSpPr/>
            <p:nvPr/>
          </p:nvSpPr>
          <p:spPr>
            <a:xfrm>
              <a:off x="1232640" y="874800"/>
              <a:ext cx="1301760" cy="13017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矩形 9"/>
            <p:cNvSpPr/>
            <p:nvPr/>
          </p:nvSpPr>
          <p:spPr>
            <a:xfrm>
              <a:off x="1212840" y="1090080"/>
              <a:ext cx="1359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高度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差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组合 2047"/>
          <p:cNvGrpSpPr/>
          <p:nvPr/>
        </p:nvGrpSpPr>
        <p:grpSpPr>
          <a:xfrm>
            <a:off x="4834080" y="871560"/>
            <a:ext cx="1301760" cy="1300320"/>
            <a:chOff x="4834080" y="871560"/>
            <a:chExt cx="1301760" cy="1300320"/>
          </a:xfrm>
        </p:grpSpPr>
        <p:sp>
          <p:nvSpPr>
            <p:cNvPr id="121" name="椭圆 27"/>
            <p:cNvSpPr/>
            <p:nvPr/>
          </p:nvSpPr>
          <p:spPr>
            <a:xfrm>
              <a:off x="4834080" y="871560"/>
              <a:ext cx="1301760" cy="130032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6"/>
            <p:cNvSpPr/>
            <p:nvPr/>
          </p:nvSpPr>
          <p:spPr>
            <a:xfrm>
              <a:off x="5019480" y="1077480"/>
              <a:ext cx="7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广阔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包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组合 15"/>
          <p:cNvGrpSpPr/>
          <p:nvPr/>
        </p:nvGrpSpPr>
        <p:grpSpPr>
          <a:xfrm>
            <a:off x="6597720" y="900000"/>
            <a:ext cx="1301760" cy="1301760"/>
            <a:chOff x="6597720" y="900000"/>
            <a:chExt cx="1301760" cy="1301760"/>
          </a:xfrm>
        </p:grpSpPr>
        <p:sp>
          <p:nvSpPr>
            <p:cNvPr id="124" name="椭圆 30"/>
            <p:cNvSpPr/>
            <p:nvPr/>
          </p:nvSpPr>
          <p:spPr>
            <a:xfrm>
              <a:off x="6597720" y="900000"/>
              <a:ext cx="1301760" cy="13017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矩形 7"/>
            <p:cNvSpPr/>
            <p:nvPr/>
          </p:nvSpPr>
          <p:spPr>
            <a:xfrm>
              <a:off x="6786000" y="1084680"/>
              <a:ext cx="7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强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感染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组合 2048"/>
          <p:cNvGrpSpPr/>
          <p:nvPr/>
        </p:nvGrpSpPr>
        <p:grpSpPr>
          <a:xfrm>
            <a:off x="3019320" y="868320"/>
            <a:ext cx="1301760" cy="1301760"/>
            <a:chOff x="3019320" y="868320"/>
            <a:chExt cx="1301760" cy="1301760"/>
          </a:xfrm>
        </p:grpSpPr>
        <p:sp>
          <p:nvSpPr>
            <p:cNvPr id="127" name="椭圆 28"/>
            <p:cNvSpPr/>
            <p:nvPr/>
          </p:nvSpPr>
          <p:spPr>
            <a:xfrm>
              <a:off x="3019320" y="868320"/>
              <a:ext cx="1301760" cy="13017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矩形 5"/>
            <p:cNvSpPr/>
            <p:nvPr/>
          </p:nvSpPr>
          <p:spPr>
            <a:xfrm>
              <a:off x="3228480" y="1085400"/>
              <a:ext cx="7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产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 </a:t>
              </a:r>
              <a:r>
                <a:rPr b="0" lang="zh-CN" sz="2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匹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空心弧 2049"/>
          <p:cNvGrpSpPr/>
          <p:nvPr/>
        </p:nvGrpSpPr>
        <p:grpSpPr>
          <a:xfrm>
            <a:off x="2859120" y="2955960"/>
            <a:ext cx="3413160" cy="1744560"/>
            <a:chOff x="2859120" y="2955960"/>
            <a:chExt cx="3413160" cy="1744560"/>
          </a:xfrm>
        </p:grpSpPr>
        <p:pic>
          <p:nvPicPr>
            <p:cNvPr id="130" name="空心弧 2049" descr=""/>
            <p:cNvPicPr/>
            <p:nvPr/>
          </p:nvPicPr>
          <p:blipFill>
            <a:blip r:embed="rId1"/>
            <a:stretch/>
          </p:blipFill>
          <p:spPr>
            <a:xfrm>
              <a:off x="2859120" y="2955960"/>
              <a:ext cx="341316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886120" y="2989440"/>
              <a:ext cx="335592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组合 2055"/>
          <p:cNvGrpSpPr/>
          <p:nvPr/>
        </p:nvGrpSpPr>
        <p:grpSpPr>
          <a:xfrm>
            <a:off x="2771640" y="3922560"/>
            <a:ext cx="449280" cy="449280"/>
            <a:chOff x="2771640" y="3922560"/>
            <a:chExt cx="449280" cy="449280"/>
          </a:xfrm>
        </p:grpSpPr>
        <p:grpSp>
          <p:nvGrpSpPr>
            <p:cNvPr id="133" name="组合 2053"/>
            <p:cNvGrpSpPr/>
            <p:nvPr/>
          </p:nvGrpSpPr>
          <p:grpSpPr>
            <a:xfrm>
              <a:off x="2771640" y="3922560"/>
              <a:ext cx="449280" cy="449280"/>
              <a:chOff x="2771640" y="3922560"/>
              <a:chExt cx="449280" cy="449280"/>
            </a:xfrm>
          </p:grpSpPr>
          <p:sp>
            <p:nvSpPr>
              <p:cNvPr id="134" name="椭圆 2052"/>
              <p:cNvSpPr/>
              <p:nvPr/>
            </p:nvSpPr>
            <p:spPr>
              <a:xfrm>
                <a:off x="2784960" y="3944880"/>
                <a:ext cx="422280" cy="4222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同心圆 2051"/>
              <p:cNvSpPr/>
              <p:nvPr/>
            </p:nvSpPr>
            <p:spPr>
              <a:xfrm>
                <a:off x="2771640" y="392256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540060" h="540060">
                    <a:moveTo>
                      <a:pt x="0" y="270030"/>
                    </a:moveTo>
                    <a:cubicBezTo>
                      <a:pt x="0" y="120897"/>
                      <a:pt x="120897" y="0"/>
                      <a:pt x="270030" y="0"/>
                    </a:cubicBezTo>
                    <a:cubicBezTo>
                      <a:pt x="419163" y="0"/>
                      <a:pt x="540060" y="120897"/>
                      <a:pt x="540060" y="270030"/>
                    </a:cubicBezTo>
                    <a:cubicBezTo>
                      <a:pt x="540060" y="419163"/>
                      <a:pt x="419163" y="540060"/>
                      <a:pt x="270030" y="540060"/>
                    </a:cubicBezTo>
                    <a:cubicBezTo>
                      <a:pt x="120897" y="540060"/>
                      <a:pt x="0" y="419163"/>
                      <a:pt x="0" y="270030"/>
                    </a:cubicBezTo>
                    <a:close/>
                    <a:moveTo>
                      <a:pt x="47455" y="270030"/>
                    </a:moveTo>
                    <a:cubicBezTo>
                      <a:pt x="47455" y="392955"/>
                      <a:pt x="147105" y="492605"/>
                      <a:pt x="270030" y="492605"/>
                    </a:cubicBezTo>
                    <a:cubicBezTo>
                      <a:pt x="392955" y="492605"/>
                      <a:pt x="492605" y="392955"/>
                      <a:pt x="492605" y="270030"/>
                    </a:cubicBezTo>
                    <a:cubicBezTo>
                      <a:pt x="492605" y="147105"/>
                      <a:pt x="392955" y="47455"/>
                      <a:pt x="270030" y="47455"/>
                    </a:cubicBezTo>
                    <a:cubicBezTo>
                      <a:pt x="147105" y="47455"/>
                      <a:pt x="47455" y="147105"/>
                      <a:pt x="47455" y="2700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TextBox 2054"/>
            <p:cNvSpPr/>
            <p:nvPr/>
          </p:nvSpPr>
          <p:spPr>
            <a:xfrm>
              <a:off x="2820960" y="3981600"/>
              <a:ext cx="27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组合 41"/>
          <p:cNvGrpSpPr/>
          <p:nvPr/>
        </p:nvGrpSpPr>
        <p:grpSpPr>
          <a:xfrm>
            <a:off x="3736800" y="2903400"/>
            <a:ext cx="449280" cy="451080"/>
            <a:chOff x="3736800" y="2903400"/>
            <a:chExt cx="449280" cy="451080"/>
          </a:xfrm>
        </p:grpSpPr>
        <p:grpSp>
          <p:nvGrpSpPr>
            <p:cNvPr id="138" name="组合 42"/>
            <p:cNvGrpSpPr/>
            <p:nvPr/>
          </p:nvGrpSpPr>
          <p:grpSpPr>
            <a:xfrm>
              <a:off x="3736800" y="2903400"/>
              <a:ext cx="449280" cy="451080"/>
              <a:chOff x="3736800" y="2903400"/>
              <a:chExt cx="449280" cy="451080"/>
            </a:xfrm>
          </p:grpSpPr>
          <p:sp>
            <p:nvSpPr>
              <p:cNvPr id="139" name="椭圆 44"/>
              <p:cNvSpPr/>
              <p:nvPr/>
            </p:nvSpPr>
            <p:spPr>
              <a:xfrm>
                <a:off x="3750120" y="2921040"/>
                <a:ext cx="422280" cy="4240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同心圆 45"/>
              <p:cNvSpPr/>
              <p:nvPr/>
            </p:nvSpPr>
            <p:spPr>
              <a:xfrm>
                <a:off x="3736800" y="2903400"/>
                <a:ext cx="449280" cy="451080"/>
              </a:xfrm>
              <a:custGeom>
                <a:avLst/>
                <a:gdLst/>
                <a:ahLst/>
                <a:rect l="l" t="t" r="r" b="b"/>
                <a:pathLst>
                  <a:path w="540060" h="540060">
                    <a:moveTo>
                      <a:pt x="0" y="270030"/>
                    </a:moveTo>
                    <a:cubicBezTo>
                      <a:pt x="0" y="120897"/>
                      <a:pt x="120897" y="0"/>
                      <a:pt x="270030" y="0"/>
                    </a:cubicBezTo>
                    <a:cubicBezTo>
                      <a:pt x="419163" y="0"/>
                      <a:pt x="540060" y="120897"/>
                      <a:pt x="540060" y="270030"/>
                    </a:cubicBezTo>
                    <a:cubicBezTo>
                      <a:pt x="540060" y="419163"/>
                      <a:pt x="419163" y="540060"/>
                      <a:pt x="270030" y="540060"/>
                    </a:cubicBezTo>
                    <a:cubicBezTo>
                      <a:pt x="120897" y="540060"/>
                      <a:pt x="0" y="419163"/>
                      <a:pt x="0" y="270030"/>
                    </a:cubicBezTo>
                    <a:close/>
                    <a:moveTo>
                      <a:pt x="47455" y="270030"/>
                    </a:moveTo>
                    <a:cubicBezTo>
                      <a:pt x="47455" y="392955"/>
                      <a:pt x="147105" y="492605"/>
                      <a:pt x="270030" y="492605"/>
                    </a:cubicBezTo>
                    <a:cubicBezTo>
                      <a:pt x="392955" y="492605"/>
                      <a:pt x="492605" y="392955"/>
                      <a:pt x="492605" y="270030"/>
                    </a:cubicBezTo>
                    <a:cubicBezTo>
                      <a:pt x="492605" y="147105"/>
                      <a:pt x="392955" y="47455"/>
                      <a:pt x="270030" y="47455"/>
                    </a:cubicBezTo>
                    <a:cubicBezTo>
                      <a:pt x="147105" y="47455"/>
                      <a:pt x="47455" y="147105"/>
                      <a:pt x="47455" y="2700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1" name="TextBox 43"/>
            <p:cNvSpPr/>
            <p:nvPr/>
          </p:nvSpPr>
          <p:spPr>
            <a:xfrm>
              <a:off x="3786120" y="2962800"/>
              <a:ext cx="27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组合 46"/>
          <p:cNvGrpSpPr/>
          <p:nvPr/>
        </p:nvGrpSpPr>
        <p:grpSpPr>
          <a:xfrm>
            <a:off x="5000760" y="2903400"/>
            <a:ext cx="450720" cy="451080"/>
            <a:chOff x="5000760" y="2903400"/>
            <a:chExt cx="450720" cy="451080"/>
          </a:xfrm>
        </p:grpSpPr>
        <p:grpSp>
          <p:nvGrpSpPr>
            <p:cNvPr id="143" name="组合 47"/>
            <p:cNvGrpSpPr/>
            <p:nvPr/>
          </p:nvGrpSpPr>
          <p:grpSpPr>
            <a:xfrm>
              <a:off x="5000760" y="2903400"/>
              <a:ext cx="450720" cy="451080"/>
              <a:chOff x="5000760" y="2903400"/>
              <a:chExt cx="450720" cy="451080"/>
            </a:xfrm>
          </p:grpSpPr>
          <p:sp>
            <p:nvSpPr>
              <p:cNvPr id="144" name="椭圆 49"/>
              <p:cNvSpPr/>
              <p:nvPr/>
            </p:nvSpPr>
            <p:spPr>
              <a:xfrm>
                <a:off x="5014080" y="2921040"/>
                <a:ext cx="423720" cy="4240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同心圆 50"/>
              <p:cNvSpPr/>
              <p:nvPr/>
            </p:nvSpPr>
            <p:spPr>
              <a:xfrm>
                <a:off x="5000760" y="2903400"/>
                <a:ext cx="450720" cy="451080"/>
              </a:xfrm>
              <a:custGeom>
                <a:avLst/>
                <a:gdLst/>
                <a:ahLst/>
                <a:rect l="l" t="t" r="r" b="b"/>
                <a:pathLst>
                  <a:path w="540060" h="540060">
                    <a:moveTo>
                      <a:pt x="0" y="270030"/>
                    </a:moveTo>
                    <a:cubicBezTo>
                      <a:pt x="0" y="120897"/>
                      <a:pt x="120897" y="0"/>
                      <a:pt x="270030" y="0"/>
                    </a:cubicBezTo>
                    <a:cubicBezTo>
                      <a:pt x="419163" y="0"/>
                      <a:pt x="540060" y="120897"/>
                      <a:pt x="540060" y="270030"/>
                    </a:cubicBezTo>
                    <a:cubicBezTo>
                      <a:pt x="540060" y="419163"/>
                      <a:pt x="419163" y="540060"/>
                      <a:pt x="270030" y="540060"/>
                    </a:cubicBezTo>
                    <a:cubicBezTo>
                      <a:pt x="120897" y="540060"/>
                      <a:pt x="0" y="419163"/>
                      <a:pt x="0" y="270030"/>
                    </a:cubicBezTo>
                    <a:close/>
                    <a:moveTo>
                      <a:pt x="47455" y="270030"/>
                    </a:moveTo>
                    <a:cubicBezTo>
                      <a:pt x="47455" y="392955"/>
                      <a:pt x="147105" y="492605"/>
                      <a:pt x="270030" y="492605"/>
                    </a:cubicBezTo>
                    <a:cubicBezTo>
                      <a:pt x="392955" y="492605"/>
                      <a:pt x="492605" y="392955"/>
                      <a:pt x="492605" y="270030"/>
                    </a:cubicBezTo>
                    <a:cubicBezTo>
                      <a:pt x="492605" y="147105"/>
                      <a:pt x="392955" y="47455"/>
                      <a:pt x="270030" y="47455"/>
                    </a:cubicBezTo>
                    <a:cubicBezTo>
                      <a:pt x="147105" y="47455"/>
                      <a:pt x="47455" y="147105"/>
                      <a:pt x="47455" y="2700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6" name="TextBox 48"/>
            <p:cNvSpPr/>
            <p:nvPr/>
          </p:nvSpPr>
          <p:spPr>
            <a:xfrm>
              <a:off x="5039280" y="2962800"/>
              <a:ext cx="27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51"/>
          <p:cNvGrpSpPr/>
          <p:nvPr/>
        </p:nvGrpSpPr>
        <p:grpSpPr>
          <a:xfrm>
            <a:off x="5878440" y="3878280"/>
            <a:ext cx="451080" cy="450720"/>
            <a:chOff x="5878440" y="3878280"/>
            <a:chExt cx="451080" cy="450720"/>
          </a:xfrm>
        </p:grpSpPr>
        <p:grpSp>
          <p:nvGrpSpPr>
            <p:cNvPr id="148" name="组合 52"/>
            <p:cNvGrpSpPr/>
            <p:nvPr/>
          </p:nvGrpSpPr>
          <p:grpSpPr>
            <a:xfrm>
              <a:off x="5878440" y="3878280"/>
              <a:ext cx="451080" cy="450720"/>
              <a:chOff x="5878440" y="3878280"/>
              <a:chExt cx="451080" cy="450720"/>
            </a:xfrm>
          </p:grpSpPr>
          <p:sp>
            <p:nvSpPr>
              <p:cNvPr id="149" name="椭圆 54"/>
              <p:cNvSpPr/>
              <p:nvPr/>
            </p:nvSpPr>
            <p:spPr>
              <a:xfrm>
                <a:off x="5885640" y="3894480"/>
                <a:ext cx="424080" cy="42372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同心圆 55"/>
              <p:cNvSpPr/>
              <p:nvPr/>
            </p:nvSpPr>
            <p:spPr>
              <a:xfrm>
                <a:off x="5878440" y="3878280"/>
                <a:ext cx="451080" cy="450720"/>
              </a:xfrm>
              <a:custGeom>
                <a:avLst/>
                <a:gdLst/>
                <a:ahLst/>
                <a:rect l="l" t="t" r="r" b="b"/>
                <a:pathLst>
                  <a:path w="540060" h="540060">
                    <a:moveTo>
                      <a:pt x="0" y="270030"/>
                    </a:moveTo>
                    <a:cubicBezTo>
                      <a:pt x="0" y="120897"/>
                      <a:pt x="120897" y="0"/>
                      <a:pt x="270030" y="0"/>
                    </a:cubicBezTo>
                    <a:cubicBezTo>
                      <a:pt x="419163" y="0"/>
                      <a:pt x="540060" y="120897"/>
                      <a:pt x="540060" y="270030"/>
                    </a:cubicBezTo>
                    <a:cubicBezTo>
                      <a:pt x="540060" y="419163"/>
                      <a:pt x="419163" y="540060"/>
                      <a:pt x="270030" y="540060"/>
                    </a:cubicBezTo>
                    <a:cubicBezTo>
                      <a:pt x="120897" y="540060"/>
                      <a:pt x="0" y="419163"/>
                      <a:pt x="0" y="270030"/>
                    </a:cubicBezTo>
                    <a:close/>
                    <a:moveTo>
                      <a:pt x="47455" y="270030"/>
                    </a:moveTo>
                    <a:cubicBezTo>
                      <a:pt x="47455" y="392955"/>
                      <a:pt x="147105" y="492605"/>
                      <a:pt x="270030" y="492605"/>
                    </a:cubicBezTo>
                    <a:cubicBezTo>
                      <a:pt x="392955" y="492605"/>
                      <a:pt x="492605" y="392955"/>
                      <a:pt x="492605" y="270030"/>
                    </a:cubicBezTo>
                    <a:cubicBezTo>
                      <a:pt x="492605" y="147105"/>
                      <a:pt x="392955" y="47455"/>
                      <a:pt x="270030" y="47455"/>
                    </a:cubicBezTo>
                    <a:cubicBezTo>
                      <a:pt x="147105" y="47455"/>
                      <a:pt x="47455" y="147105"/>
                      <a:pt x="47455" y="2700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1" name="TextBox 53"/>
            <p:cNvSpPr/>
            <p:nvPr/>
          </p:nvSpPr>
          <p:spPr>
            <a:xfrm>
              <a:off x="5916960" y="3937680"/>
              <a:ext cx="27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特黑_GBK"/>
                  <a:ea typeface="方正兰亭特黑_GBK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直接连接符 2058"/>
          <p:cNvSpPr/>
          <p:nvPr/>
        </p:nvSpPr>
        <p:spPr>
          <a:xfrm>
            <a:off x="1874880" y="2301840"/>
            <a:ext cx="0" cy="10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直接连接符 60"/>
          <p:cNvSpPr/>
          <p:nvPr/>
        </p:nvSpPr>
        <p:spPr>
          <a:xfrm>
            <a:off x="3699000" y="2293920"/>
            <a:ext cx="0" cy="34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接连接符 64"/>
          <p:cNvSpPr/>
          <p:nvPr/>
        </p:nvSpPr>
        <p:spPr>
          <a:xfrm>
            <a:off x="5477040" y="229392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直接连接符 66"/>
          <p:cNvSpPr/>
          <p:nvPr/>
        </p:nvSpPr>
        <p:spPr>
          <a:xfrm>
            <a:off x="7257960" y="229392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接连接符 67"/>
          <p:cNvSpPr/>
          <p:nvPr/>
        </p:nvSpPr>
        <p:spPr>
          <a:xfrm>
            <a:off x="1870200" y="3367080"/>
            <a:ext cx="825480" cy="62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直接连接符 69"/>
          <p:cNvSpPr/>
          <p:nvPr/>
        </p:nvSpPr>
        <p:spPr>
          <a:xfrm flipH="1">
            <a:off x="6443640" y="3368520"/>
            <a:ext cx="814320" cy="56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直接连接符 80"/>
          <p:cNvSpPr/>
          <p:nvPr/>
        </p:nvSpPr>
        <p:spPr>
          <a:xfrm>
            <a:off x="3699000" y="2637000"/>
            <a:ext cx="263520" cy="196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接连接符 83"/>
          <p:cNvSpPr/>
          <p:nvPr/>
        </p:nvSpPr>
        <p:spPr>
          <a:xfrm flipH="1">
            <a:off x="5230440" y="2635200"/>
            <a:ext cx="250920" cy="19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35"/>
          <p:cNvSpPr/>
          <p:nvPr/>
        </p:nvSpPr>
        <p:spPr>
          <a:xfrm>
            <a:off x="3925080" y="38955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核心价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1"/>
          <p:cNvSpPr/>
          <p:nvPr/>
        </p:nvSpPr>
        <p:spPr>
          <a:xfrm>
            <a:off x="0" y="2116080"/>
            <a:ext cx="9144000" cy="2327400"/>
          </a:xfrm>
          <a:prstGeom prst="rect">
            <a:avLst/>
          </a:prstGeom>
          <a:solidFill>
            <a:srgbClr val="bfbfb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23"/>
          <p:cNvSpPr/>
          <p:nvPr/>
        </p:nvSpPr>
        <p:spPr>
          <a:xfrm>
            <a:off x="469800" y="1781280"/>
            <a:ext cx="462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最具</a:t>
            </a:r>
            <a:r>
              <a:rPr b="0" lang="zh-CN" sz="66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规模</a:t>
            </a:r>
            <a:r>
              <a:rPr b="0" lang="zh-CN" sz="44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楼盘</a:t>
            </a:r>
            <a:r>
              <a:rPr b="0" lang="en-US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!</a:t>
            </a:r>
            <a:r>
              <a:rPr b="0" lang="zh-CN" sz="3600" spc="-1" strike="noStrike">
                <a:solidFill>
                  <a:srgbClr val="000000"/>
                </a:solidFill>
                <a:latin typeface="方正兰亭特黑_GBK"/>
                <a:ea typeface="方正兰亭特黑_GB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1"/>
          <p:cNvSpPr/>
          <p:nvPr/>
        </p:nvSpPr>
        <p:spPr>
          <a:xfrm>
            <a:off x="276480" y="257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直接连接符 9"/>
          <p:cNvSpPr/>
          <p:nvPr/>
        </p:nvSpPr>
        <p:spPr>
          <a:xfrm>
            <a:off x="971640" y="227160"/>
            <a:ext cx="0" cy="369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6"/>
          <p:cNvSpPr/>
          <p:nvPr/>
        </p:nvSpPr>
        <p:spPr>
          <a:xfrm>
            <a:off x="1334520" y="257040"/>
            <a:ext cx="11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XXXX</a:t>
            </a:r>
            <a:r>
              <a:rPr b="0" lang="zh-CN" sz="1800" spc="-1" strike="noStrike">
                <a:solidFill>
                  <a:srgbClr val="404040"/>
                </a:solidFill>
                <a:latin typeface="方正兰亭纤黑_GBK"/>
                <a:ea typeface="方正兰亭纤黑_GBK"/>
              </a:rPr>
              <a:t>有什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文本框 9"/>
          <p:cNvSpPr/>
          <p:nvPr/>
        </p:nvSpPr>
        <p:spPr>
          <a:xfrm>
            <a:off x="1184040" y="744480"/>
            <a:ext cx="366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XXXX</a:t>
            </a:r>
            <a:r>
              <a:rPr b="0" lang="zh-CN" sz="8000" spc="-1" strike="noStrike">
                <a:solidFill>
                  <a:srgbClr val="c00000"/>
                </a:solidFill>
                <a:latin typeface="方正兰亭特黑_GBK"/>
                <a:ea typeface="方正兰亭特黑_GBK"/>
              </a:rPr>
              <a:t>有什么</a:t>
            </a:r>
            <a:r>
              <a:rPr b="0" lang="zh-CN" sz="8000" spc="-1" strike="noStrike">
                <a:solidFill>
                  <a:srgbClr val="404040"/>
                </a:solidFill>
                <a:latin typeface="方正兰亭特黑_GBK"/>
                <a:ea typeface="方正兰亭特黑_GBK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组合 13"/>
          <p:cNvGrpSpPr/>
          <p:nvPr/>
        </p:nvGrpSpPr>
        <p:grpSpPr>
          <a:xfrm>
            <a:off x="7034760" y="880920"/>
            <a:ext cx="1991520" cy="3556080"/>
            <a:chOff x="7034760" y="880920"/>
            <a:chExt cx="1991520" cy="3556080"/>
          </a:xfrm>
        </p:grpSpPr>
        <p:sp>
          <p:nvSpPr>
            <p:cNvPr id="169" name="椭圆 14"/>
            <p:cNvSpPr/>
            <p:nvPr/>
          </p:nvSpPr>
          <p:spPr>
            <a:xfrm>
              <a:off x="7445520" y="880920"/>
              <a:ext cx="1173240" cy="117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圆角矩形 15"/>
            <p:cNvSpPr/>
            <p:nvPr/>
          </p:nvSpPr>
          <p:spPr>
            <a:xfrm>
              <a:off x="7562880" y="1965240"/>
              <a:ext cx="938160" cy="1171440"/>
            </a:xfrm>
            <a:custGeom>
              <a:avLst/>
              <a:gdLst>
                <a:gd name="textAreaLeft" fmla="*/ 45720 w 938160"/>
                <a:gd name="textAreaRight" fmla="*/ 892440 w 938160"/>
                <a:gd name="textAreaTop" fmla="*/ 45720 h 1171440"/>
                <a:gd name="textAreaBottom" fmla="*/ 1125720 h 1171440"/>
              </a:gdLst>
              <a:ahLst/>
              <a:rect l="textAreaLeft" t="textAreaTop" r="textAreaRight" b="textAreaBottom"/>
              <a:pathLst>
                <a:path w="21600" h="26969">
                  <a:moveTo>
                    <a:pt x="3600" y="0"/>
                  </a:moveTo>
                  <a:arcTo wR="3600" hR="3600" stAng="16200000" swAng="-5400000"/>
                  <a:lnTo>
                    <a:pt x="0" y="23369"/>
                  </a:lnTo>
                  <a:arcTo wR="3600" hR="3600" stAng="10800000" swAng="-5400000"/>
                  <a:lnTo>
                    <a:pt x="18000" y="269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圆角矩形 16"/>
            <p:cNvSpPr/>
            <p:nvPr/>
          </p:nvSpPr>
          <p:spPr>
            <a:xfrm rot="1800000">
              <a:off x="7313760" y="1969920"/>
              <a:ext cx="342720" cy="120816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8160"/>
                <a:gd name="textAreaBottom" fmla="*/ 1191600 h 1208160"/>
              </a:gdLst>
              <a:ahLst/>
              <a:rect l="textAreaLeft" t="textAreaTop" r="textAreaRight" b="textAreaBottom"/>
              <a:pathLst>
                <a:path w="21600" h="76087">
                  <a:moveTo>
                    <a:pt x="3600" y="0"/>
                  </a:moveTo>
                  <a:arcTo wR="3600" hR="3600" stAng="16200000" swAng="-5400000"/>
                  <a:lnTo>
                    <a:pt x="0" y="72487"/>
                  </a:lnTo>
                  <a:arcTo wR="3600" hR="3600" stAng="10800000" swAng="-5400000"/>
                  <a:lnTo>
                    <a:pt x="18000" y="760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圆角矩形 17"/>
            <p:cNvSpPr/>
            <p:nvPr/>
          </p:nvSpPr>
          <p:spPr>
            <a:xfrm rot="19800000">
              <a:off x="8405640" y="1969920"/>
              <a:ext cx="342720" cy="1203120"/>
            </a:xfrm>
            <a:custGeom>
              <a:avLst/>
              <a:gdLst>
                <a:gd name="textAreaLeft" fmla="*/ 16560 w 342720"/>
                <a:gd name="textAreaRight" fmla="*/ 326160 w 342720"/>
                <a:gd name="textAreaTop" fmla="*/ 16560 h 1203120"/>
                <a:gd name="textAreaBottom" fmla="*/ 1186560 h 1203120"/>
              </a:gdLst>
              <a:ahLst/>
              <a:rect l="textAreaLeft" t="textAreaTop" r="textAreaRight" b="textAreaBottom"/>
              <a:pathLst>
                <a:path w="21600" h="75770">
                  <a:moveTo>
                    <a:pt x="3600" y="0"/>
                  </a:moveTo>
                  <a:arcTo wR="3600" hR="3600" stAng="16200000" swAng="-5400000"/>
                  <a:lnTo>
                    <a:pt x="0" y="72170"/>
                  </a:lnTo>
                  <a:arcTo wR="3600" hR="3600" stAng="10800000" swAng="-5400000"/>
                  <a:lnTo>
                    <a:pt x="18000" y="75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圆角矩形 18"/>
            <p:cNvSpPr/>
            <p:nvPr/>
          </p:nvSpPr>
          <p:spPr>
            <a:xfrm>
              <a:off x="756288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圆角矩形 19"/>
            <p:cNvSpPr/>
            <p:nvPr/>
          </p:nvSpPr>
          <p:spPr>
            <a:xfrm>
              <a:off x="8210520" y="2908080"/>
              <a:ext cx="290520" cy="1528920"/>
            </a:xfrm>
            <a:custGeom>
              <a:avLst/>
              <a:gdLst>
                <a:gd name="textAreaLeft" fmla="*/ 14040 w 290520"/>
                <a:gd name="textAreaRight" fmla="*/ 276480 w 290520"/>
                <a:gd name="textAreaTop" fmla="*/ 14040 h 1528920"/>
                <a:gd name="textAreaBottom" fmla="*/ 1514880 h 1528920"/>
              </a:gdLst>
              <a:ahLst/>
              <a:rect l="textAreaLeft" t="textAreaTop" r="textAreaRight" b="textAreaBottom"/>
              <a:pathLst>
                <a:path w="21600" h="113560">
                  <a:moveTo>
                    <a:pt x="3600" y="0"/>
                  </a:moveTo>
                  <a:arcTo wR="3600" hR="3600" stAng="16200000" swAng="-5400000"/>
                  <a:lnTo>
                    <a:pt x="0" y="109960"/>
                  </a:lnTo>
                  <a:arcTo wR="3600" hR="3600" stAng="10800000" swAng="-5400000"/>
                  <a:lnTo>
                    <a:pt x="18000" y="1135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24"/>
            <p:cNvSpPr/>
            <p:nvPr/>
          </p:nvSpPr>
          <p:spPr>
            <a:xfrm>
              <a:off x="7935840" y="1965240"/>
              <a:ext cx="191880" cy="630000"/>
            </a:xfrm>
            <a:custGeom>
              <a:avLst/>
              <a:gdLst/>
              <a:ahLst/>
              <a:rect l="l" t="t" r="r" b="b"/>
              <a:pathLst>
                <a:path w="94898" h="312058">
                  <a:moveTo>
                    <a:pt x="0" y="0"/>
                  </a:moveTo>
                  <a:lnTo>
                    <a:pt x="51871" y="4876"/>
                  </a:lnTo>
                  <a:lnTo>
                    <a:pt x="94898" y="0"/>
                  </a:lnTo>
                  <a:lnTo>
                    <a:pt x="94898" y="312058"/>
                  </a:lnTo>
                  <a:lnTo>
                    <a:pt x="0" y="31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等腰三角形 21"/>
            <p:cNvSpPr/>
            <p:nvPr/>
          </p:nvSpPr>
          <p:spPr>
            <a:xfrm rot="10800000">
              <a:off x="7937640" y="2595600"/>
              <a:ext cx="188640" cy="123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7" name="Picture 22" descr=""/>
          <p:cNvPicPr/>
          <p:nvPr/>
        </p:nvPicPr>
        <p:blipFill>
          <a:blip r:embed="rId1"/>
          <a:stretch/>
        </p:blipFill>
        <p:spPr>
          <a:xfrm>
            <a:off x="8269200" y="1114560"/>
            <a:ext cx="231840" cy="352440"/>
          </a:xfrm>
          <a:prstGeom prst="rect">
            <a:avLst/>
          </a:prstGeom>
          <a:ln w="0">
            <a:noFill/>
          </a:ln>
        </p:spPr>
      </p:pic>
      <p:sp>
        <p:nvSpPr>
          <p:cNvPr id="178" name="矩形 3"/>
          <p:cNvSpPr/>
          <p:nvPr/>
        </p:nvSpPr>
        <p:spPr>
          <a:xfrm rot="3276600">
            <a:off x="4103280" y="3166200"/>
            <a:ext cx="3168360" cy="226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24"/>
          <p:cNvSpPr/>
          <p:nvPr/>
        </p:nvSpPr>
        <p:spPr>
          <a:xfrm rot="7503000">
            <a:off x="4061880" y="3170160"/>
            <a:ext cx="3168720" cy="228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2"/>
          <a:stretch/>
        </p:blipFill>
        <p:spPr>
          <a:xfrm>
            <a:off x="7319880" y="4659480"/>
            <a:ext cx="1801800" cy="46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1:44:58Z</dcterms:created>
  <dc:creator>www.eeppt.com; An</dc:creator>
  <dc:description>ppt模板下载网站 http://www.eeppt.com</dc:description>
  <dc:language>en-US</dc:language>
  <cp:lastModifiedBy/>
  <dcterms:modified xsi:type="dcterms:W3CDTF">2015-05-27T16:16:14Z</dcterms:modified>
  <cp:revision>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