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6CDF-2461-4035-9431-8D299F487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A063-66E0-4AEF-AF45-18C2A2D1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A89F-5F65-46B2-AE92-B3FDB1670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ABCC-5A84-47E1-85D1-E95AA6449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8966-3E86-437A-AFA4-0BE48776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8365-BFC8-47BC-ADAF-4E5B3FB2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230F-DE65-4880-9204-1E60A014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3C7B-FE98-4177-ABCA-72F8396D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E976-964D-44CC-8DE8-0A0B2670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BBE2-18FE-49CE-BEAC-85616724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427F-3489-436A-8C26-9C943B0B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8BD6-989A-4D1F-B009-948F4E9D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5CD1-616F-45BE-A1C3-14398589BE0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7C9D-EC90-4F9A-A444-5596CE739E1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0" y="-19080"/>
            <a:ext cx="9144000" cy="5162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14">
            <a:hlinkClick r:id="" action="ppaction://hlinkshowjump?jump=nextslide"/>
          </p:cNvPr>
          <p:cNvSpPr/>
          <p:nvPr/>
        </p:nvSpPr>
        <p:spPr>
          <a:xfrm>
            <a:off x="8244000" y="4471920"/>
            <a:ext cx="582480" cy="38124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64"/>
          <p:cNvGrpSpPr/>
          <p:nvPr/>
        </p:nvGrpSpPr>
        <p:grpSpPr>
          <a:xfrm>
            <a:off x="2829240" y="-365760"/>
            <a:ext cx="214200" cy="209160"/>
            <a:chOff x="2829240" y="-365760"/>
            <a:chExt cx="214200" cy="209160"/>
          </a:xfrm>
        </p:grpSpPr>
        <p:sp>
          <p:nvSpPr>
            <p:cNvPr id="44" name="任意多边形 65"/>
            <p:cNvSpPr/>
            <p:nvPr/>
          </p:nvSpPr>
          <p:spPr>
            <a:xfrm rot="175800">
              <a:off x="2895840" y="-36360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任意多边形 66"/>
            <p:cNvSpPr/>
            <p:nvPr/>
          </p:nvSpPr>
          <p:spPr>
            <a:xfrm rot="4174800">
              <a:off x="2948760" y="-32004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任意多边形 67"/>
            <p:cNvSpPr/>
            <p:nvPr/>
          </p:nvSpPr>
          <p:spPr>
            <a:xfrm rot="7732800">
              <a:off x="2941560" y="-26244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任意多边形 68"/>
            <p:cNvSpPr/>
            <p:nvPr/>
          </p:nvSpPr>
          <p:spPr>
            <a:xfrm flipV="1">
              <a:off x="2892600" y="-23940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任意多边形 69"/>
            <p:cNvSpPr/>
            <p:nvPr/>
          </p:nvSpPr>
          <p:spPr>
            <a:xfrm rot="18054600">
              <a:off x="2845800" y="-32292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任意多边形 70"/>
            <p:cNvSpPr/>
            <p:nvPr/>
          </p:nvSpPr>
          <p:spPr>
            <a:xfrm rot="14466000">
              <a:off x="2854440" y="-27324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71"/>
            <p:cNvSpPr/>
            <p:nvPr/>
          </p:nvSpPr>
          <p:spPr>
            <a:xfrm>
              <a:off x="2919240" y="-2739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组合 466"/>
          <p:cNvGrpSpPr/>
          <p:nvPr/>
        </p:nvGrpSpPr>
        <p:grpSpPr>
          <a:xfrm>
            <a:off x="3151440" y="-462600"/>
            <a:ext cx="214200" cy="209160"/>
            <a:chOff x="3151440" y="-462600"/>
            <a:chExt cx="214200" cy="209160"/>
          </a:xfrm>
        </p:grpSpPr>
        <p:sp>
          <p:nvSpPr>
            <p:cNvPr id="52" name="任意多边形 467"/>
            <p:cNvSpPr/>
            <p:nvPr/>
          </p:nvSpPr>
          <p:spPr>
            <a:xfrm rot="175800">
              <a:off x="3218040" y="-46044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任意多边形 468"/>
            <p:cNvSpPr/>
            <p:nvPr/>
          </p:nvSpPr>
          <p:spPr>
            <a:xfrm rot="4174800">
              <a:off x="3270960" y="-41688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任意多边形 469"/>
            <p:cNvSpPr/>
            <p:nvPr/>
          </p:nvSpPr>
          <p:spPr>
            <a:xfrm rot="7732800">
              <a:off x="3263760" y="-35928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任意多边形 470"/>
            <p:cNvSpPr/>
            <p:nvPr/>
          </p:nvSpPr>
          <p:spPr>
            <a:xfrm flipV="1">
              <a:off x="3214800" y="-33624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任意多边形 471"/>
            <p:cNvSpPr/>
            <p:nvPr/>
          </p:nvSpPr>
          <p:spPr>
            <a:xfrm rot="18054600">
              <a:off x="3168000" y="-41976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任意多边形 472"/>
            <p:cNvSpPr/>
            <p:nvPr/>
          </p:nvSpPr>
          <p:spPr>
            <a:xfrm rot="14466000">
              <a:off x="3176640" y="-37008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椭圆 473"/>
            <p:cNvSpPr/>
            <p:nvPr/>
          </p:nvSpPr>
          <p:spPr>
            <a:xfrm>
              <a:off x="3241440" y="-37080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474"/>
          <p:cNvGrpSpPr/>
          <p:nvPr/>
        </p:nvGrpSpPr>
        <p:grpSpPr>
          <a:xfrm>
            <a:off x="3421440" y="-568800"/>
            <a:ext cx="213840" cy="208800"/>
            <a:chOff x="3421440" y="-568800"/>
            <a:chExt cx="213840" cy="208800"/>
          </a:xfrm>
        </p:grpSpPr>
        <p:sp>
          <p:nvSpPr>
            <p:cNvPr id="60" name="任意多边形 475"/>
            <p:cNvSpPr/>
            <p:nvPr/>
          </p:nvSpPr>
          <p:spPr>
            <a:xfrm rot="175800">
              <a:off x="3488040" y="-56664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任意多边形 476"/>
            <p:cNvSpPr/>
            <p:nvPr/>
          </p:nvSpPr>
          <p:spPr>
            <a:xfrm rot="4174800">
              <a:off x="3540960" y="-52344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任意多边形 477"/>
            <p:cNvSpPr/>
            <p:nvPr/>
          </p:nvSpPr>
          <p:spPr>
            <a:xfrm rot="7732800">
              <a:off x="3533400" y="-46548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任意多边形 478"/>
            <p:cNvSpPr/>
            <p:nvPr/>
          </p:nvSpPr>
          <p:spPr>
            <a:xfrm flipV="1">
              <a:off x="3484440" y="-44244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任意多边形 479"/>
            <p:cNvSpPr/>
            <p:nvPr/>
          </p:nvSpPr>
          <p:spPr>
            <a:xfrm rot="18054600">
              <a:off x="3438000" y="-52596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任意多边形 480"/>
            <p:cNvSpPr/>
            <p:nvPr/>
          </p:nvSpPr>
          <p:spPr>
            <a:xfrm rot="14466000">
              <a:off x="3446640" y="-47628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椭圆 481"/>
            <p:cNvSpPr/>
            <p:nvPr/>
          </p:nvSpPr>
          <p:spPr>
            <a:xfrm>
              <a:off x="3511080" y="-47700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482"/>
          <p:cNvGrpSpPr/>
          <p:nvPr/>
        </p:nvGrpSpPr>
        <p:grpSpPr>
          <a:xfrm>
            <a:off x="3132360" y="-726120"/>
            <a:ext cx="214200" cy="209160"/>
            <a:chOff x="3132360" y="-726120"/>
            <a:chExt cx="214200" cy="209160"/>
          </a:xfrm>
        </p:grpSpPr>
        <p:sp>
          <p:nvSpPr>
            <p:cNvPr id="68" name="任意多边形 483"/>
            <p:cNvSpPr/>
            <p:nvPr/>
          </p:nvSpPr>
          <p:spPr>
            <a:xfrm rot="175800">
              <a:off x="3198960" y="-72396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任意多边形 484"/>
            <p:cNvSpPr/>
            <p:nvPr/>
          </p:nvSpPr>
          <p:spPr>
            <a:xfrm rot="4174800">
              <a:off x="3251880" y="-68040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任意多边形 485"/>
            <p:cNvSpPr/>
            <p:nvPr/>
          </p:nvSpPr>
          <p:spPr>
            <a:xfrm rot="7732800">
              <a:off x="3244680" y="-62280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任意多边形 486"/>
            <p:cNvSpPr/>
            <p:nvPr/>
          </p:nvSpPr>
          <p:spPr>
            <a:xfrm flipV="1">
              <a:off x="3195720" y="-59976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任意多边形 487"/>
            <p:cNvSpPr/>
            <p:nvPr/>
          </p:nvSpPr>
          <p:spPr>
            <a:xfrm rot="18054600">
              <a:off x="3148920" y="-68328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任意多边形 488"/>
            <p:cNvSpPr/>
            <p:nvPr/>
          </p:nvSpPr>
          <p:spPr>
            <a:xfrm rot="14466000">
              <a:off x="3157560" y="-63360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椭圆 489"/>
            <p:cNvSpPr/>
            <p:nvPr/>
          </p:nvSpPr>
          <p:spPr>
            <a:xfrm>
              <a:off x="3222360" y="-63432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490"/>
          <p:cNvGrpSpPr/>
          <p:nvPr/>
        </p:nvGrpSpPr>
        <p:grpSpPr>
          <a:xfrm>
            <a:off x="2827800" y="-697320"/>
            <a:ext cx="213840" cy="208800"/>
            <a:chOff x="2827800" y="-697320"/>
            <a:chExt cx="213840" cy="208800"/>
          </a:xfrm>
        </p:grpSpPr>
        <p:sp>
          <p:nvSpPr>
            <p:cNvPr id="76" name="任意多边形 491"/>
            <p:cNvSpPr/>
            <p:nvPr/>
          </p:nvSpPr>
          <p:spPr>
            <a:xfrm rot="175800">
              <a:off x="2894400" y="-69516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任意多边形 492"/>
            <p:cNvSpPr/>
            <p:nvPr/>
          </p:nvSpPr>
          <p:spPr>
            <a:xfrm rot="4174800">
              <a:off x="2947320" y="-65196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任意多边形 493"/>
            <p:cNvSpPr/>
            <p:nvPr/>
          </p:nvSpPr>
          <p:spPr>
            <a:xfrm rot="7732800">
              <a:off x="2939760" y="-59400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任意多边形 494"/>
            <p:cNvSpPr/>
            <p:nvPr/>
          </p:nvSpPr>
          <p:spPr>
            <a:xfrm flipV="1">
              <a:off x="2890800" y="-57096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任意多边形 495"/>
            <p:cNvSpPr/>
            <p:nvPr/>
          </p:nvSpPr>
          <p:spPr>
            <a:xfrm rot="18054600">
              <a:off x="2844360" y="-65448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任意多边形 496"/>
            <p:cNvSpPr/>
            <p:nvPr/>
          </p:nvSpPr>
          <p:spPr>
            <a:xfrm rot="14466000">
              <a:off x="2853000" y="-60480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椭圆 497"/>
            <p:cNvSpPr/>
            <p:nvPr/>
          </p:nvSpPr>
          <p:spPr>
            <a:xfrm>
              <a:off x="2917440" y="-60552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组合 498"/>
          <p:cNvGrpSpPr/>
          <p:nvPr/>
        </p:nvGrpSpPr>
        <p:grpSpPr>
          <a:xfrm>
            <a:off x="3402360" y="-849960"/>
            <a:ext cx="213840" cy="208800"/>
            <a:chOff x="3402360" y="-849960"/>
            <a:chExt cx="213840" cy="208800"/>
          </a:xfrm>
        </p:grpSpPr>
        <p:sp>
          <p:nvSpPr>
            <p:cNvPr id="84" name="任意多边形 499"/>
            <p:cNvSpPr/>
            <p:nvPr/>
          </p:nvSpPr>
          <p:spPr>
            <a:xfrm rot="175800">
              <a:off x="3468960" y="-84780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任意多边形 500"/>
            <p:cNvSpPr/>
            <p:nvPr/>
          </p:nvSpPr>
          <p:spPr>
            <a:xfrm rot="4174800">
              <a:off x="3521880" y="-80460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任意多边形 501"/>
            <p:cNvSpPr/>
            <p:nvPr/>
          </p:nvSpPr>
          <p:spPr>
            <a:xfrm rot="7732800">
              <a:off x="3514320" y="-74664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任意多边形 502"/>
            <p:cNvSpPr/>
            <p:nvPr/>
          </p:nvSpPr>
          <p:spPr>
            <a:xfrm flipV="1">
              <a:off x="3465360" y="-72360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任意多边形 503"/>
            <p:cNvSpPr/>
            <p:nvPr/>
          </p:nvSpPr>
          <p:spPr>
            <a:xfrm rot="18054600">
              <a:off x="3418920" y="-80712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任意多边形 504"/>
            <p:cNvSpPr/>
            <p:nvPr/>
          </p:nvSpPr>
          <p:spPr>
            <a:xfrm rot="14466000">
              <a:off x="3427560" y="-75744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椭圆 505"/>
            <p:cNvSpPr/>
            <p:nvPr/>
          </p:nvSpPr>
          <p:spPr>
            <a:xfrm>
              <a:off x="3492000" y="-7581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506"/>
          <p:cNvGrpSpPr/>
          <p:nvPr/>
        </p:nvGrpSpPr>
        <p:grpSpPr>
          <a:xfrm>
            <a:off x="3030480" y="-1011960"/>
            <a:ext cx="214560" cy="209520"/>
            <a:chOff x="3030480" y="-1011960"/>
            <a:chExt cx="214560" cy="209520"/>
          </a:xfrm>
        </p:grpSpPr>
        <p:sp>
          <p:nvSpPr>
            <p:cNvPr id="92" name="任意多边形 507"/>
            <p:cNvSpPr/>
            <p:nvPr/>
          </p:nvSpPr>
          <p:spPr>
            <a:xfrm rot="175800">
              <a:off x="3097440" y="-100980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508"/>
            <p:cNvSpPr/>
            <p:nvPr/>
          </p:nvSpPr>
          <p:spPr>
            <a:xfrm rot="4174800">
              <a:off x="3150360" y="-96624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任意多边形 509"/>
            <p:cNvSpPr/>
            <p:nvPr/>
          </p:nvSpPr>
          <p:spPr>
            <a:xfrm rot="7732800">
              <a:off x="3143160" y="-90828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510"/>
            <p:cNvSpPr/>
            <p:nvPr/>
          </p:nvSpPr>
          <p:spPr>
            <a:xfrm flipV="1">
              <a:off x="3094200" y="-88524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任意多边形 511"/>
            <p:cNvSpPr/>
            <p:nvPr/>
          </p:nvSpPr>
          <p:spPr>
            <a:xfrm rot="18054600">
              <a:off x="3047040" y="-968400"/>
              <a:ext cx="8424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任意多边形 512"/>
            <p:cNvSpPr/>
            <p:nvPr/>
          </p:nvSpPr>
          <p:spPr>
            <a:xfrm rot="14466000">
              <a:off x="3055680" y="-919080"/>
              <a:ext cx="7452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椭圆 513"/>
            <p:cNvSpPr/>
            <p:nvPr/>
          </p:nvSpPr>
          <p:spPr>
            <a:xfrm>
              <a:off x="3120840" y="-91980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组合 514"/>
          <p:cNvGrpSpPr/>
          <p:nvPr/>
        </p:nvGrpSpPr>
        <p:grpSpPr>
          <a:xfrm>
            <a:off x="2756160" y="-1078560"/>
            <a:ext cx="214200" cy="209160"/>
            <a:chOff x="2756160" y="-1078560"/>
            <a:chExt cx="214200" cy="209160"/>
          </a:xfrm>
        </p:grpSpPr>
        <p:sp>
          <p:nvSpPr>
            <p:cNvPr id="100" name="任意多边形 515"/>
            <p:cNvSpPr/>
            <p:nvPr/>
          </p:nvSpPr>
          <p:spPr>
            <a:xfrm rot="175800">
              <a:off x="2822760" y="-107640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任意多边形 516"/>
            <p:cNvSpPr/>
            <p:nvPr/>
          </p:nvSpPr>
          <p:spPr>
            <a:xfrm rot="4174800">
              <a:off x="2875680" y="-103284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517"/>
            <p:cNvSpPr/>
            <p:nvPr/>
          </p:nvSpPr>
          <p:spPr>
            <a:xfrm rot="7732800">
              <a:off x="2868480" y="-97524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任意多边形 518"/>
            <p:cNvSpPr/>
            <p:nvPr/>
          </p:nvSpPr>
          <p:spPr>
            <a:xfrm flipV="1">
              <a:off x="2819520" y="-95220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任意多边形 519"/>
            <p:cNvSpPr/>
            <p:nvPr/>
          </p:nvSpPr>
          <p:spPr>
            <a:xfrm rot="18054600">
              <a:off x="2772720" y="-103572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任意多边形 520"/>
            <p:cNvSpPr/>
            <p:nvPr/>
          </p:nvSpPr>
          <p:spPr>
            <a:xfrm rot="14466000">
              <a:off x="2781360" y="-98604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椭圆 521"/>
            <p:cNvSpPr/>
            <p:nvPr/>
          </p:nvSpPr>
          <p:spPr>
            <a:xfrm>
              <a:off x="2846160" y="-9867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522"/>
          <p:cNvGrpSpPr/>
          <p:nvPr/>
        </p:nvGrpSpPr>
        <p:grpSpPr>
          <a:xfrm>
            <a:off x="3242160" y="-1192680"/>
            <a:ext cx="213840" cy="208800"/>
            <a:chOff x="3242160" y="-1192680"/>
            <a:chExt cx="213840" cy="208800"/>
          </a:xfrm>
        </p:grpSpPr>
        <p:sp>
          <p:nvSpPr>
            <p:cNvPr id="108" name="任意多边形 523"/>
            <p:cNvSpPr/>
            <p:nvPr/>
          </p:nvSpPr>
          <p:spPr>
            <a:xfrm rot="175800">
              <a:off x="3308760" y="-119052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任意多边形 524"/>
            <p:cNvSpPr/>
            <p:nvPr/>
          </p:nvSpPr>
          <p:spPr>
            <a:xfrm rot="4174800">
              <a:off x="3361680" y="-114732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任意多边形 525"/>
            <p:cNvSpPr/>
            <p:nvPr/>
          </p:nvSpPr>
          <p:spPr>
            <a:xfrm rot="7732800">
              <a:off x="3354120" y="-108936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任意多边形 526"/>
            <p:cNvSpPr/>
            <p:nvPr/>
          </p:nvSpPr>
          <p:spPr>
            <a:xfrm flipV="1">
              <a:off x="3305160" y="-106632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任意多边形 527"/>
            <p:cNvSpPr/>
            <p:nvPr/>
          </p:nvSpPr>
          <p:spPr>
            <a:xfrm rot="18054600">
              <a:off x="3258720" y="-114984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任意多边形 528"/>
            <p:cNvSpPr/>
            <p:nvPr/>
          </p:nvSpPr>
          <p:spPr>
            <a:xfrm rot="14466000">
              <a:off x="3267360" y="-110016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椭圆 529"/>
            <p:cNvSpPr/>
            <p:nvPr/>
          </p:nvSpPr>
          <p:spPr>
            <a:xfrm>
              <a:off x="3331800" y="-110088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组合 616"/>
          <p:cNvGrpSpPr/>
          <p:nvPr/>
        </p:nvGrpSpPr>
        <p:grpSpPr>
          <a:xfrm>
            <a:off x="6648840" y="-275040"/>
            <a:ext cx="213840" cy="208800"/>
            <a:chOff x="6648840" y="-275040"/>
            <a:chExt cx="213840" cy="208800"/>
          </a:xfrm>
        </p:grpSpPr>
        <p:sp>
          <p:nvSpPr>
            <p:cNvPr id="116" name="任意多边形 617"/>
            <p:cNvSpPr/>
            <p:nvPr/>
          </p:nvSpPr>
          <p:spPr>
            <a:xfrm rot="175800">
              <a:off x="6715440" y="-27288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任意多边形 618"/>
            <p:cNvSpPr/>
            <p:nvPr/>
          </p:nvSpPr>
          <p:spPr>
            <a:xfrm rot="4174800">
              <a:off x="6768360" y="-22968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任意多边形 619"/>
            <p:cNvSpPr/>
            <p:nvPr/>
          </p:nvSpPr>
          <p:spPr>
            <a:xfrm rot="7732800">
              <a:off x="6760800" y="-17172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任意多边形 620"/>
            <p:cNvSpPr/>
            <p:nvPr/>
          </p:nvSpPr>
          <p:spPr>
            <a:xfrm flipV="1">
              <a:off x="6711840" y="-14868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任意多边形 621"/>
            <p:cNvSpPr/>
            <p:nvPr/>
          </p:nvSpPr>
          <p:spPr>
            <a:xfrm rot="18054600">
              <a:off x="6665400" y="-23220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任意多边形 622"/>
            <p:cNvSpPr/>
            <p:nvPr/>
          </p:nvSpPr>
          <p:spPr>
            <a:xfrm rot="14466000">
              <a:off x="6674040" y="-18252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椭圆 623"/>
            <p:cNvSpPr/>
            <p:nvPr/>
          </p:nvSpPr>
          <p:spPr>
            <a:xfrm>
              <a:off x="6738480" y="-18324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624"/>
          <p:cNvGrpSpPr/>
          <p:nvPr/>
        </p:nvGrpSpPr>
        <p:grpSpPr>
          <a:xfrm>
            <a:off x="6969600" y="-371880"/>
            <a:ext cx="213840" cy="208800"/>
            <a:chOff x="6969600" y="-371880"/>
            <a:chExt cx="213840" cy="208800"/>
          </a:xfrm>
        </p:grpSpPr>
        <p:sp>
          <p:nvSpPr>
            <p:cNvPr id="124" name="任意多边形 625"/>
            <p:cNvSpPr/>
            <p:nvPr/>
          </p:nvSpPr>
          <p:spPr>
            <a:xfrm rot="175800">
              <a:off x="7036200" y="-36972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任意多边形 626"/>
            <p:cNvSpPr/>
            <p:nvPr/>
          </p:nvSpPr>
          <p:spPr>
            <a:xfrm rot="4174800">
              <a:off x="7089120" y="-32652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任意多边形 627"/>
            <p:cNvSpPr/>
            <p:nvPr/>
          </p:nvSpPr>
          <p:spPr>
            <a:xfrm rot="7732800">
              <a:off x="7081560" y="-26856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任意多边形 628"/>
            <p:cNvSpPr/>
            <p:nvPr/>
          </p:nvSpPr>
          <p:spPr>
            <a:xfrm flipV="1">
              <a:off x="7032600" y="-24552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任意多边形 629"/>
            <p:cNvSpPr/>
            <p:nvPr/>
          </p:nvSpPr>
          <p:spPr>
            <a:xfrm rot="18054600">
              <a:off x="6986160" y="-32904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 630"/>
            <p:cNvSpPr/>
            <p:nvPr/>
          </p:nvSpPr>
          <p:spPr>
            <a:xfrm rot="14466000">
              <a:off x="6994800" y="-27936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椭圆 631"/>
            <p:cNvSpPr/>
            <p:nvPr/>
          </p:nvSpPr>
          <p:spPr>
            <a:xfrm>
              <a:off x="7059240" y="-28008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组合 632"/>
          <p:cNvGrpSpPr/>
          <p:nvPr/>
        </p:nvGrpSpPr>
        <p:grpSpPr>
          <a:xfrm>
            <a:off x="7239240" y="-478440"/>
            <a:ext cx="214200" cy="209160"/>
            <a:chOff x="7239240" y="-478440"/>
            <a:chExt cx="214200" cy="209160"/>
          </a:xfrm>
        </p:grpSpPr>
        <p:sp>
          <p:nvSpPr>
            <p:cNvPr id="132" name="任意多边形 633"/>
            <p:cNvSpPr/>
            <p:nvPr/>
          </p:nvSpPr>
          <p:spPr>
            <a:xfrm rot="175800">
              <a:off x="7305840" y="-47628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 634"/>
            <p:cNvSpPr/>
            <p:nvPr/>
          </p:nvSpPr>
          <p:spPr>
            <a:xfrm rot="4174800">
              <a:off x="7358760" y="-43272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 635"/>
            <p:cNvSpPr/>
            <p:nvPr/>
          </p:nvSpPr>
          <p:spPr>
            <a:xfrm rot="7732800">
              <a:off x="7351560" y="-37512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 636"/>
            <p:cNvSpPr/>
            <p:nvPr/>
          </p:nvSpPr>
          <p:spPr>
            <a:xfrm flipV="1">
              <a:off x="7302600" y="-35208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 637"/>
            <p:cNvSpPr/>
            <p:nvPr/>
          </p:nvSpPr>
          <p:spPr>
            <a:xfrm rot="18054600">
              <a:off x="7255800" y="-43560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任意多边形 638"/>
            <p:cNvSpPr/>
            <p:nvPr/>
          </p:nvSpPr>
          <p:spPr>
            <a:xfrm rot="14466000">
              <a:off x="7264440" y="-38592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椭圆 639"/>
            <p:cNvSpPr/>
            <p:nvPr/>
          </p:nvSpPr>
          <p:spPr>
            <a:xfrm>
              <a:off x="7329240" y="-38664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组合 640"/>
          <p:cNvGrpSpPr/>
          <p:nvPr/>
        </p:nvGrpSpPr>
        <p:grpSpPr>
          <a:xfrm>
            <a:off x="6950520" y="-637200"/>
            <a:ext cx="213840" cy="208800"/>
            <a:chOff x="6950520" y="-637200"/>
            <a:chExt cx="213840" cy="208800"/>
          </a:xfrm>
        </p:grpSpPr>
        <p:sp>
          <p:nvSpPr>
            <p:cNvPr id="140" name="任意多边形 641"/>
            <p:cNvSpPr/>
            <p:nvPr/>
          </p:nvSpPr>
          <p:spPr>
            <a:xfrm rot="175800">
              <a:off x="7017120" y="-63504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任意多边形 642"/>
            <p:cNvSpPr/>
            <p:nvPr/>
          </p:nvSpPr>
          <p:spPr>
            <a:xfrm rot="4174800">
              <a:off x="7070040" y="-59184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任意多边形 643"/>
            <p:cNvSpPr/>
            <p:nvPr/>
          </p:nvSpPr>
          <p:spPr>
            <a:xfrm rot="7732800">
              <a:off x="7062480" y="-53388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任意多边形 644"/>
            <p:cNvSpPr/>
            <p:nvPr/>
          </p:nvSpPr>
          <p:spPr>
            <a:xfrm flipV="1">
              <a:off x="7013520" y="-51084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任意多边形 645"/>
            <p:cNvSpPr/>
            <p:nvPr/>
          </p:nvSpPr>
          <p:spPr>
            <a:xfrm rot="18054600">
              <a:off x="6967080" y="-59436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任意多边形 646"/>
            <p:cNvSpPr/>
            <p:nvPr/>
          </p:nvSpPr>
          <p:spPr>
            <a:xfrm rot="14466000">
              <a:off x="6975720" y="-54468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椭圆 647"/>
            <p:cNvSpPr/>
            <p:nvPr/>
          </p:nvSpPr>
          <p:spPr>
            <a:xfrm>
              <a:off x="7040160" y="-54540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648"/>
          <p:cNvGrpSpPr/>
          <p:nvPr/>
        </p:nvGrpSpPr>
        <p:grpSpPr>
          <a:xfrm>
            <a:off x="6645600" y="-606960"/>
            <a:ext cx="214200" cy="209160"/>
            <a:chOff x="6645600" y="-606960"/>
            <a:chExt cx="214200" cy="209160"/>
          </a:xfrm>
        </p:grpSpPr>
        <p:sp>
          <p:nvSpPr>
            <p:cNvPr id="148" name="任意多边形 649"/>
            <p:cNvSpPr/>
            <p:nvPr/>
          </p:nvSpPr>
          <p:spPr>
            <a:xfrm rot="175800">
              <a:off x="6712200" y="-60480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任意多边形 650"/>
            <p:cNvSpPr/>
            <p:nvPr/>
          </p:nvSpPr>
          <p:spPr>
            <a:xfrm rot="4174800">
              <a:off x="6765120" y="-56124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任意多边形 651"/>
            <p:cNvSpPr/>
            <p:nvPr/>
          </p:nvSpPr>
          <p:spPr>
            <a:xfrm rot="7732800">
              <a:off x="6757920" y="-50364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任意多边形 652"/>
            <p:cNvSpPr/>
            <p:nvPr/>
          </p:nvSpPr>
          <p:spPr>
            <a:xfrm flipV="1">
              <a:off x="6708960" y="-48060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任意多边形 653"/>
            <p:cNvSpPr/>
            <p:nvPr/>
          </p:nvSpPr>
          <p:spPr>
            <a:xfrm rot="18054600">
              <a:off x="6662160" y="-56412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任意多边形 654"/>
            <p:cNvSpPr/>
            <p:nvPr/>
          </p:nvSpPr>
          <p:spPr>
            <a:xfrm rot="14466000">
              <a:off x="6670800" y="-51444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椭圆 655"/>
            <p:cNvSpPr/>
            <p:nvPr/>
          </p:nvSpPr>
          <p:spPr>
            <a:xfrm>
              <a:off x="6735600" y="-5151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组合 656"/>
          <p:cNvGrpSpPr/>
          <p:nvPr/>
        </p:nvGrpSpPr>
        <p:grpSpPr>
          <a:xfrm>
            <a:off x="7220520" y="-759240"/>
            <a:ext cx="213840" cy="208800"/>
            <a:chOff x="7220520" y="-759240"/>
            <a:chExt cx="213840" cy="208800"/>
          </a:xfrm>
        </p:grpSpPr>
        <p:sp>
          <p:nvSpPr>
            <p:cNvPr id="156" name="任意多边形 657"/>
            <p:cNvSpPr/>
            <p:nvPr/>
          </p:nvSpPr>
          <p:spPr>
            <a:xfrm rot="175800">
              <a:off x="7287120" y="-75708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任意多边形 658"/>
            <p:cNvSpPr/>
            <p:nvPr/>
          </p:nvSpPr>
          <p:spPr>
            <a:xfrm rot="4174800">
              <a:off x="7340040" y="-71388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任意多边形 659"/>
            <p:cNvSpPr/>
            <p:nvPr/>
          </p:nvSpPr>
          <p:spPr>
            <a:xfrm rot="7732800">
              <a:off x="7332480" y="-65592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任意多边形 660"/>
            <p:cNvSpPr/>
            <p:nvPr/>
          </p:nvSpPr>
          <p:spPr>
            <a:xfrm flipV="1">
              <a:off x="7283520" y="-63288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任意多边形 661"/>
            <p:cNvSpPr/>
            <p:nvPr/>
          </p:nvSpPr>
          <p:spPr>
            <a:xfrm rot="18054600">
              <a:off x="7237080" y="-71640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任意多边形 662"/>
            <p:cNvSpPr/>
            <p:nvPr/>
          </p:nvSpPr>
          <p:spPr>
            <a:xfrm rot="14466000">
              <a:off x="7245720" y="-66672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椭圆 663"/>
            <p:cNvSpPr/>
            <p:nvPr/>
          </p:nvSpPr>
          <p:spPr>
            <a:xfrm>
              <a:off x="7310160" y="-66744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组合 664"/>
          <p:cNvGrpSpPr/>
          <p:nvPr/>
        </p:nvGrpSpPr>
        <p:grpSpPr>
          <a:xfrm>
            <a:off x="6849000" y="-921240"/>
            <a:ext cx="213840" cy="208800"/>
            <a:chOff x="6849000" y="-921240"/>
            <a:chExt cx="213840" cy="208800"/>
          </a:xfrm>
        </p:grpSpPr>
        <p:sp>
          <p:nvSpPr>
            <p:cNvPr id="164" name="任意多边形 665"/>
            <p:cNvSpPr/>
            <p:nvPr/>
          </p:nvSpPr>
          <p:spPr>
            <a:xfrm rot="175800">
              <a:off x="6915600" y="-91908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任意多边形 666"/>
            <p:cNvSpPr/>
            <p:nvPr/>
          </p:nvSpPr>
          <p:spPr>
            <a:xfrm rot="4174800">
              <a:off x="6968520" y="-87588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任意多边形 667"/>
            <p:cNvSpPr/>
            <p:nvPr/>
          </p:nvSpPr>
          <p:spPr>
            <a:xfrm rot="7732800">
              <a:off x="6960960" y="-81792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任意多边形 668"/>
            <p:cNvSpPr/>
            <p:nvPr/>
          </p:nvSpPr>
          <p:spPr>
            <a:xfrm flipV="1">
              <a:off x="6912000" y="-79488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任意多边形 669"/>
            <p:cNvSpPr/>
            <p:nvPr/>
          </p:nvSpPr>
          <p:spPr>
            <a:xfrm rot="18054600">
              <a:off x="6865560" y="-87840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任意多边形 670"/>
            <p:cNvSpPr/>
            <p:nvPr/>
          </p:nvSpPr>
          <p:spPr>
            <a:xfrm rot="14466000">
              <a:off x="6874200" y="-82872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椭圆 671"/>
            <p:cNvSpPr/>
            <p:nvPr/>
          </p:nvSpPr>
          <p:spPr>
            <a:xfrm>
              <a:off x="6938640" y="-82944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组合 672"/>
          <p:cNvGrpSpPr/>
          <p:nvPr/>
        </p:nvGrpSpPr>
        <p:grpSpPr>
          <a:xfrm>
            <a:off x="6574320" y="-987840"/>
            <a:ext cx="213840" cy="208800"/>
            <a:chOff x="6574320" y="-987840"/>
            <a:chExt cx="213840" cy="208800"/>
          </a:xfrm>
        </p:grpSpPr>
        <p:sp>
          <p:nvSpPr>
            <p:cNvPr id="172" name="任意多边形 673"/>
            <p:cNvSpPr/>
            <p:nvPr/>
          </p:nvSpPr>
          <p:spPr>
            <a:xfrm rot="175800">
              <a:off x="6640920" y="-98568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任意多边形 674"/>
            <p:cNvSpPr/>
            <p:nvPr/>
          </p:nvSpPr>
          <p:spPr>
            <a:xfrm rot="4174800">
              <a:off x="6693840" y="-94248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任意多边形 675"/>
            <p:cNvSpPr/>
            <p:nvPr/>
          </p:nvSpPr>
          <p:spPr>
            <a:xfrm rot="7732800">
              <a:off x="6686280" y="-88452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任意多边形 676"/>
            <p:cNvSpPr/>
            <p:nvPr/>
          </p:nvSpPr>
          <p:spPr>
            <a:xfrm flipV="1">
              <a:off x="6637320" y="-86148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任意多边形 677"/>
            <p:cNvSpPr/>
            <p:nvPr/>
          </p:nvSpPr>
          <p:spPr>
            <a:xfrm rot="18054600">
              <a:off x="6590880" y="-94500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任意多边形 678"/>
            <p:cNvSpPr/>
            <p:nvPr/>
          </p:nvSpPr>
          <p:spPr>
            <a:xfrm rot="14466000">
              <a:off x="6599520" y="-89532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椭圆 679"/>
            <p:cNvSpPr/>
            <p:nvPr/>
          </p:nvSpPr>
          <p:spPr>
            <a:xfrm>
              <a:off x="6663960" y="-89604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组合 680"/>
          <p:cNvGrpSpPr/>
          <p:nvPr/>
        </p:nvGrpSpPr>
        <p:grpSpPr>
          <a:xfrm>
            <a:off x="7061760" y="-1102320"/>
            <a:ext cx="213840" cy="208800"/>
            <a:chOff x="7061760" y="-1102320"/>
            <a:chExt cx="213840" cy="208800"/>
          </a:xfrm>
        </p:grpSpPr>
        <p:sp>
          <p:nvSpPr>
            <p:cNvPr id="180" name="任意多边形 681"/>
            <p:cNvSpPr/>
            <p:nvPr/>
          </p:nvSpPr>
          <p:spPr>
            <a:xfrm rot="175800">
              <a:off x="7128360" y="-110016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任意多边形 682"/>
            <p:cNvSpPr/>
            <p:nvPr/>
          </p:nvSpPr>
          <p:spPr>
            <a:xfrm rot="4174800">
              <a:off x="7181280" y="-105696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任意多边形 683"/>
            <p:cNvSpPr/>
            <p:nvPr/>
          </p:nvSpPr>
          <p:spPr>
            <a:xfrm rot="7732800">
              <a:off x="7173720" y="-99900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任意多边形 684"/>
            <p:cNvSpPr/>
            <p:nvPr/>
          </p:nvSpPr>
          <p:spPr>
            <a:xfrm flipV="1">
              <a:off x="7124760" y="-97596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任意多边形 685"/>
            <p:cNvSpPr/>
            <p:nvPr/>
          </p:nvSpPr>
          <p:spPr>
            <a:xfrm rot="18054600">
              <a:off x="7078320" y="-105948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任意多边形 686"/>
            <p:cNvSpPr/>
            <p:nvPr/>
          </p:nvSpPr>
          <p:spPr>
            <a:xfrm rot="14466000">
              <a:off x="7086960" y="-100980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椭圆 687"/>
            <p:cNvSpPr/>
            <p:nvPr/>
          </p:nvSpPr>
          <p:spPr>
            <a:xfrm>
              <a:off x="7151400" y="-101052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691"/>
          <p:cNvGrpSpPr/>
          <p:nvPr/>
        </p:nvGrpSpPr>
        <p:grpSpPr>
          <a:xfrm>
            <a:off x="6821640" y="-740520"/>
            <a:ext cx="214200" cy="209160"/>
            <a:chOff x="6821640" y="-740520"/>
            <a:chExt cx="214200" cy="209160"/>
          </a:xfrm>
        </p:grpSpPr>
        <p:sp>
          <p:nvSpPr>
            <p:cNvPr id="188" name="任意多边形 692"/>
            <p:cNvSpPr/>
            <p:nvPr/>
          </p:nvSpPr>
          <p:spPr>
            <a:xfrm rot="175800">
              <a:off x="6888600" y="-73836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任意多边形 693"/>
            <p:cNvSpPr/>
            <p:nvPr/>
          </p:nvSpPr>
          <p:spPr>
            <a:xfrm rot="4174800">
              <a:off x="6941520" y="-69516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任意多边形 694"/>
            <p:cNvSpPr/>
            <p:nvPr/>
          </p:nvSpPr>
          <p:spPr>
            <a:xfrm rot="7732800">
              <a:off x="6933960" y="-63684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任意多边形 695"/>
            <p:cNvSpPr/>
            <p:nvPr/>
          </p:nvSpPr>
          <p:spPr>
            <a:xfrm flipV="1">
              <a:off x="6885000" y="-61380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任意多边形 696"/>
            <p:cNvSpPr/>
            <p:nvPr/>
          </p:nvSpPr>
          <p:spPr>
            <a:xfrm rot="18054600">
              <a:off x="6838200" y="-696960"/>
              <a:ext cx="8424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任意多边形 697"/>
            <p:cNvSpPr/>
            <p:nvPr/>
          </p:nvSpPr>
          <p:spPr>
            <a:xfrm rot="14466000">
              <a:off x="6846840" y="-647640"/>
              <a:ext cx="7452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椭圆 698"/>
            <p:cNvSpPr/>
            <p:nvPr/>
          </p:nvSpPr>
          <p:spPr>
            <a:xfrm>
              <a:off x="6911640" y="-6483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组合 699"/>
          <p:cNvGrpSpPr/>
          <p:nvPr/>
        </p:nvGrpSpPr>
        <p:grpSpPr>
          <a:xfrm>
            <a:off x="7143840" y="-837360"/>
            <a:ext cx="214200" cy="209160"/>
            <a:chOff x="7143840" y="-837360"/>
            <a:chExt cx="214200" cy="209160"/>
          </a:xfrm>
        </p:grpSpPr>
        <p:sp>
          <p:nvSpPr>
            <p:cNvPr id="196" name="任意多边形 700"/>
            <p:cNvSpPr/>
            <p:nvPr/>
          </p:nvSpPr>
          <p:spPr>
            <a:xfrm rot="175800">
              <a:off x="7210800" y="-83520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任意多边形 701"/>
            <p:cNvSpPr/>
            <p:nvPr/>
          </p:nvSpPr>
          <p:spPr>
            <a:xfrm rot="4174800">
              <a:off x="7263720" y="-79200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任意多边形 702"/>
            <p:cNvSpPr/>
            <p:nvPr/>
          </p:nvSpPr>
          <p:spPr>
            <a:xfrm rot="7732800">
              <a:off x="7256160" y="-73368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任意多边形 703"/>
            <p:cNvSpPr/>
            <p:nvPr/>
          </p:nvSpPr>
          <p:spPr>
            <a:xfrm flipV="1">
              <a:off x="7207200" y="-71064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任意多边形 704"/>
            <p:cNvSpPr/>
            <p:nvPr/>
          </p:nvSpPr>
          <p:spPr>
            <a:xfrm rot="18054600">
              <a:off x="7160400" y="-793800"/>
              <a:ext cx="8424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任意多边形 705"/>
            <p:cNvSpPr/>
            <p:nvPr/>
          </p:nvSpPr>
          <p:spPr>
            <a:xfrm rot="14466000">
              <a:off x="7169040" y="-744480"/>
              <a:ext cx="7452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椭圆 706"/>
            <p:cNvSpPr/>
            <p:nvPr/>
          </p:nvSpPr>
          <p:spPr>
            <a:xfrm>
              <a:off x="7233840" y="-74520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组合 707"/>
          <p:cNvGrpSpPr/>
          <p:nvPr/>
        </p:nvGrpSpPr>
        <p:grpSpPr>
          <a:xfrm>
            <a:off x="7414200" y="-943560"/>
            <a:ext cx="213840" cy="208800"/>
            <a:chOff x="7414200" y="-943560"/>
            <a:chExt cx="213840" cy="208800"/>
          </a:xfrm>
        </p:grpSpPr>
        <p:sp>
          <p:nvSpPr>
            <p:cNvPr id="204" name="任意多边形 708"/>
            <p:cNvSpPr/>
            <p:nvPr/>
          </p:nvSpPr>
          <p:spPr>
            <a:xfrm rot="175800">
              <a:off x="7480800" y="-94140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任意多边形 709"/>
            <p:cNvSpPr/>
            <p:nvPr/>
          </p:nvSpPr>
          <p:spPr>
            <a:xfrm rot="4174800">
              <a:off x="7533720" y="-89820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任意多边形 710"/>
            <p:cNvSpPr/>
            <p:nvPr/>
          </p:nvSpPr>
          <p:spPr>
            <a:xfrm rot="7732800">
              <a:off x="7526160" y="-84024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任意多边形 711"/>
            <p:cNvSpPr/>
            <p:nvPr/>
          </p:nvSpPr>
          <p:spPr>
            <a:xfrm flipV="1">
              <a:off x="7477200" y="-81720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任意多边形 712"/>
            <p:cNvSpPr/>
            <p:nvPr/>
          </p:nvSpPr>
          <p:spPr>
            <a:xfrm rot="18054600">
              <a:off x="7430760" y="-90072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任意多边形 713"/>
            <p:cNvSpPr/>
            <p:nvPr/>
          </p:nvSpPr>
          <p:spPr>
            <a:xfrm rot="14466000">
              <a:off x="7439400" y="-85104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椭圆 714"/>
            <p:cNvSpPr/>
            <p:nvPr/>
          </p:nvSpPr>
          <p:spPr>
            <a:xfrm>
              <a:off x="7503840" y="-8517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715"/>
          <p:cNvGrpSpPr/>
          <p:nvPr/>
        </p:nvGrpSpPr>
        <p:grpSpPr>
          <a:xfrm>
            <a:off x="7124760" y="-1100880"/>
            <a:ext cx="214200" cy="209160"/>
            <a:chOff x="7124760" y="-1100880"/>
            <a:chExt cx="214200" cy="209160"/>
          </a:xfrm>
        </p:grpSpPr>
        <p:sp>
          <p:nvSpPr>
            <p:cNvPr id="212" name="任意多边形 716"/>
            <p:cNvSpPr/>
            <p:nvPr/>
          </p:nvSpPr>
          <p:spPr>
            <a:xfrm rot="175800">
              <a:off x="7191720" y="-109872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任意多边形 717"/>
            <p:cNvSpPr/>
            <p:nvPr/>
          </p:nvSpPr>
          <p:spPr>
            <a:xfrm rot="4174800">
              <a:off x="7244640" y="-105552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任意多边形 718"/>
            <p:cNvSpPr/>
            <p:nvPr/>
          </p:nvSpPr>
          <p:spPr>
            <a:xfrm rot="7732800">
              <a:off x="7237080" y="-99720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任意多边形 719"/>
            <p:cNvSpPr/>
            <p:nvPr/>
          </p:nvSpPr>
          <p:spPr>
            <a:xfrm flipV="1">
              <a:off x="7188120" y="-97416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 720"/>
            <p:cNvSpPr/>
            <p:nvPr/>
          </p:nvSpPr>
          <p:spPr>
            <a:xfrm rot="18054600">
              <a:off x="7141320" y="-1057320"/>
              <a:ext cx="8424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 721"/>
            <p:cNvSpPr/>
            <p:nvPr/>
          </p:nvSpPr>
          <p:spPr>
            <a:xfrm rot="14466000">
              <a:off x="7149960" y="-1008000"/>
              <a:ext cx="7452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椭圆 722"/>
            <p:cNvSpPr/>
            <p:nvPr/>
          </p:nvSpPr>
          <p:spPr>
            <a:xfrm>
              <a:off x="7214760" y="-100872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组合 723"/>
          <p:cNvGrpSpPr/>
          <p:nvPr/>
        </p:nvGrpSpPr>
        <p:grpSpPr>
          <a:xfrm>
            <a:off x="6819840" y="-1070640"/>
            <a:ext cx="214560" cy="209520"/>
            <a:chOff x="6819840" y="-1070640"/>
            <a:chExt cx="214560" cy="209520"/>
          </a:xfrm>
        </p:grpSpPr>
        <p:sp>
          <p:nvSpPr>
            <p:cNvPr id="220" name="任意多边形 724"/>
            <p:cNvSpPr/>
            <p:nvPr/>
          </p:nvSpPr>
          <p:spPr>
            <a:xfrm rot="175800">
              <a:off x="6886800" y="-106848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任意多边形 725"/>
            <p:cNvSpPr/>
            <p:nvPr/>
          </p:nvSpPr>
          <p:spPr>
            <a:xfrm rot="4174800">
              <a:off x="6939720" y="-102492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 726"/>
            <p:cNvSpPr/>
            <p:nvPr/>
          </p:nvSpPr>
          <p:spPr>
            <a:xfrm rot="7732800">
              <a:off x="6932520" y="-96696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 727"/>
            <p:cNvSpPr/>
            <p:nvPr/>
          </p:nvSpPr>
          <p:spPr>
            <a:xfrm flipV="1">
              <a:off x="6883560" y="-94392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任意多边形 728"/>
            <p:cNvSpPr/>
            <p:nvPr/>
          </p:nvSpPr>
          <p:spPr>
            <a:xfrm rot="18054600">
              <a:off x="6836400" y="-1027080"/>
              <a:ext cx="8424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任意多边形 729"/>
            <p:cNvSpPr/>
            <p:nvPr/>
          </p:nvSpPr>
          <p:spPr>
            <a:xfrm rot="14466000">
              <a:off x="6845040" y="-977760"/>
              <a:ext cx="7452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椭圆 730"/>
            <p:cNvSpPr/>
            <p:nvPr/>
          </p:nvSpPr>
          <p:spPr>
            <a:xfrm>
              <a:off x="6910200" y="-97848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合 731"/>
          <p:cNvGrpSpPr/>
          <p:nvPr/>
        </p:nvGrpSpPr>
        <p:grpSpPr>
          <a:xfrm>
            <a:off x="7395120" y="-1222920"/>
            <a:ext cx="213840" cy="208800"/>
            <a:chOff x="7395120" y="-1222920"/>
            <a:chExt cx="213840" cy="208800"/>
          </a:xfrm>
        </p:grpSpPr>
        <p:sp>
          <p:nvSpPr>
            <p:cNvPr id="228" name="任意多边形 732"/>
            <p:cNvSpPr/>
            <p:nvPr/>
          </p:nvSpPr>
          <p:spPr>
            <a:xfrm rot="175800">
              <a:off x="7461720" y="-122076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任意多边形 733"/>
            <p:cNvSpPr/>
            <p:nvPr/>
          </p:nvSpPr>
          <p:spPr>
            <a:xfrm rot="4174800">
              <a:off x="7514640" y="-117756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任意多边形 734"/>
            <p:cNvSpPr/>
            <p:nvPr/>
          </p:nvSpPr>
          <p:spPr>
            <a:xfrm rot="7732800">
              <a:off x="7507080" y="-111960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任意多边形 735"/>
            <p:cNvSpPr/>
            <p:nvPr/>
          </p:nvSpPr>
          <p:spPr>
            <a:xfrm flipV="1">
              <a:off x="7458120" y="-109656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任意多边形 736"/>
            <p:cNvSpPr/>
            <p:nvPr/>
          </p:nvSpPr>
          <p:spPr>
            <a:xfrm rot="18054600">
              <a:off x="7411680" y="-118008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任意多边形 737"/>
            <p:cNvSpPr/>
            <p:nvPr/>
          </p:nvSpPr>
          <p:spPr>
            <a:xfrm rot="14466000">
              <a:off x="7420320" y="-113040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椭圆 738"/>
            <p:cNvSpPr/>
            <p:nvPr/>
          </p:nvSpPr>
          <p:spPr>
            <a:xfrm>
              <a:off x="7484760" y="-113112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组合 739"/>
          <p:cNvGrpSpPr/>
          <p:nvPr/>
        </p:nvGrpSpPr>
        <p:grpSpPr>
          <a:xfrm>
            <a:off x="7023600" y="-1384920"/>
            <a:ext cx="213840" cy="208800"/>
            <a:chOff x="7023600" y="-1384920"/>
            <a:chExt cx="213840" cy="208800"/>
          </a:xfrm>
        </p:grpSpPr>
        <p:sp>
          <p:nvSpPr>
            <p:cNvPr id="236" name="任意多边形 740"/>
            <p:cNvSpPr/>
            <p:nvPr/>
          </p:nvSpPr>
          <p:spPr>
            <a:xfrm rot="175800">
              <a:off x="7090200" y="-138276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任意多边形 741"/>
            <p:cNvSpPr/>
            <p:nvPr/>
          </p:nvSpPr>
          <p:spPr>
            <a:xfrm rot="4174800">
              <a:off x="7143120" y="-133956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任意多边形 742"/>
            <p:cNvSpPr/>
            <p:nvPr/>
          </p:nvSpPr>
          <p:spPr>
            <a:xfrm rot="7732800">
              <a:off x="7135560" y="-128160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任意多边形 743"/>
            <p:cNvSpPr/>
            <p:nvPr/>
          </p:nvSpPr>
          <p:spPr>
            <a:xfrm flipV="1">
              <a:off x="7086600" y="-125856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任意多边形 744"/>
            <p:cNvSpPr/>
            <p:nvPr/>
          </p:nvSpPr>
          <p:spPr>
            <a:xfrm rot="18054600">
              <a:off x="7040160" y="-134208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任意多边形 745"/>
            <p:cNvSpPr/>
            <p:nvPr/>
          </p:nvSpPr>
          <p:spPr>
            <a:xfrm rot="14466000">
              <a:off x="7048800" y="-129240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椭圆 746"/>
            <p:cNvSpPr/>
            <p:nvPr/>
          </p:nvSpPr>
          <p:spPr>
            <a:xfrm>
              <a:off x="7113240" y="-129312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组合 747"/>
          <p:cNvGrpSpPr/>
          <p:nvPr/>
        </p:nvGrpSpPr>
        <p:grpSpPr>
          <a:xfrm>
            <a:off x="6747120" y="-1452960"/>
            <a:ext cx="214200" cy="209160"/>
            <a:chOff x="6747120" y="-1452960"/>
            <a:chExt cx="214200" cy="209160"/>
          </a:xfrm>
        </p:grpSpPr>
        <p:sp>
          <p:nvSpPr>
            <p:cNvPr id="244" name="任意多边形 748"/>
            <p:cNvSpPr/>
            <p:nvPr/>
          </p:nvSpPr>
          <p:spPr>
            <a:xfrm rot="175800">
              <a:off x="6813720" y="-145080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任意多边形 749"/>
            <p:cNvSpPr/>
            <p:nvPr/>
          </p:nvSpPr>
          <p:spPr>
            <a:xfrm rot="4174800">
              <a:off x="6866640" y="-140724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任意多边形 750"/>
            <p:cNvSpPr/>
            <p:nvPr/>
          </p:nvSpPr>
          <p:spPr>
            <a:xfrm rot="7732800">
              <a:off x="6859440" y="-134964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任意多边形 751"/>
            <p:cNvSpPr/>
            <p:nvPr/>
          </p:nvSpPr>
          <p:spPr>
            <a:xfrm flipV="1">
              <a:off x="6810480" y="-132660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任意多边形 752"/>
            <p:cNvSpPr/>
            <p:nvPr/>
          </p:nvSpPr>
          <p:spPr>
            <a:xfrm rot="18054600">
              <a:off x="6763680" y="-141012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任意多边形 753"/>
            <p:cNvSpPr/>
            <p:nvPr/>
          </p:nvSpPr>
          <p:spPr>
            <a:xfrm rot="14466000">
              <a:off x="6772320" y="-136044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椭圆 754"/>
            <p:cNvSpPr/>
            <p:nvPr/>
          </p:nvSpPr>
          <p:spPr>
            <a:xfrm>
              <a:off x="6837120" y="-13611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组合 755"/>
          <p:cNvGrpSpPr/>
          <p:nvPr/>
        </p:nvGrpSpPr>
        <p:grpSpPr>
          <a:xfrm>
            <a:off x="7234200" y="-1566000"/>
            <a:ext cx="214560" cy="209520"/>
            <a:chOff x="7234200" y="-1566000"/>
            <a:chExt cx="214560" cy="209520"/>
          </a:xfrm>
        </p:grpSpPr>
        <p:sp>
          <p:nvSpPr>
            <p:cNvPr id="252" name="任意多边形 756"/>
            <p:cNvSpPr/>
            <p:nvPr/>
          </p:nvSpPr>
          <p:spPr>
            <a:xfrm rot="175800">
              <a:off x="7301160" y="-156384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任意多边形 757"/>
            <p:cNvSpPr/>
            <p:nvPr/>
          </p:nvSpPr>
          <p:spPr>
            <a:xfrm rot="4174800">
              <a:off x="7354080" y="-152028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任意多边形 758"/>
            <p:cNvSpPr/>
            <p:nvPr/>
          </p:nvSpPr>
          <p:spPr>
            <a:xfrm rot="7732800">
              <a:off x="7346880" y="-146232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任意多边形 759"/>
            <p:cNvSpPr/>
            <p:nvPr/>
          </p:nvSpPr>
          <p:spPr>
            <a:xfrm flipV="1">
              <a:off x="7297920" y="-143928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任意多边形 760"/>
            <p:cNvSpPr/>
            <p:nvPr/>
          </p:nvSpPr>
          <p:spPr>
            <a:xfrm rot="18054600">
              <a:off x="7250760" y="-1522440"/>
              <a:ext cx="8424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任意多边形 761"/>
            <p:cNvSpPr/>
            <p:nvPr/>
          </p:nvSpPr>
          <p:spPr>
            <a:xfrm rot="14466000">
              <a:off x="7259400" y="-1473120"/>
              <a:ext cx="7452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椭圆 762"/>
            <p:cNvSpPr/>
            <p:nvPr/>
          </p:nvSpPr>
          <p:spPr>
            <a:xfrm>
              <a:off x="7324560" y="-147384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组合 763"/>
          <p:cNvGrpSpPr/>
          <p:nvPr/>
        </p:nvGrpSpPr>
        <p:grpSpPr>
          <a:xfrm>
            <a:off x="2860920" y="-767160"/>
            <a:ext cx="214200" cy="209160"/>
            <a:chOff x="2860920" y="-767160"/>
            <a:chExt cx="214200" cy="209160"/>
          </a:xfrm>
        </p:grpSpPr>
        <p:sp>
          <p:nvSpPr>
            <p:cNvPr id="260" name="任意多边形 764"/>
            <p:cNvSpPr/>
            <p:nvPr/>
          </p:nvSpPr>
          <p:spPr>
            <a:xfrm rot="175800">
              <a:off x="2927520" y="-76500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任意多边形 765"/>
            <p:cNvSpPr/>
            <p:nvPr/>
          </p:nvSpPr>
          <p:spPr>
            <a:xfrm rot="4174800">
              <a:off x="2980440" y="-72144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任意多边形 766"/>
            <p:cNvSpPr/>
            <p:nvPr/>
          </p:nvSpPr>
          <p:spPr>
            <a:xfrm rot="7732800">
              <a:off x="2973240" y="-66384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任意多边形 767"/>
            <p:cNvSpPr/>
            <p:nvPr/>
          </p:nvSpPr>
          <p:spPr>
            <a:xfrm flipV="1">
              <a:off x="2924280" y="-64080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任意多边形 768"/>
            <p:cNvSpPr/>
            <p:nvPr/>
          </p:nvSpPr>
          <p:spPr>
            <a:xfrm rot="18054600">
              <a:off x="2877480" y="-72432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任意多边形 769"/>
            <p:cNvSpPr/>
            <p:nvPr/>
          </p:nvSpPr>
          <p:spPr>
            <a:xfrm rot="14466000">
              <a:off x="2886120" y="-67464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椭圆 770"/>
            <p:cNvSpPr/>
            <p:nvPr/>
          </p:nvSpPr>
          <p:spPr>
            <a:xfrm>
              <a:off x="2950920" y="-6753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组合 771"/>
          <p:cNvGrpSpPr/>
          <p:nvPr/>
        </p:nvGrpSpPr>
        <p:grpSpPr>
          <a:xfrm>
            <a:off x="3181680" y="-864000"/>
            <a:ext cx="214200" cy="209160"/>
            <a:chOff x="3181680" y="-864000"/>
            <a:chExt cx="214200" cy="209160"/>
          </a:xfrm>
        </p:grpSpPr>
        <p:sp>
          <p:nvSpPr>
            <p:cNvPr id="268" name="任意多边形 772"/>
            <p:cNvSpPr/>
            <p:nvPr/>
          </p:nvSpPr>
          <p:spPr>
            <a:xfrm rot="175800">
              <a:off x="3248280" y="-86184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任意多边形 773"/>
            <p:cNvSpPr/>
            <p:nvPr/>
          </p:nvSpPr>
          <p:spPr>
            <a:xfrm rot="4174800">
              <a:off x="3301200" y="-81828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任意多边形 774"/>
            <p:cNvSpPr/>
            <p:nvPr/>
          </p:nvSpPr>
          <p:spPr>
            <a:xfrm rot="7732800">
              <a:off x="3294000" y="-76068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任意多边形 775"/>
            <p:cNvSpPr/>
            <p:nvPr/>
          </p:nvSpPr>
          <p:spPr>
            <a:xfrm flipV="1">
              <a:off x="3245040" y="-73764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任意多边形 776"/>
            <p:cNvSpPr/>
            <p:nvPr/>
          </p:nvSpPr>
          <p:spPr>
            <a:xfrm rot="18054600">
              <a:off x="3198240" y="-82116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任意多边形 777"/>
            <p:cNvSpPr/>
            <p:nvPr/>
          </p:nvSpPr>
          <p:spPr>
            <a:xfrm rot="14466000">
              <a:off x="3206880" y="-77148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椭圆 778"/>
            <p:cNvSpPr/>
            <p:nvPr/>
          </p:nvSpPr>
          <p:spPr>
            <a:xfrm>
              <a:off x="3271680" y="-77220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组合 779"/>
          <p:cNvGrpSpPr/>
          <p:nvPr/>
        </p:nvGrpSpPr>
        <p:grpSpPr>
          <a:xfrm>
            <a:off x="3451680" y="-970560"/>
            <a:ext cx="213840" cy="208800"/>
            <a:chOff x="3451680" y="-970560"/>
            <a:chExt cx="213840" cy="208800"/>
          </a:xfrm>
        </p:grpSpPr>
        <p:sp>
          <p:nvSpPr>
            <p:cNvPr id="276" name="任意多边形 780"/>
            <p:cNvSpPr/>
            <p:nvPr/>
          </p:nvSpPr>
          <p:spPr>
            <a:xfrm rot="175800">
              <a:off x="3518280" y="-96840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任意多边形 781"/>
            <p:cNvSpPr/>
            <p:nvPr/>
          </p:nvSpPr>
          <p:spPr>
            <a:xfrm rot="4174800">
              <a:off x="3571200" y="-92520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任意多边形 782"/>
            <p:cNvSpPr/>
            <p:nvPr/>
          </p:nvSpPr>
          <p:spPr>
            <a:xfrm rot="7732800">
              <a:off x="3563640" y="-86724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任意多边形 783"/>
            <p:cNvSpPr/>
            <p:nvPr/>
          </p:nvSpPr>
          <p:spPr>
            <a:xfrm flipV="1">
              <a:off x="3514680" y="-84420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任意多边形 784"/>
            <p:cNvSpPr/>
            <p:nvPr/>
          </p:nvSpPr>
          <p:spPr>
            <a:xfrm rot="18054600">
              <a:off x="3468240" y="-92772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任意多边形 785"/>
            <p:cNvSpPr/>
            <p:nvPr/>
          </p:nvSpPr>
          <p:spPr>
            <a:xfrm rot="14466000">
              <a:off x="3476880" y="-87804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椭圆 786"/>
            <p:cNvSpPr/>
            <p:nvPr/>
          </p:nvSpPr>
          <p:spPr>
            <a:xfrm>
              <a:off x="3541320" y="-8787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组合 787"/>
          <p:cNvGrpSpPr/>
          <p:nvPr/>
        </p:nvGrpSpPr>
        <p:grpSpPr>
          <a:xfrm>
            <a:off x="3162600" y="-1129320"/>
            <a:ext cx="214200" cy="209160"/>
            <a:chOff x="3162600" y="-1129320"/>
            <a:chExt cx="214200" cy="209160"/>
          </a:xfrm>
        </p:grpSpPr>
        <p:sp>
          <p:nvSpPr>
            <p:cNvPr id="284" name="任意多边形 788"/>
            <p:cNvSpPr/>
            <p:nvPr/>
          </p:nvSpPr>
          <p:spPr>
            <a:xfrm rot="175800">
              <a:off x="3229200" y="-112716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任意多边形 789"/>
            <p:cNvSpPr/>
            <p:nvPr/>
          </p:nvSpPr>
          <p:spPr>
            <a:xfrm rot="4174800">
              <a:off x="3282120" y="-108360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任意多边形 790"/>
            <p:cNvSpPr/>
            <p:nvPr/>
          </p:nvSpPr>
          <p:spPr>
            <a:xfrm rot="7732800">
              <a:off x="3274920" y="-102600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任意多边形 791"/>
            <p:cNvSpPr/>
            <p:nvPr/>
          </p:nvSpPr>
          <p:spPr>
            <a:xfrm flipV="1">
              <a:off x="3225960" y="-100296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任意多边形 792"/>
            <p:cNvSpPr/>
            <p:nvPr/>
          </p:nvSpPr>
          <p:spPr>
            <a:xfrm rot="18054600">
              <a:off x="3179160" y="-108648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任意多边形 793"/>
            <p:cNvSpPr/>
            <p:nvPr/>
          </p:nvSpPr>
          <p:spPr>
            <a:xfrm rot="14466000">
              <a:off x="3187800" y="-103680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椭圆 794"/>
            <p:cNvSpPr/>
            <p:nvPr/>
          </p:nvSpPr>
          <p:spPr>
            <a:xfrm>
              <a:off x="3252600" y="-103752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组合 795"/>
          <p:cNvGrpSpPr/>
          <p:nvPr/>
        </p:nvGrpSpPr>
        <p:grpSpPr>
          <a:xfrm>
            <a:off x="2858040" y="-1099080"/>
            <a:ext cx="213840" cy="208800"/>
            <a:chOff x="2858040" y="-1099080"/>
            <a:chExt cx="213840" cy="208800"/>
          </a:xfrm>
        </p:grpSpPr>
        <p:sp>
          <p:nvSpPr>
            <p:cNvPr id="292" name="任意多边形 796"/>
            <p:cNvSpPr/>
            <p:nvPr/>
          </p:nvSpPr>
          <p:spPr>
            <a:xfrm rot="175800">
              <a:off x="2924640" y="-109692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任意多边形 797"/>
            <p:cNvSpPr/>
            <p:nvPr/>
          </p:nvSpPr>
          <p:spPr>
            <a:xfrm rot="4174800">
              <a:off x="2977560" y="-105372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任意多边形 798"/>
            <p:cNvSpPr/>
            <p:nvPr/>
          </p:nvSpPr>
          <p:spPr>
            <a:xfrm rot="7732800">
              <a:off x="2970000" y="-99576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任意多边形 799"/>
            <p:cNvSpPr/>
            <p:nvPr/>
          </p:nvSpPr>
          <p:spPr>
            <a:xfrm flipV="1">
              <a:off x="2921040" y="-97272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任意多边形 800"/>
            <p:cNvSpPr/>
            <p:nvPr/>
          </p:nvSpPr>
          <p:spPr>
            <a:xfrm rot="18054600">
              <a:off x="2874600" y="-105624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任意多边形 801"/>
            <p:cNvSpPr/>
            <p:nvPr/>
          </p:nvSpPr>
          <p:spPr>
            <a:xfrm rot="14466000">
              <a:off x="2883240" y="-100656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椭圆 802"/>
            <p:cNvSpPr/>
            <p:nvPr/>
          </p:nvSpPr>
          <p:spPr>
            <a:xfrm>
              <a:off x="2947680" y="-100728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组合 803"/>
          <p:cNvGrpSpPr/>
          <p:nvPr/>
        </p:nvGrpSpPr>
        <p:grpSpPr>
          <a:xfrm>
            <a:off x="3432600" y="-1251360"/>
            <a:ext cx="213840" cy="208800"/>
            <a:chOff x="3432600" y="-1251360"/>
            <a:chExt cx="213840" cy="208800"/>
          </a:xfrm>
        </p:grpSpPr>
        <p:sp>
          <p:nvSpPr>
            <p:cNvPr id="300" name="任意多边形 804"/>
            <p:cNvSpPr/>
            <p:nvPr/>
          </p:nvSpPr>
          <p:spPr>
            <a:xfrm rot="175800">
              <a:off x="3499200" y="-124920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任意多边形 805"/>
            <p:cNvSpPr/>
            <p:nvPr/>
          </p:nvSpPr>
          <p:spPr>
            <a:xfrm rot="4174800">
              <a:off x="3552120" y="-120600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任意多边形 806"/>
            <p:cNvSpPr/>
            <p:nvPr/>
          </p:nvSpPr>
          <p:spPr>
            <a:xfrm rot="7732800">
              <a:off x="3544560" y="-114804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任意多边形 807"/>
            <p:cNvSpPr/>
            <p:nvPr/>
          </p:nvSpPr>
          <p:spPr>
            <a:xfrm flipV="1">
              <a:off x="3495600" y="-112500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任意多边形 808"/>
            <p:cNvSpPr/>
            <p:nvPr/>
          </p:nvSpPr>
          <p:spPr>
            <a:xfrm rot="18054600">
              <a:off x="3449160" y="-120852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任意多边形 809"/>
            <p:cNvSpPr/>
            <p:nvPr/>
          </p:nvSpPr>
          <p:spPr>
            <a:xfrm rot="14466000">
              <a:off x="3457800" y="-115884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椭圆 810"/>
            <p:cNvSpPr/>
            <p:nvPr/>
          </p:nvSpPr>
          <p:spPr>
            <a:xfrm>
              <a:off x="3522240" y="-11595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组合 811"/>
          <p:cNvGrpSpPr/>
          <p:nvPr/>
        </p:nvGrpSpPr>
        <p:grpSpPr>
          <a:xfrm>
            <a:off x="3061080" y="-1413360"/>
            <a:ext cx="213840" cy="208800"/>
            <a:chOff x="3061080" y="-1413360"/>
            <a:chExt cx="213840" cy="208800"/>
          </a:xfrm>
        </p:grpSpPr>
        <p:sp>
          <p:nvSpPr>
            <p:cNvPr id="308" name="任意多边形 812"/>
            <p:cNvSpPr/>
            <p:nvPr/>
          </p:nvSpPr>
          <p:spPr>
            <a:xfrm rot="175800">
              <a:off x="3127680" y="-141120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任意多边形 813"/>
            <p:cNvSpPr/>
            <p:nvPr/>
          </p:nvSpPr>
          <p:spPr>
            <a:xfrm rot="4174800">
              <a:off x="3180600" y="-136800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任意多边形 814"/>
            <p:cNvSpPr/>
            <p:nvPr/>
          </p:nvSpPr>
          <p:spPr>
            <a:xfrm rot="7732800">
              <a:off x="3173040" y="-131004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任意多边形 815"/>
            <p:cNvSpPr/>
            <p:nvPr/>
          </p:nvSpPr>
          <p:spPr>
            <a:xfrm flipV="1">
              <a:off x="3124080" y="-128700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任意多边形 816"/>
            <p:cNvSpPr/>
            <p:nvPr/>
          </p:nvSpPr>
          <p:spPr>
            <a:xfrm rot="18054600">
              <a:off x="3077640" y="-137052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任意多边形 817"/>
            <p:cNvSpPr/>
            <p:nvPr/>
          </p:nvSpPr>
          <p:spPr>
            <a:xfrm rot="14466000">
              <a:off x="3086280" y="-132084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椭圆 818"/>
            <p:cNvSpPr/>
            <p:nvPr/>
          </p:nvSpPr>
          <p:spPr>
            <a:xfrm>
              <a:off x="3150720" y="-13215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组合 819"/>
          <p:cNvGrpSpPr/>
          <p:nvPr/>
        </p:nvGrpSpPr>
        <p:grpSpPr>
          <a:xfrm>
            <a:off x="2786400" y="-1479960"/>
            <a:ext cx="214200" cy="209160"/>
            <a:chOff x="2786400" y="-1479960"/>
            <a:chExt cx="214200" cy="209160"/>
          </a:xfrm>
        </p:grpSpPr>
        <p:sp>
          <p:nvSpPr>
            <p:cNvPr id="316" name="任意多边形 820"/>
            <p:cNvSpPr/>
            <p:nvPr/>
          </p:nvSpPr>
          <p:spPr>
            <a:xfrm rot="175800">
              <a:off x="2853000" y="-147780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任意多边形 821"/>
            <p:cNvSpPr/>
            <p:nvPr/>
          </p:nvSpPr>
          <p:spPr>
            <a:xfrm rot="4174800">
              <a:off x="2905920" y="-143424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任意多边形 822"/>
            <p:cNvSpPr/>
            <p:nvPr/>
          </p:nvSpPr>
          <p:spPr>
            <a:xfrm rot="7732800">
              <a:off x="2898720" y="-137664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任意多边形 823"/>
            <p:cNvSpPr/>
            <p:nvPr/>
          </p:nvSpPr>
          <p:spPr>
            <a:xfrm flipV="1">
              <a:off x="2849760" y="-135360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任意多边形 824"/>
            <p:cNvSpPr/>
            <p:nvPr/>
          </p:nvSpPr>
          <p:spPr>
            <a:xfrm rot="18054600">
              <a:off x="2802960" y="-143712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任意多边形 825"/>
            <p:cNvSpPr/>
            <p:nvPr/>
          </p:nvSpPr>
          <p:spPr>
            <a:xfrm rot="14466000">
              <a:off x="2811600" y="-138744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椭圆 826"/>
            <p:cNvSpPr/>
            <p:nvPr/>
          </p:nvSpPr>
          <p:spPr>
            <a:xfrm>
              <a:off x="2876400" y="-13881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组合 827"/>
          <p:cNvGrpSpPr/>
          <p:nvPr/>
        </p:nvGrpSpPr>
        <p:grpSpPr>
          <a:xfrm>
            <a:off x="3273840" y="-1594440"/>
            <a:ext cx="213840" cy="208800"/>
            <a:chOff x="3273840" y="-1594440"/>
            <a:chExt cx="213840" cy="208800"/>
          </a:xfrm>
        </p:grpSpPr>
        <p:sp>
          <p:nvSpPr>
            <p:cNvPr id="324" name="任意多边形 828"/>
            <p:cNvSpPr/>
            <p:nvPr/>
          </p:nvSpPr>
          <p:spPr>
            <a:xfrm rot="175800">
              <a:off x="3340440" y="-159228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任意多边形 829"/>
            <p:cNvSpPr/>
            <p:nvPr/>
          </p:nvSpPr>
          <p:spPr>
            <a:xfrm rot="4174800">
              <a:off x="3393360" y="-154908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任意多边形 830"/>
            <p:cNvSpPr/>
            <p:nvPr/>
          </p:nvSpPr>
          <p:spPr>
            <a:xfrm rot="7732800">
              <a:off x="3385800" y="-149112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任意多边形 831"/>
            <p:cNvSpPr/>
            <p:nvPr/>
          </p:nvSpPr>
          <p:spPr>
            <a:xfrm flipV="1">
              <a:off x="3336840" y="-146808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任意多边形 832"/>
            <p:cNvSpPr/>
            <p:nvPr/>
          </p:nvSpPr>
          <p:spPr>
            <a:xfrm rot="18054600">
              <a:off x="3290400" y="-155160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任意多边形 833"/>
            <p:cNvSpPr/>
            <p:nvPr/>
          </p:nvSpPr>
          <p:spPr>
            <a:xfrm rot="14466000">
              <a:off x="3299040" y="-150192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椭圆 834"/>
            <p:cNvSpPr/>
            <p:nvPr/>
          </p:nvSpPr>
          <p:spPr>
            <a:xfrm>
              <a:off x="3363480" y="-150264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835"/>
          <p:cNvGrpSpPr/>
          <p:nvPr/>
        </p:nvGrpSpPr>
        <p:grpSpPr>
          <a:xfrm>
            <a:off x="6771240" y="-1203840"/>
            <a:ext cx="213840" cy="208800"/>
            <a:chOff x="6771240" y="-1203840"/>
            <a:chExt cx="213840" cy="208800"/>
          </a:xfrm>
        </p:grpSpPr>
        <p:sp>
          <p:nvSpPr>
            <p:cNvPr id="332" name="任意多边形 836"/>
            <p:cNvSpPr/>
            <p:nvPr/>
          </p:nvSpPr>
          <p:spPr>
            <a:xfrm rot="175800">
              <a:off x="6837840" y="-120168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任意多边形 837"/>
            <p:cNvSpPr/>
            <p:nvPr/>
          </p:nvSpPr>
          <p:spPr>
            <a:xfrm rot="4174800">
              <a:off x="6890760" y="-115848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任意多边形 838"/>
            <p:cNvSpPr/>
            <p:nvPr/>
          </p:nvSpPr>
          <p:spPr>
            <a:xfrm rot="7732800">
              <a:off x="6883200" y="-110052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任意多边形 839"/>
            <p:cNvSpPr/>
            <p:nvPr/>
          </p:nvSpPr>
          <p:spPr>
            <a:xfrm flipV="1">
              <a:off x="6834240" y="-107748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任意多边形 840"/>
            <p:cNvSpPr/>
            <p:nvPr/>
          </p:nvSpPr>
          <p:spPr>
            <a:xfrm rot="18054600">
              <a:off x="6787800" y="-116100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任意多边形 841"/>
            <p:cNvSpPr/>
            <p:nvPr/>
          </p:nvSpPr>
          <p:spPr>
            <a:xfrm rot="14466000">
              <a:off x="6796440" y="-111132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椭圆 842"/>
            <p:cNvSpPr/>
            <p:nvPr/>
          </p:nvSpPr>
          <p:spPr>
            <a:xfrm>
              <a:off x="6860880" y="-111204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组合 843"/>
          <p:cNvGrpSpPr/>
          <p:nvPr/>
        </p:nvGrpSpPr>
        <p:grpSpPr>
          <a:xfrm>
            <a:off x="6834240" y="-1202400"/>
            <a:ext cx="214200" cy="209160"/>
            <a:chOff x="6834240" y="-1202400"/>
            <a:chExt cx="214200" cy="209160"/>
          </a:xfrm>
        </p:grpSpPr>
        <p:sp>
          <p:nvSpPr>
            <p:cNvPr id="340" name="任意多边形 844"/>
            <p:cNvSpPr/>
            <p:nvPr/>
          </p:nvSpPr>
          <p:spPr>
            <a:xfrm rot="175800">
              <a:off x="6901200" y="-120024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任意多边形 845"/>
            <p:cNvSpPr/>
            <p:nvPr/>
          </p:nvSpPr>
          <p:spPr>
            <a:xfrm rot="4174800">
              <a:off x="6954120" y="-115704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任意多边形 846"/>
            <p:cNvSpPr/>
            <p:nvPr/>
          </p:nvSpPr>
          <p:spPr>
            <a:xfrm rot="7732800">
              <a:off x="6946560" y="-109872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任意多边形 847"/>
            <p:cNvSpPr/>
            <p:nvPr/>
          </p:nvSpPr>
          <p:spPr>
            <a:xfrm flipV="1">
              <a:off x="6897600" y="-107568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任意多边形 848"/>
            <p:cNvSpPr/>
            <p:nvPr/>
          </p:nvSpPr>
          <p:spPr>
            <a:xfrm rot="18054600">
              <a:off x="6850800" y="-1158840"/>
              <a:ext cx="8424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任意多边形 849"/>
            <p:cNvSpPr/>
            <p:nvPr/>
          </p:nvSpPr>
          <p:spPr>
            <a:xfrm rot="14466000">
              <a:off x="6859440" y="-1109520"/>
              <a:ext cx="7452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椭圆 850"/>
            <p:cNvSpPr/>
            <p:nvPr/>
          </p:nvSpPr>
          <p:spPr>
            <a:xfrm>
              <a:off x="6924240" y="-111024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组合 851"/>
          <p:cNvGrpSpPr/>
          <p:nvPr/>
        </p:nvGrpSpPr>
        <p:grpSpPr>
          <a:xfrm>
            <a:off x="6529680" y="-1172160"/>
            <a:ext cx="214200" cy="209160"/>
            <a:chOff x="6529680" y="-1172160"/>
            <a:chExt cx="214200" cy="209160"/>
          </a:xfrm>
        </p:grpSpPr>
        <p:sp>
          <p:nvSpPr>
            <p:cNvPr id="348" name="任意多边形 852"/>
            <p:cNvSpPr/>
            <p:nvPr/>
          </p:nvSpPr>
          <p:spPr>
            <a:xfrm rot="175800">
              <a:off x="6596280" y="-117000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任意多边形 853"/>
            <p:cNvSpPr/>
            <p:nvPr/>
          </p:nvSpPr>
          <p:spPr>
            <a:xfrm rot="4174800">
              <a:off x="6649200" y="-112644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任意多边形 854"/>
            <p:cNvSpPr/>
            <p:nvPr/>
          </p:nvSpPr>
          <p:spPr>
            <a:xfrm rot="7732800">
              <a:off x="6642000" y="-106884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任意多边形 855"/>
            <p:cNvSpPr/>
            <p:nvPr/>
          </p:nvSpPr>
          <p:spPr>
            <a:xfrm flipV="1">
              <a:off x="6593040" y="-104580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任意多边形 856"/>
            <p:cNvSpPr/>
            <p:nvPr/>
          </p:nvSpPr>
          <p:spPr>
            <a:xfrm rot="18054600">
              <a:off x="6546240" y="-112932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任意多边形 857"/>
            <p:cNvSpPr/>
            <p:nvPr/>
          </p:nvSpPr>
          <p:spPr>
            <a:xfrm rot="14466000">
              <a:off x="6554880" y="-107964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椭圆 858"/>
            <p:cNvSpPr/>
            <p:nvPr/>
          </p:nvSpPr>
          <p:spPr>
            <a:xfrm>
              <a:off x="6619680" y="-10803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组合 859"/>
          <p:cNvGrpSpPr/>
          <p:nvPr/>
        </p:nvGrpSpPr>
        <p:grpSpPr>
          <a:xfrm>
            <a:off x="7104600" y="-1324440"/>
            <a:ext cx="213840" cy="208800"/>
            <a:chOff x="7104600" y="-1324440"/>
            <a:chExt cx="213840" cy="208800"/>
          </a:xfrm>
        </p:grpSpPr>
        <p:sp>
          <p:nvSpPr>
            <p:cNvPr id="356" name="任意多边形 860"/>
            <p:cNvSpPr/>
            <p:nvPr/>
          </p:nvSpPr>
          <p:spPr>
            <a:xfrm rot="175800">
              <a:off x="7171200" y="-132228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任意多边形 861"/>
            <p:cNvSpPr/>
            <p:nvPr/>
          </p:nvSpPr>
          <p:spPr>
            <a:xfrm rot="4174800">
              <a:off x="7224120" y="-127908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任意多边形 862"/>
            <p:cNvSpPr/>
            <p:nvPr/>
          </p:nvSpPr>
          <p:spPr>
            <a:xfrm rot="7732800">
              <a:off x="7216560" y="-122112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任意多边形 863"/>
            <p:cNvSpPr/>
            <p:nvPr/>
          </p:nvSpPr>
          <p:spPr>
            <a:xfrm flipV="1">
              <a:off x="7167600" y="-119808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任意多边形 864"/>
            <p:cNvSpPr/>
            <p:nvPr/>
          </p:nvSpPr>
          <p:spPr>
            <a:xfrm rot="18054600">
              <a:off x="7121160" y="-128160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任意多边形 865"/>
            <p:cNvSpPr/>
            <p:nvPr/>
          </p:nvSpPr>
          <p:spPr>
            <a:xfrm rot="14466000">
              <a:off x="7129800" y="-123192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椭圆 866"/>
            <p:cNvSpPr/>
            <p:nvPr/>
          </p:nvSpPr>
          <p:spPr>
            <a:xfrm>
              <a:off x="7194240" y="-123264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组合 867"/>
          <p:cNvGrpSpPr/>
          <p:nvPr/>
        </p:nvGrpSpPr>
        <p:grpSpPr>
          <a:xfrm>
            <a:off x="6733080" y="-1486440"/>
            <a:ext cx="213840" cy="208800"/>
            <a:chOff x="6733080" y="-1486440"/>
            <a:chExt cx="213840" cy="208800"/>
          </a:xfrm>
        </p:grpSpPr>
        <p:sp>
          <p:nvSpPr>
            <p:cNvPr id="364" name="任意多边形 868"/>
            <p:cNvSpPr/>
            <p:nvPr/>
          </p:nvSpPr>
          <p:spPr>
            <a:xfrm rot="175800">
              <a:off x="6799680" y="-148428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任意多边形 869"/>
            <p:cNvSpPr/>
            <p:nvPr/>
          </p:nvSpPr>
          <p:spPr>
            <a:xfrm rot="4174800">
              <a:off x="6852600" y="-144108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任意多边形 870"/>
            <p:cNvSpPr/>
            <p:nvPr/>
          </p:nvSpPr>
          <p:spPr>
            <a:xfrm rot="7732800">
              <a:off x="6845040" y="-138312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任意多边形 871"/>
            <p:cNvSpPr/>
            <p:nvPr/>
          </p:nvSpPr>
          <p:spPr>
            <a:xfrm flipV="1">
              <a:off x="6796080" y="-136008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任意多边形 872"/>
            <p:cNvSpPr/>
            <p:nvPr/>
          </p:nvSpPr>
          <p:spPr>
            <a:xfrm rot="18054600">
              <a:off x="6749640" y="-144360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任意多边形 873"/>
            <p:cNvSpPr/>
            <p:nvPr/>
          </p:nvSpPr>
          <p:spPr>
            <a:xfrm rot="14466000">
              <a:off x="6758280" y="-139392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椭圆 874"/>
            <p:cNvSpPr/>
            <p:nvPr/>
          </p:nvSpPr>
          <p:spPr>
            <a:xfrm>
              <a:off x="6822720" y="-139464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组合 875"/>
          <p:cNvGrpSpPr/>
          <p:nvPr/>
        </p:nvGrpSpPr>
        <p:grpSpPr>
          <a:xfrm>
            <a:off x="6458040" y="-1554840"/>
            <a:ext cx="214200" cy="209160"/>
            <a:chOff x="6458040" y="-1554840"/>
            <a:chExt cx="214200" cy="209160"/>
          </a:xfrm>
        </p:grpSpPr>
        <p:sp>
          <p:nvSpPr>
            <p:cNvPr id="372" name="任意多边形 876"/>
            <p:cNvSpPr/>
            <p:nvPr/>
          </p:nvSpPr>
          <p:spPr>
            <a:xfrm rot="175800">
              <a:off x="6525000" y="-155268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任意多边形 877"/>
            <p:cNvSpPr/>
            <p:nvPr/>
          </p:nvSpPr>
          <p:spPr>
            <a:xfrm rot="4174800">
              <a:off x="6577920" y="-150948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任意多边形 878"/>
            <p:cNvSpPr/>
            <p:nvPr/>
          </p:nvSpPr>
          <p:spPr>
            <a:xfrm rot="7732800">
              <a:off x="6570360" y="-145116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 879"/>
            <p:cNvSpPr/>
            <p:nvPr/>
          </p:nvSpPr>
          <p:spPr>
            <a:xfrm flipV="1">
              <a:off x="6521400" y="-142812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 880"/>
            <p:cNvSpPr/>
            <p:nvPr/>
          </p:nvSpPr>
          <p:spPr>
            <a:xfrm rot="18054600">
              <a:off x="6474600" y="-1511280"/>
              <a:ext cx="8424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任意多边形 881"/>
            <p:cNvSpPr/>
            <p:nvPr/>
          </p:nvSpPr>
          <p:spPr>
            <a:xfrm rot="14466000">
              <a:off x="6483240" y="-1461960"/>
              <a:ext cx="7452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椭圆 882"/>
            <p:cNvSpPr/>
            <p:nvPr/>
          </p:nvSpPr>
          <p:spPr>
            <a:xfrm>
              <a:off x="6548040" y="-146268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883"/>
          <p:cNvGrpSpPr/>
          <p:nvPr/>
        </p:nvGrpSpPr>
        <p:grpSpPr>
          <a:xfrm>
            <a:off x="6945840" y="-1667520"/>
            <a:ext cx="213840" cy="208800"/>
            <a:chOff x="6945840" y="-1667520"/>
            <a:chExt cx="213840" cy="208800"/>
          </a:xfrm>
        </p:grpSpPr>
        <p:sp>
          <p:nvSpPr>
            <p:cNvPr id="380" name="任意多边形 884"/>
            <p:cNvSpPr/>
            <p:nvPr/>
          </p:nvSpPr>
          <p:spPr>
            <a:xfrm rot="175800">
              <a:off x="7012440" y="-166536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任意多边形 885"/>
            <p:cNvSpPr/>
            <p:nvPr/>
          </p:nvSpPr>
          <p:spPr>
            <a:xfrm rot="4174800">
              <a:off x="7065360" y="-162216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任意多边形 886"/>
            <p:cNvSpPr/>
            <p:nvPr/>
          </p:nvSpPr>
          <p:spPr>
            <a:xfrm rot="7732800">
              <a:off x="7057800" y="-156420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任意多边形 887"/>
            <p:cNvSpPr/>
            <p:nvPr/>
          </p:nvSpPr>
          <p:spPr>
            <a:xfrm flipV="1">
              <a:off x="7008840" y="-154116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任意多边形 888"/>
            <p:cNvSpPr/>
            <p:nvPr/>
          </p:nvSpPr>
          <p:spPr>
            <a:xfrm rot="18054600">
              <a:off x="6962400" y="-162468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任意多边形 889"/>
            <p:cNvSpPr/>
            <p:nvPr/>
          </p:nvSpPr>
          <p:spPr>
            <a:xfrm rot="14466000">
              <a:off x="6971040" y="-157500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椭圆 890"/>
            <p:cNvSpPr/>
            <p:nvPr/>
          </p:nvSpPr>
          <p:spPr>
            <a:xfrm>
              <a:off x="7035480" y="-157572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组合 891"/>
          <p:cNvGrpSpPr/>
          <p:nvPr/>
        </p:nvGrpSpPr>
        <p:grpSpPr>
          <a:xfrm>
            <a:off x="2940480" y="-1218240"/>
            <a:ext cx="213840" cy="208800"/>
            <a:chOff x="2940480" y="-1218240"/>
            <a:chExt cx="213840" cy="208800"/>
          </a:xfrm>
        </p:grpSpPr>
        <p:sp>
          <p:nvSpPr>
            <p:cNvPr id="388" name="任意多边形 892"/>
            <p:cNvSpPr/>
            <p:nvPr/>
          </p:nvSpPr>
          <p:spPr>
            <a:xfrm rot="175800">
              <a:off x="3007080" y="-121608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任意多边形 893"/>
            <p:cNvSpPr/>
            <p:nvPr/>
          </p:nvSpPr>
          <p:spPr>
            <a:xfrm rot="4174800">
              <a:off x="3060000" y="-117288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任意多边形 894"/>
            <p:cNvSpPr/>
            <p:nvPr/>
          </p:nvSpPr>
          <p:spPr>
            <a:xfrm rot="7732800">
              <a:off x="3052440" y="-111492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任意多边形 895"/>
            <p:cNvSpPr/>
            <p:nvPr/>
          </p:nvSpPr>
          <p:spPr>
            <a:xfrm flipV="1">
              <a:off x="3003480" y="-109188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任意多边形 896"/>
            <p:cNvSpPr/>
            <p:nvPr/>
          </p:nvSpPr>
          <p:spPr>
            <a:xfrm rot="18054600">
              <a:off x="2957040" y="-117540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任意多边形 897"/>
            <p:cNvSpPr/>
            <p:nvPr/>
          </p:nvSpPr>
          <p:spPr>
            <a:xfrm rot="14466000">
              <a:off x="2965680" y="-112572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椭圆 898"/>
            <p:cNvSpPr/>
            <p:nvPr/>
          </p:nvSpPr>
          <p:spPr>
            <a:xfrm>
              <a:off x="3030120" y="-112644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组合 899"/>
          <p:cNvGrpSpPr/>
          <p:nvPr/>
        </p:nvGrpSpPr>
        <p:grpSpPr>
          <a:xfrm>
            <a:off x="3003840" y="-1218240"/>
            <a:ext cx="214200" cy="209160"/>
            <a:chOff x="3003840" y="-1218240"/>
            <a:chExt cx="214200" cy="209160"/>
          </a:xfrm>
        </p:grpSpPr>
        <p:sp>
          <p:nvSpPr>
            <p:cNvPr id="396" name="任意多边形 900"/>
            <p:cNvSpPr/>
            <p:nvPr/>
          </p:nvSpPr>
          <p:spPr>
            <a:xfrm rot="175800">
              <a:off x="3070440" y="-121608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任意多边形 901"/>
            <p:cNvSpPr/>
            <p:nvPr/>
          </p:nvSpPr>
          <p:spPr>
            <a:xfrm rot="4174800">
              <a:off x="3123360" y="-117252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任意多边形 902"/>
            <p:cNvSpPr/>
            <p:nvPr/>
          </p:nvSpPr>
          <p:spPr>
            <a:xfrm rot="7732800">
              <a:off x="3116160" y="-111492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任意多边形 903"/>
            <p:cNvSpPr/>
            <p:nvPr/>
          </p:nvSpPr>
          <p:spPr>
            <a:xfrm flipV="1">
              <a:off x="3067200" y="-109188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任意多边形 904"/>
            <p:cNvSpPr/>
            <p:nvPr/>
          </p:nvSpPr>
          <p:spPr>
            <a:xfrm rot="18054600">
              <a:off x="3020400" y="-117540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任意多边形 905"/>
            <p:cNvSpPr/>
            <p:nvPr/>
          </p:nvSpPr>
          <p:spPr>
            <a:xfrm rot="14466000">
              <a:off x="3029040" y="-112572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椭圆 906"/>
            <p:cNvSpPr/>
            <p:nvPr/>
          </p:nvSpPr>
          <p:spPr>
            <a:xfrm>
              <a:off x="3093840" y="-112644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组合 907"/>
          <p:cNvGrpSpPr/>
          <p:nvPr/>
        </p:nvGrpSpPr>
        <p:grpSpPr>
          <a:xfrm>
            <a:off x="2699280" y="-1188000"/>
            <a:ext cx="213840" cy="208800"/>
            <a:chOff x="2699280" y="-1188000"/>
            <a:chExt cx="213840" cy="208800"/>
          </a:xfrm>
        </p:grpSpPr>
        <p:sp>
          <p:nvSpPr>
            <p:cNvPr id="404" name="任意多边形 908"/>
            <p:cNvSpPr/>
            <p:nvPr/>
          </p:nvSpPr>
          <p:spPr>
            <a:xfrm rot="175800">
              <a:off x="2765880" y="-118584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任意多边形 909"/>
            <p:cNvSpPr/>
            <p:nvPr/>
          </p:nvSpPr>
          <p:spPr>
            <a:xfrm rot="4174800">
              <a:off x="2818800" y="-114264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任意多边形 910"/>
            <p:cNvSpPr/>
            <p:nvPr/>
          </p:nvSpPr>
          <p:spPr>
            <a:xfrm rot="7732800">
              <a:off x="2811240" y="-108468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任意多边形 911"/>
            <p:cNvSpPr/>
            <p:nvPr/>
          </p:nvSpPr>
          <p:spPr>
            <a:xfrm flipV="1">
              <a:off x="2762280" y="-106164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任意多边形 912"/>
            <p:cNvSpPr/>
            <p:nvPr/>
          </p:nvSpPr>
          <p:spPr>
            <a:xfrm rot="18054600">
              <a:off x="2715840" y="-114516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任意多边形 913"/>
            <p:cNvSpPr/>
            <p:nvPr/>
          </p:nvSpPr>
          <p:spPr>
            <a:xfrm rot="14466000">
              <a:off x="2724480" y="-109548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椭圆 914"/>
            <p:cNvSpPr/>
            <p:nvPr/>
          </p:nvSpPr>
          <p:spPr>
            <a:xfrm>
              <a:off x="2788920" y="-109620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组合 915"/>
          <p:cNvGrpSpPr/>
          <p:nvPr/>
        </p:nvGrpSpPr>
        <p:grpSpPr>
          <a:xfrm>
            <a:off x="3273840" y="-1340280"/>
            <a:ext cx="213840" cy="208800"/>
            <a:chOff x="3273840" y="-1340280"/>
            <a:chExt cx="213840" cy="208800"/>
          </a:xfrm>
        </p:grpSpPr>
        <p:sp>
          <p:nvSpPr>
            <p:cNvPr id="412" name="任意多边形 916"/>
            <p:cNvSpPr/>
            <p:nvPr/>
          </p:nvSpPr>
          <p:spPr>
            <a:xfrm rot="175800">
              <a:off x="3340440" y="-133812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任意多边形 917"/>
            <p:cNvSpPr/>
            <p:nvPr/>
          </p:nvSpPr>
          <p:spPr>
            <a:xfrm rot="4174800">
              <a:off x="3393360" y="-129492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任意多边形 918"/>
            <p:cNvSpPr/>
            <p:nvPr/>
          </p:nvSpPr>
          <p:spPr>
            <a:xfrm rot="7732800">
              <a:off x="3385800" y="-123696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任意多边形 919"/>
            <p:cNvSpPr/>
            <p:nvPr/>
          </p:nvSpPr>
          <p:spPr>
            <a:xfrm flipV="1">
              <a:off x="3336840" y="-121392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任意多边形 920"/>
            <p:cNvSpPr/>
            <p:nvPr/>
          </p:nvSpPr>
          <p:spPr>
            <a:xfrm rot="18054600">
              <a:off x="3290400" y="-129744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任意多边形 921"/>
            <p:cNvSpPr/>
            <p:nvPr/>
          </p:nvSpPr>
          <p:spPr>
            <a:xfrm rot="14466000">
              <a:off x="3299040" y="-124776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椭圆 922"/>
            <p:cNvSpPr/>
            <p:nvPr/>
          </p:nvSpPr>
          <p:spPr>
            <a:xfrm>
              <a:off x="3363480" y="-124848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组合 923"/>
          <p:cNvGrpSpPr/>
          <p:nvPr/>
        </p:nvGrpSpPr>
        <p:grpSpPr>
          <a:xfrm>
            <a:off x="2902320" y="-1502280"/>
            <a:ext cx="213840" cy="208800"/>
            <a:chOff x="2902320" y="-1502280"/>
            <a:chExt cx="213840" cy="208800"/>
          </a:xfrm>
        </p:grpSpPr>
        <p:sp>
          <p:nvSpPr>
            <p:cNvPr id="420" name="任意多边形 924"/>
            <p:cNvSpPr/>
            <p:nvPr/>
          </p:nvSpPr>
          <p:spPr>
            <a:xfrm rot="175800">
              <a:off x="2968920" y="-150012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任意多边形 925"/>
            <p:cNvSpPr/>
            <p:nvPr/>
          </p:nvSpPr>
          <p:spPr>
            <a:xfrm rot="4174800">
              <a:off x="3021840" y="-145692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任意多边形 926"/>
            <p:cNvSpPr/>
            <p:nvPr/>
          </p:nvSpPr>
          <p:spPr>
            <a:xfrm rot="7732800">
              <a:off x="3014280" y="-139896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任意多边形 927"/>
            <p:cNvSpPr/>
            <p:nvPr/>
          </p:nvSpPr>
          <p:spPr>
            <a:xfrm flipV="1">
              <a:off x="2965320" y="-137592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任意多边形 928"/>
            <p:cNvSpPr/>
            <p:nvPr/>
          </p:nvSpPr>
          <p:spPr>
            <a:xfrm rot="18054600">
              <a:off x="2918880" y="-145944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任意多边形 929"/>
            <p:cNvSpPr/>
            <p:nvPr/>
          </p:nvSpPr>
          <p:spPr>
            <a:xfrm rot="14466000">
              <a:off x="2927520" y="-140976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椭圆 930"/>
            <p:cNvSpPr/>
            <p:nvPr/>
          </p:nvSpPr>
          <p:spPr>
            <a:xfrm>
              <a:off x="2991960" y="-141048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组合 931"/>
          <p:cNvGrpSpPr/>
          <p:nvPr/>
        </p:nvGrpSpPr>
        <p:grpSpPr>
          <a:xfrm>
            <a:off x="2626200" y="-1568880"/>
            <a:ext cx="213840" cy="208800"/>
            <a:chOff x="2626200" y="-1568880"/>
            <a:chExt cx="213840" cy="208800"/>
          </a:xfrm>
        </p:grpSpPr>
        <p:sp>
          <p:nvSpPr>
            <p:cNvPr id="428" name="任意多边形 932"/>
            <p:cNvSpPr/>
            <p:nvPr/>
          </p:nvSpPr>
          <p:spPr>
            <a:xfrm rot="175800">
              <a:off x="2692800" y="-156672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任意多边形 933"/>
            <p:cNvSpPr/>
            <p:nvPr/>
          </p:nvSpPr>
          <p:spPr>
            <a:xfrm rot="4174800">
              <a:off x="2745720" y="-152352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任意多边形 934"/>
            <p:cNvSpPr/>
            <p:nvPr/>
          </p:nvSpPr>
          <p:spPr>
            <a:xfrm rot="7732800">
              <a:off x="2738160" y="-146556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任意多边形 935"/>
            <p:cNvSpPr/>
            <p:nvPr/>
          </p:nvSpPr>
          <p:spPr>
            <a:xfrm flipV="1">
              <a:off x="2689200" y="-144252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任意多边形 936"/>
            <p:cNvSpPr/>
            <p:nvPr/>
          </p:nvSpPr>
          <p:spPr>
            <a:xfrm rot="18054600">
              <a:off x="2642760" y="-152604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任意多边形 937"/>
            <p:cNvSpPr/>
            <p:nvPr/>
          </p:nvSpPr>
          <p:spPr>
            <a:xfrm rot="14466000">
              <a:off x="2651400" y="-147636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椭圆 938"/>
            <p:cNvSpPr/>
            <p:nvPr/>
          </p:nvSpPr>
          <p:spPr>
            <a:xfrm>
              <a:off x="2715840" y="-147708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组合 939"/>
          <p:cNvGrpSpPr/>
          <p:nvPr/>
        </p:nvGrpSpPr>
        <p:grpSpPr>
          <a:xfrm>
            <a:off x="3113640" y="-1683360"/>
            <a:ext cx="213840" cy="208800"/>
            <a:chOff x="3113640" y="-1683360"/>
            <a:chExt cx="213840" cy="208800"/>
          </a:xfrm>
        </p:grpSpPr>
        <p:sp>
          <p:nvSpPr>
            <p:cNvPr id="436" name="任意多边形 940"/>
            <p:cNvSpPr/>
            <p:nvPr/>
          </p:nvSpPr>
          <p:spPr>
            <a:xfrm rot="175800">
              <a:off x="3180240" y="-168120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任意多边形 941"/>
            <p:cNvSpPr/>
            <p:nvPr/>
          </p:nvSpPr>
          <p:spPr>
            <a:xfrm rot="4174800">
              <a:off x="3233160" y="-163800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任意多边形 942"/>
            <p:cNvSpPr/>
            <p:nvPr/>
          </p:nvSpPr>
          <p:spPr>
            <a:xfrm rot="7732800">
              <a:off x="3225600" y="-158004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任意多边形 943"/>
            <p:cNvSpPr/>
            <p:nvPr/>
          </p:nvSpPr>
          <p:spPr>
            <a:xfrm flipV="1">
              <a:off x="3176640" y="-155700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任意多边形 944"/>
            <p:cNvSpPr/>
            <p:nvPr/>
          </p:nvSpPr>
          <p:spPr>
            <a:xfrm rot="18054600">
              <a:off x="3130200" y="-164052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任意多边形 945"/>
            <p:cNvSpPr/>
            <p:nvPr/>
          </p:nvSpPr>
          <p:spPr>
            <a:xfrm rot="14466000">
              <a:off x="3138840" y="-159084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椭圆 946"/>
            <p:cNvSpPr/>
            <p:nvPr/>
          </p:nvSpPr>
          <p:spPr>
            <a:xfrm>
              <a:off x="3203280" y="-15915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矩形 690"/>
          <p:cNvSpPr/>
          <p:nvPr/>
        </p:nvSpPr>
        <p:spPr>
          <a:xfrm>
            <a:off x="5803920" y="674640"/>
            <a:ext cx="3300480" cy="984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组合 18"/>
          <p:cNvGrpSpPr/>
          <p:nvPr/>
        </p:nvGrpSpPr>
        <p:grpSpPr>
          <a:xfrm>
            <a:off x="-6480" y="-19080"/>
            <a:ext cx="9151200" cy="1657440"/>
            <a:chOff x="-6480" y="-19080"/>
            <a:chExt cx="9151200" cy="1657440"/>
          </a:xfrm>
        </p:grpSpPr>
        <p:grpSp>
          <p:nvGrpSpPr>
            <p:cNvPr id="445" name="组合 8"/>
            <p:cNvGrpSpPr/>
            <p:nvPr/>
          </p:nvGrpSpPr>
          <p:grpSpPr>
            <a:xfrm>
              <a:off x="-6480" y="-19080"/>
              <a:ext cx="9151200" cy="1146240"/>
              <a:chOff x="-6480" y="-19080"/>
              <a:chExt cx="9151200" cy="1146240"/>
            </a:xfrm>
          </p:grpSpPr>
          <p:sp>
            <p:nvSpPr>
              <p:cNvPr id="446" name="矩形 145"/>
              <p:cNvSpPr/>
              <p:nvPr/>
            </p:nvSpPr>
            <p:spPr>
              <a:xfrm>
                <a:off x="-6480" y="142920"/>
                <a:ext cx="9142920" cy="98424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7" name="组合 7"/>
              <p:cNvGrpSpPr/>
              <p:nvPr/>
            </p:nvGrpSpPr>
            <p:grpSpPr>
              <a:xfrm>
                <a:off x="-2520" y="-19080"/>
                <a:ext cx="9147240" cy="432000"/>
                <a:chOff x="-2520" y="-19080"/>
                <a:chExt cx="9147240" cy="432000"/>
              </a:xfrm>
            </p:grpSpPr>
            <p:sp>
              <p:nvSpPr>
                <p:cNvPr id="448" name="任意多边形 5"/>
                <p:cNvSpPr/>
                <p:nvPr/>
              </p:nvSpPr>
              <p:spPr>
                <a:xfrm>
                  <a:off x="-2520" y="-19080"/>
                  <a:ext cx="9146520" cy="420840"/>
                </a:xfrm>
                <a:prstGeom prst="pie">
                  <a:avLst/>
                </a:prstGeom>
                <a:noFill/>
                <a:ln w="255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任意多边形 3"/>
                <p:cNvSpPr/>
                <p:nvPr/>
              </p:nvSpPr>
              <p:spPr>
                <a:xfrm>
                  <a:off x="-1800" y="-19080"/>
                  <a:ext cx="9146520" cy="4320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0" name="椭圆 37"/>
              <p:cNvSpPr/>
              <p:nvPr/>
            </p:nvSpPr>
            <p:spPr>
              <a:xfrm>
                <a:off x="2782080" y="809280"/>
                <a:ext cx="1150560" cy="31788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直接连接符 34"/>
              <p:cNvSpPr/>
              <p:nvPr/>
            </p:nvSpPr>
            <p:spPr>
              <a:xfrm>
                <a:off x="3436920" y="191160"/>
                <a:ext cx="0" cy="61812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椭圆 37"/>
            <p:cNvSpPr/>
            <p:nvPr/>
          </p:nvSpPr>
          <p:spPr>
            <a:xfrm>
              <a:off x="6338520" y="1320480"/>
              <a:ext cx="1150560" cy="3178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直接连接符 689"/>
            <p:cNvSpPr/>
            <p:nvPr/>
          </p:nvSpPr>
          <p:spPr>
            <a:xfrm>
              <a:off x="6957720" y="85680"/>
              <a:ext cx="0" cy="14796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组合 449"/>
          <p:cNvGrpSpPr/>
          <p:nvPr/>
        </p:nvGrpSpPr>
        <p:grpSpPr>
          <a:xfrm>
            <a:off x="5218200" y="-326160"/>
            <a:ext cx="214200" cy="209160"/>
            <a:chOff x="5218200" y="-326160"/>
            <a:chExt cx="214200" cy="209160"/>
          </a:xfrm>
        </p:grpSpPr>
        <p:sp>
          <p:nvSpPr>
            <p:cNvPr id="455" name="任意多边形 450"/>
            <p:cNvSpPr/>
            <p:nvPr/>
          </p:nvSpPr>
          <p:spPr>
            <a:xfrm rot="175800">
              <a:off x="5285160" y="-32400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 451"/>
            <p:cNvSpPr/>
            <p:nvPr/>
          </p:nvSpPr>
          <p:spPr>
            <a:xfrm rot="4174800">
              <a:off x="5338080" y="-28080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任意多边形 452"/>
            <p:cNvSpPr/>
            <p:nvPr/>
          </p:nvSpPr>
          <p:spPr>
            <a:xfrm rot="7732800">
              <a:off x="5330520" y="-22248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任意多边形 453"/>
            <p:cNvSpPr/>
            <p:nvPr/>
          </p:nvSpPr>
          <p:spPr>
            <a:xfrm flipV="1">
              <a:off x="5281560" y="-19944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 454"/>
            <p:cNvSpPr/>
            <p:nvPr/>
          </p:nvSpPr>
          <p:spPr>
            <a:xfrm rot="18054600">
              <a:off x="5234760" y="-282600"/>
              <a:ext cx="8424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 455"/>
            <p:cNvSpPr/>
            <p:nvPr/>
          </p:nvSpPr>
          <p:spPr>
            <a:xfrm rot="14466000">
              <a:off x="5243400" y="-233280"/>
              <a:ext cx="7452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椭圆 456"/>
            <p:cNvSpPr/>
            <p:nvPr/>
          </p:nvSpPr>
          <p:spPr>
            <a:xfrm>
              <a:off x="5308200" y="-23400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组合 457"/>
          <p:cNvGrpSpPr/>
          <p:nvPr/>
        </p:nvGrpSpPr>
        <p:grpSpPr>
          <a:xfrm>
            <a:off x="5540760" y="-421200"/>
            <a:ext cx="213840" cy="208800"/>
            <a:chOff x="5540760" y="-421200"/>
            <a:chExt cx="213840" cy="208800"/>
          </a:xfrm>
        </p:grpSpPr>
        <p:sp>
          <p:nvSpPr>
            <p:cNvPr id="463" name="任意多边形 458"/>
            <p:cNvSpPr/>
            <p:nvPr/>
          </p:nvSpPr>
          <p:spPr>
            <a:xfrm rot="175800">
              <a:off x="5607360" y="-41904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任意多边形 459"/>
            <p:cNvSpPr/>
            <p:nvPr/>
          </p:nvSpPr>
          <p:spPr>
            <a:xfrm rot="4174800">
              <a:off x="5660280" y="-37584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任意多边形 460"/>
            <p:cNvSpPr/>
            <p:nvPr/>
          </p:nvSpPr>
          <p:spPr>
            <a:xfrm rot="7732800">
              <a:off x="5652720" y="-31788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任意多边形 461"/>
            <p:cNvSpPr/>
            <p:nvPr/>
          </p:nvSpPr>
          <p:spPr>
            <a:xfrm flipV="1">
              <a:off x="5603760" y="-29484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任意多边形 462"/>
            <p:cNvSpPr/>
            <p:nvPr/>
          </p:nvSpPr>
          <p:spPr>
            <a:xfrm rot="18054600">
              <a:off x="5557320" y="-37836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任意多边形 463"/>
            <p:cNvSpPr/>
            <p:nvPr/>
          </p:nvSpPr>
          <p:spPr>
            <a:xfrm rot="14466000">
              <a:off x="5565960" y="-32868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椭圆 464"/>
            <p:cNvSpPr/>
            <p:nvPr/>
          </p:nvSpPr>
          <p:spPr>
            <a:xfrm>
              <a:off x="5630400" y="-32940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组合 465"/>
          <p:cNvGrpSpPr/>
          <p:nvPr/>
        </p:nvGrpSpPr>
        <p:grpSpPr>
          <a:xfrm>
            <a:off x="5810760" y="-529200"/>
            <a:ext cx="213840" cy="208800"/>
            <a:chOff x="5810760" y="-529200"/>
            <a:chExt cx="213840" cy="208800"/>
          </a:xfrm>
        </p:grpSpPr>
        <p:sp>
          <p:nvSpPr>
            <p:cNvPr id="471" name="任意多边形 530"/>
            <p:cNvSpPr/>
            <p:nvPr/>
          </p:nvSpPr>
          <p:spPr>
            <a:xfrm rot="175800">
              <a:off x="5877360" y="-52704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任意多边形 531"/>
            <p:cNvSpPr/>
            <p:nvPr/>
          </p:nvSpPr>
          <p:spPr>
            <a:xfrm rot="4174800">
              <a:off x="5930280" y="-48384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任意多边形 532"/>
            <p:cNvSpPr/>
            <p:nvPr/>
          </p:nvSpPr>
          <p:spPr>
            <a:xfrm rot="7732800">
              <a:off x="5922720" y="-42588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任意多边形 533"/>
            <p:cNvSpPr/>
            <p:nvPr/>
          </p:nvSpPr>
          <p:spPr>
            <a:xfrm flipV="1">
              <a:off x="5873760" y="-40284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任意多边形 534"/>
            <p:cNvSpPr/>
            <p:nvPr/>
          </p:nvSpPr>
          <p:spPr>
            <a:xfrm rot="18054600">
              <a:off x="5827320" y="-48636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任意多边形 537"/>
            <p:cNvSpPr/>
            <p:nvPr/>
          </p:nvSpPr>
          <p:spPr>
            <a:xfrm rot="14466000">
              <a:off x="5835960" y="-43668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椭圆 538"/>
            <p:cNvSpPr/>
            <p:nvPr/>
          </p:nvSpPr>
          <p:spPr>
            <a:xfrm>
              <a:off x="5900400" y="-43740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组合 539"/>
          <p:cNvGrpSpPr/>
          <p:nvPr/>
        </p:nvGrpSpPr>
        <p:grpSpPr>
          <a:xfrm>
            <a:off x="5521320" y="-686520"/>
            <a:ext cx="214200" cy="209160"/>
            <a:chOff x="5521320" y="-686520"/>
            <a:chExt cx="214200" cy="209160"/>
          </a:xfrm>
        </p:grpSpPr>
        <p:sp>
          <p:nvSpPr>
            <p:cNvPr id="479" name="任意多边形 540"/>
            <p:cNvSpPr/>
            <p:nvPr/>
          </p:nvSpPr>
          <p:spPr>
            <a:xfrm rot="175800">
              <a:off x="5588280" y="-68436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任意多边形 541"/>
            <p:cNvSpPr/>
            <p:nvPr/>
          </p:nvSpPr>
          <p:spPr>
            <a:xfrm rot="4174800">
              <a:off x="5641200" y="-64116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任意多边形 542"/>
            <p:cNvSpPr/>
            <p:nvPr/>
          </p:nvSpPr>
          <p:spPr>
            <a:xfrm rot="7732800">
              <a:off x="5633640" y="-58284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任意多边形 543"/>
            <p:cNvSpPr/>
            <p:nvPr/>
          </p:nvSpPr>
          <p:spPr>
            <a:xfrm flipV="1">
              <a:off x="5584680" y="-55980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任意多边形 544"/>
            <p:cNvSpPr/>
            <p:nvPr/>
          </p:nvSpPr>
          <p:spPr>
            <a:xfrm rot="18054600">
              <a:off x="5537880" y="-642960"/>
              <a:ext cx="8424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任意多边形 545"/>
            <p:cNvSpPr/>
            <p:nvPr/>
          </p:nvSpPr>
          <p:spPr>
            <a:xfrm rot="14466000">
              <a:off x="5546520" y="-593640"/>
              <a:ext cx="7452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椭圆 546"/>
            <p:cNvSpPr/>
            <p:nvPr/>
          </p:nvSpPr>
          <p:spPr>
            <a:xfrm>
              <a:off x="5611320" y="-5943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组合 547"/>
          <p:cNvGrpSpPr/>
          <p:nvPr/>
        </p:nvGrpSpPr>
        <p:grpSpPr>
          <a:xfrm>
            <a:off x="5216760" y="-656280"/>
            <a:ext cx="214200" cy="209160"/>
            <a:chOff x="5216760" y="-656280"/>
            <a:chExt cx="214200" cy="209160"/>
          </a:xfrm>
        </p:grpSpPr>
        <p:sp>
          <p:nvSpPr>
            <p:cNvPr id="487" name="任意多边形 548"/>
            <p:cNvSpPr/>
            <p:nvPr/>
          </p:nvSpPr>
          <p:spPr>
            <a:xfrm rot="175800">
              <a:off x="5283360" y="-65412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任意多边形 549"/>
            <p:cNvSpPr/>
            <p:nvPr/>
          </p:nvSpPr>
          <p:spPr>
            <a:xfrm rot="4174800">
              <a:off x="5336280" y="-61056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任意多边形 550"/>
            <p:cNvSpPr/>
            <p:nvPr/>
          </p:nvSpPr>
          <p:spPr>
            <a:xfrm rot="7732800">
              <a:off x="5329080" y="-55296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任意多边形 551"/>
            <p:cNvSpPr/>
            <p:nvPr/>
          </p:nvSpPr>
          <p:spPr>
            <a:xfrm flipV="1">
              <a:off x="5280120" y="-52992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任意多边形 552"/>
            <p:cNvSpPr/>
            <p:nvPr/>
          </p:nvSpPr>
          <p:spPr>
            <a:xfrm rot="18054600">
              <a:off x="5233320" y="-61344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任意多边形 553"/>
            <p:cNvSpPr/>
            <p:nvPr/>
          </p:nvSpPr>
          <p:spPr>
            <a:xfrm rot="14466000">
              <a:off x="5241960" y="-56376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椭圆 554"/>
            <p:cNvSpPr/>
            <p:nvPr/>
          </p:nvSpPr>
          <p:spPr>
            <a:xfrm>
              <a:off x="5306760" y="-56448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组合 555"/>
          <p:cNvGrpSpPr/>
          <p:nvPr/>
        </p:nvGrpSpPr>
        <p:grpSpPr>
          <a:xfrm>
            <a:off x="5789880" y="-808560"/>
            <a:ext cx="214200" cy="209160"/>
            <a:chOff x="5789880" y="-808560"/>
            <a:chExt cx="214200" cy="209160"/>
          </a:xfrm>
        </p:grpSpPr>
        <p:sp>
          <p:nvSpPr>
            <p:cNvPr id="495" name="任意多边形 556"/>
            <p:cNvSpPr/>
            <p:nvPr/>
          </p:nvSpPr>
          <p:spPr>
            <a:xfrm rot="175800">
              <a:off x="5856480" y="-80640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任意多边形 557"/>
            <p:cNvSpPr/>
            <p:nvPr/>
          </p:nvSpPr>
          <p:spPr>
            <a:xfrm rot="4174800">
              <a:off x="5909400" y="-76284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任意多边形 558"/>
            <p:cNvSpPr/>
            <p:nvPr/>
          </p:nvSpPr>
          <p:spPr>
            <a:xfrm rot="7732800">
              <a:off x="5902200" y="-70524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任意多边形 559"/>
            <p:cNvSpPr/>
            <p:nvPr/>
          </p:nvSpPr>
          <p:spPr>
            <a:xfrm flipV="1">
              <a:off x="5853240" y="-68220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任意多边形 560"/>
            <p:cNvSpPr/>
            <p:nvPr/>
          </p:nvSpPr>
          <p:spPr>
            <a:xfrm rot="18054600">
              <a:off x="5806440" y="-76572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任意多边形 561"/>
            <p:cNvSpPr/>
            <p:nvPr/>
          </p:nvSpPr>
          <p:spPr>
            <a:xfrm rot="14466000">
              <a:off x="5815080" y="-71604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椭圆 562"/>
            <p:cNvSpPr/>
            <p:nvPr/>
          </p:nvSpPr>
          <p:spPr>
            <a:xfrm>
              <a:off x="5879880" y="-7167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组合 563"/>
          <p:cNvGrpSpPr/>
          <p:nvPr/>
        </p:nvGrpSpPr>
        <p:grpSpPr>
          <a:xfrm>
            <a:off x="5420160" y="-970560"/>
            <a:ext cx="213840" cy="208800"/>
            <a:chOff x="5420160" y="-970560"/>
            <a:chExt cx="213840" cy="208800"/>
          </a:xfrm>
        </p:grpSpPr>
        <p:sp>
          <p:nvSpPr>
            <p:cNvPr id="503" name="任意多边形 564"/>
            <p:cNvSpPr/>
            <p:nvPr/>
          </p:nvSpPr>
          <p:spPr>
            <a:xfrm rot="175800">
              <a:off x="5486760" y="-96840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任意多边形 565"/>
            <p:cNvSpPr/>
            <p:nvPr/>
          </p:nvSpPr>
          <p:spPr>
            <a:xfrm rot="4174800">
              <a:off x="5539680" y="-92520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任意多边形 566"/>
            <p:cNvSpPr/>
            <p:nvPr/>
          </p:nvSpPr>
          <p:spPr>
            <a:xfrm rot="7732800">
              <a:off x="5532120" y="-86724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任意多边形 567"/>
            <p:cNvSpPr/>
            <p:nvPr/>
          </p:nvSpPr>
          <p:spPr>
            <a:xfrm flipV="1">
              <a:off x="5483160" y="-84420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任意多边形 568"/>
            <p:cNvSpPr/>
            <p:nvPr/>
          </p:nvSpPr>
          <p:spPr>
            <a:xfrm rot="18054600">
              <a:off x="5436720" y="-92772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任意多边形 569"/>
            <p:cNvSpPr/>
            <p:nvPr/>
          </p:nvSpPr>
          <p:spPr>
            <a:xfrm rot="14466000">
              <a:off x="5445360" y="-87804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椭圆 570"/>
            <p:cNvSpPr/>
            <p:nvPr/>
          </p:nvSpPr>
          <p:spPr>
            <a:xfrm>
              <a:off x="5509800" y="-8787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组合 571"/>
          <p:cNvGrpSpPr/>
          <p:nvPr/>
        </p:nvGrpSpPr>
        <p:grpSpPr>
          <a:xfrm>
            <a:off x="5144040" y="-1037160"/>
            <a:ext cx="213840" cy="208800"/>
            <a:chOff x="5144040" y="-1037160"/>
            <a:chExt cx="213840" cy="208800"/>
          </a:xfrm>
        </p:grpSpPr>
        <p:sp>
          <p:nvSpPr>
            <p:cNvPr id="511" name="任意多边形 572"/>
            <p:cNvSpPr/>
            <p:nvPr/>
          </p:nvSpPr>
          <p:spPr>
            <a:xfrm rot="175800">
              <a:off x="5210640" y="-103500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任意多边形 573"/>
            <p:cNvSpPr/>
            <p:nvPr/>
          </p:nvSpPr>
          <p:spPr>
            <a:xfrm rot="4174800">
              <a:off x="5263560" y="-99180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任意多边形 574"/>
            <p:cNvSpPr/>
            <p:nvPr/>
          </p:nvSpPr>
          <p:spPr>
            <a:xfrm rot="7732800">
              <a:off x="5256000" y="-93384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任意多边形 575"/>
            <p:cNvSpPr/>
            <p:nvPr/>
          </p:nvSpPr>
          <p:spPr>
            <a:xfrm flipV="1">
              <a:off x="5207040" y="-91080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任意多边形 576"/>
            <p:cNvSpPr/>
            <p:nvPr/>
          </p:nvSpPr>
          <p:spPr>
            <a:xfrm rot="18054600">
              <a:off x="5160600" y="-99432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任意多边形 577"/>
            <p:cNvSpPr/>
            <p:nvPr/>
          </p:nvSpPr>
          <p:spPr>
            <a:xfrm rot="14466000">
              <a:off x="5169240" y="-94464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椭圆 578"/>
            <p:cNvSpPr/>
            <p:nvPr/>
          </p:nvSpPr>
          <p:spPr>
            <a:xfrm>
              <a:off x="5233680" y="-9453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组合 579"/>
          <p:cNvGrpSpPr/>
          <p:nvPr/>
        </p:nvGrpSpPr>
        <p:grpSpPr>
          <a:xfrm>
            <a:off x="5630760" y="-1151640"/>
            <a:ext cx="214560" cy="209520"/>
            <a:chOff x="5630760" y="-1151640"/>
            <a:chExt cx="214560" cy="209520"/>
          </a:xfrm>
        </p:grpSpPr>
        <p:sp>
          <p:nvSpPr>
            <p:cNvPr id="519" name="任意多边形 580"/>
            <p:cNvSpPr/>
            <p:nvPr/>
          </p:nvSpPr>
          <p:spPr>
            <a:xfrm rot="175800">
              <a:off x="5697720" y="-114948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任意多边形 581"/>
            <p:cNvSpPr/>
            <p:nvPr/>
          </p:nvSpPr>
          <p:spPr>
            <a:xfrm rot="4174800">
              <a:off x="5750640" y="-110592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任意多边形 582"/>
            <p:cNvSpPr/>
            <p:nvPr/>
          </p:nvSpPr>
          <p:spPr>
            <a:xfrm rot="7732800">
              <a:off x="5743440" y="-104796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任意多边形 583"/>
            <p:cNvSpPr/>
            <p:nvPr/>
          </p:nvSpPr>
          <p:spPr>
            <a:xfrm flipV="1">
              <a:off x="5694480" y="-102492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任意多边形 584"/>
            <p:cNvSpPr/>
            <p:nvPr/>
          </p:nvSpPr>
          <p:spPr>
            <a:xfrm rot="18054600">
              <a:off x="5647320" y="-1108080"/>
              <a:ext cx="8424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任意多边形 585"/>
            <p:cNvSpPr/>
            <p:nvPr/>
          </p:nvSpPr>
          <p:spPr>
            <a:xfrm rot="14466000">
              <a:off x="5655960" y="-1058760"/>
              <a:ext cx="7452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椭圆 586"/>
            <p:cNvSpPr/>
            <p:nvPr/>
          </p:nvSpPr>
          <p:spPr>
            <a:xfrm>
              <a:off x="5721120" y="-105948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组合 587"/>
          <p:cNvGrpSpPr/>
          <p:nvPr/>
        </p:nvGrpSpPr>
        <p:grpSpPr>
          <a:xfrm>
            <a:off x="5248800" y="-727560"/>
            <a:ext cx="213840" cy="208800"/>
            <a:chOff x="5248800" y="-727560"/>
            <a:chExt cx="213840" cy="208800"/>
          </a:xfrm>
        </p:grpSpPr>
        <p:sp>
          <p:nvSpPr>
            <p:cNvPr id="527" name="任意多边形 588"/>
            <p:cNvSpPr/>
            <p:nvPr/>
          </p:nvSpPr>
          <p:spPr>
            <a:xfrm rot="175800">
              <a:off x="5315400" y="-72540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任意多边形 589"/>
            <p:cNvSpPr/>
            <p:nvPr/>
          </p:nvSpPr>
          <p:spPr>
            <a:xfrm rot="4174800">
              <a:off x="5368320" y="-68220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任意多边形 590"/>
            <p:cNvSpPr/>
            <p:nvPr/>
          </p:nvSpPr>
          <p:spPr>
            <a:xfrm rot="7732800">
              <a:off x="5360760" y="-62424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任意多边形 591"/>
            <p:cNvSpPr/>
            <p:nvPr/>
          </p:nvSpPr>
          <p:spPr>
            <a:xfrm flipV="1">
              <a:off x="5311800" y="-60120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任意多边形 592"/>
            <p:cNvSpPr/>
            <p:nvPr/>
          </p:nvSpPr>
          <p:spPr>
            <a:xfrm rot="18054600">
              <a:off x="5265360" y="-68472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任意多边形 593"/>
            <p:cNvSpPr/>
            <p:nvPr/>
          </p:nvSpPr>
          <p:spPr>
            <a:xfrm rot="14466000">
              <a:off x="5274000" y="-63504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椭圆 594"/>
            <p:cNvSpPr/>
            <p:nvPr/>
          </p:nvSpPr>
          <p:spPr>
            <a:xfrm>
              <a:off x="5338440" y="-6357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组合 595"/>
          <p:cNvGrpSpPr/>
          <p:nvPr/>
        </p:nvGrpSpPr>
        <p:grpSpPr>
          <a:xfrm>
            <a:off x="5571000" y="-824400"/>
            <a:ext cx="213840" cy="208800"/>
            <a:chOff x="5571000" y="-824400"/>
            <a:chExt cx="213840" cy="208800"/>
          </a:xfrm>
        </p:grpSpPr>
        <p:sp>
          <p:nvSpPr>
            <p:cNvPr id="535" name="任意多边形 596"/>
            <p:cNvSpPr/>
            <p:nvPr/>
          </p:nvSpPr>
          <p:spPr>
            <a:xfrm rot="175800">
              <a:off x="5637600" y="-82224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任意多边形 597"/>
            <p:cNvSpPr/>
            <p:nvPr/>
          </p:nvSpPr>
          <p:spPr>
            <a:xfrm rot="4174800">
              <a:off x="5690520" y="-77904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任意多边形 598"/>
            <p:cNvSpPr/>
            <p:nvPr/>
          </p:nvSpPr>
          <p:spPr>
            <a:xfrm rot="7732800">
              <a:off x="5682960" y="-72108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任意多边形 599"/>
            <p:cNvSpPr/>
            <p:nvPr/>
          </p:nvSpPr>
          <p:spPr>
            <a:xfrm flipV="1">
              <a:off x="5634000" y="-69804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任意多边形 600"/>
            <p:cNvSpPr/>
            <p:nvPr/>
          </p:nvSpPr>
          <p:spPr>
            <a:xfrm rot="18054600">
              <a:off x="5587560" y="-78156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任意多边形 601"/>
            <p:cNvSpPr/>
            <p:nvPr/>
          </p:nvSpPr>
          <p:spPr>
            <a:xfrm rot="14466000">
              <a:off x="5596200" y="-73188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椭圆 602"/>
            <p:cNvSpPr/>
            <p:nvPr/>
          </p:nvSpPr>
          <p:spPr>
            <a:xfrm>
              <a:off x="5660640" y="-73260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组合 603"/>
          <p:cNvGrpSpPr/>
          <p:nvPr/>
        </p:nvGrpSpPr>
        <p:grpSpPr>
          <a:xfrm>
            <a:off x="5840640" y="-929160"/>
            <a:ext cx="214200" cy="209160"/>
            <a:chOff x="5840640" y="-929160"/>
            <a:chExt cx="214200" cy="209160"/>
          </a:xfrm>
        </p:grpSpPr>
        <p:sp>
          <p:nvSpPr>
            <p:cNvPr id="543" name="任意多边形 604"/>
            <p:cNvSpPr/>
            <p:nvPr/>
          </p:nvSpPr>
          <p:spPr>
            <a:xfrm rot="175800">
              <a:off x="5907240" y="-92700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 605"/>
            <p:cNvSpPr/>
            <p:nvPr/>
          </p:nvSpPr>
          <p:spPr>
            <a:xfrm rot="4174800">
              <a:off x="5960160" y="-88344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 606"/>
            <p:cNvSpPr/>
            <p:nvPr/>
          </p:nvSpPr>
          <p:spPr>
            <a:xfrm rot="7732800">
              <a:off x="5952960" y="-82584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任意多边形 607"/>
            <p:cNvSpPr/>
            <p:nvPr/>
          </p:nvSpPr>
          <p:spPr>
            <a:xfrm flipV="1">
              <a:off x="5904000" y="-80280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任意多边形 608"/>
            <p:cNvSpPr/>
            <p:nvPr/>
          </p:nvSpPr>
          <p:spPr>
            <a:xfrm rot="18054600">
              <a:off x="5857200" y="-88632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 609"/>
            <p:cNvSpPr/>
            <p:nvPr/>
          </p:nvSpPr>
          <p:spPr>
            <a:xfrm rot="14466000">
              <a:off x="5865840" y="-83664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椭圆 610"/>
            <p:cNvSpPr/>
            <p:nvPr/>
          </p:nvSpPr>
          <p:spPr>
            <a:xfrm>
              <a:off x="5930640" y="-8373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组合 611"/>
          <p:cNvGrpSpPr/>
          <p:nvPr/>
        </p:nvGrpSpPr>
        <p:grpSpPr>
          <a:xfrm>
            <a:off x="5550120" y="-1087920"/>
            <a:ext cx="214200" cy="209160"/>
            <a:chOff x="5550120" y="-1087920"/>
            <a:chExt cx="214200" cy="209160"/>
          </a:xfrm>
        </p:grpSpPr>
        <p:sp>
          <p:nvSpPr>
            <p:cNvPr id="551" name="任意多边形 612"/>
            <p:cNvSpPr/>
            <p:nvPr/>
          </p:nvSpPr>
          <p:spPr>
            <a:xfrm rot="175800">
              <a:off x="5616720" y="-108576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任意多边形 613"/>
            <p:cNvSpPr/>
            <p:nvPr/>
          </p:nvSpPr>
          <p:spPr>
            <a:xfrm rot="4174800">
              <a:off x="5669640" y="-104220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任意多边形 614"/>
            <p:cNvSpPr/>
            <p:nvPr/>
          </p:nvSpPr>
          <p:spPr>
            <a:xfrm rot="7732800">
              <a:off x="5662440" y="-98460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任意多边形 615"/>
            <p:cNvSpPr/>
            <p:nvPr/>
          </p:nvSpPr>
          <p:spPr>
            <a:xfrm flipV="1">
              <a:off x="5613480" y="-96156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任意多边形 955"/>
            <p:cNvSpPr/>
            <p:nvPr/>
          </p:nvSpPr>
          <p:spPr>
            <a:xfrm rot="18054600">
              <a:off x="5566680" y="-104508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任意多边形 956"/>
            <p:cNvSpPr/>
            <p:nvPr/>
          </p:nvSpPr>
          <p:spPr>
            <a:xfrm rot="14466000">
              <a:off x="5575320" y="-99540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椭圆 957"/>
            <p:cNvSpPr/>
            <p:nvPr/>
          </p:nvSpPr>
          <p:spPr>
            <a:xfrm>
              <a:off x="5640120" y="-99612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组合 958"/>
          <p:cNvGrpSpPr/>
          <p:nvPr/>
        </p:nvGrpSpPr>
        <p:grpSpPr>
          <a:xfrm>
            <a:off x="5247000" y="-1057680"/>
            <a:ext cx="214200" cy="209160"/>
            <a:chOff x="5247000" y="-1057680"/>
            <a:chExt cx="214200" cy="209160"/>
          </a:xfrm>
        </p:grpSpPr>
        <p:sp>
          <p:nvSpPr>
            <p:cNvPr id="559" name="任意多边形 959"/>
            <p:cNvSpPr/>
            <p:nvPr/>
          </p:nvSpPr>
          <p:spPr>
            <a:xfrm rot="175800">
              <a:off x="5313600" y="-105552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任意多边形 960"/>
            <p:cNvSpPr/>
            <p:nvPr/>
          </p:nvSpPr>
          <p:spPr>
            <a:xfrm rot="4174800">
              <a:off x="5366520" y="-101196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任意多边形 961"/>
            <p:cNvSpPr/>
            <p:nvPr/>
          </p:nvSpPr>
          <p:spPr>
            <a:xfrm rot="7732800">
              <a:off x="5359320" y="-95436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任意多边形 962"/>
            <p:cNvSpPr/>
            <p:nvPr/>
          </p:nvSpPr>
          <p:spPr>
            <a:xfrm flipV="1">
              <a:off x="5310360" y="-93132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任意多边形 963"/>
            <p:cNvSpPr/>
            <p:nvPr/>
          </p:nvSpPr>
          <p:spPr>
            <a:xfrm rot="18054600">
              <a:off x="5263560" y="-101484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任意多边形 964"/>
            <p:cNvSpPr/>
            <p:nvPr/>
          </p:nvSpPr>
          <p:spPr>
            <a:xfrm rot="14466000">
              <a:off x="5272200" y="-96516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椭圆 965"/>
            <p:cNvSpPr/>
            <p:nvPr/>
          </p:nvSpPr>
          <p:spPr>
            <a:xfrm>
              <a:off x="5337000" y="-96588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组合 966"/>
          <p:cNvGrpSpPr/>
          <p:nvPr/>
        </p:nvGrpSpPr>
        <p:grpSpPr>
          <a:xfrm>
            <a:off x="5820120" y="-1210320"/>
            <a:ext cx="213840" cy="208800"/>
            <a:chOff x="5820120" y="-1210320"/>
            <a:chExt cx="213840" cy="208800"/>
          </a:xfrm>
        </p:grpSpPr>
        <p:sp>
          <p:nvSpPr>
            <p:cNvPr id="567" name="任意多边形 967"/>
            <p:cNvSpPr/>
            <p:nvPr/>
          </p:nvSpPr>
          <p:spPr>
            <a:xfrm rot="175800">
              <a:off x="5886720" y="-120816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任意多边形 968"/>
            <p:cNvSpPr/>
            <p:nvPr/>
          </p:nvSpPr>
          <p:spPr>
            <a:xfrm rot="4174800">
              <a:off x="5939640" y="-116496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任意多边形 969"/>
            <p:cNvSpPr/>
            <p:nvPr/>
          </p:nvSpPr>
          <p:spPr>
            <a:xfrm rot="7732800">
              <a:off x="5932080" y="-110700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任意多边形 970"/>
            <p:cNvSpPr/>
            <p:nvPr/>
          </p:nvSpPr>
          <p:spPr>
            <a:xfrm flipV="1">
              <a:off x="5883120" y="-108396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任意多边形 971"/>
            <p:cNvSpPr/>
            <p:nvPr/>
          </p:nvSpPr>
          <p:spPr>
            <a:xfrm rot="18054600">
              <a:off x="5836680" y="-116748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任意多边形 972"/>
            <p:cNvSpPr/>
            <p:nvPr/>
          </p:nvSpPr>
          <p:spPr>
            <a:xfrm rot="14466000">
              <a:off x="5845320" y="-111780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椭圆 973"/>
            <p:cNvSpPr/>
            <p:nvPr/>
          </p:nvSpPr>
          <p:spPr>
            <a:xfrm>
              <a:off x="5909760" y="-111852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组合 974"/>
          <p:cNvGrpSpPr/>
          <p:nvPr/>
        </p:nvGrpSpPr>
        <p:grpSpPr>
          <a:xfrm>
            <a:off x="5450040" y="-1372320"/>
            <a:ext cx="214200" cy="209160"/>
            <a:chOff x="5450040" y="-1372320"/>
            <a:chExt cx="214200" cy="209160"/>
          </a:xfrm>
        </p:grpSpPr>
        <p:sp>
          <p:nvSpPr>
            <p:cNvPr id="575" name="任意多边形 975"/>
            <p:cNvSpPr/>
            <p:nvPr/>
          </p:nvSpPr>
          <p:spPr>
            <a:xfrm rot="175800">
              <a:off x="5517000" y="-137016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任意多边形 976"/>
            <p:cNvSpPr/>
            <p:nvPr/>
          </p:nvSpPr>
          <p:spPr>
            <a:xfrm rot="4174800">
              <a:off x="5569920" y="-132696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任意多边形 977"/>
            <p:cNvSpPr/>
            <p:nvPr/>
          </p:nvSpPr>
          <p:spPr>
            <a:xfrm rot="7732800">
              <a:off x="5562360" y="-126864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任意多边形 978"/>
            <p:cNvSpPr/>
            <p:nvPr/>
          </p:nvSpPr>
          <p:spPr>
            <a:xfrm flipV="1">
              <a:off x="5513400" y="-124560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任意多边形 979"/>
            <p:cNvSpPr/>
            <p:nvPr/>
          </p:nvSpPr>
          <p:spPr>
            <a:xfrm rot="18054600">
              <a:off x="5466600" y="-1328760"/>
              <a:ext cx="8424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任意多边形 980"/>
            <p:cNvSpPr/>
            <p:nvPr/>
          </p:nvSpPr>
          <p:spPr>
            <a:xfrm rot="14466000">
              <a:off x="5475240" y="-1279440"/>
              <a:ext cx="7452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椭圆 981"/>
            <p:cNvSpPr/>
            <p:nvPr/>
          </p:nvSpPr>
          <p:spPr>
            <a:xfrm>
              <a:off x="5540040" y="-12801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组合 982"/>
          <p:cNvGrpSpPr/>
          <p:nvPr/>
        </p:nvGrpSpPr>
        <p:grpSpPr>
          <a:xfrm>
            <a:off x="5173920" y="-1438920"/>
            <a:ext cx="214200" cy="209160"/>
            <a:chOff x="5173920" y="-1438920"/>
            <a:chExt cx="214200" cy="209160"/>
          </a:xfrm>
        </p:grpSpPr>
        <p:sp>
          <p:nvSpPr>
            <p:cNvPr id="583" name="任意多边形 983"/>
            <p:cNvSpPr/>
            <p:nvPr/>
          </p:nvSpPr>
          <p:spPr>
            <a:xfrm rot="175800">
              <a:off x="5240520" y="-143676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任意多边形 984"/>
            <p:cNvSpPr/>
            <p:nvPr/>
          </p:nvSpPr>
          <p:spPr>
            <a:xfrm rot="4174800">
              <a:off x="5293440" y="-139320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任意多边形 985"/>
            <p:cNvSpPr/>
            <p:nvPr/>
          </p:nvSpPr>
          <p:spPr>
            <a:xfrm rot="7732800">
              <a:off x="5286240" y="-133560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任意多边形 986"/>
            <p:cNvSpPr/>
            <p:nvPr/>
          </p:nvSpPr>
          <p:spPr>
            <a:xfrm flipV="1">
              <a:off x="5237280" y="-131256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任意多边形 987"/>
            <p:cNvSpPr/>
            <p:nvPr/>
          </p:nvSpPr>
          <p:spPr>
            <a:xfrm rot="18054600">
              <a:off x="5190480" y="-139608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任意多边形 988"/>
            <p:cNvSpPr/>
            <p:nvPr/>
          </p:nvSpPr>
          <p:spPr>
            <a:xfrm rot="14466000">
              <a:off x="5199120" y="-134640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椭圆 989"/>
            <p:cNvSpPr/>
            <p:nvPr/>
          </p:nvSpPr>
          <p:spPr>
            <a:xfrm>
              <a:off x="5263920" y="-134712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组合 990"/>
          <p:cNvGrpSpPr/>
          <p:nvPr/>
        </p:nvGrpSpPr>
        <p:grpSpPr>
          <a:xfrm>
            <a:off x="5661360" y="-1553040"/>
            <a:ext cx="214200" cy="209160"/>
            <a:chOff x="5661360" y="-1553040"/>
            <a:chExt cx="214200" cy="209160"/>
          </a:xfrm>
        </p:grpSpPr>
        <p:sp>
          <p:nvSpPr>
            <p:cNvPr id="591" name="任意多边形 991"/>
            <p:cNvSpPr/>
            <p:nvPr/>
          </p:nvSpPr>
          <p:spPr>
            <a:xfrm rot="175800">
              <a:off x="5727960" y="-155088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任意多边形 992"/>
            <p:cNvSpPr/>
            <p:nvPr/>
          </p:nvSpPr>
          <p:spPr>
            <a:xfrm rot="4174800">
              <a:off x="5780880" y="-150732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任意多边形 993"/>
            <p:cNvSpPr/>
            <p:nvPr/>
          </p:nvSpPr>
          <p:spPr>
            <a:xfrm rot="7732800">
              <a:off x="5773680" y="-144972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任意多边形 994"/>
            <p:cNvSpPr/>
            <p:nvPr/>
          </p:nvSpPr>
          <p:spPr>
            <a:xfrm flipV="1">
              <a:off x="5724720" y="-142668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任意多边形 995"/>
            <p:cNvSpPr/>
            <p:nvPr/>
          </p:nvSpPr>
          <p:spPr>
            <a:xfrm rot="18054600">
              <a:off x="5677920" y="-151020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任意多边形 996"/>
            <p:cNvSpPr/>
            <p:nvPr/>
          </p:nvSpPr>
          <p:spPr>
            <a:xfrm rot="14466000">
              <a:off x="5686560" y="-146052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椭圆 997"/>
            <p:cNvSpPr/>
            <p:nvPr/>
          </p:nvSpPr>
          <p:spPr>
            <a:xfrm>
              <a:off x="5751360" y="-146124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组合 998"/>
          <p:cNvGrpSpPr/>
          <p:nvPr/>
        </p:nvGrpSpPr>
        <p:grpSpPr>
          <a:xfrm>
            <a:off x="5327640" y="-1178640"/>
            <a:ext cx="214200" cy="209160"/>
            <a:chOff x="5327640" y="-1178640"/>
            <a:chExt cx="214200" cy="209160"/>
          </a:xfrm>
        </p:grpSpPr>
        <p:sp>
          <p:nvSpPr>
            <p:cNvPr id="599" name="任意多边形 999"/>
            <p:cNvSpPr/>
            <p:nvPr/>
          </p:nvSpPr>
          <p:spPr>
            <a:xfrm rot="175800">
              <a:off x="5394600" y="-117648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任意多边形 1000"/>
            <p:cNvSpPr/>
            <p:nvPr/>
          </p:nvSpPr>
          <p:spPr>
            <a:xfrm rot="4174800">
              <a:off x="5447520" y="-113328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任意多边形 1001"/>
            <p:cNvSpPr/>
            <p:nvPr/>
          </p:nvSpPr>
          <p:spPr>
            <a:xfrm rot="7732800">
              <a:off x="5439960" y="-107496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任意多边形 1002"/>
            <p:cNvSpPr/>
            <p:nvPr/>
          </p:nvSpPr>
          <p:spPr>
            <a:xfrm flipV="1">
              <a:off x="5391000" y="-105192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任意多边形 1003"/>
            <p:cNvSpPr/>
            <p:nvPr/>
          </p:nvSpPr>
          <p:spPr>
            <a:xfrm rot="18054600">
              <a:off x="5344200" y="-1135080"/>
              <a:ext cx="8424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任意多边形 1004"/>
            <p:cNvSpPr/>
            <p:nvPr/>
          </p:nvSpPr>
          <p:spPr>
            <a:xfrm rot="14466000">
              <a:off x="5352840" y="-1085760"/>
              <a:ext cx="7452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椭圆 1005"/>
            <p:cNvSpPr/>
            <p:nvPr/>
          </p:nvSpPr>
          <p:spPr>
            <a:xfrm>
              <a:off x="5417640" y="-108648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组合 1006"/>
          <p:cNvGrpSpPr/>
          <p:nvPr/>
        </p:nvGrpSpPr>
        <p:grpSpPr>
          <a:xfrm>
            <a:off x="5391720" y="-1176840"/>
            <a:ext cx="213840" cy="208800"/>
            <a:chOff x="5391720" y="-1176840"/>
            <a:chExt cx="213840" cy="208800"/>
          </a:xfrm>
        </p:grpSpPr>
        <p:sp>
          <p:nvSpPr>
            <p:cNvPr id="607" name="任意多边形 1007"/>
            <p:cNvSpPr/>
            <p:nvPr/>
          </p:nvSpPr>
          <p:spPr>
            <a:xfrm rot="175800">
              <a:off x="5458320" y="-117468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任意多边形 1008"/>
            <p:cNvSpPr/>
            <p:nvPr/>
          </p:nvSpPr>
          <p:spPr>
            <a:xfrm rot="4174800">
              <a:off x="5511240" y="-113148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任意多边形 1009"/>
            <p:cNvSpPr/>
            <p:nvPr/>
          </p:nvSpPr>
          <p:spPr>
            <a:xfrm rot="7732800">
              <a:off x="5503680" y="-107352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任意多边形 1010"/>
            <p:cNvSpPr/>
            <p:nvPr/>
          </p:nvSpPr>
          <p:spPr>
            <a:xfrm flipV="1">
              <a:off x="5454720" y="-105048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任意多边形 1011"/>
            <p:cNvSpPr/>
            <p:nvPr/>
          </p:nvSpPr>
          <p:spPr>
            <a:xfrm rot="18054600">
              <a:off x="5408280" y="-113400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任意多边形 1012"/>
            <p:cNvSpPr/>
            <p:nvPr/>
          </p:nvSpPr>
          <p:spPr>
            <a:xfrm rot="14466000">
              <a:off x="5416920" y="-108432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椭圆 1013"/>
            <p:cNvSpPr/>
            <p:nvPr/>
          </p:nvSpPr>
          <p:spPr>
            <a:xfrm>
              <a:off x="5481360" y="-108504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组合 1014"/>
          <p:cNvGrpSpPr/>
          <p:nvPr/>
        </p:nvGrpSpPr>
        <p:grpSpPr>
          <a:xfrm>
            <a:off x="5086800" y="-1146600"/>
            <a:ext cx="213840" cy="208800"/>
            <a:chOff x="5086800" y="-1146600"/>
            <a:chExt cx="213840" cy="208800"/>
          </a:xfrm>
        </p:grpSpPr>
        <p:sp>
          <p:nvSpPr>
            <p:cNvPr id="615" name="任意多边形 1015"/>
            <p:cNvSpPr/>
            <p:nvPr/>
          </p:nvSpPr>
          <p:spPr>
            <a:xfrm rot="175800">
              <a:off x="5153400" y="-114444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 1016"/>
            <p:cNvSpPr/>
            <p:nvPr/>
          </p:nvSpPr>
          <p:spPr>
            <a:xfrm rot="4174800">
              <a:off x="5206320" y="-110124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 1017"/>
            <p:cNvSpPr/>
            <p:nvPr/>
          </p:nvSpPr>
          <p:spPr>
            <a:xfrm rot="7732800">
              <a:off x="5198760" y="-104328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任意多边形 1018"/>
            <p:cNvSpPr/>
            <p:nvPr/>
          </p:nvSpPr>
          <p:spPr>
            <a:xfrm flipV="1">
              <a:off x="5149800" y="-102024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 1019"/>
            <p:cNvSpPr/>
            <p:nvPr/>
          </p:nvSpPr>
          <p:spPr>
            <a:xfrm rot="18054600">
              <a:off x="5103360" y="-110376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 1020"/>
            <p:cNvSpPr/>
            <p:nvPr/>
          </p:nvSpPr>
          <p:spPr>
            <a:xfrm rot="14466000">
              <a:off x="5112000" y="-105408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椭圆 1021"/>
            <p:cNvSpPr/>
            <p:nvPr/>
          </p:nvSpPr>
          <p:spPr>
            <a:xfrm>
              <a:off x="5176440" y="-105480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组合 1022"/>
          <p:cNvGrpSpPr/>
          <p:nvPr/>
        </p:nvGrpSpPr>
        <p:grpSpPr>
          <a:xfrm>
            <a:off x="5661000" y="-1299240"/>
            <a:ext cx="214560" cy="209520"/>
            <a:chOff x="5661000" y="-1299240"/>
            <a:chExt cx="214560" cy="209520"/>
          </a:xfrm>
        </p:grpSpPr>
        <p:sp>
          <p:nvSpPr>
            <p:cNvPr id="623" name="任意多边形 1023"/>
            <p:cNvSpPr/>
            <p:nvPr/>
          </p:nvSpPr>
          <p:spPr>
            <a:xfrm rot="175800">
              <a:off x="5727960" y="-129708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任意多边形 1024"/>
            <p:cNvSpPr/>
            <p:nvPr/>
          </p:nvSpPr>
          <p:spPr>
            <a:xfrm rot="4174800">
              <a:off x="5780880" y="-125352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 1025"/>
            <p:cNvSpPr/>
            <p:nvPr/>
          </p:nvSpPr>
          <p:spPr>
            <a:xfrm rot="7732800">
              <a:off x="5773680" y="-119556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 1026"/>
            <p:cNvSpPr/>
            <p:nvPr/>
          </p:nvSpPr>
          <p:spPr>
            <a:xfrm flipV="1">
              <a:off x="5724720" y="-117252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任意多边形 1027"/>
            <p:cNvSpPr/>
            <p:nvPr/>
          </p:nvSpPr>
          <p:spPr>
            <a:xfrm rot="18054600">
              <a:off x="5677560" y="-1255680"/>
              <a:ext cx="8424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任意多边形 1028"/>
            <p:cNvSpPr/>
            <p:nvPr/>
          </p:nvSpPr>
          <p:spPr>
            <a:xfrm rot="14466000">
              <a:off x="5686200" y="-1206360"/>
              <a:ext cx="7452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椭圆 1029"/>
            <p:cNvSpPr/>
            <p:nvPr/>
          </p:nvSpPr>
          <p:spPr>
            <a:xfrm>
              <a:off x="5751360" y="-120708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组合 1030"/>
          <p:cNvGrpSpPr/>
          <p:nvPr/>
        </p:nvGrpSpPr>
        <p:grpSpPr>
          <a:xfrm>
            <a:off x="5289480" y="-1461240"/>
            <a:ext cx="214560" cy="209520"/>
            <a:chOff x="5289480" y="-1461240"/>
            <a:chExt cx="214560" cy="209520"/>
          </a:xfrm>
        </p:grpSpPr>
        <p:sp>
          <p:nvSpPr>
            <p:cNvPr id="631" name="任意多边形 1031"/>
            <p:cNvSpPr/>
            <p:nvPr/>
          </p:nvSpPr>
          <p:spPr>
            <a:xfrm rot="175800">
              <a:off x="5356440" y="-145908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任意多边形 1032"/>
            <p:cNvSpPr/>
            <p:nvPr/>
          </p:nvSpPr>
          <p:spPr>
            <a:xfrm rot="4174800">
              <a:off x="5409360" y="-141552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任意多边形 1033"/>
            <p:cNvSpPr/>
            <p:nvPr/>
          </p:nvSpPr>
          <p:spPr>
            <a:xfrm rot="7732800">
              <a:off x="5402160" y="-135756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任意多边形 1034"/>
            <p:cNvSpPr/>
            <p:nvPr/>
          </p:nvSpPr>
          <p:spPr>
            <a:xfrm flipV="1">
              <a:off x="5353200" y="-133452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任意多边形 1035"/>
            <p:cNvSpPr/>
            <p:nvPr/>
          </p:nvSpPr>
          <p:spPr>
            <a:xfrm rot="18054600">
              <a:off x="5306040" y="-1417680"/>
              <a:ext cx="8424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任意多边形 1036"/>
            <p:cNvSpPr/>
            <p:nvPr/>
          </p:nvSpPr>
          <p:spPr>
            <a:xfrm rot="14466000">
              <a:off x="5314680" y="-1368360"/>
              <a:ext cx="7452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椭圆 1037"/>
            <p:cNvSpPr/>
            <p:nvPr/>
          </p:nvSpPr>
          <p:spPr>
            <a:xfrm>
              <a:off x="5379840" y="-136908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组合 1038"/>
          <p:cNvGrpSpPr/>
          <p:nvPr/>
        </p:nvGrpSpPr>
        <p:grpSpPr>
          <a:xfrm>
            <a:off x="5015160" y="-1529280"/>
            <a:ext cx="214200" cy="209160"/>
            <a:chOff x="5015160" y="-1529280"/>
            <a:chExt cx="214200" cy="209160"/>
          </a:xfrm>
        </p:grpSpPr>
        <p:sp>
          <p:nvSpPr>
            <p:cNvPr id="639" name="任意多边形 1039"/>
            <p:cNvSpPr/>
            <p:nvPr/>
          </p:nvSpPr>
          <p:spPr>
            <a:xfrm rot="175800">
              <a:off x="5081760" y="-152712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任意多边形 1040"/>
            <p:cNvSpPr/>
            <p:nvPr/>
          </p:nvSpPr>
          <p:spPr>
            <a:xfrm rot="4174800">
              <a:off x="5134680" y="-148356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任意多边形 1041"/>
            <p:cNvSpPr/>
            <p:nvPr/>
          </p:nvSpPr>
          <p:spPr>
            <a:xfrm rot="7732800">
              <a:off x="5127480" y="-142596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任意多边形 1042"/>
            <p:cNvSpPr/>
            <p:nvPr/>
          </p:nvSpPr>
          <p:spPr>
            <a:xfrm flipV="1">
              <a:off x="5078520" y="-140292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任意多边形 1043"/>
            <p:cNvSpPr/>
            <p:nvPr/>
          </p:nvSpPr>
          <p:spPr>
            <a:xfrm rot="18054600">
              <a:off x="5031720" y="-148644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任意多边形 1044"/>
            <p:cNvSpPr/>
            <p:nvPr/>
          </p:nvSpPr>
          <p:spPr>
            <a:xfrm rot="14466000">
              <a:off x="5040360" y="-143676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椭圆 1045"/>
            <p:cNvSpPr/>
            <p:nvPr/>
          </p:nvSpPr>
          <p:spPr>
            <a:xfrm>
              <a:off x="5105160" y="-143748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组合 1046"/>
          <p:cNvGrpSpPr/>
          <p:nvPr/>
        </p:nvGrpSpPr>
        <p:grpSpPr>
          <a:xfrm>
            <a:off x="5502600" y="-1641960"/>
            <a:ext cx="214200" cy="209160"/>
            <a:chOff x="5502600" y="-1641960"/>
            <a:chExt cx="214200" cy="209160"/>
          </a:xfrm>
        </p:grpSpPr>
        <p:sp>
          <p:nvSpPr>
            <p:cNvPr id="647" name="任意多边形 1047"/>
            <p:cNvSpPr/>
            <p:nvPr/>
          </p:nvSpPr>
          <p:spPr>
            <a:xfrm rot="175800">
              <a:off x="5569200" y="-163980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任意多边形 1048"/>
            <p:cNvSpPr/>
            <p:nvPr/>
          </p:nvSpPr>
          <p:spPr>
            <a:xfrm rot="4174800">
              <a:off x="5622120" y="-159624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任意多边形 1049"/>
            <p:cNvSpPr/>
            <p:nvPr/>
          </p:nvSpPr>
          <p:spPr>
            <a:xfrm rot="7732800">
              <a:off x="5614920" y="-153864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任意多边形 1050"/>
            <p:cNvSpPr/>
            <p:nvPr/>
          </p:nvSpPr>
          <p:spPr>
            <a:xfrm flipV="1">
              <a:off x="5565960" y="-151560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任意多边形 1051"/>
            <p:cNvSpPr/>
            <p:nvPr/>
          </p:nvSpPr>
          <p:spPr>
            <a:xfrm rot="18054600">
              <a:off x="5519160" y="-159912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任意多边形 1052"/>
            <p:cNvSpPr/>
            <p:nvPr/>
          </p:nvSpPr>
          <p:spPr>
            <a:xfrm rot="14466000">
              <a:off x="5527800" y="-154944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椭圆 1053"/>
            <p:cNvSpPr/>
            <p:nvPr/>
          </p:nvSpPr>
          <p:spPr>
            <a:xfrm>
              <a:off x="5592600" y="-15501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组合 4"/>
          <p:cNvGrpSpPr/>
          <p:nvPr/>
        </p:nvGrpSpPr>
        <p:grpSpPr>
          <a:xfrm>
            <a:off x="4730760" y="2567160"/>
            <a:ext cx="1955880" cy="2573280"/>
            <a:chOff x="4730760" y="2567160"/>
            <a:chExt cx="1955880" cy="2573280"/>
          </a:xfrm>
        </p:grpSpPr>
        <p:grpSp>
          <p:nvGrpSpPr>
            <p:cNvPr id="655" name="组合 13"/>
            <p:cNvGrpSpPr/>
            <p:nvPr/>
          </p:nvGrpSpPr>
          <p:grpSpPr>
            <a:xfrm>
              <a:off x="4730760" y="2567160"/>
              <a:ext cx="1955880" cy="2573280"/>
              <a:chOff x="4730760" y="2567160"/>
              <a:chExt cx="1955880" cy="2573280"/>
            </a:xfrm>
          </p:grpSpPr>
          <p:sp>
            <p:nvSpPr>
              <p:cNvPr id="656" name="矩形 12"/>
              <p:cNvSpPr/>
              <p:nvPr/>
            </p:nvSpPr>
            <p:spPr>
              <a:xfrm>
                <a:off x="5573880" y="4356720"/>
                <a:ext cx="269280" cy="783720"/>
              </a:xfrm>
              <a:prstGeom prst="rect">
                <a:avLst/>
              </a:prstGeom>
              <a:solidFill>
                <a:srgbClr val="893a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任意多边形 10"/>
              <p:cNvSpPr/>
              <p:nvPr/>
            </p:nvSpPr>
            <p:spPr>
              <a:xfrm>
                <a:off x="5096520" y="2652120"/>
                <a:ext cx="1224360" cy="794880"/>
              </a:xfrm>
              <a:prstGeom prst="pie">
                <a:avLst/>
              </a:prstGeom>
              <a:solidFill>
                <a:srgbClr val="20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五角星 11"/>
              <p:cNvSpPr/>
              <p:nvPr/>
            </p:nvSpPr>
            <p:spPr>
              <a:xfrm>
                <a:off x="5622840" y="2567160"/>
                <a:ext cx="166680" cy="158040"/>
              </a:xfrm>
              <a:prstGeom prst="star5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任意多边形 535"/>
              <p:cNvSpPr/>
              <p:nvPr/>
            </p:nvSpPr>
            <p:spPr>
              <a:xfrm>
                <a:off x="4797360" y="2920320"/>
                <a:ext cx="1822320" cy="1183320"/>
              </a:xfrm>
              <a:prstGeom prst="pie">
                <a:avLst/>
              </a:prstGeom>
              <a:solidFill>
                <a:srgbClr val="20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任意多边形 536"/>
              <p:cNvSpPr/>
              <p:nvPr/>
            </p:nvSpPr>
            <p:spPr>
              <a:xfrm>
                <a:off x="4730760" y="3478320"/>
                <a:ext cx="1955880" cy="1270080"/>
              </a:xfrm>
              <a:prstGeom prst="pie">
                <a:avLst/>
              </a:prstGeom>
              <a:solidFill>
                <a:srgbClr val="20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1" name="任意多边形 27"/>
            <p:cNvSpPr/>
            <p:nvPr/>
          </p:nvSpPr>
          <p:spPr>
            <a:xfrm>
              <a:off x="5227560" y="3029040"/>
              <a:ext cx="728640" cy="264960"/>
            </a:xfrm>
            <a:prstGeom prst="pie">
              <a:avLst/>
            </a:prstGeom>
            <a:noFill/>
            <a:ln w="25560">
              <a:solidFill>
                <a:srgbClr val="f2f2f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任意多边形 953"/>
            <p:cNvSpPr/>
            <p:nvPr/>
          </p:nvSpPr>
          <p:spPr>
            <a:xfrm>
              <a:off x="5074560" y="3579840"/>
              <a:ext cx="1081440" cy="197280"/>
            </a:xfrm>
            <a:prstGeom prst="pie">
              <a:avLst/>
            </a:prstGeom>
            <a:noFill/>
            <a:ln w="25560">
              <a:solidFill>
                <a:srgbClr val="f2f2f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任意多边形 954"/>
            <p:cNvSpPr/>
            <p:nvPr/>
          </p:nvSpPr>
          <p:spPr>
            <a:xfrm>
              <a:off x="4932000" y="4227840"/>
              <a:ext cx="1296000" cy="227520"/>
            </a:xfrm>
            <a:prstGeom prst="pie">
              <a:avLst/>
            </a:prstGeom>
            <a:noFill/>
            <a:ln w="25560">
              <a:solidFill>
                <a:srgbClr val="f2f2f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组合 26"/>
          <p:cNvGrpSpPr/>
          <p:nvPr/>
        </p:nvGrpSpPr>
        <p:grpSpPr>
          <a:xfrm>
            <a:off x="5407200" y="3162240"/>
            <a:ext cx="87120" cy="85680"/>
            <a:chOff x="5407200" y="3162240"/>
            <a:chExt cx="87120" cy="85680"/>
          </a:xfrm>
        </p:grpSpPr>
        <p:sp>
          <p:nvSpPr>
            <p:cNvPr id="665" name="椭圆 21"/>
            <p:cNvSpPr/>
            <p:nvPr/>
          </p:nvSpPr>
          <p:spPr>
            <a:xfrm>
              <a:off x="5407200" y="3162240"/>
              <a:ext cx="87120" cy="85680"/>
            </a:xfrm>
            <a:prstGeom prst="ellipse">
              <a:avLst/>
            </a:prstGeom>
            <a:solidFill>
              <a:srgbClr val="fe3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椭圆 25"/>
            <p:cNvSpPr/>
            <p:nvPr/>
          </p:nvSpPr>
          <p:spPr>
            <a:xfrm>
              <a:off x="5420520" y="3173400"/>
              <a:ext cx="18360" cy="1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组合 947"/>
          <p:cNvGrpSpPr/>
          <p:nvPr/>
        </p:nvGrpSpPr>
        <p:grpSpPr>
          <a:xfrm>
            <a:off x="5580000" y="2986200"/>
            <a:ext cx="87480" cy="87120"/>
            <a:chOff x="5580000" y="2986200"/>
            <a:chExt cx="87480" cy="87120"/>
          </a:xfrm>
        </p:grpSpPr>
        <p:sp>
          <p:nvSpPr>
            <p:cNvPr id="668" name="椭圆 948"/>
            <p:cNvSpPr/>
            <p:nvPr/>
          </p:nvSpPr>
          <p:spPr>
            <a:xfrm>
              <a:off x="5580000" y="2986200"/>
              <a:ext cx="87480" cy="871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椭圆 949"/>
            <p:cNvSpPr/>
            <p:nvPr/>
          </p:nvSpPr>
          <p:spPr>
            <a:xfrm>
              <a:off x="5593320" y="2997720"/>
              <a:ext cx="18360" cy="18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组合 950"/>
          <p:cNvGrpSpPr/>
          <p:nvPr/>
        </p:nvGrpSpPr>
        <p:grpSpPr>
          <a:xfrm>
            <a:off x="5364000" y="3635280"/>
            <a:ext cx="87480" cy="87480"/>
            <a:chOff x="5364000" y="3635280"/>
            <a:chExt cx="87480" cy="87480"/>
          </a:xfrm>
        </p:grpSpPr>
        <p:sp>
          <p:nvSpPr>
            <p:cNvPr id="671" name="椭圆 951"/>
            <p:cNvSpPr/>
            <p:nvPr/>
          </p:nvSpPr>
          <p:spPr>
            <a:xfrm>
              <a:off x="5364000" y="3635280"/>
              <a:ext cx="87480" cy="87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椭圆 952"/>
            <p:cNvSpPr/>
            <p:nvPr/>
          </p:nvSpPr>
          <p:spPr>
            <a:xfrm>
              <a:off x="5377320" y="3646800"/>
              <a:ext cx="18360" cy="18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组合 432"/>
          <p:cNvGrpSpPr/>
          <p:nvPr/>
        </p:nvGrpSpPr>
        <p:grpSpPr>
          <a:xfrm>
            <a:off x="5759280" y="3603600"/>
            <a:ext cx="87480" cy="85680"/>
            <a:chOff x="5759280" y="3603600"/>
            <a:chExt cx="87480" cy="85680"/>
          </a:xfrm>
        </p:grpSpPr>
        <p:sp>
          <p:nvSpPr>
            <p:cNvPr id="674" name="椭圆 433"/>
            <p:cNvSpPr/>
            <p:nvPr/>
          </p:nvSpPr>
          <p:spPr>
            <a:xfrm>
              <a:off x="5759280" y="3603600"/>
              <a:ext cx="87480" cy="856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椭圆 434"/>
            <p:cNvSpPr/>
            <p:nvPr/>
          </p:nvSpPr>
          <p:spPr>
            <a:xfrm>
              <a:off x="5772600" y="3614760"/>
              <a:ext cx="18360" cy="1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组合 435"/>
          <p:cNvGrpSpPr/>
          <p:nvPr/>
        </p:nvGrpSpPr>
        <p:grpSpPr>
          <a:xfrm>
            <a:off x="5227560" y="4341960"/>
            <a:ext cx="87480" cy="87120"/>
            <a:chOff x="5227560" y="4341960"/>
            <a:chExt cx="87480" cy="87120"/>
          </a:xfrm>
        </p:grpSpPr>
        <p:sp>
          <p:nvSpPr>
            <p:cNvPr id="677" name="椭圆 436"/>
            <p:cNvSpPr/>
            <p:nvPr/>
          </p:nvSpPr>
          <p:spPr>
            <a:xfrm>
              <a:off x="5227560" y="4341960"/>
              <a:ext cx="87480" cy="87120"/>
            </a:xfrm>
            <a:prstGeom prst="ellipse">
              <a:avLst/>
            </a:prstGeom>
            <a:solidFill>
              <a:srgbClr val="d99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椭圆 437"/>
            <p:cNvSpPr/>
            <p:nvPr/>
          </p:nvSpPr>
          <p:spPr>
            <a:xfrm>
              <a:off x="5240880" y="4353480"/>
              <a:ext cx="18360" cy="18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组合 438"/>
          <p:cNvGrpSpPr/>
          <p:nvPr/>
        </p:nvGrpSpPr>
        <p:grpSpPr>
          <a:xfrm>
            <a:off x="5632560" y="4227480"/>
            <a:ext cx="87120" cy="87480"/>
            <a:chOff x="5632560" y="4227480"/>
            <a:chExt cx="87120" cy="87480"/>
          </a:xfrm>
        </p:grpSpPr>
        <p:sp>
          <p:nvSpPr>
            <p:cNvPr id="680" name="椭圆 439"/>
            <p:cNvSpPr/>
            <p:nvPr/>
          </p:nvSpPr>
          <p:spPr>
            <a:xfrm>
              <a:off x="5632560" y="4227480"/>
              <a:ext cx="87120" cy="87480"/>
            </a:xfrm>
            <a:prstGeom prst="ellipse">
              <a:avLst/>
            </a:prstGeom>
            <a:solidFill>
              <a:srgbClr val="3185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椭圆 440"/>
            <p:cNvSpPr/>
            <p:nvPr/>
          </p:nvSpPr>
          <p:spPr>
            <a:xfrm>
              <a:off x="5645880" y="4239000"/>
              <a:ext cx="18360" cy="18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组合 441"/>
          <p:cNvGrpSpPr/>
          <p:nvPr/>
        </p:nvGrpSpPr>
        <p:grpSpPr>
          <a:xfrm>
            <a:off x="5956200" y="4141800"/>
            <a:ext cx="87480" cy="87480"/>
            <a:chOff x="5956200" y="4141800"/>
            <a:chExt cx="87480" cy="87480"/>
          </a:xfrm>
        </p:grpSpPr>
        <p:sp>
          <p:nvSpPr>
            <p:cNvPr id="683" name="椭圆 442"/>
            <p:cNvSpPr/>
            <p:nvPr/>
          </p:nvSpPr>
          <p:spPr>
            <a:xfrm>
              <a:off x="5956200" y="4141800"/>
              <a:ext cx="87480" cy="8748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椭圆 443"/>
            <p:cNvSpPr/>
            <p:nvPr/>
          </p:nvSpPr>
          <p:spPr>
            <a:xfrm>
              <a:off x="5969520" y="4153320"/>
              <a:ext cx="18360" cy="18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组合 444"/>
          <p:cNvGrpSpPr/>
          <p:nvPr/>
        </p:nvGrpSpPr>
        <p:grpSpPr>
          <a:xfrm>
            <a:off x="5925960" y="3390840"/>
            <a:ext cx="87480" cy="87480"/>
            <a:chOff x="5925960" y="3390840"/>
            <a:chExt cx="87480" cy="87480"/>
          </a:xfrm>
        </p:grpSpPr>
        <p:sp>
          <p:nvSpPr>
            <p:cNvPr id="686" name="椭圆 445"/>
            <p:cNvSpPr/>
            <p:nvPr/>
          </p:nvSpPr>
          <p:spPr>
            <a:xfrm>
              <a:off x="5925960" y="3390840"/>
              <a:ext cx="87480" cy="87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椭圆 446"/>
            <p:cNvSpPr/>
            <p:nvPr/>
          </p:nvSpPr>
          <p:spPr>
            <a:xfrm>
              <a:off x="5939280" y="3402360"/>
              <a:ext cx="18360" cy="18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8" name="图片 6" descr=""/>
          <p:cNvPicPr/>
          <p:nvPr/>
        </p:nvPicPr>
        <p:blipFill>
          <a:blip r:embed="rId5"/>
          <a:stretch/>
        </p:blipFill>
        <p:spPr>
          <a:xfrm>
            <a:off x="-3014640" y="988920"/>
            <a:ext cx="7812000" cy="5859720"/>
          </a:xfrm>
          <a:prstGeom prst="rect">
            <a:avLst/>
          </a:prstGeom>
          <a:ln w="0">
            <a:noFill/>
          </a:ln>
        </p:spPr>
      </p:pic>
      <p:pic>
        <p:nvPicPr>
          <p:cNvPr id="689" name="图片 9" descr=""/>
          <p:cNvPicPr/>
          <p:nvPr/>
        </p:nvPicPr>
        <p:blipFill>
          <a:blip r:embed="rId6"/>
          <a:stretch/>
        </p:blipFill>
        <p:spPr>
          <a:xfrm>
            <a:off x="1327320" y="1698480"/>
            <a:ext cx="4438440" cy="2078280"/>
          </a:xfrm>
          <a:prstGeom prst="rect">
            <a:avLst/>
          </a:prstGeom>
          <a:ln w="0">
            <a:noFill/>
          </a:ln>
        </p:spPr>
      </p:pic>
      <p:sp>
        <p:nvSpPr>
          <p:cNvPr id="690" name="TextBox 1054"/>
          <p:cNvSpPr/>
          <p:nvPr/>
        </p:nvSpPr>
        <p:spPr>
          <a:xfrm>
            <a:off x="890640" y="1698480"/>
            <a:ext cx="368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圣诞节节日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" dur="4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xit" presetID="31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21600000">
                                      <p:cBhvr>
                                        <p:cTn id="18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xit" presetID="2" presetSubtype="4">
                                  <p:stCondLst>
                                    <p:cond delay="1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4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xit" presetID="31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mph" presetID="8">
                                  <p:stCondLst>
                                    <p:cond delay="2400"/>
                                  </p:stCondLst>
                                  <p:childTnLst>
                                    <p:animRot by="21600000">
                                      <p:cBhvr>
                                        <p:cTn id="30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xit" presetID="2" presetSubtype="4">
                                  <p:stCondLst>
                                    <p:cond delay="2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" dur="4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xit" presetID="31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mph" presetID="8">
                                  <p:stCondLst>
                                    <p:cond delay="2800"/>
                                  </p:stCondLst>
                                  <p:childTnLst>
                                    <p:animRot by="21600000">
                                      <p:cBhvr>
                                        <p:cTn id="42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xit" presetID="2" presetSubtype="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4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xit" presetID="31">
                                  <p:stCondLst>
                                    <p:cond delay="3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54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xit" presetID="2" presetSubtype="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4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xit" presetID="31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2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mph" presetID="8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66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xit" presetID="2" presetSubtype="4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4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xit" presetID="31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mph" presetID="8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78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xit" presetID="2" presetSubtype="4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4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4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xit" presetID="31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2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mph" presetID="8">
                                  <p:stCondLst>
                                    <p:cond delay="3500"/>
                                  </p:stCondLst>
                                  <p:childTnLst>
                                    <p:animRot by="21600000">
                                      <p:cBhvr>
                                        <p:cTn id="90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xit" presetID="2" presetSubtype="4">
                                  <p:stCondLst>
                                    <p:cond delay="3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4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4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xit" presetID="31">
                                  <p:stCondLst>
                                    <p:cond delay="4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2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mph" presetID="8">
                                  <p:stCondLst>
                                    <p:cond delay="3800"/>
                                  </p:stCondLst>
                                  <p:childTnLst>
                                    <p:animRot by="21600000">
                                      <p:cBhvr>
                                        <p:cTn id="102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xit" presetID="2" presetSubtype="4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4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4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xit" presetID="31">
                                  <p:stCondLst>
                                    <p:cond delay="4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" dur="2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mph" presetID="8">
                                  <p:stCondLst>
                                    <p:cond delay="4600"/>
                                  </p:stCondLst>
                                  <p:childTnLst>
                                    <p:animRot by="21600000">
                                      <p:cBhvr>
                                        <p:cTn id="114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4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4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xit" presetID="31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21600000">
                                      <p:cBhvr>
                                        <p:cTn id="126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xit" presetID="2" presetSubtype="4">
                                  <p:stCondLst>
                                    <p:cond delay="1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4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xit" presetID="31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2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mph" presetID="8">
                                  <p:stCondLst>
                                    <p:cond delay="2400"/>
                                  </p:stCondLst>
                                  <p:childTnLst>
                                    <p:animRot by="21600000">
                                      <p:cBhvr>
                                        <p:cTn id="138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xit" presetID="2" presetSubtype="4">
                                  <p:stCondLst>
                                    <p:cond delay="2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4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xit" presetID="31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2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mph" presetID="8">
                                  <p:stCondLst>
                                    <p:cond delay="2800"/>
                                  </p:stCondLst>
                                  <p:childTnLst>
                                    <p:animRot by="21600000">
                                      <p:cBhvr>
                                        <p:cTn id="150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xit" presetID="2" presetSubtype="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4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4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xit" presetID="31">
                                  <p:stCondLst>
                                    <p:cond delay="3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62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xit" presetID="2" presetSubtype="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4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4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xit" presetID="31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mph" presetID="8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174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xit" presetID="2" presetSubtype="4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4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4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xit" presetID="31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mph" presetID="8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186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xit" presetID="2" presetSubtype="4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4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xit" presetID="31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mph" presetID="8">
                                  <p:stCondLst>
                                    <p:cond delay="3500"/>
                                  </p:stCondLst>
                                  <p:childTnLst>
                                    <p:animRot by="21600000">
                                      <p:cBhvr>
                                        <p:cTn id="198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xit" presetID="2" presetSubtype="4">
                                  <p:stCondLst>
                                    <p:cond delay="3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" dur="4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4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xit" presetID="31">
                                  <p:stCondLst>
                                    <p:cond delay="4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mph" presetID="8">
                                  <p:stCondLst>
                                    <p:cond delay="3800"/>
                                  </p:stCondLst>
                                  <p:childTnLst>
                                    <p:animRot by="21600000">
                                      <p:cBhvr>
                                        <p:cTn id="210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xit" presetID="2" presetSubtype="4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" dur="4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4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xit" presetID="31">
                                  <p:stCondLst>
                                    <p:cond delay="4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mph" presetID="8">
                                  <p:stCondLst>
                                    <p:cond delay="4600"/>
                                  </p:stCondLst>
                                  <p:childTnLst>
                                    <p:animRot by="21600000">
                                      <p:cBhvr>
                                        <p:cTn id="222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" dur="4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4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xit" presetID="31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" dur="2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21600000">
                                      <p:cBhvr>
                                        <p:cTn id="234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xit" presetID="2" presetSubtype="4">
                                  <p:stCondLst>
                                    <p:cond delay="1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4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4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xit" presetID="31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2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mph" presetID="8">
                                  <p:stCondLst>
                                    <p:cond delay="2400"/>
                                  </p:stCondLst>
                                  <p:childTnLst>
                                    <p:animRot by="21600000">
                                      <p:cBhvr>
                                        <p:cTn id="246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xit" presetID="2" presetSubtype="4">
                                  <p:stCondLst>
                                    <p:cond delay="2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8" dur="4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4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xit" presetID="31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2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mph" presetID="8">
                                  <p:stCondLst>
                                    <p:cond delay="2800"/>
                                  </p:stCondLst>
                                  <p:childTnLst>
                                    <p:animRot by="21600000">
                                      <p:cBhvr>
                                        <p:cTn id="258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xit" presetID="2" presetSubtype="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4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4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xit" presetID="31">
                                  <p:stCondLst>
                                    <p:cond delay="3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2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270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xit" presetID="2" presetSubtype="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4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4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xit" presetID="31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2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mph" presetID="8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282" dur="3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xit" presetID="2" presetSubtype="4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4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4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xit" presetID="31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2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mph" presetID="8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294" dur="3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xit" presetID="2" presetSubtype="4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4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4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xit" presetID="31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mph" presetID="8">
                                  <p:stCondLst>
                                    <p:cond delay="3500"/>
                                  </p:stCondLst>
                                  <p:childTnLst>
                                    <p:animRot by="21600000">
                                      <p:cBhvr>
                                        <p:cTn id="306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xit" presetID="2" presetSubtype="4">
                                  <p:stCondLst>
                                    <p:cond delay="3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4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4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xit" presetID="31">
                                  <p:stCondLst>
                                    <p:cond delay="4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mph" presetID="8">
                                  <p:stCondLst>
                                    <p:cond delay="3800"/>
                                  </p:stCondLst>
                                  <p:childTnLst>
                                    <p:animRot by="21600000">
                                      <p:cBhvr>
                                        <p:cTn id="318" dur="3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xit" presetID="2" presetSubtype="4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0" dur="4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4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xit" presetID="31">
                                  <p:stCondLst>
                                    <p:cond delay="4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4" dur="2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7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mph" presetID="8">
                                  <p:stCondLst>
                                    <p:cond delay="4600"/>
                                  </p:stCondLst>
                                  <p:childTnLst>
                                    <p:animRot by="21600000">
                                      <p:cBhvr>
                                        <p:cTn id="330" dur="3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" dur="4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4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xit" presetID="31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6" dur="2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9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21600000">
                                      <p:cBhvr>
                                        <p:cTn id="342" dur="3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exit" presetID="2" presetSubtype="4">
                                  <p:stCondLst>
                                    <p:cond delay="1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" dur="4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4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xit" presetID="31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2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mph" presetID="8">
                                  <p:stCondLst>
                                    <p:cond delay="2400"/>
                                  </p:stCondLst>
                                  <p:childTnLst>
                                    <p:animRot by="21600000">
                                      <p:cBhvr>
                                        <p:cTn id="354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xit" presetID="2" presetSubtype="4">
                                  <p:stCondLst>
                                    <p:cond delay="2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4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4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xit" presetID="31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2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mph" presetID="8">
                                  <p:stCondLst>
                                    <p:cond delay="2800"/>
                                  </p:stCondLst>
                                  <p:childTnLst>
                                    <p:animRot by="21600000">
                                      <p:cBhvr>
                                        <p:cTn id="366" dur="3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xit" presetID="2" presetSubtype="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4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4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exit" presetID="31">
                                  <p:stCondLst>
                                    <p:cond delay="3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2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5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378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xit" presetID="2" presetSubtype="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4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4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xit" presetID="31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2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7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mph" presetID="8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390" dur="3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xit" presetID="2" presetSubtype="4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4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4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dur="indefinite" nodeType="withEffect" fill="hold" presetClass="exit" presetID="31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2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9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mph" presetID="8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402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xit" presetID="2" presetSubtype="4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4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4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xit" presetID="31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2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1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mph" presetID="8">
                                  <p:stCondLst>
                                    <p:cond delay="3500"/>
                                  </p:stCondLst>
                                  <p:childTnLst>
                                    <p:animRot by="21600000">
                                      <p:cBhvr>
                                        <p:cTn id="414" dur="3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5" dur="indefinite" nodeType="withEffect" fill="hold" presetClass="exit" presetID="2" presetSubtype="4">
                                  <p:stCondLst>
                                    <p:cond delay="3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4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4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xit" presetID="31">
                                  <p:stCondLst>
                                    <p:cond delay="4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2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mph" presetID="8">
                                  <p:stCondLst>
                                    <p:cond delay="3800"/>
                                  </p:stCondLst>
                                  <p:childTnLst>
                                    <p:animRot by="21600000">
                                      <p:cBhvr>
                                        <p:cTn id="426" dur="3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7" dur="indefinite" nodeType="withEffect" fill="hold" presetClass="exit" presetID="2" presetSubtype="4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40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40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xit" presetID="31">
                                  <p:stCondLst>
                                    <p:cond delay="4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2" dur="20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5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mph" presetID="8">
                                  <p:stCondLst>
                                    <p:cond delay="3800"/>
                                  </p:stCondLst>
                                  <p:childTnLst>
                                    <p:animRot by="21600000">
                                      <p:cBhvr>
                                        <p:cTn id="438" dur="3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exit" presetID="2" presetSubtype="4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0" dur="4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4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dur="indefinite" nodeType="withEffect" fill="hold" presetClass="exit" presetID="31">
                                  <p:stCondLst>
                                    <p:cond delay="4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4" dur="2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7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mph" presetID="8">
                                  <p:stCondLst>
                                    <p:cond delay="2800"/>
                                  </p:stCondLst>
                                  <p:childTnLst>
                                    <p:animRot by="21600000">
                                      <p:cBhvr>
                                        <p:cTn id="450" dur="3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1" dur="indefinite" nodeType="withEffect" fill="hold" presetClass="exit" presetID="2" presetSubtype="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2" dur="4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4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dur="indefinite" nodeType="withEffect" fill="hold" presetClass="exit" presetID="31">
                                  <p:stCondLst>
                                    <p:cond delay="3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6" dur="2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9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462" dur="3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exit" presetID="2" presetSubtype="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4" dur="40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40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exit" presetID="31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8" dur="20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1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emph" presetID="8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474" dur="3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5" dur="indefinite" nodeType="withEffect" fill="hold" presetClass="exit" presetID="2" presetSubtype="4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6" dur="4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4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dur="indefinite" nodeType="withEffect" fill="hold" presetClass="exit" presetID="31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0" dur="2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3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dur="indefinite" nodeType="withEffect" fill="hold" presetClass="emph" presetID="8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486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xit" presetID="2" presetSubtype="4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8" dur="4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4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xit" presetID="31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2" dur="2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5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mph" presetID="8">
                                  <p:stCondLst>
                                    <p:cond delay="3500"/>
                                  </p:stCondLst>
                                  <p:childTnLst>
                                    <p:animRot by="21600000">
                                      <p:cBhvr>
                                        <p:cTn id="498" dur="3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9" dur="indefinite" nodeType="withEffect" fill="hold" presetClass="exit" presetID="2" presetSubtype="4">
                                  <p:stCondLst>
                                    <p:cond delay="3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0" dur="40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40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xit" presetID="31">
                                  <p:stCondLst>
                                    <p:cond delay="4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4" dur="20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7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emph" presetID="8">
                                  <p:stCondLst>
                                    <p:cond delay="3800"/>
                                  </p:stCondLst>
                                  <p:childTnLst>
                                    <p:animRot by="21600000">
                                      <p:cBhvr>
                                        <p:cTn id="510" dur="3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1" dur="indefinite" nodeType="withEffect" fill="hold" presetClass="exit" presetID="2" presetSubtype="4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2" dur="40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40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xit" presetID="31">
                                  <p:stCondLst>
                                    <p:cond delay="4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6" dur="20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dur="indefinite" nodeType="withEffect" fill="hold" presetClass="emph" presetID="8">
                                  <p:stCondLst>
                                    <p:cond delay="3800"/>
                                  </p:stCondLst>
                                  <p:childTnLst>
                                    <p:animRot by="21600000">
                                      <p:cBhvr>
                                        <p:cTn id="522" dur="3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3" dur="indefinite" nodeType="withEffect" fill="hold" presetClass="exit" presetID="2" presetSubtype="4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4" dur="40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40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dur="indefinite" nodeType="withEffect" fill="hold" presetClass="exit" presetID="31">
                                  <p:stCondLst>
                                    <p:cond delay="4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8" dur="20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1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dur="indefinite" nodeType="withEffect" fill="hold" presetClass="emph" presetID="8">
                                  <p:stCondLst>
                                    <p:cond delay="2800"/>
                                  </p:stCondLst>
                                  <p:childTnLst>
                                    <p:animRot by="21600000">
                                      <p:cBhvr>
                                        <p:cTn id="534" dur="3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5" dur="indefinite" nodeType="withEffect" fill="hold" presetClass="exit" presetID="2" presetSubtype="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6" dur="40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40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dur="indefinite" nodeType="withEffect" fill="hold" presetClass="exit" presetID="31">
                                  <p:stCondLst>
                                    <p:cond delay="3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0" dur="20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3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dur="indefinite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546" dur="3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7" dur="indefinite" nodeType="withEffect" fill="hold" presetClass="exit" presetID="2" presetSubtype="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8" dur="40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40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dur="indefinite" nodeType="withEffect" fill="hold" presetClass="exit" presetID="31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2" dur="20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5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dur="indefinite" nodeType="withEffect" fill="hold" presetClass="emph" presetID="8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558" dur="3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9" dur="indefinite" nodeType="withEffect" fill="hold" presetClass="exit" presetID="2" presetSubtype="4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0" dur="4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4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dur="indefinite" nodeType="withEffect" fill="hold" presetClass="exit" presetID="31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4" dur="2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7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dur="indefinite" nodeType="withEffect" fill="hold" presetClass="emph" presetID="8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570" dur="3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1" dur="indefinite" nodeType="withEffect" fill="hold" presetClass="exit" presetID="2" presetSubtype="4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2" dur="40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40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dur="indefinite" nodeType="withEffect" fill="hold" presetClass="exit" presetID="31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6" dur="20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9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mph" presetID="8">
                                  <p:stCondLst>
                                    <p:cond delay="3500"/>
                                  </p:stCondLst>
                                  <p:childTnLst>
                                    <p:animRot by="21600000">
                                      <p:cBhvr>
                                        <p:cTn id="582" dur="3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3" dur="indefinite" nodeType="withEffect" fill="hold" presetClass="exit" presetID="2" presetSubtype="4">
                                  <p:stCondLst>
                                    <p:cond delay="3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4" dur="40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40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dur="indefinite" nodeType="withEffect" fill="hold" presetClass="exit" presetID="31">
                                  <p:stCondLst>
                                    <p:cond delay="4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8" dur="20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1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dur="indefinite" nodeType="withEffect" fill="hold" presetClass="emph" presetID="8">
                                  <p:stCondLst>
                                    <p:cond delay="3800"/>
                                  </p:stCondLst>
                                  <p:childTnLst>
                                    <p:animRot by="21600000">
                                      <p:cBhvr>
                                        <p:cTn id="594" dur="3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5" dur="indefinite" nodeType="withEffect" fill="hold" presetClass="exit" presetID="2" presetSubtype="4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6" dur="40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40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dur="indefinite" nodeType="withEffect" fill="hold" presetClass="exit" presetID="31">
                                  <p:stCondLst>
                                    <p:cond delay="4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0" dur="20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3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3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7800"/>
                            </p:stCondLst>
                            <p:childTnLst>
                              <p:par>
                                <p:cTn id="609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0" dur="3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1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2" dur="40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40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dur="indefinite" nodeType="withEffect" fill="hold" presetClass="exit" presetID="31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6" dur="20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9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21600000">
                                      <p:cBhvr>
                                        <p:cTn id="622" dur="3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3" dur="indefinite" nodeType="withEffect" fill="hold" presetClass="exit" presetID="2" presetSubtype="4">
                                  <p:stCondLst>
                                    <p:cond delay="1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4" dur="40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40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dur="indefinite" nodeType="withEffect" fill="hold" presetClass="exit" presetID="31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20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1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dur="indefinite" nodeType="withEffect" fill="hold" presetClass="emph" presetID="8">
                                  <p:stCondLst>
                                    <p:cond delay="2400"/>
                                  </p:stCondLst>
                                  <p:childTnLst>
                                    <p:animRot by="21600000">
                                      <p:cBhvr>
                                        <p:cTn id="634" dur="3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5" dur="indefinite" nodeType="withEffect" fill="hold" presetClass="exit" presetID="2" presetSubtype="4">
                                  <p:stCondLst>
                                    <p:cond delay="2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6" dur="40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40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dur="indefinite" nodeType="withEffect" fill="hold" presetClass="exit" presetID="31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0" dur="20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3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dur="indefinite" nodeType="withEffect" fill="hold" presetClass="emph" presetID="8">
                                  <p:stCondLst>
                                    <p:cond delay="2800"/>
                                  </p:stCondLst>
                                  <p:childTnLst>
                                    <p:animRot by="21600000">
                                      <p:cBhvr>
                                        <p:cTn id="646" dur="3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xit" presetID="2" presetSubtype="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8" dur="40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40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dur="indefinite" nodeType="withEffect" fill="hold" presetClass="exit" presetID="31">
                                  <p:stCondLst>
                                    <p:cond delay="3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2" dur="20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0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5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dur="indefinite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658" dur="3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9" dur="indefinite" nodeType="withEffect" fill="hold" presetClass="exit" presetID="2" presetSubtype="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0" dur="40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40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dur="indefinite" nodeType="withEffect" fill="hold" presetClass="exit" presetID="31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4" dur="20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7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dur="indefinite" nodeType="withEffect" fill="hold" presetClass="emph" presetID="8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670" dur="3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exit" presetID="2" presetSubtype="4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2" dur="40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40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dur="indefinite" nodeType="withEffect" fill="hold" presetClass="exit" presetID="31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6" dur="20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9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dur="indefinite" nodeType="withEffect" fill="hold" presetClass="emph" presetID="8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682" dur="3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3" dur="indefinite" nodeType="withEffect" fill="hold" presetClass="exit" presetID="2" presetSubtype="4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4" dur="40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40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dur="indefinite" nodeType="withEffect" fill="hold" presetClass="exit" presetID="31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8" dur="20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1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dur="indefinite" nodeType="withEffect" fill="hold" presetClass="emph" presetID="8">
                                  <p:stCondLst>
                                    <p:cond delay="3500"/>
                                  </p:stCondLst>
                                  <p:childTnLst>
                                    <p:animRot by="21600000">
                                      <p:cBhvr>
                                        <p:cTn id="694" dur="3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5" dur="indefinite" nodeType="withEffect" fill="hold" presetClass="exit" presetID="2" presetSubtype="4">
                                  <p:stCondLst>
                                    <p:cond delay="3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6" dur="40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40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dur="indefinite" nodeType="withEffect" fill="hold" presetClass="exit" presetID="31">
                                  <p:stCondLst>
                                    <p:cond delay="4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0" dur="20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3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dur="indefinite" nodeType="withEffect" fill="hold" presetClass="emph" presetID="8">
                                  <p:stCondLst>
                                    <p:cond delay="3800"/>
                                  </p:stCondLst>
                                  <p:childTnLst>
                                    <p:animRot by="21600000">
                                      <p:cBhvr>
                                        <p:cTn id="706" dur="3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7" dur="indefinite" nodeType="withEffect" fill="hold" presetClass="exit" presetID="2" presetSubtype="4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8" dur="4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4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dur="indefinite" nodeType="withEffect" fill="hold" presetClass="exit" presetID="31">
                                  <p:stCondLst>
                                    <p:cond delay="4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2" dur="2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2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5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dur="indefinite" nodeType="withEffect" fill="hold" presetClass="emph" presetID="8">
                                  <p:stCondLst>
                                    <p:cond delay="4600"/>
                                  </p:stCondLst>
                                  <p:childTnLst>
                                    <p:animRot by="21600000">
                                      <p:cBhvr>
                                        <p:cTn id="718" dur="3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9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0" dur="400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400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dur="indefinite" nodeType="withEffect" fill="hold" presetClass="exit" presetID="31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4" dur="200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200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7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21600000">
                                      <p:cBhvr>
                                        <p:cTn id="730" dur="3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1" dur="indefinite" nodeType="withEffect" fill="hold" presetClass="exit" presetID="2" presetSubtype="4">
                                  <p:stCondLst>
                                    <p:cond delay="1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2" dur="40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40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dur="indefinite" nodeType="withEffect" fill="hold" presetClass="exit" presetID="31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6" dur="20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9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dur="indefinite" nodeType="withEffect" fill="hold" presetClass="emph" presetID="8">
                                  <p:stCondLst>
                                    <p:cond delay="2400"/>
                                  </p:stCondLst>
                                  <p:childTnLst>
                                    <p:animRot by="21600000">
                                      <p:cBhvr>
                                        <p:cTn id="742" dur="3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3" dur="indefinite" nodeType="withEffect" fill="hold" presetClass="exit" presetID="2" presetSubtype="4">
                                  <p:stCondLst>
                                    <p:cond delay="2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4" dur="40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40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dur="indefinite" nodeType="withEffect" fill="hold" presetClass="exit" presetID="31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8" dur="20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0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1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dur="indefinite" nodeType="withEffect" fill="hold" presetClass="emph" presetID="8">
                                  <p:stCondLst>
                                    <p:cond delay="2800"/>
                                  </p:stCondLst>
                                  <p:childTnLst>
                                    <p:animRot by="21600000">
                                      <p:cBhvr>
                                        <p:cTn id="754" dur="3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5" dur="indefinite" nodeType="withEffect" fill="hold" presetClass="exit" presetID="2" presetSubtype="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6" dur="40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40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dur="indefinite" nodeType="withEffect" fill="hold" presetClass="exit" presetID="31">
                                  <p:stCondLst>
                                    <p:cond delay="3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0" dur="20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20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3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dur="indefinite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766" dur="3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7" dur="indefinite" nodeType="withEffect" fill="hold" presetClass="exit" presetID="2" presetSubtype="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8" dur="40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40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dur="indefinite" nodeType="withEffect" fill="hold" presetClass="exit" presetID="31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2" dur="20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0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5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dur="indefinite" nodeType="withEffect" fill="hold" presetClass="emph" presetID="8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778" dur="3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9" dur="indefinite" nodeType="withEffect" fill="hold" presetClass="exit" presetID="2" presetSubtype="4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0" dur="40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40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dur="indefinite" nodeType="withEffect" fill="hold" presetClass="exit" presetID="31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4" dur="20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7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dur="indefinite" nodeType="withEffect" fill="hold" presetClass="emph" presetID="8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790" dur="3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1" dur="indefinite" nodeType="withEffect" fill="hold" presetClass="exit" presetID="2" presetSubtype="4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2" dur="40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40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dur="indefinite" nodeType="withEffect" fill="hold" presetClass="exit" presetID="31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6" dur="20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20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20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9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dur="indefinite" nodeType="withEffect" fill="hold" presetClass="emph" presetID="8">
                                  <p:stCondLst>
                                    <p:cond delay="3500"/>
                                  </p:stCondLst>
                                  <p:childTnLst>
                                    <p:animRot by="21600000">
                                      <p:cBhvr>
                                        <p:cTn id="802" dur="3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3" dur="indefinite" nodeType="withEffect" fill="hold" presetClass="exit" presetID="2" presetSubtype="4">
                                  <p:stCondLst>
                                    <p:cond delay="3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4" dur="40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40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dur="indefinite" nodeType="withEffect" fill="hold" presetClass="exit" presetID="31">
                                  <p:stCondLst>
                                    <p:cond delay="4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8" dur="20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1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dur="indefinite" nodeType="withEffect" fill="hold" presetClass="emph" presetID="8">
                                  <p:stCondLst>
                                    <p:cond delay="3800"/>
                                  </p:stCondLst>
                                  <p:childTnLst>
                                    <p:animRot by="21600000">
                                      <p:cBhvr>
                                        <p:cTn id="814" dur="3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5" dur="indefinite" nodeType="withEffect" fill="hold" presetClass="exit" presetID="2" presetSubtype="4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6" dur="4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4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dur="indefinite" nodeType="withEffect" fill="hold" presetClass="exit" presetID="31">
                                  <p:stCondLst>
                                    <p:cond delay="4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0" dur="2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2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3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dur="indefinite" nodeType="withEffect" fill="hold" presetClass="emph" presetID="8">
                                  <p:stCondLst>
                                    <p:cond delay="3800"/>
                                  </p:stCondLst>
                                  <p:childTnLst>
                                    <p:animRot by="21600000">
                                      <p:cBhvr>
                                        <p:cTn id="826" dur="3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7" dur="indefinite" nodeType="withEffect" fill="hold" presetClass="exit" presetID="2" presetSubtype="4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8" dur="40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40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dur="indefinite" nodeType="withEffect" fill="hold" presetClass="exit" presetID="31">
                                  <p:stCondLst>
                                    <p:cond delay="4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2" dur="20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20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5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dur="indefinite" nodeType="withEffect" fill="hold" presetClass="emph" presetID="8">
                                  <p:stCondLst>
                                    <p:cond delay="2800"/>
                                  </p:stCondLst>
                                  <p:childTnLst>
                                    <p:animRot by="21600000">
                                      <p:cBhvr>
                                        <p:cTn id="838" dur="3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9" dur="indefinite" nodeType="withEffect" fill="hold" presetClass="exit" presetID="2" presetSubtype="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0" dur="4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4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dur="indefinite" nodeType="withEffect" fill="hold" presetClass="exit" presetID="31">
                                  <p:stCondLst>
                                    <p:cond delay="3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4" dur="2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2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2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7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dur="indefinite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850" dur="3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1" dur="indefinite" nodeType="withEffect" fill="hold" presetClass="exit" presetID="2" presetSubtype="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2" dur="40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40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dur="indefinite" nodeType="withEffect" fill="hold" presetClass="exit" presetID="31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6" dur="20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0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20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9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dur="indefinite" nodeType="withEffect" fill="hold" presetClass="emph" presetID="8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862" dur="3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3" dur="indefinite" nodeType="withEffect" fill="hold" presetClass="exit" presetID="2" presetSubtype="4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4" dur="40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40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dur="indefinite" nodeType="withEffect" fill="hold" presetClass="exit" presetID="31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8" dur="20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0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20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1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dur="indefinite" nodeType="withEffect" fill="hold" presetClass="emph" presetID="8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874" dur="3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5" dur="indefinite" nodeType="withEffect" fill="hold" presetClass="exit" presetID="2" presetSubtype="4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6" dur="400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400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dur="indefinite" nodeType="withEffect" fill="hold" presetClass="exit" presetID="31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0" dur="200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200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200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3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dur="indefinite" nodeType="withEffect" fill="hold" presetClass="emph" presetID="8">
                                  <p:stCondLst>
                                    <p:cond delay="3500"/>
                                  </p:stCondLst>
                                  <p:childTnLst>
                                    <p:animRot by="21600000">
                                      <p:cBhvr>
                                        <p:cTn id="886" dur="3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7" dur="indefinite" nodeType="withEffect" fill="hold" presetClass="exit" presetID="2" presetSubtype="4">
                                  <p:stCondLst>
                                    <p:cond delay="3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8" dur="40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40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dur="indefinite" nodeType="withEffect" fill="hold" presetClass="exit" presetID="31">
                                  <p:stCondLst>
                                    <p:cond delay="4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2" dur="20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20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20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5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dur="indefinite" nodeType="withEffect" fill="hold" presetClass="emph" presetID="8">
                                  <p:stCondLst>
                                    <p:cond delay="3800"/>
                                  </p:stCondLst>
                                  <p:childTnLst>
                                    <p:animRot by="21600000">
                                      <p:cBhvr>
                                        <p:cTn id="898" dur="3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9" dur="indefinite" nodeType="withEffect" fill="hold" presetClass="exit" presetID="2" presetSubtype="4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0" dur="40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40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dur="indefinite" nodeType="withEffect" fill="hold" presetClass="exit" presetID="31">
                                  <p:stCondLst>
                                    <p:cond delay="4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4" dur="20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20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7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dur="indefinite" nodeType="withEffect" fill="hold" presetClass="entr" presetID="10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5600"/>
                            </p:stCondLst>
                            <p:childTnLst>
                              <p:par>
                                <p:cTn id="9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16100"/>
                            </p:stCondLst>
                            <p:childTnLst>
                              <p:par>
                                <p:cTn id="923" dur="indefinite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矩形 3"/>
          <p:cNvSpPr/>
          <p:nvPr/>
        </p:nvSpPr>
        <p:spPr>
          <a:xfrm>
            <a:off x="0" y="-19080"/>
            <a:ext cx="9144000" cy="5162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组合 5"/>
          <p:cNvGrpSpPr/>
          <p:nvPr/>
        </p:nvGrpSpPr>
        <p:grpSpPr>
          <a:xfrm>
            <a:off x="-6480" y="-19080"/>
            <a:ext cx="9151200" cy="1146240"/>
            <a:chOff x="-6480" y="-19080"/>
            <a:chExt cx="9151200" cy="1146240"/>
          </a:xfrm>
        </p:grpSpPr>
        <p:sp>
          <p:nvSpPr>
            <p:cNvPr id="693" name="矩形 8"/>
            <p:cNvSpPr/>
            <p:nvPr/>
          </p:nvSpPr>
          <p:spPr>
            <a:xfrm>
              <a:off x="-6480" y="142920"/>
              <a:ext cx="9142920" cy="9842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4" name="组合 9"/>
            <p:cNvGrpSpPr/>
            <p:nvPr/>
          </p:nvGrpSpPr>
          <p:grpSpPr>
            <a:xfrm>
              <a:off x="-2520" y="-19080"/>
              <a:ext cx="9147240" cy="432000"/>
              <a:chOff x="-2520" y="-19080"/>
              <a:chExt cx="9147240" cy="432000"/>
            </a:xfrm>
          </p:grpSpPr>
          <p:sp>
            <p:nvSpPr>
              <p:cNvPr id="695" name="任意多边形 12"/>
              <p:cNvSpPr/>
              <p:nvPr/>
            </p:nvSpPr>
            <p:spPr>
              <a:xfrm>
                <a:off x="-2520" y="-19080"/>
                <a:ext cx="9146520" cy="420840"/>
              </a:xfrm>
              <a:prstGeom prst="pie">
                <a:avLst/>
              </a:prstGeom>
              <a:noFill/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任意多边形 13"/>
              <p:cNvSpPr/>
              <p:nvPr/>
            </p:nvSpPr>
            <p:spPr>
              <a:xfrm>
                <a:off x="-1800" y="-19080"/>
                <a:ext cx="9146520" cy="432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97" name="图片 268" descr="图片2.png"/>
          <p:cNvPicPr/>
          <p:nvPr/>
        </p:nvPicPr>
        <p:blipFill>
          <a:blip r:embed="rId4"/>
          <a:stretch/>
        </p:blipFill>
        <p:spPr>
          <a:xfrm>
            <a:off x="-1332000" y="-10388520"/>
            <a:ext cx="10918800" cy="15811560"/>
          </a:xfrm>
          <a:prstGeom prst="rect">
            <a:avLst/>
          </a:prstGeom>
          <a:ln w="0">
            <a:noFill/>
          </a:ln>
        </p:spPr>
      </p:pic>
      <p:sp>
        <p:nvSpPr>
          <p:cNvPr id="698" name="矩形 14"/>
          <p:cNvSpPr/>
          <p:nvPr/>
        </p:nvSpPr>
        <p:spPr>
          <a:xfrm>
            <a:off x="1692360" y="1514520"/>
            <a:ext cx="6767280" cy="30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组合 20"/>
          <p:cNvGrpSpPr/>
          <p:nvPr/>
        </p:nvGrpSpPr>
        <p:grpSpPr>
          <a:xfrm>
            <a:off x="1547640" y="1684440"/>
            <a:ext cx="3548160" cy="600120"/>
            <a:chOff x="1547640" y="1684440"/>
            <a:chExt cx="3548160" cy="600120"/>
          </a:xfrm>
        </p:grpSpPr>
        <p:sp>
          <p:nvSpPr>
            <p:cNvPr id="700" name="平行四边形 18"/>
            <p:cNvSpPr/>
            <p:nvPr/>
          </p:nvSpPr>
          <p:spPr>
            <a:xfrm>
              <a:off x="2720160" y="1684440"/>
              <a:ext cx="2375640" cy="586080"/>
            </a:xfrm>
            <a:prstGeom prst="pie">
              <a:avLst/>
            </a:prstGeom>
            <a:solidFill>
              <a:srgbClr val="fe3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矩形 19"/>
            <p:cNvSpPr/>
            <p:nvPr/>
          </p:nvSpPr>
          <p:spPr>
            <a:xfrm>
              <a:off x="2550600" y="1684440"/>
              <a:ext cx="338400" cy="600120"/>
            </a:xfrm>
            <a:prstGeom prst="pie">
              <a:avLst/>
            </a:prstGeom>
            <a:solidFill>
              <a:srgbClr val="cb12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矩形 17"/>
            <p:cNvSpPr/>
            <p:nvPr/>
          </p:nvSpPr>
          <p:spPr>
            <a:xfrm>
              <a:off x="1547640" y="1708200"/>
              <a:ext cx="1017720" cy="576360"/>
            </a:xfrm>
            <a:prstGeom prst="pie">
              <a:avLst/>
            </a:prstGeom>
            <a:solidFill>
              <a:srgbClr val="fe3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3" name="TextBox 1"/>
          <p:cNvSpPr/>
          <p:nvPr/>
        </p:nvSpPr>
        <p:spPr>
          <a:xfrm>
            <a:off x="1553040" y="1803240"/>
            <a:ext cx="9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ketch Rockwell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组合 56"/>
          <p:cNvGrpSpPr/>
          <p:nvPr/>
        </p:nvGrpSpPr>
        <p:grpSpPr>
          <a:xfrm>
            <a:off x="2871720" y="1751040"/>
            <a:ext cx="2073240" cy="459720"/>
            <a:chOff x="2871720" y="1751040"/>
            <a:chExt cx="2073240" cy="459720"/>
          </a:xfrm>
        </p:grpSpPr>
        <p:sp>
          <p:nvSpPr>
            <p:cNvPr id="705" name="任意多边形 4"/>
            <p:cNvSpPr/>
            <p:nvPr/>
          </p:nvSpPr>
          <p:spPr>
            <a:xfrm>
              <a:off x="2871720" y="1766880"/>
              <a:ext cx="2073240" cy="41832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Box 6"/>
            <p:cNvSpPr/>
            <p:nvPr/>
          </p:nvSpPr>
          <p:spPr>
            <a:xfrm>
              <a:off x="3248640" y="17510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方正喵呜体"/>
                  <a:ea typeface="方正喵呜体"/>
                </a:rPr>
                <a:t>点击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7" name="椭圆 37"/>
          <p:cNvSpPr/>
          <p:nvPr/>
        </p:nvSpPr>
        <p:spPr>
          <a:xfrm>
            <a:off x="1738440" y="1270080"/>
            <a:ext cx="1150920" cy="31752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组合 55"/>
          <p:cNvGrpSpPr/>
          <p:nvPr/>
        </p:nvGrpSpPr>
        <p:grpSpPr>
          <a:xfrm>
            <a:off x="2409840" y="2709720"/>
            <a:ext cx="1967400" cy="459720"/>
            <a:chOff x="2409840" y="2709720"/>
            <a:chExt cx="1967400" cy="459720"/>
          </a:xfrm>
        </p:grpSpPr>
        <p:grpSp>
          <p:nvGrpSpPr>
            <p:cNvPr id="709" name="组合 22"/>
            <p:cNvGrpSpPr/>
            <p:nvPr/>
          </p:nvGrpSpPr>
          <p:grpSpPr>
            <a:xfrm>
              <a:off x="2409840" y="2818800"/>
              <a:ext cx="243720" cy="244080"/>
              <a:chOff x="2409840" y="2818800"/>
              <a:chExt cx="243720" cy="244080"/>
            </a:xfrm>
          </p:grpSpPr>
          <p:sp>
            <p:nvSpPr>
              <p:cNvPr id="710" name="椭圆 23"/>
              <p:cNvSpPr/>
              <p:nvPr/>
            </p:nvSpPr>
            <p:spPr>
              <a:xfrm>
                <a:off x="2409840" y="2818800"/>
                <a:ext cx="243720" cy="2440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椭圆 24"/>
              <p:cNvSpPr/>
              <p:nvPr/>
            </p:nvSpPr>
            <p:spPr>
              <a:xfrm>
                <a:off x="2447280" y="2851200"/>
                <a:ext cx="51480" cy="51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TextBox 29"/>
            <p:cNvSpPr/>
            <p:nvPr/>
          </p:nvSpPr>
          <p:spPr>
            <a:xfrm>
              <a:off x="3099240" y="27097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95959"/>
                  </a:solidFill>
                  <a:latin typeface="方正喵呜体"/>
                  <a:ea typeface="方正喵呜体"/>
                </a:rPr>
                <a:t>点击添加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组合 54"/>
          <p:cNvGrpSpPr/>
          <p:nvPr/>
        </p:nvGrpSpPr>
        <p:grpSpPr>
          <a:xfrm>
            <a:off x="2408400" y="3292560"/>
            <a:ext cx="1966320" cy="459720"/>
            <a:chOff x="2408400" y="3292560"/>
            <a:chExt cx="1966320" cy="459720"/>
          </a:xfrm>
        </p:grpSpPr>
        <p:grpSp>
          <p:nvGrpSpPr>
            <p:cNvPr id="714" name="组合 30"/>
            <p:cNvGrpSpPr/>
            <p:nvPr/>
          </p:nvGrpSpPr>
          <p:grpSpPr>
            <a:xfrm>
              <a:off x="2408400" y="3400920"/>
              <a:ext cx="243720" cy="243360"/>
              <a:chOff x="2408400" y="3400920"/>
              <a:chExt cx="243720" cy="243360"/>
            </a:xfrm>
          </p:grpSpPr>
          <p:sp>
            <p:nvSpPr>
              <p:cNvPr id="715" name="椭圆 31"/>
              <p:cNvSpPr/>
              <p:nvPr/>
            </p:nvSpPr>
            <p:spPr>
              <a:xfrm>
                <a:off x="2408400" y="3400920"/>
                <a:ext cx="243720" cy="243360"/>
              </a:xfrm>
              <a:prstGeom prst="ellipse">
                <a:avLst/>
              </a:prstGeom>
              <a:solidFill>
                <a:srgbClr val="20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椭圆 32"/>
              <p:cNvSpPr/>
              <p:nvPr/>
            </p:nvSpPr>
            <p:spPr>
              <a:xfrm>
                <a:off x="2445840" y="3433320"/>
                <a:ext cx="51480" cy="51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7" name="TextBox 33"/>
            <p:cNvSpPr/>
            <p:nvPr/>
          </p:nvSpPr>
          <p:spPr>
            <a:xfrm>
              <a:off x="3096720" y="3292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95959"/>
                  </a:solidFill>
                  <a:latin typeface="方正喵呜体"/>
                  <a:ea typeface="方正喵呜体"/>
                </a:rPr>
                <a:t>点击添加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组合 53"/>
          <p:cNvGrpSpPr/>
          <p:nvPr/>
        </p:nvGrpSpPr>
        <p:grpSpPr>
          <a:xfrm>
            <a:off x="2394000" y="3867120"/>
            <a:ext cx="1966680" cy="459720"/>
            <a:chOff x="2394000" y="3867120"/>
            <a:chExt cx="1966680" cy="459720"/>
          </a:xfrm>
        </p:grpSpPr>
        <p:grpSp>
          <p:nvGrpSpPr>
            <p:cNvPr id="719" name="组合 34"/>
            <p:cNvGrpSpPr/>
            <p:nvPr/>
          </p:nvGrpSpPr>
          <p:grpSpPr>
            <a:xfrm>
              <a:off x="2394000" y="3975840"/>
              <a:ext cx="243720" cy="244080"/>
              <a:chOff x="2394000" y="3975840"/>
              <a:chExt cx="243720" cy="244080"/>
            </a:xfrm>
          </p:grpSpPr>
          <p:sp>
            <p:nvSpPr>
              <p:cNvPr id="720" name="椭圆 35"/>
              <p:cNvSpPr/>
              <p:nvPr/>
            </p:nvSpPr>
            <p:spPr>
              <a:xfrm>
                <a:off x="2394000" y="3975840"/>
                <a:ext cx="243720" cy="2440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椭圆 36"/>
              <p:cNvSpPr/>
              <p:nvPr/>
            </p:nvSpPr>
            <p:spPr>
              <a:xfrm>
                <a:off x="2431440" y="4008240"/>
                <a:ext cx="51480" cy="51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2" name="TextBox 37"/>
            <p:cNvSpPr/>
            <p:nvPr/>
          </p:nvSpPr>
          <p:spPr>
            <a:xfrm>
              <a:off x="3082680" y="38671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95959"/>
                  </a:solidFill>
                  <a:latin typeface="方正喵呜体"/>
                  <a:ea typeface="方正喵呜体"/>
                </a:rPr>
                <a:t>点击添加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组合 50"/>
          <p:cNvGrpSpPr/>
          <p:nvPr/>
        </p:nvGrpSpPr>
        <p:grpSpPr>
          <a:xfrm>
            <a:off x="5416560" y="2287440"/>
            <a:ext cx="2016000" cy="2016360"/>
            <a:chOff x="5416560" y="2287440"/>
            <a:chExt cx="2016000" cy="2016360"/>
          </a:xfrm>
        </p:grpSpPr>
        <p:sp>
          <p:nvSpPr>
            <p:cNvPr id="724" name="同心圆 7"/>
            <p:cNvSpPr/>
            <p:nvPr/>
          </p:nvSpPr>
          <p:spPr>
            <a:xfrm>
              <a:off x="5416560" y="2287440"/>
              <a:ext cx="2016000" cy="2016360"/>
            </a:xfrm>
            <a:prstGeom prst="donut">
              <a:avLst>
                <a:gd name="adj" fmla="val 5458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直接连接符 38"/>
            <p:cNvSpPr/>
            <p:nvPr/>
          </p:nvSpPr>
          <p:spPr>
            <a:xfrm>
              <a:off x="5668560" y="2820600"/>
              <a:ext cx="1512000" cy="0"/>
            </a:xfrm>
            <a:prstGeom prst="line">
              <a:avLst/>
            </a:prstGeom>
            <a:ln w="9360">
              <a:solidFill>
                <a:srgbClr val="f2f2f2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直接连接符 40"/>
            <p:cNvSpPr/>
            <p:nvPr/>
          </p:nvSpPr>
          <p:spPr>
            <a:xfrm>
              <a:off x="5560560" y="3102480"/>
              <a:ext cx="1728000" cy="0"/>
            </a:xfrm>
            <a:prstGeom prst="line">
              <a:avLst/>
            </a:prstGeom>
            <a:ln w="9360">
              <a:solidFill>
                <a:srgbClr val="f2f2f2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直接连接符 41"/>
            <p:cNvSpPr/>
            <p:nvPr/>
          </p:nvSpPr>
          <p:spPr>
            <a:xfrm>
              <a:off x="5560560" y="3385440"/>
              <a:ext cx="1728000" cy="0"/>
            </a:xfrm>
            <a:prstGeom prst="line">
              <a:avLst/>
            </a:prstGeom>
            <a:ln w="9360">
              <a:solidFill>
                <a:srgbClr val="f2f2f2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直接连接符 42"/>
            <p:cNvSpPr/>
            <p:nvPr/>
          </p:nvSpPr>
          <p:spPr>
            <a:xfrm>
              <a:off x="5632560" y="3684960"/>
              <a:ext cx="1512000" cy="0"/>
            </a:xfrm>
            <a:prstGeom prst="line">
              <a:avLst/>
            </a:prstGeom>
            <a:ln w="9360">
              <a:solidFill>
                <a:srgbClr val="f2f2f2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直接连接符 43"/>
            <p:cNvSpPr/>
            <p:nvPr/>
          </p:nvSpPr>
          <p:spPr>
            <a:xfrm>
              <a:off x="5776560" y="3912120"/>
              <a:ext cx="1296000" cy="0"/>
            </a:xfrm>
            <a:prstGeom prst="line">
              <a:avLst/>
            </a:prstGeom>
            <a:ln w="9360">
              <a:solidFill>
                <a:srgbClr val="f2f2f2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TextBox 51"/>
          <p:cNvSpPr/>
          <p:nvPr/>
        </p:nvSpPr>
        <p:spPr>
          <a:xfrm>
            <a:off x="5765760" y="2593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喵呜体"/>
                <a:ea typeface="方正喵呜体"/>
              </a:rPr>
              <a:t>Fro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Box 52"/>
          <p:cNvSpPr/>
          <p:nvPr/>
        </p:nvSpPr>
        <p:spPr>
          <a:xfrm>
            <a:off x="5586480" y="3114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喵呜体"/>
                <a:ea typeface="方正喵呜体"/>
              </a:rPr>
              <a:t>祝福大家节日快乐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组合 258"/>
          <p:cNvGrpSpPr/>
          <p:nvPr/>
        </p:nvGrpSpPr>
        <p:grpSpPr>
          <a:xfrm>
            <a:off x="38160" y="3586320"/>
            <a:ext cx="1181160" cy="1554120"/>
            <a:chOff x="38160" y="3586320"/>
            <a:chExt cx="1181160" cy="1554120"/>
          </a:xfrm>
        </p:grpSpPr>
        <p:grpSp>
          <p:nvGrpSpPr>
            <p:cNvPr id="733" name="组合 259"/>
            <p:cNvGrpSpPr/>
            <p:nvPr/>
          </p:nvGrpSpPr>
          <p:grpSpPr>
            <a:xfrm>
              <a:off x="38160" y="3586320"/>
              <a:ext cx="1181160" cy="1554120"/>
              <a:chOff x="38160" y="3586320"/>
              <a:chExt cx="1181160" cy="1554120"/>
            </a:xfrm>
          </p:grpSpPr>
          <p:sp>
            <p:nvSpPr>
              <p:cNvPr id="734" name="矩形 263"/>
              <p:cNvSpPr/>
              <p:nvPr/>
            </p:nvSpPr>
            <p:spPr>
              <a:xfrm>
                <a:off x="547560" y="4667400"/>
                <a:ext cx="162360" cy="473040"/>
              </a:xfrm>
              <a:prstGeom prst="rect">
                <a:avLst/>
              </a:prstGeom>
              <a:solidFill>
                <a:srgbClr val="893a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任意多边形 264"/>
              <p:cNvSpPr/>
              <p:nvPr/>
            </p:nvSpPr>
            <p:spPr>
              <a:xfrm>
                <a:off x="258840" y="3637440"/>
                <a:ext cx="739440" cy="480240"/>
              </a:xfrm>
              <a:prstGeom prst="pie">
                <a:avLst/>
              </a:prstGeom>
              <a:solidFill>
                <a:srgbClr val="20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五角星 265"/>
              <p:cNvSpPr/>
              <p:nvPr/>
            </p:nvSpPr>
            <p:spPr>
              <a:xfrm>
                <a:off x="577080" y="3586320"/>
                <a:ext cx="100440" cy="95400"/>
              </a:xfrm>
              <a:prstGeom prst="star5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任意多边形 266"/>
              <p:cNvSpPr/>
              <p:nvPr/>
            </p:nvSpPr>
            <p:spPr>
              <a:xfrm>
                <a:off x="78480" y="3799800"/>
                <a:ext cx="1100520" cy="714600"/>
              </a:xfrm>
              <a:prstGeom prst="pie">
                <a:avLst/>
              </a:prstGeom>
              <a:solidFill>
                <a:srgbClr val="20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任意多边形 267"/>
              <p:cNvSpPr/>
              <p:nvPr/>
            </p:nvSpPr>
            <p:spPr>
              <a:xfrm>
                <a:off x="38160" y="4136760"/>
                <a:ext cx="1181160" cy="767160"/>
              </a:xfrm>
              <a:prstGeom prst="pie">
                <a:avLst/>
              </a:prstGeom>
              <a:solidFill>
                <a:srgbClr val="20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9" name="任意多边形 260"/>
            <p:cNvSpPr/>
            <p:nvPr/>
          </p:nvSpPr>
          <p:spPr>
            <a:xfrm>
              <a:off x="338040" y="3864960"/>
              <a:ext cx="439920" cy="159840"/>
            </a:xfrm>
            <a:prstGeom prst="pie">
              <a:avLst/>
            </a:prstGeom>
            <a:noFill/>
            <a:ln w="25560">
              <a:solidFill>
                <a:srgbClr val="f2f2f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任意多边形 261"/>
            <p:cNvSpPr/>
            <p:nvPr/>
          </p:nvSpPr>
          <p:spPr>
            <a:xfrm>
              <a:off x="245880" y="4197960"/>
              <a:ext cx="653040" cy="119160"/>
            </a:xfrm>
            <a:prstGeom prst="pie">
              <a:avLst/>
            </a:prstGeom>
            <a:noFill/>
            <a:ln w="25560">
              <a:solidFill>
                <a:srgbClr val="f2f2f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任意多边形 262"/>
            <p:cNvSpPr/>
            <p:nvPr/>
          </p:nvSpPr>
          <p:spPr>
            <a:xfrm>
              <a:off x="159480" y="4589280"/>
              <a:ext cx="782640" cy="137160"/>
            </a:xfrm>
            <a:prstGeom prst="pie">
              <a:avLst/>
            </a:prstGeom>
            <a:noFill/>
            <a:ln w="25560">
              <a:solidFill>
                <a:srgbClr val="f2f2f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84DA-010B-4AC6-A2C7-43A382F5DA8E}" type="slidenum">
              <a:t>2</a:t>
            </a:fld>
          </a:p>
        </p:txBody>
      </p:sp>
    </p:spTree>
  </p:cSld>
  <p:transition spd="med" advTm="15000">
    <p:fade/>
  </p:transition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dur="indefinite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1 E">
                                      <p:cBhvr>
                                        <p:cTn id="934" dur="25000" fill="hold"/>
                                        <p:tgtEl>
                                          <p:spTgt spid="6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3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3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5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0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7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6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矩形 3"/>
          <p:cNvSpPr/>
          <p:nvPr/>
        </p:nvSpPr>
        <p:spPr>
          <a:xfrm>
            <a:off x="0" y="-19080"/>
            <a:ext cx="9144000" cy="5162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3" name="组合 5"/>
          <p:cNvGrpSpPr/>
          <p:nvPr/>
        </p:nvGrpSpPr>
        <p:grpSpPr>
          <a:xfrm>
            <a:off x="-6480" y="-19080"/>
            <a:ext cx="9151200" cy="1146240"/>
            <a:chOff x="-6480" y="-19080"/>
            <a:chExt cx="9151200" cy="1146240"/>
          </a:xfrm>
        </p:grpSpPr>
        <p:sp>
          <p:nvSpPr>
            <p:cNvPr id="744" name="矩形 8"/>
            <p:cNvSpPr/>
            <p:nvPr/>
          </p:nvSpPr>
          <p:spPr>
            <a:xfrm>
              <a:off x="-6480" y="142920"/>
              <a:ext cx="9142920" cy="9842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5" name="组合 9"/>
            <p:cNvGrpSpPr/>
            <p:nvPr/>
          </p:nvGrpSpPr>
          <p:grpSpPr>
            <a:xfrm>
              <a:off x="-2520" y="-19080"/>
              <a:ext cx="9147240" cy="432000"/>
              <a:chOff x="-2520" y="-19080"/>
              <a:chExt cx="9147240" cy="432000"/>
            </a:xfrm>
          </p:grpSpPr>
          <p:sp>
            <p:nvSpPr>
              <p:cNvPr id="746" name="任意多边形 12"/>
              <p:cNvSpPr/>
              <p:nvPr/>
            </p:nvSpPr>
            <p:spPr>
              <a:xfrm>
                <a:off x="-2520" y="-19080"/>
                <a:ext cx="9146520" cy="420840"/>
              </a:xfrm>
              <a:prstGeom prst="pie">
                <a:avLst/>
              </a:prstGeom>
              <a:noFill/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任意多边形 13"/>
              <p:cNvSpPr/>
              <p:nvPr/>
            </p:nvSpPr>
            <p:spPr>
              <a:xfrm>
                <a:off x="-1800" y="-19080"/>
                <a:ext cx="9146520" cy="432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8" name="组合 258"/>
          <p:cNvGrpSpPr/>
          <p:nvPr/>
        </p:nvGrpSpPr>
        <p:grpSpPr>
          <a:xfrm>
            <a:off x="38160" y="3586320"/>
            <a:ext cx="1181160" cy="1554120"/>
            <a:chOff x="38160" y="3586320"/>
            <a:chExt cx="1181160" cy="1554120"/>
          </a:xfrm>
        </p:grpSpPr>
        <p:grpSp>
          <p:nvGrpSpPr>
            <p:cNvPr id="749" name="组合 259"/>
            <p:cNvGrpSpPr/>
            <p:nvPr/>
          </p:nvGrpSpPr>
          <p:grpSpPr>
            <a:xfrm>
              <a:off x="38160" y="3586320"/>
              <a:ext cx="1181160" cy="1554120"/>
              <a:chOff x="38160" y="3586320"/>
              <a:chExt cx="1181160" cy="1554120"/>
            </a:xfrm>
          </p:grpSpPr>
          <p:sp>
            <p:nvSpPr>
              <p:cNvPr id="750" name="矩形 263"/>
              <p:cNvSpPr/>
              <p:nvPr/>
            </p:nvSpPr>
            <p:spPr>
              <a:xfrm>
                <a:off x="547560" y="4667400"/>
                <a:ext cx="162360" cy="473040"/>
              </a:xfrm>
              <a:prstGeom prst="rect">
                <a:avLst/>
              </a:prstGeom>
              <a:solidFill>
                <a:srgbClr val="893a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任意多边形 264"/>
              <p:cNvSpPr/>
              <p:nvPr/>
            </p:nvSpPr>
            <p:spPr>
              <a:xfrm>
                <a:off x="258840" y="3637440"/>
                <a:ext cx="739440" cy="480240"/>
              </a:xfrm>
              <a:prstGeom prst="pie">
                <a:avLst/>
              </a:prstGeom>
              <a:solidFill>
                <a:srgbClr val="20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五角星 265"/>
              <p:cNvSpPr/>
              <p:nvPr/>
            </p:nvSpPr>
            <p:spPr>
              <a:xfrm>
                <a:off x="577080" y="3586320"/>
                <a:ext cx="100440" cy="95400"/>
              </a:xfrm>
              <a:prstGeom prst="star5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任意多边形 266"/>
              <p:cNvSpPr/>
              <p:nvPr/>
            </p:nvSpPr>
            <p:spPr>
              <a:xfrm>
                <a:off x="78480" y="3799800"/>
                <a:ext cx="1100520" cy="714600"/>
              </a:xfrm>
              <a:prstGeom prst="pie">
                <a:avLst/>
              </a:prstGeom>
              <a:solidFill>
                <a:srgbClr val="20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任意多边形 267"/>
              <p:cNvSpPr/>
              <p:nvPr/>
            </p:nvSpPr>
            <p:spPr>
              <a:xfrm>
                <a:off x="38160" y="4136760"/>
                <a:ext cx="1181160" cy="767160"/>
              </a:xfrm>
              <a:prstGeom prst="pie">
                <a:avLst/>
              </a:prstGeom>
              <a:solidFill>
                <a:srgbClr val="20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5" name="任意多边形 260"/>
            <p:cNvSpPr/>
            <p:nvPr/>
          </p:nvSpPr>
          <p:spPr>
            <a:xfrm>
              <a:off x="338040" y="3864960"/>
              <a:ext cx="439920" cy="159840"/>
            </a:xfrm>
            <a:prstGeom prst="pie">
              <a:avLst/>
            </a:prstGeom>
            <a:noFill/>
            <a:ln w="25560">
              <a:solidFill>
                <a:srgbClr val="f2f2f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任意多边形 261"/>
            <p:cNvSpPr/>
            <p:nvPr/>
          </p:nvSpPr>
          <p:spPr>
            <a:xfrm>
              <a:off x="245880" y="4197960"/>
              <a:ext cx="653040" cy="119160"/>
            </a:xfrm>
            <a:prstGeom prst="pie">
              <a:avLst/>
            </a:prstGeom>
            <a:noFill/>
            <a:ln w="25560">
              <a:solidFill>
                <a:srgbClr val="f2f2f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任意多边形 262"/>
            <p:cNvSpPr/>
            <p:nvPr/>
          </p:nvSpPr>
          <p:spPr>
            <a:xfrm>
              <a:off x="159480" y="4589280"/>
              <a:ext cx="782640" cy="137160"/>
            </a:xfrm>
            <a:prstGeom prst="pie">
              <a:avLst/>
            </a:prstGeom>
            <a:noFill/>
            <a:ln w="25560">
              <a:solidFill>
                <a:srgbClr val="f2f2f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TextBox 268"/>
          <p:cNvSpPr/>
          <p:nvPr/>
        </p:nvSpPr>
        <p:spPr>
          <a:xfrm>
            <a:off x="3690360" y="233028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ketch Rockwell"/>
              </a:rPr>
              <a:t>Thank y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D26C-C0F0-4B0B-A5F4-2E3931DDA629}" type="slidenum">
              <a:t>3</a:t>
            </a:fld>
          </a:p>
        </p:txBody>
      </p:sp>
    </p:spTree>
  </p:cSld>
  <p:transition spd="med" advTm="2000">
    <p:fade/>
  </p:transition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0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3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1D6B-9609-4924-BC74-65C3A4EA78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2T16:26:18Z</dcterms:created>
  <dc:creator>www.eeppt.com</dc:creator>
  <dc:description>ppt模板下载网站 http://www.eeppt.com</dc:description>
  <dc:language>en-US</dc:language>
  <cp:lastModifiedBy/>
  <dcterms:modified xsi:type="dcterms:W3CDTF">2015-05-22T16:27:07Z</dcterms:modified>
  <cp:revision>12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