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4C5-A709-44F0-B554-20DF2015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F44-7E94-4ABB-9320-E0999B81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2CCB-4EA8-49F7-8F74-1721083D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3071-BC6B-4408-9467-C976DF9D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9EC-851A-4572-8D31-09781523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C46-D7DE-473B-82D1-F4A21279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336-5721-4AF6-9652-8B8FCA47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99B-B47D-4E3A-A009-4285A7D4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86B6-61C7-4E32-9C9D-53260988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FD2-C445-4785-9F0F-0EBDDB56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6AA-CA90-459C-A817-D364A7F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A67-9104-4A66-9F51-9D78C145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3D19-8F56-4AFF-AAA1-8BF54EA0EC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90972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6c0a"/>
                </a:solidFill>
                <a:latin typeface="Calibri"/>
              </a:rPr>
              <a:t>生日快乐生日蛋糕</a:t>
            </a:r>
            <a:r>
              <a:rPr b="0" lang="zh-CN" sz="4400" spc="-1" strike="noStrike">
                <a:solidFill>
                  <a:srgbClr val="e46c0a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e46c0a"/>
                </a:solidFill>
                <a:latin typeface="Calibri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15:10:08Z</dcterms:created>
  <dc:creator>www.eeppt.com</dc:creator>
  <dc:description>ppt模板下载网站 http://www.eeppt.com</dc:description>
  <dc:language>en-US</dc:language>
  <cp:lastModifiedBy/>
  <dcterms:modified xsi:type="dcterms:W3CDTF">2015-05-27T16:35:4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TAG2">
    <vt:lpwstr>000800ea02000000000001024140</vt:lpwstr>
  </property>
</Properties>
</file>