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DD8-A01E-44E5-850B-FB131FFA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6F9-AF50-4642-B882-F2D3FDA8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CC4-A20C-4D5A-BF67-9518202F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88C-B7EC-4E46-8DC7-AECFE81D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B18-ECB2-4A98-B48E-48800675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A31-4EFA-4705-8B46-53FDF681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DB6-48E9-43D7-948A-12D8AFEF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83B-817B-4957-A656-06952A9E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27F-F87A-49C6-8692-AF38C610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FC3-6C91-4DF2-8A47-34A98B2A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2AD-C465-43A2-8671-F46BE738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96A-94A9-496A-BE80-EE258FF7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6270-7235-46CB-BB63-F332DCA071B7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511216864"/>
          <p:cNvPicPr/>
          <p:nvPr/>
        </p:nvPicPr>
        <p:blipFill>
          <a:blip r:embed="rId2"/>
          <a:stretch/>
        </p:blipFill>
        <p:spPr>
          <a:xfrm>
            <a:off x="611280" y="485640"/>
            <a:ext cx="7705800" cy="595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三  峡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北魏   郦道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62072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说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发挥想象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6" name="Picture 10" descr="75791a8b5bd9d8e8973e8acee1e1d6ff_m"/>
          <p:cNvPicPr/>
          <p:nvPr/>
        </p:nvPicPr>
        <p:blipFill>
          <a:blip r:embed="rId2"/>
          <a:stretch/>
        </p:blipFill>
        <p:spPr>
          <a:xfrm>
            <a:off x="684360" y="1052640"/>
            <a:ext cx="3892320" cy="2616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1"/>
          <p:cNvPicPr/>
          <p:nvPr/>
        </p:nvPicPr>
        <p:blipFill>
          <a:blip r:embed="rId3"/>
          <a:stretch/>
        </p:blipFill>
        <p:spPr>
          <a:xfrm>
            <a:off x="5076720" y="1125360"/>
            <a:ext cx="3456000" cy="259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g2005032815414884"/>
          <p:cNvPicPr/>
          <p:nvPr/>
        </p:nvPicPr>
        <p:blipFill>
          <a:blip r:embed="rId4"/>
          <a:stretch/>
        </p:blipFill>
        <p:spPr>
          <a:xfrm>
            <a:off x="5003640" y="4005360"/>
            <a:ext cx="3816360" cy="249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2005813222235295"/>
          <p:cNvPicPr/>
          <p:nvPr/>
        </p:nvPicPr>
        <p:blipFill>
          <a:blip r:embed="rId5"/>
          <a:stretch/>
        </p:blipFill>
        <p:spPr>
          <a:xfrm>
            <a:off x="755640" y="3860640"/>
            <a:ext cx="3665520" cy="2749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说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发现美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用你欣赏的眼光来审视课文的美吧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可以从结构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写景的角度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语言等方面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2053080" y="62028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背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积累语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765800" y="1412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10920" y="266400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一 读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整体感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二 练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落实基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三 说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涵咏品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四 背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积累语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6" descr="96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7" name="c8126.MP3" descr=""/>
          <p:cNvPicPr/>
          <p:nvPr/>
        </p:nvPicPr>
        <p:blipFill>
          <a:blip r:embed="rId3"/>
          <a:stretch/>
        </p:blipFill>
        <p:spPr>
          <a:xfrm>
            <a:off x="395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9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95280" y="404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49b6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ed49b6"/>
                </a:solidFill>
                <a:latin typeface="Arial"/>
                <a:ea typeface="楷体_GB2312"/>
              </a:rPr>
              <a:t>春冬之时，则素湍绿潭，回清倒影，绝山献多生怪柏，悬泉瀑布，飞漱其间，清荣峻茂，良多趣味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24000" y="1268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49b6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ed49b6"/>
                </a:solidFill>
                <a:latin typeface="Arial"/>
                <a:ea typeface="楷体_GB2312"/>
              </a:rPr>
              <a:t>每至晴初霜旦，林寒涧肃，常有高猿长啸，属引凄异，，空谷传响，哀转久绝。故渔者歌曰：“巴东三峡巫峡长，猿鸣三声泪沾裳。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212400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练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落实基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34920" y="2205000"/>
            <a:ext cx="4608360" cy="38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实词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略无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阙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处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夏水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陵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乘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奔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御风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飞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漱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其间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晴初霜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7640" y="2205000"/>
            <a:ext cx="4606920" cy="38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29d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通</a:t>
            </a:r>
            <a:r>
              <a:rPr b="1" lang="en-US" sz="2800" spc="-1" strike="noStrike">
                <a:solidFill>
                  <a:srgbClr val="4629d9"/>
                </a:solidFill>
                <a:latin typeface="Arial"/>
                <a:ea typeface="Arial"/>
              </a:rPr>
              <a:t>"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缺</a:t>
            </a:r>
            <a:r>
              <a:rPr b="1" lang="en-US" sz="2800" spc="-1" strike="noStrike">
                <a:solidFill>
                  <a:srgbClr val="4629d9"/>
                </a:solidFill>
                <a:latin typeface="Arial"/>
                <a:ea typeface="Arial"/>
              </a:rPr>
              <a:t>"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中断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飞奔的马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冲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早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词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自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自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三峡七百里中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自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非亭午夜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绝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沿溯阻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绝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y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Arial"/>
              </a:rPr>
              <a:t>ặ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多生怪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哀转久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绝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属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属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zh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Arial"/>
              </a:rPr>
              <a:t>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引凄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有良田美池桑竹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76720" y="2060640"/>
            <a:ext cx="4610160" cy="38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如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阻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极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消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连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翻译句子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重岩叠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隐天蔽日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自非亭午夜分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见曦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虽乘奔御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以疾也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清荣峻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良多趣味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常有高猿长啸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属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zh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Arial"/>
              </a:rPr>
              <a:t>ǔ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引凄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空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传响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哀转久绝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405440" y="764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说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品味意境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找出文中写景的句子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小组内探究写景的角度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分析语言的特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按照示例用一句完整的话表达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示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文中写景的句子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　　　　），写出了（　　　　　　）（景物）的（　　　　）（特点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66880" y="5318280"/>
            <a:ext cx="56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课件下载</a:t>
            </a:r>
            <a:r>
              <a:rPr b="0" lang="en-US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www.eeppt.com/moban/kejian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山：连绵不断　遮天蔽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夏水：襄、阻绝、朝、暮、疾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湍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春冬之景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素、绿、清、影、清荣峻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--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清幽秀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秋景：寒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肃、凄异、哀转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凄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0:32:12Z</dcterms:created>
  <dc:creator>www.eeppt.com; An</dc:creator>
  <dc:description>ppt模板下载网站 http://www.eeppt.com</dc:description>
  <dc:language>en-US</dc:language>
  <cp:lastModifiedBy/>
  <dcterms:modified xsi:type="dcterms:W3CDTF">2015-05-27T16:08:34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