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D3B-5574-4ACD-871A-A152E695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8CD-39BA-4883-A672-CB3D0FAD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A1E-69A8-4167-A50E-14B9B602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66D-7932-44CE-A49A-4C0D51EB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5A3-A28A-48D0-B9AB-33B9D716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BFA-169C-48DF-9A12-AF6E9AA0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698-6FD9-42D0-9B1E-C7D55BC5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F8B-D84B-470D-A209-F49025B8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D1C-DDC9-407A-B5BF-7F41F62C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0C5-BD4D-4AA7-8783-634EF62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E4F-8133-4147-A2BB-CCADF02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0DC-2F60-4479-B3F2-60A129F0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9c004e"/>
                </a:gs>
                <a:gs pos="50000">
                  <a:srgbClr val="840042"/>
                </a:gs>
                <a:gs pos="100000">
                  <a:srgbClr val="9c00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3832-EF3F-48A8-9105-7131FBDD925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303,2,&#24187;&#28783;&#29255; 2" TargetMode="External"/><Relationship Id="rId4" Type="http://schemas.openxmlformats.org/officeDocument/2006/relationships/hyperlink" Target="298,9,&#24187;&#28783;&#29255; 9" TargetMode="External"/><Relationship Id="rId5" Type="http://schemas.openxmlformats.org/officeDocument/2006/relationships/hyperlink" Target="297,6,&#24187;&#28783;&#29255; 6" TargetMode="External"/><Relationship Id="rId6" Type="http://schemas.openxmlformats.org/officeDocument/2006/relationships/hyperlink" Target="295,7,&#24187;&#28783;&#29255; 7" TargetMode="External"/><Relationship Id="rId7" Type="http://schemas.openxmlformats.org/officeDocument/2006/relationships/hyperlink" Target="&#35838;&#25991;&#26391;&#35835;.swf" TargetMode="External"/><Relationship Id="rId8" Type="http://schemas.openxmlformats.org/officeDocument/2006/relationships/hyperlink" Target="294,6,&#24187;&#28783;&#29255; 6" TargetMode="Externa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305,3,&#24187;&#28783;&#29255; 3" TargetMode="External"/><Relationship Id="rId2" Type="http://schemas.openxmlformats.org/officeDocument/2006/relationships/hyperlink" Target="305,3,&#24187;&#28783;&#29255; 3" TargetMode="External"/><Relationship Id="rId3" Type="http://schemas.openxmlformats.org/officeDocument/2006/relationships/hyperlink" Target="305,3,&#24187;&#28783;&#29255; 3" TargetMode="External"/><Relationship Id="rId4" Type="http://schemas.openxmlformats.org/officeDocument/2006/relationships/hyperlink" Target="305,3,&#24187;&#28783;&#29255; 3" TargetMode="External"/><Relationship Id="rId5" Type="http://schemas.openxmlformats.org/officeDocument/2006/relationships/hyperlink" Target="305,3,&#24187;&#28783;&#29255; 3" TargetMode="External"/><Relationship Id="rId6" Type="http://schemas.openxmlformats.org/officeDocument/2006/relationships/hyperlink" Target="305,3,&#24187;&#28783;&#29255; 3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7b8ff"/>
            </a:gs>
            <a:gs pos="100000">
              <a:srgbClr val="f7f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8" descr="BJ_03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5879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BJ_035"/>
          <p:cNvPicPr/>
          <p:nvPr/>
        </p:nvPicPr>
        <p:blipFill>
          <a:blip r:embed="rId2"/>
          <a:stretch/>
        </p:blipFill>
        <p:spPr>
          <a:xfrm>
            <a:off x="6477120" y="5079960"/>
            <a:ext cx="2666880" cy="1778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0"/>
          <p:cNvSpPr/>
          <p:nvPr/>
        </p:nvSpPr>
        <p:spPr>
          <a:xfrm>
            <a:off x="4721400" y="236520"/>
            <a:ext cx="316692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隶书"/>
              </a:rPr>
              <a:t>五柳先生传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东晋</a:t>
            </a:r>
            <a:r>
              <a:rPr b="1" lang="en-US" sz="6600" spc="-1" strike="noStrike" baseline="-1000">
                <a:solidFill>
                  <a:srgbClr val="0000ff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陶渊明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3" name="Group 50"/>
          <p:cNvGrpSpPr/>
          <p:nvPr/>
        </p:nvGrpSpPr>
        <p:grpSpPr>
          <a:xfrm>
            <a:off x="1600200" y="990720"/>
            <a:ext cx="2133720" cy="3688560"/>
            <a:chOff x="1600200" y="990720"/>
            <a:chExt cx="2133720" cy="3688560"/>
          </a:xfrm>
        </p:grpSpPr>
        <p:sp>
          <p:nvSpPr>
            <p:cNvPr id="54" name="Text Box 21"/>
            <p:cNvSpPr/>
            <p:nvPr/>
          </p:nvSpPr>
          <p:spPr>
            <a:xfrm>
              <a:off x="1600200" y="990720"/>
              <a:ext cx="21337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3"/>
                </a:rPr>
                <a:t>课文导入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5" name="Rectangle 33"/>
            <p:cNvSpPr/>
            <p:nvPr/>
          </p:nvSpPr>
          <p:spPr>
            <a:xfrm>
              <a:off x="2043720" y="396216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4"/>
                </a:rPr>
                <a:t>拓展延伸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6" name="Rectangle 34"/>
            <p:cNvSpPr/>
            <p:nvPr/>
          </p:nvSpPr>
          <p:spPr>
            <a:xfrm>
              <a:off x="2043720" y="335268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5"/>
                </a:rPr>
                <a:t>问题研讨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Rectangle 35"/>
            <p:cNvSpPr/>
            <p:nvPr/>
          </p:nvSpPr>
          <p:spPr>
            <a:xfrm>
              <a:off x="2043720" y="274284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6"/>
                </a:rPr>
                <a:t>疏通文字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Rectangle 36"/>
            <p:cNvSpPr/>
            <p:nvPr/>
          </p:nvSpPr>
          <p:spPr>
            <a:xfrm>
              <a:off x="2043720" y="220968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7"/>
                </a:rPr>
                <a:t>课文朗读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" name="Rectangle 37"/>
            <p:cNvSpPr/>
            <p:nvPr/>
          </p:nvSpPr>
          <p:spPr>
            <a:xfrm>
              <a:off x="2043720" y="159984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8"/>
                </a:rPr>
                <a:t>正音正字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457200" y="2666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率真放达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743200" y="762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闲静少言，不慕荣利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74320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好读书，不求甚解；每有会意，便欣然忘食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743200" y="2743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嗜酒，期在必醉，曾不吝情去留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819520" y="3581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环堵萧然，不蔽风日；短褐穿结，箪瓢屡空，晏如也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800600" y="4800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常著文章自娱，忘怀得失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57200" y="68580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隐者风范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704880" y="358128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安贫乐道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04920" y="4800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得其乐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淡泊名利 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04880" y="152388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书中求乐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14" descr="BJ_035"/>
          <p:cNvPicPr/>
          <p:nvPr/>
        </p:nvPicPr>
        <p:blipFill>
          <a:blip r:embed="rId1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6237360"/>
            <a:ext cx="56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600" spc="-1" strike="noStrike" u="sng">
                <a:solidFill>
                  <a:srgbClr val="9c004e"/>
                </a:solidFill>
                <a:uFillTx/>
                <a:latin typeface="Arial"/>
                <a:hlinkClick r:id="rId2"/>
              </a:rPr>
              <a:t>http://www.eeppt.com/moban/kejian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62120" y="533520"/>
            <a:ext cx="8381880" cy="1251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老舍自传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舒舍予，字老舍，现年四十岁，面黄无须。生于北平，三岁失怙，可谓无父。志学之年，帝王不存，可谓无君。无父无君，特别孝爱老母，布尔乔亚之仁未能一扫空也。幼读三百篇，不求甚解。继学师范，遂奠教书匠之基。及壮，糊口四方，教书为业，甚难发财；每购奖券，以得末彩为荣，示甘于寒贱也。二十七岁，发愤著书，科学哲学无所懂，故写小说，博大家一笑，没什么了不得。三十四岁结婚，今已有一女一男，均狡猾可喜。闲时喜养花，不得其法，每每有叶无花，亦不忍弃。书无所不读，全无所获，并不着急。教书作事，均甚认真，往往吃亏，亦不后悔。如是而已，再活四十年也许能有点出息！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813480" y="270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比较课文与下文，说说传记一般应写哪些内容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5" descr="BJ_035"/>
          <p:cNvPicPr/>
          <p:nvPr/>
        </p:nvPicPr>
        <p:blipFill>
          <a:blip r:embed="rId1"/>
          <a:stretch/>
        </p:blipFill>
        <p:spPr>
          <a:xfrm>
            <a:off x="8153280" y="619776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0" y="1219320"/>
            <a:ext cx="609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拓</a:t>
            </a:r>
            <a:endParaRPr b="0" lang="en-US" sz="16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展</a:t>
            </a:r>
            <a:endParaRPr b="0" lang="en-US" sz="16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延</a:t>
            </a:r>
            <a:endParaRPr b="0" lang="en-US" sz="16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伸</a:t>
            </a:r>
            <a:endParaRPr b="0" lang="en-US" sz="16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80880" y="1371600"/>
            <a:ext cx="8458200" cy="286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１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传记是用来记载人物生平事迹的，所以与　　此相关的内容都要写清楚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２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五柳先生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写了五柳先生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籍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姓　　字、思想、性格、爱好、生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情况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３、除此之外，还应有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家庭状况、生卒年代、　　主要经历和事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４、写传记最重要的是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内容要真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3" descr="BJ_035"/>
          <p:cNvPicPr/>
          <p:nvPr/>
        </p:nvPicPr>
        <p:blipFill>
          <a:blip r:embed="rId1"/>
          <a:stretch/>
        </p:blipFill>
        <p:spPr>
          <a:xfrm>
            <a:off x="8153280" y="619776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>
            <a:off x="457200" y="2286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传记内容的一般写法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762120" y="1523880"/>
            <a:ext cx="8001000" cy="155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　　同学们也来介绍一下自己吧。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　　可以是完整的小传，也可以只是抓住某个特点，表现自己的个性。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BJ_035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WordArt 8"/>
          <p:cNvSpPr txBox="1"/>
          <p:nvPr/>
        </p:nvSpPr>
        <p:spPr>
          <a:xfrm>
            <a:off x="1981080" y="30492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外练一练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5" name="Picture 9" descr="WW_059"/>
          <p:cNvPicPr/>
          <p:nvPr/>
        </p:nvPicPr>
        <p:blipFill>
          <a:blip r:embed="rId2"/>
          <a:stretch/>
        </p:blipFill>
        <p:spPr>
          <a:xfrm>
            <a:off x="0" y="0"/>
            <a:ext cx="16765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600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一、初中阶段我们已经学过陶渊明写的文章或者有关陶渊明的文章，想想看，有哪些是我们学过的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2819520"/>
            <a:ext cx="861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桃花源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   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1"/>
              </a:rPr>
              <a:t>《</a:t>
            </a:r>
            <a:r>
              <a:rPr b="0" lang="zh-CN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2"/>
              </a:rPr>
              <a:t>归园田居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3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4"/>
              </a:rPr>
              <a:t>《</a:t>
            </a:r>
            <a:r>
              <a:rPr b="0" lang="zh-CN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5"/>
              </a:rPr>
              <a:t>爱莲说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6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周敦颐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3657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二、说说你对陶渊明的初步了解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95280" y="4419720"/>
            <a:ext cx="5410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隐者；安贫乐道；洁身自好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慕名利；不为五斗米折腰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" name="Picture 6" descr="BJ_035"/>
          <p:cNvPicPr/>
          <p:nvPr/>
        </p:nvPicPr>
        <p:blipFill>
          <a:blip r:embed="rId7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WordArt 9"/>
          <p:cNvSpPr txBox="1"/>
          <p:nvPr/>
        </p:nvSpPr>
        <p:spPr>
          <a:xfrm>
            <a:off x="457200" y="38088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考考你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056" descr="BAS0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050"/>
          <p:cNvSpPr/>
          <p:nvPr/>
        </p:nvSpPr>
        <p:spPr>
          <a:xfrm>
            <a:off x="2057400" y="304920"/>
            <a:ext cx="52578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归园田居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豆南山下，草盛豆苗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晨兴理荒秽，带月荷锄归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道狭草木长，夕露沾我衣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衣沾不足惜，但使愿无违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Text Box 2051"/>
          <p:cNvSpPr/>
          <p:nvPr/>
        </p:nvSpPr>
        <p:spPr>
          <a:xfrm>
            <a:off x="1981080" y="3352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水陆草木之花，可爱者甚蕃。晋陶渊明独爱菊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Rectangle 2052"/>
          <p:cNvSpPr/>
          <p:nvPr/>
        </p:nvSpPr>
        <p:spPr>
          <a:xfrm>
            <a:off x="4537440" y="441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予谓菊，花之隐逸者也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" name="Picture 2053" descr="BJ_035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"/>
          <p:cNvSpPr/>
          <p:nvPr/>
        </p:nvSpPr>
        <p:spPr>
          <a:xfrm>
            <a:off x="694836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Text Box 14338"/>
          <p:cNvSpPr/>
          <p:nvPr/>
        </p:nvSpPr>
        <p:spPr>
          <a:xfrm>
            <a:off x="163440" y="0"/>
            <a:ext cx="5627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陶渊明，又名潜，字元亮，东晋著名诗人、散文家。东晋末年，社会黑暗，风气污浊，很多人不择手段追名逐利，社会上充满着虚伪与欺诈。陶渊明做过几任小官，因对官场不满，就辞官归隐田园，从此过着躬耕隐逸、赋诗饮酒的生活，六十三岁逝世。他是我国文学史上第一位以田园生活为题材写诗的著名诗人。其诗多歌颂优美的自然景色和淳朴的农村生活</a:t>
            </a:r>
            <a:r>
              <a:rPr b="1" lang="zh-CN" sz="2800" spc="-1" strike="noStrike">
                <a:solidFill>
                  <a:srgbClr val="840042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Object 14339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3117960" cy="547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340" descr="BJ_035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BAS0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438280" y="1295280"/>
            <a:ext cx="5791320" cy="4289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Shì         zhé       lìn          hè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dān         jí       chóu     shā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Times New Roman"/>
              </a:rPr>
              <a:t>Piáo         lǚ          lóu           y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514600" y="1371600"/>
            <a:ext cx="5562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嗜     辄    吝     褐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箪 　  汲　  俦     觞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瓢　   屡　  娄　   欤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657600" y="2782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572b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Picture 6" descr="BJ_035"/>
          <p:cNvPicPr/>
          <p:nvPr/>
        </p:nvPicPr>
        <p:blipFill>
          <a:blip r:embed="rId2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WordArt 7"/>
          <p:cNvSpPr txBox="1"/>
          <p:nvPr/>
        </p:nvSpPr>
        <p:spPr>
          <a:xfrm>
            <a:off x="685800" y="457200"/>
            <a:ext cx="2590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正音正字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923760"/>
            <a:ext cx="28191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何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许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求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饮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尽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必醉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短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穿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箪　瓢　屡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晏如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戚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贫贱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汲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富贵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828800" y="91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处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8288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道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2860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分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36232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往、到　　　就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3623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望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611680" y="36576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粗麻布做成的短上衣。指衣服上有洞和补丁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2743200" y="4191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饭篮　　饮水用具　　经常是空的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057400" y="4724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安然自若的样子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89548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忧愁的样子。　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118040" y="5867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情急切的样子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Picture 14" descr="BJ_03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WordArt 15"/>
          <p:cNvSpPr txBox="1"/>
          <p:nvPr/>
        </p:nvSpPr>
        <p:spPr>
          <a:xfrm>
            <a:off x="457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重点词语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438280" y="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解释蓝色字体的字词）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533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　　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五柳先生不知道是什么地方的人，也不知道他的姓名和表字。因为住宅旁边有五棵柳树，就用它做了自己的号。他安安静静的，很少说话，不羡慕荣华利禄。喜欢读书，不在一字一句的解释上过分深究：每当对书中的内容有所领会时，就高兴地连饭都忘了吃。他有嗜酒的天性，家里穷，经常没有酒喝。亲戚朋友知道他有这种嗜好，有时摆了酒叫他来喝。他去喝酒就喝个尽兴，希望一定喝醉。喝醉了就回家去，并不装模作样，说走就走。简陋的居室里空空荡荡，遮不住风和阳光。粗布短衣上面打了很多补丁，饭篮子和水瓢经常是空的，可是他安然自若。经常写文章来消遣时光，从文中也稍微透露出自己的志趣。他从不把得失放在心上，这样过完了自己的一生。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        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赞曰：黔娄的妻子曾经说过：</a:t>
            </a:r>
            <a:r>
              <a:rPr b="0" lang="en-US" sz="2600" spc="-1" strike="noStrike">
                <a:solidFill>
                  <a:srgbClr val="010000"/>
                </a:solidFill>
                <a:latin typeface="Times New Roman"/>
                <a:ea typeface="华文细黑"/>
              </a:rPr>
              <a:t>“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不为贫贱而忧愁，不热衷于发财做官。</a:t>
            </a:r>
            <a:r>
              <a:rPr b="0" lang="en-US" sz="2600" spc="-1" strike="noStrike">
                <a:solidFill>
                  <a:srgbClr val="010000"/>
                </a:solidFill>
                <a:latin typeface="Times New Roman"/>
                <a:ea typeface="华文细黑"/>
              </a:rPr>
              <a:t>”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这话大概说的是五柳先生一类的人吧？一边喝酒一边做诗，为自己抱定的志向而感到无比快乐。他大概是无怀氏时候的百姓，或者是葛天氏治下的百姓吧？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Picture 4" descr="BJ_035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3581280" y="0"/>
            <a:ext cx="1981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参考译文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80880" y="2514600"/>
            <a:ext cx="876312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◆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文主要写了哪些方面的内容？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◆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文主要从哪些方面来写五柳先生的？　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（分别用四字短语来加以概括）　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从哪些句子中可以看得出来？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Picture 8" descr="ARROW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43800" y="2743200"/>
            <a:ext cx="609480" cy="298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RROW1"/>
          <p:cNvPicPr/>
          <p:nvPr/>
        </p:nvPicPr>
        <p:blipFill>
          <a:blip r:embed="rId2"/>
          <a:stretch/>
        </p:blipFill>
        <p:spPr>
          <a:xfrm>
            <a:off x="7543800" y="4572000"/>
            <a:ext cx="60948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1"/>
          <p:cNvSpPr txBox="1"/>
          <p:nvPr/>
        </p:nvSpPr>
        <p:spPr>
          <a:xfrm>
            <a:off x="1219320" y="685800"/>
            <a:ext cx="2819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品读探究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2" name="Picture 12" descr="BJ_035"/>
          <p:cNvPicPr/>
          <p:nvPr/>
        </p:nvPicPr>
        <p:blipFill>
          <a:blip r:embed="rId3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8600" y="1066680"/>
          <a:ext cx="8534520" cy="4267080"/>
        </p:xfrm>
        <a:graphic>
          <a:graphicData uri="http://schemas.openxmlformats.org/drawingml/2006/table">
            <a:tbl>
              <a:tblPr/>
              <a:tblGrid>
                <a:gridCol w="1606680"/>
                <a:gridCol w="69278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主要方面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相关文字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22"/>
          <p:cNvSpPr/>
          <p:nvPr/>
        </p:nvSpPr>
        <p:spPr>
          <a:xfrm>
            <a:off x="2057400" y="1523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先生不知何许人也，亦不详其姓字，宅边有五柳树，因以为号焉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3268080" y="243828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闲静少言，不慕荣利；曾不吝情去留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忘怀得失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2057400" y="33526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好读书，不求甚解；性嗜酒；常著文章自娱。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三大乐趣：读书、饮酒、写文章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2846520" y="43434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环堵萧然，不蔽风日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短褐穿结，箪瓢屡空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Picture 26" descr="BJ_035"/>
          <p:cNvPicPr/>
          <p:nvPr/>
        </p:nvPicPr>
        <p:blipFill>
          <a:blip r:embed="rId1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66"/>
          <p:cNvSpPr/>
          <p:nvPr/>
        </p:nvSpPr>
        <p:spPr>
          <a:xfrm>
            <a:off x="514800" y="1752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籍贯姓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Rectangle 567"/>
          <p:cNvSpPr/>
          <p:nvPr/>
        </p:nvSpPr>
        <p:spPr>
          <a:xfrm>
            <a:off x="5148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思想性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Rectangle 568"/>
          <p:cNvSpPr/>
          <p:nvPr/>
        </p:nvSpPr>
        <p:spPr>
          <a:xfrm>
            <a:off x="228600" y="3581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乐趣爱好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Rectangle 569"/>
          <p:cNvSpPr/>
          <p:nvPr/>
        </p:nvSpPr>
        <p:spPr>
          <a:xfrm>
            <a:off x="514800" y="449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生活状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6:07:09Z</dcterms:created>
  <dc:creator>www.eeppt.com; An</dc:creator>
  <dc:description>ppt模板下载网站 http://www.eeppt.com</dc:description>
  <dc:language>en-US</dc:language>
  <cp:lastModifiedBy/>
  <dcterms:modified xsi:type="dcterms:W3CDTF">2015-05-27T16:22:55Z</dcterms:modified>
  <cp:revision>2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用途">
    <vt:bool>1</vt:bool>
  </property>
</Properties>
</file>