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CC4B-28FF-42AE-A1D5-53822A8B2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BF70-CF6B-4043-80D9-333BD07B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0130-C881-4223-8CA4-025D3ACB6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4F5A-134B-44D2-80B5-F77A0C1A5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28E3-9552-4F12-AF7D-F560B4792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A4C1-61C4-4B7E-B1DE-7FD46509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A2A5-69BE-45F2-973D-D559F67B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17F5-D13B-40D8-8208-0616D912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1581-2802-4846-AB81-63EA4905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16FC-AED8-40B2-AF2B-16AC1A3D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03B9-92CE-4765-9A41-B032006D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590D-3CA5-4962-803D-F1984395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E9E8-9348-49BB-B542-44BC209A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A696-79FD-45F4-A6FD-B9A29B66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9D6A-9000-4AD5-85C9-ABB3F612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D15E-C683-4638-89BF-36AE63513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1FB1-8EE4-4A10-976E-37CD64054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E4AA-C6B7-4639-9947-54AD0AE3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1BE2-4B41-47EA-9F8D-3F80C7CD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ACAB-9229-449D-A9ED-7AE58D28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538C-3C3B-48EA-BCAF-1CE7CE68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169F-8E64-4708-9A8A-C2280D3C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B14A-B818-4632-AFB5-B8971DA4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D142-EA61-4A70-BB9A-012963DD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F7D1-E34E-468C-B862-599369F981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F93E-D27F-4157-996E-841AC6C9EF0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2050920" y="544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892760" y="992160"/>
            <a:ext cx="39272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ffff00"/>
                </a:solidFill>
                <a:latin typeface="华文琥珀"/>
                <a:ea typeface="华文琥珀"/>
              </a:rPr>
              <a:t>乌塔</a:t>
            </a:r>
            <a:endParaRPr b="0" lang="en-US" sz="1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028"/>
          <p:cNvSpPr/>
          <p:nvPr/>
        </p:nvSpPr>
        <p:spPr>
          <a:xfrm>
            <a:off x="1066680" y="609480"/>
            <a:ext cx="533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读读下列词语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1029"/>
          <p:cNvSpPr/>
          <p:nvPr/>
        </p:nvSpPr>
        <p:spPr>
          <a:xfrm>
            <a:off x="1066680" y="1386000"/>
            <a:ext cx="768204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洗漱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shu)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一摞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lu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享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xin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受          一册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c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逻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lu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辑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ji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书籍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ji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反驳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b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               语塞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s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惬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qi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意             解释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shi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优惠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shui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1033"/>
          <p:cNvSpPr/>
          <p:nvPr/>
        </p:nvSpPr>
        <p:spPr>
          <a:xfrm>
            <a:off x="1066680" y="4648320"/>
            <a:ext cx="2819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1447920" y="1143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梵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f2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蒂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d@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冈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g1n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447920" y="4952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欧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#u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1447920" y="3060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恤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x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1447920" y="40068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冰淇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q0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4724280" y="30481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瑞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ru@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士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1447920" y="21016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佛罗伦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l*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萨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s4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4724280" y="40068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希腊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l4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762120" y="1724040"/>
            <a:ext cx="75438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读读课文，想一想课文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了一些什么事，对这些事你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什么看法和见解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乌塔.MP3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"/>
          <p:cNvSpPr txBox="1"/>
          <p:nvPr/>
        </p:nvSpPr>
        <p:spPr>
          <a:xfrm>
            <a:off x="1905120" y="990720"/>
            <a:ext cx="5410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99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设计好旅行路线和日程</a:t>
            </a:r>
            <a:endParaRPr b="1" lang="en-US" sz="2400" spc="1" strike="noStrike">
              <a:ln w="19080">
                <a:solidFill>
                  <a:srgbClr val="ff99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7" name="WordArt 5"/>
          <p:cNvSpPr txBox="1"/>
          <p:nvPr/>
        </p:nvSpPr>
        <p:spPr>
          <a:xfrm>
            <a:off x="1905120" y="2286000"/>
            <a:ext cx="5410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查警察局的电话号码</a:t>
            </a:r>
            <a:endParaRPr b="1" lang="en-US" sz="2400" spc="1" strike="noStrike">
              <a:ln w="19080">
                <a:solidFill>
                  <a:srgbClr val="969696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8" name="WordArt 6"/>
          <p:cNvSpPr txBox="1"/>
          <p:nvPr/>
        </p:nvSpPr>
        <p:spPr>
          <a:xfrm>
            <a:off x="1905120" y="3505320"/>
            <a:ext cx="5410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给家里打电话或寄明信片</a:t>
            </a:r>
            <a:endParaRPr b="1" lang="en-US" sz="2400" spc="1" strike="noStrike">
              <a:ln w="19080">
                <a:solidFill>
                  <a:srgbClr val="ff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99" name="WordArt 7" descr=""/>
          <p:cNvPicPr/>
          <p:nvPr/>
        </p:nvPicPr>
        <p:blipFill>
          <a:blip r:embed="rId2"/>
          <a:stretch/>
        </p:blipFill>
        <p:spPr>
          <a:xfrm>
            <a:off x="1895400" y="4791240"/>
            <a:ext cx="5456160" cy="1116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0T05:03:45Z</dcterms:created>
  <dc:creator>www.eeppt.com; An</dc:creator>
  <dc:description>ppt模板下载网站 http://www.eeppt.com</dc:description>
  <dc:language>en-US</dc:language>
  <cp:lastModifiedBy/>
  <dcterms:modified xsi:type="dcterms:W3CDTF">2015-05-27T16:22:27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