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6A2-E233-4AB1-B467-3C41F5FE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F2D-BFA5-44DD-A4FB-CF7DC409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1BA-26B7-450D-BB7A-F79D0E2D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592-3AC1-4164-B09B-99EF94AB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B02-C454-431D-B567-3D08B7D7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50B-2E41-439C-B3B5-679726A6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B52-DD4B-450F-92B2-BCA9F3CA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515-17DB-4583-AC23-116BC68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1EB-F946-423E-BA66-DEFFB44E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9A9-4B5A-4989-8963-570BAE35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E35-3F34-4121-BB53-DCDF71A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B0A-40D4-480B-A89D-53C9E6CD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14AC-E55B-4F5E-A2C3-749EE403E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668088501&amp;tn=baiduimagedetail&amp;word=&#22467;&#33778;&#23572;&#38081;&#22612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y Documents\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209680" y="609480"/>
            <a:ext cx="4610160" cy="26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手拉手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WordArt 4" descr=""/>
          <p:cNvPicPr/>
          <p:nvPr/>
        </p:nvPicPr>
        <p:blipFill>
          <a:blip r:embed="rId2"/>
          <a:stretch/>
        </p:blipFill>
        <p:spPr>
          <a:xfrm>
            <a:off x="3346560" y="3876840"/>
            <a:ext cx="4243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4771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4038480" y="1752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9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64771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1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4038480" y="1752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4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5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6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7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592720" y="4343400"/>
            <a:ext cx="213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  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518292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4"/>
          <p:cNvSpPr/>
          <p:nvPr/>
        </p:nvSpPr>
        <p:spPr>
          <a:xfrm>
            <a:off x="640224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525780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16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7"/>
          <p:cNvSpPr/>
          <p:nvPr/>
        </p:nvSpPr>
        <p:spPr>
          <a:xfrm>
            <a:off x="2590920" y="18288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8"/>
          <p:cNvSpPr/>
          <p:nvPr/>
        </p:nvSpPr>
        <p:spPr>
          <a:xfrm>
            <a:off x="259092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9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0"/>
          <p:cNvSpPr/>
          <p:nvPr/>
        </p:nvSpPr>
        <p:spPr>
          <a:xfrm>
            <a:off x="655308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21"/>
          <p:cNvSpPr/>
          <p:nvPr/>
        </p:nvSpPr>
        <p:spPr>
          <a:xfrm>
            <a:off x="6553080" y="1905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655308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23"/>
          <p:cNvSpPr/>
          <p:nvPr/>
        </p:nvSpPr>
        <p:spPr>
          <a:xfrm>
            <a:off x="65530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25780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2590920" y="18288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259092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655308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6553080" y="1905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655308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65530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251604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632592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518292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396360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026" descr="BJ1017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027"/>
          <p:cNvSpPr/>
          <p:nvPr/>
        </p:nvSpPr>
        <p:spPr>
          <a:xfrm>
            <a:off x="380880" y="152280"/>
            <a:ext cx="82296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彩云"/>
                <a:ea typeface="华文彩云"/>
              </a:rPr>
              <a:t>照样子填一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7846=7000+800+40+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9837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7600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5040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3006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D:\边框\014.BMP"/>
          <p:cNvPicPr/>
          <p:nvPr/>
        </p:nvPicPr>
        <p:blipFill>
          <a:blip r:embed="rId1"/>
          <a:stretch/>
        </p:blipFill>
        <p:spPr>
          <a:xfrm>
            <a:off x="-60948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WordArt 3"/>
          <p:cNvSpPr txBox="1"/>
          <p:nvPr/>
        </p:nvSpPr>
        <p:spPr>
          <a:xfrm>
            <a:off x="1981080" y="1143000"/>
            <a:ext cx="4038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彩云"/>
              </a:rPr>
              <a:t>小笔头练习</a:t>
            </a:r>
            <a:endParaRPr b="0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1" descr="C:\课件\课件图片素材\long\bklong00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2"/>
          <a:stretch/>
        </p:blipFill>
        <p:spPr>
          <a:xfrm>
            <a:off x="523800" y="0"/>
            <a:ext cx="4889520" cy="16956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990720" y="2006640"/>
            <a:ext cx="6629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一千五百  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三千零五十 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六千零五 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_____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课件\课件图片素材\long\bklong00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380880" y="1752480"/>
            <a:ext cx="800100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一千五百       </a:t>
            </a: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15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三千零五十     </a:t>
            </a: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30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六千零五       </a:t>
            </a: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6005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WordArt 4" descr=""/>
          <p:cNvPicPr/>
          <p:nvPr/>
        </p:nvPicPr>
        <p:blipFill>
          <a:blip r:embed="rId2"/>
          <a:stretch/>
        </p:blipFill>
        <p:spPr>
          <a:xfrm>
            <a:off x="523800" y="0"/>
            <a:ext cx="48895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课件\课件图片素材\long\bklong00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3"/>
          <p:cNvSpPr txBox="1"/>
          <p:nvPr/>
        </p:nvSpPr>
        <p:spPr>
          <a:xfrm>
            <a:off x="609480" y="30492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小组合作练一练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09480" y="182880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数一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从九千九百八十七开始，一个一个数，数到一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从八百九十开始，一十一十地数，数到一千零二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从八千六百开始，一百一百地数，数到一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762120" y="685800"/>
            <a:ext cx="8001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、你说我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用数位表在小组中说出万以内的数字，说一说它的组成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6" descr="BJ1017"/>
          <p:cNvPicPr/>
          <p:nvPr/>
        </p:nvPicPr>
        <p:blipFill>
          <a:blip r:embed="rId1"/>
          <a:stretch/>
        </p:blipFill>
        <p:spPr>
          <a:xfrm>
            <a:off x="0" y="380880"/>
            <a:ext cx="9396360" cy="717408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1027" descr=""/>
          <p:cNvPicPr/>
          <p:nvPr/>
        </p:nvPicPr>
        <p:blipFill>
          <a:blip r:embed="rId2"/>
          <a:stretch/>
        </p:blipFill>
        <p:spPr>
          <a:xfrm>
            <a:off x="676440" y="1523880"/>
            <a:ext cx="56512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D:\边框\014.BMP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WordArt 3"/>
          <p:cNvSpPr txBox="1"/>
          <p:nvPr/>
        </p:nvSpPr>
        <p:spPr>
          <a:xfrm>
            <a:off x="2438280" y="1066680"/>
            <a:ext cx="41911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4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隶书"/>
              </a:rPr>
              <a:t>小笔头写一写</a:t>
            </a:r>
            <a:endParaRPr b="1" lang="en-US" sz="24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0" y="398520"/>
            <a:ext cx="9144000" cy="10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34 345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1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233 3344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0" y="762120"/>
            <a:ext cx="9144000" cy="90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34 345 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456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567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67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1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233 3344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304920"/>
            <a:ext cx="883908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1122 2233 3344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4455 5566 6677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 4995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457200"/>
            <a:ext cx="861048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 4995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5994 699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799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26"/>
          <p:cNvSpPr/>
          <p:nvPr/>
        </p:nvSpPr>
        <p:spPr>
          <a:xfrm>
            <a:off x="0" y="152280"/>
            <a:ext cx="899172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7003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6004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50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4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BJ1017"/>
          <p:cNvPicPr/>
          <p:nvPr/>
        </p:nvPicPr>
        <p:blipFill>
          <a:blip r:embed="rId1"/>
          <a:stretch/>
        </p:blipFill>
        <p:spPr>
          <a:xfrm>
            <a:off x="0" y="68580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80" name="WordArt 4"/>
          <p:cNvSpPr txBox="1"/>
          <p:nvPr/>
        </p:nvSpPr>
        <p:spPr>
          <a:xfrm>
            <a:off x="0" y="0"/>
            <a:ext cx="601992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信息直通车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81" name="Picture 6" descr="http://t1.baidu.com/it/u=4001547219,4226788702&amp;gp=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828800"/>
            <a:ext cx="3086280" cy="46483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9"/>
          <p:cNvSpPr/>
          <p:nvPr/>
        </p:nvSpPr>
        <p:spPr>
          <a:xfrm>
            <a:off x="3429000" y="144792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埃菲尔铁塔在法国的首都巴黎，距今已有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多年的历史了。塔高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2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米，是用约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5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螺栓和铆钉。把多达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20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构件连接为整体，共用去了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70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多吨钢铁。从塔座到塔顶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77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级阶梯。塔上共安装了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多盏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7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84" name="WordArt 5"/>
          <p:cNvSpPr txBox="1"/>
          <p:nvPr/>
        </p:nvSpPr>
        <p:spPr>
          <a:xfrm>
            <a:off x="685800" y="4572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课外实践</a:t>
            </a:r>
            <a:endParaRPr b="0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80880" y="16002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去商场调查四种不同牌子的彩电，把价格写下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3352680"/>
          <a:ext cx="6934320" cy="205740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1295280"/>
                <a:gridCol w="1219320"/>
                <a:gridCol w="1219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彩电牌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价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27" descr="BJ1017"/>
          <p:cNvPicPr/>
          <p:nvPr/>
        </p:nvPicPr>
        <p:blipFill>
          <a:blip r:embed="rId1"/>
          <a:stretch/>
        </p:blipFill>
        <p:spPr>
          <a:xfrm>
            <a:off x="0" y="15228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28"/>
          <p:cNvSpPr/>
          <p:nvPr/>
        </p:nvSpPr>
        <p:spPr>
          <a:xfrm>
            <a:off x="533520" y="1066680"/>
            <a:ext cx="8610480" cy="2362320"/>
          </a:xfrm>
          <a:prstGeom prst="wedgeRoundRectCallout">
            <a:avLst>
              <a:gd name="adj1" fmla="val -49611"/>
              <a:gd name="adj2" fmla="val 80240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怎样写一千二百五十六呢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V="1">
            <a:off x="6781680" y="45720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 flipV="1">
            <a:off x="5486400" y="304560"/>
            <a:ext cx="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4267080" y="380880"/>
            <a:ext cx="0" cy="289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2819520" y="228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 flipV="1">
            <a:off x="1523880" y="228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2362320" y="4572000"/>
            <a:ext cx="76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5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438280" y="44956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809880" y="44956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2590920" y="28954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525780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5257800" y="1447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8"/>
          <p:cNvSpPr/>
          <p:nvPr/>
        </p:nvSpPr>
        <p:spPr>
          <a:xfrm>
            <a:off x="5257800" y="1828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9"/>
          <p:cNvSpPr/>
          <p:nvPr/>
        </p:nvSpPr>
        <p:spPr>
          <a:xfrm>
            <a:off x="5257800" y="2209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0"/>
          <p:cNvSpPr/>
          <p:nvPr/>
        </p:nvSpPr>
        <p:spPr>
          <a:xfrm>
            <a:off x="525780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243972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396360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510660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5257800" y="1447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5257800" y="1828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5257800" y="21337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6"/>
          <p:cNvSpPr/>
          <p:nvPr/>
        </p:nvSpPr>
        <p:spPr>
          <a:xfrm>
            <a:off x="5257800" y="25146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7"/>
          <p:cNvSpPr/>
          <p:nvPr/>
        </p:nvSpPr>
        <p:spPr>
          <a:xfrm>
            <a:off x="5257800" y="28954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6553080" y="1066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6553080" y="1447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0"/>
          <p:cNvSpPr/>
          <p:nvPr/>
        </p:nvSpPr>
        <p:spPr>
          <a:xfrm>
            <a:off x="6553080" y="1828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21"/>
          <p:cNvSpPr/>
          <p:nvPr/>
        </p:nvSpPr>
        <p:spPr>
          <a:xfrm>
            <a:off x="6553080" y="2209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22"/>
          <p:cNvSpPr/>
          <p:nvPr/>
        </p:nvSpPr>
        <p:spPr>
          <a:xfrm>
            <a:off x="65530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65530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6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396360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518292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236340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640224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2438280" y="4267080"/>
            <a:ext cx="7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73500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40224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5029200" y="4267080"/>
            <a:ext cx="7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7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8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9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0"/>
          <p:cNvSpPr/>
          <p:nvPr/>
        </p:nvSpPr>
        <p:spPr>
          <a:xfrm>
            <a:off x="525780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21"/>
          <p:cNvSpPr/>
          <p:nvPr/>
        </p:nvSpPr>
        <p:spPr>
          <a:xfrm>
            <a:off x="525780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2"/>
          <p:cNvSpPr/>
          <p:nvPr/>
        </p:nvSpPr>
        <p:spPr>
          <a:xfrm>
            <a:off x="5257800" y="2209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23"/>
          <p:cNvSpPr/>
          <p:nvPr/>
        </p:nvSpPr>
        <p:spPr>
          <a:xfrm>
            <a:off x="5257800" y="19051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5257800" y="15238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5"/>
          <p:cNvSpPr/>
          <p:nvPr/>
        </p:nvSpPr>
        <p:spPr>
          <a:xfrm>
            <a:off x="6553080" y="12193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6"/>
          <p:cNvSpPr/>
          <p:nvPr/>
        </p:nvSpPr>
        <p:spPr>
          <a:xfrm>
            <a:off x="6553080" y="16002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6553080" y="19810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28"/>
          <p:cNvSpPr/>
          <p:nvPr/>
        </p:nvSpPr>
        <p:spPr>
          <a:xfrm>
            <a:off x="6553080" y="22860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9"/>
          <p:cNvSpPr/>
          <p:nvPr/>
        </p:nvSpPr>
        <p:spPr>
          <a:xfrm>
            <a:off x="6553080" y="26668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30"/>
          <p:cNvSpPr/>
          <p:nvPr/>
        </p:nvSpPr>
        <p:spPr>
          <a:xfrm>
            <a:off x="65530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838080" y="563868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读作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一千二百五十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4:57:53Z</dcterms:created>
  <dc:creator>www.eeppt.com; An</dc:creator>
  <dc:description>ppt模板下载网站 http://www.eeppt.com</dc:description>
  <dc:language>en-US</dc:language>
  <cp:lastModifiedBy/>
  <dcterms:modified xsi:type="dcterms:W3CDTF">2015-05-27T16:18:46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