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D2F-08C2-497F-A349-191CC203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1AA-4370-4C48-92D2-445DFD4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A012-E770-458F-A526-2B527ED3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DD0-B017-41DA-ACEB-2DA2FA12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1F1B-9CE2-4C85-806A-26411654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1948-4AC5-4D28-9A36-FF4F78BC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1F79-CD06-4A8E-83B6-38E02535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8D35-7126-43D3-A98A-F93666F5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ED75-0DB6-4C48-A451-373D8C3D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6FEE-543C-4F46-885F-621FC911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1826-EFDC-4288-A21E-3444790E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629-9D1A-45CF-943B-D67C7D36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5C07-1DF4-4E47-BBC4-78FD1523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95FA-0184-47D9-8356-120B2824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486F-0261-421E-905E-1CE87F29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5D9B-3516-4E53-B291-54D225B8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774-14E3-4CAA-8E70-64D83B5C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464D-5BBA-4021-B102-A900858F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8DA7-6FDC-405E-B303-5B47A941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54F51-8B43-428C-94DB-EC4EB14C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79D3-1ECD-42A5-9720-0F38A4A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D528-2750-4732-8688-1FFD1AC5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C64-6794-46CA-AB65-A7C1B428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B8DA-E413-455D-AC0D-7D90700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5D3D-1251-4144-BA99-16DE736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4912-D36C-4074-842C-A4264E1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CF35-8929-4292-B43E-B654B59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AE0D-E30A-4F84-8A31-1BBB1EFB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85758-1BF8-4FC2-8682-D1534220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83D7-87D6-4F5E-B4B4-83FA9528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E63-6C9D-48B2-AA69-34630FE6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F4C-0615-436A-90BE-4CED212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F1B-1C0A-4009-84A9-AF9F229A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0E8-185D-47B6-9B72-B80610D6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4DA-9C05-46EB-96B5-E90E224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267-97B7-4C0D-A1C0-5E8AA2CE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232E-3FC1-4292-A2ED-929E147DAF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AF76-60B7-4EC4-BC9A-066799361E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1597-25E7-405C-8948-7151EA286B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8145-0F16-4790-8428-32E8BD423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学家长会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家长提一些建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孩子的学习习惯有差异</a:t>
            </a:r>
            <a:br>
              <a:rPr sz="3600"/>
            </a:b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如何减少差异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是重视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听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理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是抓作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是抓阅读重方法（答案就在原文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是抓写字、及时改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250920" y="260280"/>
            <a:ext cx="1081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ziliao/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</a:rPr>
              <a:t>www.1ppt.com/fanwen/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真倾听的好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会否都听，一是修养的体现，二能取长补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认真审题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认真独立的完成作业和自觉检查的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对家长提一些建议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是要正确看待分数，我们需要培养的是一个身心健康全面发展的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老师：了解孩子情况、了解对学生的基本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建良好的家庭环境，多与孩子交流，多鼓励，让他们自信，有良好的人生态度（认真、耐性、执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常带孩子外出，了解社会、生活（体育锻炼、手抄报、交友、编作文集、小发明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c0039"/>
                </a:solidFill>
                <a:latin typeface="Arial"/>
              </a:rPr>
              <a:t>在平日的学习中，我希望家长配合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及时完成作业，态度认真一看便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完成口头作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现问题及时联系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督促孩子认真阅读课外书，最好与孩子一起读，一起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孩子形成积极健康的观念，安全时刻在心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c0039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4005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13:14:30Z</dcterms:created>
  <dc:creator>www.eeppt.com; An</dc:creator>
  <dc:description>ppt模板下载网站 http://www.eeppt.com</dc:description>
  <dc:language>en-US</dc:language>
  <cp:lastModifiedBy/>
  <dcterms:modified xsi:type="dcterms:W3CDTF">2015-05-27T16:25:11Z</dcterms:modified>
  <cp:revision>8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