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A9D-486E-4E3B-9B13-A7C4EBD3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B275-9142-4808-BBF5-7D2FD237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297F-FA28-40CF-ABC5-49EF5406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F4C9-C2DD-4F61-9DC4-77B09CAB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C075-D58D-46B2-9D07-1D7ED3F9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64EC-2D64-4983-8DFB-A5E6CA39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8531-AA0B-4D36-B00A-6DBE5F09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8973-B522-49A2-A394-86290983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FC53-34F5-4B33-B259-D6A7B33E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D96E-1E52-48A8-8A81-72E0D56D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EAAA-94B1-468D-992E-BE2C463A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282-73EA-4884-B5A8-16AA9F2F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dd4"/>
            </a:gs>
            <a:gs pos="100000">
              <a:srgbClr val="2cd9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8A57-706C-4119-8653-F6B79BCC7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image" Target="../media/image2.jpe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dd4"/>
            </a:gs>
            <a:gs pos="100000">
              <a:srgbClr val="2cd9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图片5"/>
          <p:cNvPicPr/>
          <p:nvPr/>
        </p:nvPicPr>
        <p:blipFill>
          <a:blip r:embed="rId1"/>
          <a:stretch/>
        </p:blipFill>
        <p:spPr>
          <a:xfrm>
            <a:off x="-1189080" y="-603360"/>
            <a:ext cx="11430000" cy="8158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826920" y="620640"/>
            <a:ext cx="691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次比一次有进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dd4"/>
            </a:gs>
            <a:gs pos="100000">
              <a:srgbClr val="2cd9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菜园里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豆角青青细又长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黄瓜身穿绿衣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茄子高高打灯笼，萝卜地下捉迷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辣椒长个尖尖嘴，南瓜越老皮越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红绿黄紫真好看，菜园一片好风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0"/>
            <a:ext cx="326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读一读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dd4"/>
            </a:gs>
            <a:gs pos="100000">
              <a:srgbClr val="2cd9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74872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次        瓜      燕     什    么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样        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再         可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细        兴       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95280" y="0"/>
            <a:ext cx="390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认一认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11280" y="119700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042920" y="549360"/>
            <a:ext cx="6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627280" y="105264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gu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276720" y="9079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572000" y="105264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y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859280" y="620640"/>
            <a:ext cx="84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5867280" y="105264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Shen   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6588000" y="981000"/>
            <a:ext cx="4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95280" y="270828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ya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684360" y="256536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2843280" y="278136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4859280" y="278136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za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5356440" y="2232000"/>
            <a:ext cx="52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7093080" y="2708280"/>
            <a:ext cx="205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k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539640" y="450864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z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3203640" y="450864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xì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5076720" y="458136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xià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dd4"/>
            </a:gs>
            <a:gs pos="100000">
              <a:srgbClr val="2cd9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4264200" y="156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0312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0" y="0"/>
            <a:ext cx="37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想一想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0" y="836640"/>
            <a:ext cx="919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小燕子去菜园看了几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067120" y="1758960"/>
            <a:ext cx="16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每次看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0" y="2781360"/>
            <a:ext cx="945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燕子妈妈为什么夸它一次比一次有进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8720" y="6381720"/>
            <a:ext cx="5624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说课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dd4"/>
            </a:gs>
            <a:gs pos="100000">
              <a:srgbClr val="2cd9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9"/>
          <p:cNvSpPr/>
          <p:nvPr/>
        </p:nvSpPr>
        <p:spPr>
          <a:xfrm>
            <a:off x="901800" y="957240"/>
            <a:ext cx="208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113280" y="29113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1095480" y="12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0" y="206064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燕子第（   ）次到菜园去，看见冬瓜（     ），茄子（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0" y="3429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燕子第（     ）次到菜园去，看见冬瓜是（         ），茄子是（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0" y="479736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燕子第（     ）次到菜园去，发现冬瓜的（                   ），茄子的（ 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3564000" y="2133720"/>
            <a:ext cx="59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2124000" y="2708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5364000" y="2708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3492360" y="3429000"/>
            <a:ext cx="6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2124000" y="4076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绿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6567480" y="40053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紫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3687840" y="4653000"/>
            <a:ext cx="73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2484360" y="537372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皮上有细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5"/>
          <p:cNvSpPr/>
          <p:nvPr/>
        </p:nvSpPr>
        <p:spPr>
          <a:xfrm>
            <a:off x="468360" y="5950080"/>
            <a:ext cx="33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柄上有小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6" descr="2005751539302569"/>
          <p:cNvPicPr/>
          <p:nvPr/>
        </p:nvPicPr>
        <p:blipFill>
          <a:blip r:embed="rId14"/>
          <a:stretch/>
        </p:blipFill>
        <p:spPr>
          <a:xfrm>
            <a:off x="5651640" y="0"/>
            <a:ext cx="3122640" cy="1916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7" descr=""/>
          <p:cNvPicPr/>
          <p:nvPr/>
        </p:nvPicPr>
        <p:blipFill>
          <a:blip r:embed="rId15"/>
          <a:stretch/>
        </p:blipFill>
        <p:spPr>
          <a:xfrm>
            <a:off x="250920" y="0"/>
            <a:ext cx="53290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dd4"/>
            </a:gs>
            <a:gs pos="100000">
              <a:srgbClr val="2cd9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0" y="155736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除了小燕子的发现，你还发现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4000" y="620640"/>
            <a:ext cx="46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说一说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0" y="4797360"/>
            <a:ext cx="1048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还发现冬瓜是（ 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茄子是（ 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dd4"/>
            </a:gs>
            <a:gs pos="100000">
              <a:srgbClr val="2cd9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0" y="333360"/>
            <a:ext cx="55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照样子写几个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-468360" y="1557360"/>
            <a:ext cx="99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看看（          ）说说（ 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0" y="3068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比（         ） 读读（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0" y="43657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听听（         ）数数（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692360" y="1557360"/>
            <a:ext cx="21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看一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5435640" y="1557360"/>
            <a:ext cx="30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1619280" y="3068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比一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5508720" y="299736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692360" y="4437000"/>
            <a:ext cx="194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听一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5508720" y="43657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数一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dd4"/>
            </a:gs>
            <a:gs pos="100000">
              <a:srgbClr val="2cd9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99"/>
          <p:cNvSpPr/>
          <p:nvPr/>
        </p:nvSpPr>
        <p:spPr>
          <a:xfrm>
            <a:off x="0" y="1557360"/>
            <a:ext cx="285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41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37"/>
          <p:cNvSpPr/>
          <p:nvPr/>
        </p:nvSpPr>
        <p:spPr>
          <a:xfrm>
            <a:off x="0" y="1557360"/>
            <a:ext cx="285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2492280"/>
          <a:ext cx="9144000" cy="2160720"/>
        </p:xfrm>
        <a:graphic>
          <a:graphicData uri="http://schemas.openxmlformats.org/drawingml/2006/table">
            <a:tbl>
              <a:tblPr/>
              <a:tblGrid>
                <a:gridCol w="512640"/>
                <a:gridCol w="630360"/>
                <a:gridCol w="568440"/>
                <a:gridCol w="576000"/>
                <a:gridCol w="527040"/>
                <a:gridCol w="613080"/>
                <a:gridCol w="571320"/>
                <a:gridCol w="574560"/>
                <a:gridCol w="611280"/>
                <a:gridCol w="531720"/>
                <a:gridCol w="578160"/>
                <a:gridCol w="564840"/>
                <a:gridCol w="570240"/>
                <a:gridCol w="571320"/>
                <a:gridCol w="587520"/>
                <a:gridCol w="55548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1279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68"/>
          <p:cNvSpPr/>
          <p:nvPr/>
        </p:nvSpPr>
        <p:spPr>
          <a:xfrm>
            <a:off x="0" y="2492280"/>
            <a:ext cx="111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69"/>
          <p:cNvSpPr/>
          <p:nvPr/>
        </p:nvSpPr>
        <p:spPr>
          <a:xfrm>
            <a:off x="0" y="3500280"/>
            <a:ext cx="134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70"/>
          <p:cNvSpPr/>
          <p:nvPr/>
        </p:nvSpPr>
        <p:spPr>
          <a:xfrm>
            <a:off x="0" y="404640"/>
            <a:ext cx="57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Arial"/>
              </a:rPr>
              <a:t>写一写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71"/>
          <p:cNvSpPr/>
          <p:nvPr/>
        </p:nvSpPr>
        <p:spPr>
          <a:xfrm>
            <a:off x="131112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2T08:07:52Z</dcterms:created>
  <dc:creator>www.eeppt.com; An</dc:creator>
  <dc:description>ppt模板下载网站 http://www.eeppt.com</dc:description>
  <dc:language>en-US</dc:language>
  <cp:lastModifiedBy/>
  <dcterms:modified xsi:type="dcterms:W3CDTF">2015-05-27T16:30:13Z</dcterms:modified>
  <cp:revision>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