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7853-4066-4F0B-8809-BFD403073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7620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236480"/>
            <a:ext cx="7620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34B8-1926-4EEE-8C94-419B6CE0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8440" y="22860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23648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8440" y="423648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E7AD-E5B4-49BE-BF30-E77FE0279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00040" y="228600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76560" y="228600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23648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00040" y="423648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76560" y="423648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619E-BC63-4919-B11B-BA7C549BC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B6EF-B89B-4715-9CD3-142A01AA6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520" y="228600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AC16-463B-4D31-BF08-8CC00905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F847-08EA-435F-93C9-D8161EB7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3718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8440" y="2286000"/>
            <a:ext cx="3718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CDAD-84BA-4E38-83A1-DE298233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8B61-21E8-481E-8EBB-6FBFE994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30456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C38D-9EFB-4929-97F5-BA2A0518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8440" y="2286000"/>
            <a:ext cx="3718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520" y="423648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C110-9792-4A2E-9562-5C750A8C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228600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8ABB-D01A-4CC0-B6BE-2AA26DDD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3718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8440" y="22860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8440" y="423648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1CF6-16A1-4123-A5D2-FE0CAD45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8440" y="22860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4236480"/>
            <a:ext cx="7620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DBB0-B77B-456F-8102-08777B0B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7620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520" y="4236480"/>
            <a:ext cx="7620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E8AE-9F2A-476B-85BE-F058CBF2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8440" y="22860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520" y="423648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8440" y="423648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2806-F37F-4D65-AC31-78F88F8C2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00040" y="228600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76560" y="228600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520" y="423648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00040" y="423648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76560" y="4236480"/>
            <a:ext cx="2453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0F82-810B-43AC-9ED1-0BC42C54E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07EE-F0AA-40F9-84CE-68CB8F20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3718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8440" y="2286000"/>
            <a:ext cx="3718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54D8-0539-46A7-A34B-AA84A873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B44C-69FA-46E0-BEF2-F2D3197D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30456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FACA-FF34-49B7-9EC8-A56D6D64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8440" y="2286000"/>
            <a:ext cx="3718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23648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8F95-7BB6-488B-81E2-EE363507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3718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8440" y="22860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8440" y="423648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7C79-E2AB-4C36-AAD1-A1D712D7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8440" y="2286000"/>
            <a:ext cx="3718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236480"/>
            <a:ext cx="7620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25A7-E532-41A2-8DDA-99682AB9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228600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B6F7-7ECC-45C2-81E8-4E6523D6E9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23520" y="228600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8A0A-0DFB-4493-BAC3-3AF5F0EE6E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33360" y="23619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perglue"/>
                <a:ea typeface="宋体"/>
              </a:rPr>
              <a:t>YELLOW CHR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14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perglue"/>
                <a:ea typeface="宋体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uperglue"/>
                <a:ea typeface="宋体"/>
              </a:rPr>
              <a:t>Add Your Titl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upergl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uperglue"/>
                <a:ea typeface="宋体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uperglue"/>
                <a:ea typeface="宋体"/>
              </a:rPr>
              <a:t>PRINT P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upergl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uperglue"/>
                <a:ea typeface="宋体"/>
              </a:rPr>
              <a:t>Add Text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52280" y="94464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9" descr="yelllow_chrome_qx"/>
          <p:cNvPicPr/>
          <p:nvPr/>
        </p:nvPicPr>
        <p:blipFill>
          <a:blip r:embed="rId1"/>
          <a:stretch/>
        </p:blipFill>
        <p:spPr>
          <a:xfrm>
            <a:off x="2666880" y="1676520"/>
            <a:ext cx="2895840" cy="2171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yelllow_chrome_sld"/>
          <p:cNvPicPr/>
          <p:nvPr/>
        </p:nvPicPr>
        <p:blipFill>
          <a:blip r:embed="rId2"/>
          <a:stretch/>
        </p:blipFill>
        <p:spPr>
          <a:xfrm>
            <a:off x="5943600" y="167652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yelllow_chrome_prt"/>
          <p:cNvPicPr/>
          <p:nvPr/>
        </p:nvPicPr>
        <p:blipFill>
          <a:blip r:embed="rId3"/>
          <a:stretch/>
        </p:blipFill>
        <p:spPr>
          <a:xfrm>
            <a:off x="2666880" y="4114800"/>
            <a:ext cx="2895840" cy="2171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yelllow_chrome_trs"/>
          <p:cNvPicPr/>
          <p:nvPr/>
        </p:nvPicPr>
        <p:blipFill>
          <a:blip r:embed="rId4"/>
          <a:stretch/>
        </p:blipFill>
        <p:spPr>
          <a:xfrm>
            <a:off x="5943600" y="4114800"/>
            <a:ext cx="2895480" cy="21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6T20:06:10Z</dcterms:created>
  <dc:creator>www.eeppt.com</dc:creator>
  <dc:description>ppt模板下载网站 http://www.eeppt.com</dc:description>
  <dc:language>en-US</dc:language>
  <cp:lastModifiedBy/>
  <dcterms:modified xsi:type="dcterms:W3CDTF">2015-05-27T16:33:0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