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B80-864D-4849-923B-6C6E722D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C07-09B0-46E6-A7B9-1EE953EA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513-69E9-4D9F-8610-50182501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906-7302-47A1-AD78-8C0AFC5D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6AA2-C40D-42F2-BE5F-52923E7E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3216-DB00-48C9-BD88-99D8957B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F25A-98F9-487E-BD96-FB066D5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FB73-25FE-4057-A090-C7894BC4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CF6-C95B-4DE4-8CD5-B5EF083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FE8A-47A6-43B8-9FDB-C30FCF9C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DFE-0137-45C6-8777-D6ADDF29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87C-E177-4C52-B25B-621887E7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519E-0EFC-4D02-8411-ADA7534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1AFB-21B1-4823-B914-CB98950F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C0BA-9BFA-451C-B8C0-BE06A0B2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7E1-B279-4A72-9E03-7144BC8C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DB41-6074-40A9-B72D-56B689BF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3AD-A7F9-4A65-BF9E-589D879A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271-2808-4A4C-8403-3EC74C6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115-9864-4B67-A6F7-DCF1D1A6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167-B987-48CB-813C-638F9C31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27A-21F3-4320-B385-E263D5A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A6C-001C-4EB3-A3B6-054D08E4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21A-E599-4B90-8889-B87B1AC4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190A-217A-484F-9C23-9AA3106B95A7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7AA-A539-4EE6-A4FB-998E2B8CA215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英语</a:t>
            </a: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7920" y="2666520"/>
            <a:ext cx="3886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Impact"/>
                <a:ea typeface="宋体"/>
              </a:rPr>
              <a:t>Your Topic Goes Her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Impact"/>
              <a:ea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2" descr="yellow_space_qx"/>
          <p:cNvPicPr/>
          <p:nvPr/>
        </p:nvPicPr>
        <p:blipFill>
          <a:blip r:embed="rId1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9" name="Picture 173" descr="yellow_space_sld"/>
          <p:cNvPicPr/>
          <p:nvPr/>
        </p:nvPicPr>
        <p:blipFill>
          <a:blip r:embed="rId2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0" name="Picture 174" descr="yellow_space_prt"/>
          <p:cNvPicPr/>
          <p:nvPr/>
        </p:nvPicPr>
        <p:blipFill>
          <a:blip r:embed="rId3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01" name="Picture 175" descr="yellow_space_trs"/>
          <p:cNvPicPr/>
          <p:nvPr/>
        </p:nvPicPr>
        <p:blipFill>
          <a:blip r:embed="rId4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5:54:50Z</dcterms:created>
  <dc:creator>www.eeppt.com</dc:creator>
  <dc:description>ppt模板下载网站 http://www.eeppt.com</dc:description>
  <dc:language>en-US</dc:language>
  <cp:lastModifiedBy/>
  <dcterms:modified xsi:type="dcterms:W3CDTF">2015-05-27T16:33:38Z</dcterms:modified>
  <cp:revision>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