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8a1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463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44604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1F9D18AB-0B96-477D-BDAF-550638FEE0C7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350028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ff8a15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4639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9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da58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349"/>
              </a:spcBef>
              <a:buClr>
                <a:srgbClr val="963d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gongyi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69440" y="4651200"/>
            <a:ext cx="82076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69440" y="3359160"/>
            <a:ext cx="820764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468360" y="6093000"/>
            <a:ext cx="23382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黑体"/>
              </a:rPr>
              <a:t>LOGO</a:t>
            </a:r>
            <a:r>
              <a:rPr b="1" lang="zh-CN" sz="2600" spc="-1" strike="noStrike">
                <a:solidFill>
                  <a:srgbClr val="ffffff"/>
                </a:solidFill>
                <a:latin typeface="Arial"/>
                <a:ea typeface="黑体"/>
              </a:rPr>
              <a:t>删除与替换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3843360"/>
            <a:ext cx="23032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依次点击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母板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幻灯片母板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进入模板视图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695160" y="1438200"/>
            <a:ext cx="2306160" cy="2305080"/>
            <a:chOff x="695160" y="1438200"/>
            <a:chExt cx="2306160" cy="2305080"/>
          </a:xfrm>
        </p:grpSpPr>
        <p:sp>
          <p:nvSpPr>
            <p:cNvPr id="126" name=""/>
            <p:cNvSpPr/>
            <p:nvPr/>
          </p:nvSpPr>
          <p:spPr>
            <a:xfrm>
              <a:off x="695160" y="1438200"/>
              <a:ext cx="2160720" cy="23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2796480" y="2517480"/>
              <a:ext cx="263520" cy="14580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1"/>
            <a:stretch/>
          </p:blipFill>
          <p:spPr>
            <a:xfrm>
              <a:off x="728640" y="1495440"/>
              <a:ext cx="2085840" cy="219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" name=""/>
          <p:cNvGrpSpPr/>
          <p:nvPr/>
        </p:nvGrpSpPr>
        <p:grpSpPr>
          <a:xfrm>
            <a:off x="3344760" y="1438200"/>
            <a:ext cx="2306160" cy="2305080"/>
            <a:chOff x="3344760" y="1438200"/>
            <a:chExt cx="2306160" cy="2305080"/>
          </a:xfrm>
        </p:grpSpPr>
        <p:sp>
          <p:nvSpPr>
            <p:cNvPr id="130" name=""/>
            <p:cNvSpPr/>
            <p:nvPr/>
          </p:nvSpPr>
          <p:spPr>
            <a:xfrm>
              <a:off x="3344760" y="1438200"/>
              <a:ext cx="2160720" cy="23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5400000">
              <a:off x="5446080" y="2517480"/>
              <a:ext cx="263520" cy="14580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" name="" descr=""/>
            <p:cNvPicPr/>
            <p:nvPr/>
          </p:nvPicPr>
          <p:blipFill>
            <a:blip r:embed="rId2"/>
            <a:srcRect l="29589" t="0" r="0" b="0"/>
            <a:stretch/>
          </p:blipFill>
          <p:spPr>
            <a:xfrm>
              <a:off x="3368520" y="1474560"/>
              <a:ext cx="2100240" cy="222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"/>
          <p:cNvGrpSpPr/>
          <p:nvPr/>
        </p:nvGrpSpPr>
        <p:grpSpPr>
          <a:xfrm>
            <a:off x="6002280" y="1438200"/>
            <a:ext cx="2160720" cy="2305080"/>
            <a:chOff x="6002280" y="1438200"/>
            <a:chExt cx="2160720" cy="2305080"/>
          </a:xfrm>
        </p:grpSpPr>
        <p:sp>
          <p:nvSpPr>
            <p:cNvPr id="134" name=""/>
            <p:cNvSpPr/>
            <p:nvPr/>
          </p:nvSpPr>
          <p:spPr>
            <a:xfrm>
              <a:off x="6002280" y="1438200"/>
              <a:ext cx="2160720" cy="23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3"/>
            <a:stretch/>
          </p:blipFill>
          <p:spPr>
            <a:xfrm>
              <a:off x="6122880" y="2235240"/>
              <a:ext cx="1940040" cy="4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"/>
          <p:cNvSpPr/>
          <p:nvPr/>
        </p:nvSpPr>
        <p:spPr>
          <a:xfrm>
            <a:off x="3297240" y="3843360"/>
            <a:ext cx="230364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选择母板内的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图标进行删除和替换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12000" y="3843360"/>
            <a:ext cx="23032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编辑完成后点击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关闭母板视图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返回幻灯片视图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模板的使用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47640" y="6454800"/>
            <a:ext cx="58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公益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模板</a:t>
            </a:r>
            <a:r>
              <a:rPr b="0" i="1" lang="en-US" sz="1800" spc="-1" strike="noStrike" u="sng">
                <a:solidFill>
                  <a:srgbClr val="463900"/>
                </a:solidFill>
                <a:uFillTx/>
                <a:latin typeface="Arial"/>
                <a:hlinkClick r:id="rId1"/>
              </a:rPr>
              <a:t>http://www.eeppt.com/moban/gongyi/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1479600" y="4076640"/>
            <a:ext cx="6184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之家：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600" spc="-1" strike="noStrike" u="sng">
                <a:solidFill>
                  <a:srgbClr val="963d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600" spc="-1" strike="noStrike" u="sng">
                <a:solidFill>
                  <a:srgbClr val="963d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963d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1" lang="en-US" sz="1600" spc="-1" strike="noStrike" u="sng">
                <a:solidFill>
                  <a:srgbClr val="963d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1" lang="zh-CN" sz="1600" spc="-1" strike="noStrike" u="sng">
                <a:solidFill>
                  <a:srgbClr val="963d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963d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600" spc="-1" strike="noStrike" u="sng">
                <a:solidFill>
                  <a:srgbClr val="963d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1" lang="en-US" sz="1600" spc="-1" strike="noStrike" u="sng">
                <a:solidFill>
                  <a:srgbClr val="963d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963d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zh-CN" sz="1600" spc="-1" strike="noStrike" u="sng">
                <a:solidFill>
                  <a:srgbClr val="963d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1" lang="en-US" sz="1600" spc="-1" strike="noStrike" u="sng">
                <a:solidFill>
                  <a:srgbClr val="963d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963d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1" lang="zh-CN" sz="1600" spc="-1" strike="noStrike" u="sng">
                <a:solidFill>
                  <a:srgbClr val="963d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963d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963d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a</cp:lastModifiedBy>
  <dcterms:modified xsi:type="dcterms:W3CDTF">2015-06-13T11:57:00Z</dcterms:modified>
  <cp:revision>27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