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411-6ACE-425B-8DF7-07DE63E4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763-DD7B-4BC6-ACC9-8624571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454-7FC9-4BF9-A5BB-34D09B67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73A-0F94-4C58-9127-41FD4FB0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911-9EAC-45DB-B563-86B9348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42F-EE16-48A9-9207-3EE22F76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F07-58F5-418C-917D-2914E694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C8A-5E1B-43D8-921E-A796CA1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2F1-1E10-43B7-9047-08C6E3D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FD6-F455-4C74-9EBD-952129B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101-189A-470A-8D17-8448922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0BB-2D81-469C-B629-B60D4E2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81F-16BE-47CA-8310-E19309CE9D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FF7B-8795-47B7-B463-212200693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938-1310300F954100.jpg"/>
          <p:cNvPicPr/>
          <p:nvPr/>
        </p:nvPicPr>
        <p:blipFill>
          <a:blip r:embed="rId1"/>
          <a:stretch/>
        </p:blipFill>
        <p:spPr>
          <a:xfrm>
            <a:off x="0" y="871560"/>
            <a:ext cx="6332400" cy="5699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234938-1310300P63489.jpg"/>
          <p:cNvPicPr/>
          <p:nvPr/>
        </p:nvPicPr>
        <p:blipFill>
          <a:blip r:embed="rId1"/>
          <a:stretch/>
        </p:blipFill>
        <p:spPr>
          <a:xfrm>
            <a:off x="36360" y="10843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234938-1310300H95420.jpg"/>
          <p:cNvPicPr/>
          <p:nvPr/>
        </p:nvPicPr>
        <p:blipFill>
          <a:blip r:embed="rId1"/>
          <a:stretch/>
        </p:blipFill>
        <p:spPr>
          <a:xfrm>
            <a:off x="57636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234809-1209231U61651.jpg"/>
          <p:cNvPicPr/>
          <p:nvPr/>
        </p:nvPicPr>
        <p:blipFill>
          <a:blip r:embed="rId1"/>
          <a:stretch/>
        </p:blipFill>
        <p:spPr>
          <a:xfrm>
            <a:off x="324000" y="297000"/>
            <a:ext cx="7084800" cy="601164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