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285-FBFC-4CF2-AB09-88C9DBA3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C8C-0AD9-447E-911D-36A234B3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1C1-75D9-43C6-B41B-D26CE523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E74-1DC6-421E-9D0C-6F9F0B0E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410-6C38-45D4-AFDA-6B415544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FD4-C6CB-410B-BDB5-570968BA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C55-58B1-41BF-A63B-5C6DCEC5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297-43C0-4997-960F-8236C119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C86-1A7C-46E5-9E99-A79F7C57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E7A-ED72-4971-92C1-A89010C0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9DD-DB58-41CD-B49B-5AF870BB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01B-5ADB-45F6-9C29-77071A76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148A-F7F8-4B99-902A-4D01959757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F89-1E03-4F7D-A012-7B4CCAD858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40439-130P40U21595.jpg"/>
          <p:cNvPicPr/>
          <p:nvPr/>
        </p:nvPicPr>
        <p:blipFill>
          <a:blip r:embed="rId1"/>
          <a:stretch/>
        </p:blipFill>
        <p:spPr>
          <a:xfrm>
            <a:off x="2995560" y="971640"/>
            <a:ext cx="6148440" cy="59022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Redocn_2011011409544072.jpg"/>
          <p:cNvPicPr/>
          <p:nvPr/>
        </p:nvPicPr>
        <p:blipFill>
          <a:blip r:embed="rId1"/>
          <a:srcRect l="0" t="8040" r="0" b="15033"/>
          <a:stretch/>
        </p:blipFill>
        <p:spPr>
          <a:xfrm>
            <a:off x="119160" y="297000"/>
            <a:ext cx="9024840" cy="6561000"/>
          </a:xfrm>
          <a:prstGeom prst="rect">
            <a:avLst/>
          </a:prstGeom>
          <a:ln w="0">
            <a:noFill/>
          </a:ln>
        </p:spPr>
      </p:pic>
      <p:sp>
        <p:nvSpPr>
          <p:cNvPr id="49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