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C7C-693B-473A-B5A1-96155516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E46-BBC0-4D50-B948-567F1410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52C-6151-4BEE-99E4-F3BFB85B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A66-BE27-4ECD-B3FD-6311460F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C87-1102-41A8-947D-44D7C1E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A44-FF5D-49C8-8181-736C316E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211-F20F-47DF-9588-34FEE006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2F8-B53F-4D5F-BDD9-0D6B6336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21D-33C4-44BA-97CB-94CD69C5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E1E-2F61-4F5E-9A4F-8AF804A0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FE0-E7A3-4045-9955-1765EDBA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5D3-7A3B-4AB1-9CD4-055606FB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1296-9DDC-4BED-BEE7-ADC4EDEEA0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3781-59CF-4E63-A34B-22B32092F5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hyperlink" Target="http://www.rapidppt.com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25800" y="3797280"/>
            <a:ext cx="4383000" cy="1420920"/>
            <a:chOff x="3925800" y="3797280"/>
            <a:chExt cx="4383000" cy="1420920"/>
          </a:xfrm>
        </p:grpSpPr>
        <p:pic>
          <p:nvPicPr>
            <p:cNvPr id="42" name="椭圆 10" descr=""/>
            <p:cNvPicPr/>
            <p:nvPr/>
          </p:nvPicPr>
          <p:blipFill>
            <a:blip r:embed="rId1"/>
            <a:stretch/>
          </p:blipFill>
          <p:spPr>
            <a:xfrm>
              <a:off x="3925800" y="3797280"/>
              <a:ext cx="43830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4645080" y="4086360"/>
              <a:ext cx="28620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603360" y="3657600"/>
            <a:ext cx="4711680" cy="1511280"/>
            <a:chOff x="603360" y="3657600"/>
            <a:chExt cx="4711680" cy="1511280"/>
          </a:xfrm>
        </p:grpSpPr>
        <p:pic>
          <p:nvPicPr>
            <p:cNvPr id="45" name="椭圆 10" descr=""/>
            <p:cNvPicPr/>
            <p:nvPr/>
          </p:nvPicPr>
          <p:blipFill>
            <a:blip r:embed="rId2"/>
            <a:stretch/>
          </p:blipFill>
          <p:spPr>
            <a:xfrm>
              <a:off x="603360" y="3657600"/>
              <a:ext cx="47116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1371240" y="3955680"/>
              <a:ext cx="30956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572000" y="4389480"/>
            <a:ext cx="4340160" cy="1414440"/>
            <a:chOff x="4572000" y="4389480"/>
            <a:chExt cx="4340160" cy="1414440"/>
          </a:xfrm>
        </p:grpSpPr>
        <p:pic>
          <p:nvPicPr>
            <p:cNvPr id="48" name="椭圆 10" descr=""/>
            <p:cNvPicPr/>
            <p:nvPr/>
          </p:nvPicPr>
          <p:blipFill>
            <a:blip r:embed="rId3"/>
            <a:stretch/>
          </p:blipFill>
          <p:spPr>
            <a:xfrm>
              <a:off x="4572000" y="4389480"/>
              <a:ext cx="43401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5284440" y="4678560"/>
              <a:ext cx="28321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37960" y="4127400"/>
            <a:ext cx="4016520" cy="1328760"/>
            <a:chOff x="237960" y="4127400"/>
            <a:chExt cx="4016520" cy="1328760"/>
          </a:xfrm>
        </p:grpSpPr>
        <p:pic>
          <p:nvPicPr>
            <p:cNvPr id="51" name="椭圆 10" descr=""/>
            <p:cNvPicPr/>
            <p:nvPr/>
          </p:nvPicPr>
          <p:blipFill>
            <a:blip r:embed="rId4"/>
            <a:stretch/>
          </p:blipFill>
          <p:spPr>
            <a:xfrm>
              <a:off x="237960" y="4127400"/>
              <a:ext cx="40165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904320" y="4401720"/>
              <a:ext cx="2606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组合 7" descr=""/>
          <p:cNvPicPr/>
          <p:nvPr/>
        </p:nvPicPr>
        <p:blipFill>
          <a:blip r:embed="rId5"/>
          <a:stretch/>
        </p:blipFill>
        <p:spPr>
          <a:xfrm>
            <a:off x="5278320" y="2719440"/>
            <a:ext cx="1695600" cy="3327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 flipH="1">
            <a:off x="5703120" y="32130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 flipH="1">
            <a:off x="5703120" y="34290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37" descr=""/>
          <p:cNvPicPr/>
          <p:nvPr/>
        </p:nvPicPr>
        <p:blipFill>
          <a:blip r:embed="rId6"/>
          <a:stretch/>
        </p:blipFill>
        <p:spPr>
          <a:xfrm>
            <a:off x="6126120" y="3046320"/>
            <a:ext cx="1357200" cy="20512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1539720" y="2655720"/>
            <a:ext cx="2076480" cy="2097360"/>
            <a:chOff x="1539720" y="2655720"/>
            <a:chExt cx="2076480" cy="2097360"/>
          </a:xfrm>
        </p:grpSpPr>
        <p:pic>
          <p:nvPicPr>
            <p:cNvPr id="58" name="组合 15" descr=""/>
            <p:cNvPicPr/>
            <p:nvPr/>
          </p:nvPicPr>
          <p:blipFill>
            <a:blip r:embed="rId7"/>
            <a:stretch/>
          </p:blipFill>
          <p:spPr>
            <a:xfrm>
              <a:off x="1940760" y="2655720"/>
              <a:ext cx="1675440" cy="20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67" descr=""/>
            <p:cNvPicPr/>
            <p:nvPr/>
          </p:nvPicPr>
          <p:blipFill>
            <a:blip r:embed="rId8"/>
            <a:stretch/>
          </p:blipFill>
          <p:spPr>
            <a:xfrm>
              <a:off x="1539720" y="3091320"/>
              <a:ext cx="895680" cy="86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1971000" y="2969640"/>
              <a:ext cx="435240" cy="397440"/>
              <a:chOff x="1971000" y="2969640"/>
              <a:chExt cx="435240" cy="397440"/>
            </a:xfrm>
          </p:grpSpPr>
          <p:pic>
            <p:nvPicPr>
              <p:cNvPr id="61" name="任意多边形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1971000" y="2970360"/>
                <a:ext cx="43524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1971000" y="2969640"/>
                <a:ext cx="434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Box 11"/>
            <p:cNvSpPr/>
            <p:nvPr/>
          </p:nvSpPr>
          <p:spPr>
            <a:xfrm flipH="1">
              <a:off x="2053080" y="3007080"/>
              <a:ext cx="12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1"/>
            <p:cNvSpPr/>
            <p:nvPr/>
          </p:nvSpPr>
          <p:spPr>
            <a:xfrm flipH="1">
              <a:off x="2053080" y="3134520"/>
              <a:ext cx="12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组合 23" descr=""/>
          <p:cNvPicPr/>
          <p:nvPr/>
        </p:nvPicPr>
        <p:blipFill>
          <a:blip r:embed="rId10"/>
          <a:stretch/>
        </p:blipFill>
        <p:spPr>
          <a:xfrm>
            <a:off x="3249720" y="2328840"/>
            <a:ext cx="2474640" cy="4937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 flipH="1">
            <a:off x="3546360" y="317484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 flipH="1">
            <a:off x="3946680" y="354492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 flipH="1">
            <a:off x="3946680" y="382104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36" descr=""/>
          <p:cNvPicPr/>
          <p:nvPr/>
        </p:nvPicPr>
        <p:blipFill>
          <a:blip r:embed="rId11"/>
          <a:stretch/>
        </p:blipFill>
        <p:spPr>
          <a:xfrm>
            <a:off x="3967200" y="1312920"/>
            <a:ext cx="10904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901800" y="4164120"/>
            <a:ext cx="7046640" cy="1719000"/>
            <a:chOff x="901800" y="4164120"/>
            <a:chExt cx="7046640" cy="1719000"/>
          </a:xfrm>
        </p:grpSpPr>
        <p:pic>
          <p:nvPicPr>
            <p:cNvPr id="71" name="椭圆 10" descr=""/>
            <p:cNvPicPr/>
            <p:nvPr/>
          </p:nvPicPr>
          <p:blipFill>
            <a:blip r:embed="rId12"/>
            <a:stretch/>
          </p:blipFill>
          <p:spPr>
            <a:xfrm>
              <a:off x="901800" y="4164120"/>
              <a:ext cx="704664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0800000">
              <a:off x="2010960" y="4495320"/>
              <a:ext cx="4746240" cy="9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32"/>
          <p:cNvSpPr/>
          <p:nvPr/>
        </p:nvSpPr>
        <p:spPr>
          <a:xfrm>
            <a:off x="5605920" y="260280"/>
            <a:ext cx="24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3D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小人圆球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3">
            <a:hlinkClick r:id="rId13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FCC-30D6-456C-93C8-353131F9C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4:4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