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98AE-CA2C-465B-8503-EBE84FCFA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06DE-3852-4EE5-9527-6D722C5C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A2EE-016A-4D6C-B85F-EE57FBFF2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BB01-A14F-4B97-9FC8-C16A43366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1A07-85B1-483E-831E-9E049036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14F1-0A93-4AEB-A0BD-5C7A168B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8A3A-11B1-42CB-8913-1E92BA34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B359-84B4-4BB3-A834-EF03AB54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B899-07A3-4F5D-A4BD-40252558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E842-82F3-402A-96FF-8D14A6EA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EF18-D5FC-4D7E-A11C-41B9C40F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731E-473D-474F-BC85-C7B820C0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007D-6671-43E6-BCE0-6A369802653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D91D-0B61-48A3-85AD-120430C4A9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-82440" y="2852640"/>
            <a:ext cx="979200" cy="1312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askerville Old Face"/>
                <a:ea typeface="宋体"/>
              </a:rPr>
              <a:t>w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741600" y="285264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f7f7f"/>
                </a:solidFill>
                <a:latin typeface="Baskerville Old Face"/>
              </a:rPr>
              <a:t>he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​​ 5"/>
          <p:cNvSpPr/>
          <p:nvPr/>
        </p:nvSpPr>
        <p:spPr>
          <a:xfrm>
            <a:off x="2604960" y="3860640"/>
            <a:ext cx="405468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6837480" y="3610080"/>
            <a:ext cx="20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  <a:ea typeface="宋体"/>
              </a:rPr>
              <a:t>September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6698880" y="2908440"/>
            <a:ext cx="217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f7f7f"/>
                </a:solidFill>
                <a:latin typeface="Bauhaus 93"/>
              </a:rPr>
              <a:t>10:09</a:t>
            </a:r>
            <a:r>
              <a:rPr b="0" lang="en-US" sz="2400" spc="-1" strike="noStrike">
                <a:solidFill>
                  <a:srgbClr val="7f7f7f"/>
                </a:solidFill>
                <a:latin typeface="Calibri"/>
                <a:ea typeface="宋体"/>
              </a:rPr>
              <a:t>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​​ 9"/>
          <p:cNvSpPr/>
          <p:nvPr/>
        </p:nvSpPr>
        <p:spPr>
          <a:xfrm>
            <a:off x="0" y="0"/>
            <a:ext cx="9144000" cy="1916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​​ 10"/>
          <p:cNvSpPr/>
          <p:nvPr/>
        </p:nvSpPr>
        <p:spPr>
          <a:xfrm>
            <a:off x="0" y="5013360"/>
            <a:ext cx="9144000" cy="1915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-82440" y="2852640"/>
            <a:ext cx="979200" cy="1312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askerville Old Face"/>
                <a:ea typeface="宋体"/>
              </a:rPr>
              <a:t>w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727200" y="2852640"/>
            <a:ext cx="174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f7f7f"/>
                </a:solidFill>
                <a:latin typeface="Baskerville Old Face"/>
              </a:rPr>
              <a:t>ha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接连接符​​ 5"/>
          <p:cNvSpPr/>
          <p:nvPr/>
        </p:nvSpPr>
        <p:spPr>
          <a:xfrm>
            <a:off x="2604960" y="3860640"/>
            <a:ext cx="405468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837480" y="3610080"/>
            <a:ext cx="20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  <a:ea typeface="宋体"/>
              </a:rPr>
              <a:t>September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6698880" y="2908440"/>
            <a:ext cx="217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f7f7f"/>
                </a:solidFill>
                <a:latin typeface="Bauhaus 93"/>
              </a:rPr>
              <a:t>10:09</a:t>
            </a:r>
            <a:r>
              <a:rPr b="0" lang="en-US" sz="2400" spc="-1" strike="noStrike">
                <a:solidFill>
                  <a:srgbClr val="7f7f7f"/>
                </a:solidFill>
                <a:latin typeface="Calibri"/>
                <a:ea typeface="宋体"/>
              </a:rPr>
              <a:t>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​​ 9"/>
          <p:cNvSpPr/>
          <p:nvPr/>
        </p:nvSpPr>
        <p:spPr>
          <a:xfrm>
            <a:off x="0" y="0"/>
            <a:ext cx="9144000" cy="1916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​​ 10"/>
          <p:cNvSpPr/>
          <p:nvPr/>
        </p:nvSpPr>
        <p:spPr>
          <a:xfrm>
            <a:off x="0" y="5013360"/>
            <a:ext cx="9144000" cy="1915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>
            <a:off x="-82440" y="2852640"/>
            <a:ext cx="979200" cy="1312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askerville Old Face"/>
                <a:ea typeface="宋体"/>
              </a:rPr>
              <a:t>w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801720" y="2852640"/>
            <a:ext cx="142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f7f7f"/>
                </a:solidFill>
                <a:latin typeface="Baskerville Old Face"/>
              </a:rPr>
              <a:t>h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​​ 5"/>
          <p:cNvSpPr/>
          <p:nvPr/>
        </p:nvSpPr>
        <p:spPr>
          <a:xfrm>
            <a:off x="2604960" y="3860640"/>
            <a:ext cx="405468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6837480" y="3610080"/>
            <a:ext cx="20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  <a:ea typeface="宋体"/>
              </a:rPr>
              <a:t>September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6698880" y="2908440"/>
            <a:ext cx="217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f7f7f"/>
                </a:solidFill>
                <a:latin typeface="Bauhaus 93"/>
              </a:rPr>
              <a:t>10:09</a:t>
            </a:r>
            <a:r>
              <a:rPr b="0" lang="en-US" sz="2400" spc="-1" strike="noStrike">
                <a:solidFill>
                  <a:srgbClr val="7f7f7f"/>
                </a:solidFill>
                <a:latin typeface="Calibri"/>
                <a:ea typeface="宋体"/>
              </a:rPr>
              <a:t>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​​ 9"/>
          <p:cNvSpPr/>
          <p:nvPr/>
        </p:nvSpPr>
        <p:spPr>
          <a:xfrm>
            <a:off x="0" y="0"/>
            <a:ext cx="9144000" cy="1916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​​ 10"/>
          <p:cNvSpPr/>
          <p:nvPr/>
        </p:nvSpPr>
        <p:spPr>
          <a:xfrm>
            <a:off x="0" y="5013360"/>
            <a:ext cx="9144000" cy="1915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4:20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