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37A-B7BC-4348-9B4F-3D7137BF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D3B-C741-4801-9AAD-DD020AFB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405-F7AD-4076-9940-5CCCE1B6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EAE3-67D8-49B0-81DB-8F58F02E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378-1FF6-4390-BFD3-76C44BAF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618-2B8A-45FB-8954-C4506948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E1C-8E19-4A07-B8E6-A4F4226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D32-657A-4D52-B345-8D0EF70D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ACC-E872-4F32-89D2-5A137490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DAC-4C67-4000-BEE1-0A7747FF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D28-0918-4626-B54A-D4EDC75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906-3EF9-49E0-8FEE-6CC3CD80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298-F1CC-490A-A06E-F0D3D998F8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C89-A456-4894-9D9F-DD91A96A0A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0"/>
          <p:cNvSpPr/>
          <p:nvPr/>
        </p:nvSpPr>
        <p:spPr>
          <a:xfrm>
            <a:off x="1085760" y="4251240"/>
            <a:ext cx="6708960" cy="1471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9"/>
          <p:cNvSpPr/>
          <p:nvPr/>
        </p:nvSpPr>
        <p:spPr>
          <a:xfrm>
            <a:off x="2892600" y="1751040"/>
            <a:ext cx="3235320" cy="3235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6"/>
          <p:cNvSpPr/>
          <p:nvPr/>
        </p:nvSpPr>
        <p:spPr>
          <a:xfrm>
            <a:off x="4551480" y="1798560"/>
            <a:ext cx="942840" cy="1067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5021280" y="2336760"/>
            <a:ext cx="1057320" cy="95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8"/>
          <p:cNvSpPr/>
          <p:nvPr/>
        </p:nvSpPr>
        <p:spPr>
          <a:xfrm>
            <a:off x="4932360" y="3414600"/>
            <a:ext cx="1163520" cy="960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9"/>
          <p:cNvSpPr/>
          <p:nvPr/>
        </p:nvSpPr>
        <p:spPr>
          <a:xfrm>
            <a:off x="4551480" y="3832200"/>
            <a:ext cx="996840" cy="118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"/>
          <p:cNvSpPr/>
          <p:nvPr/>
        </p:nvSpPr>
        <p:spPr>
          <a:xfrm>
            <a:off x="3427560" y="3821040"/>
            <a:ext cx="1012680" cy="114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2847960" y="3430440"/>
            <a:ext cx="1119240" cy="1006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2"/>
          <p:cNvSpPr/>
          <p:nvPr/>
        </p:nvSpPr>
        <p:spPr>
          <a:xfrm>
            <a:off x="2852640" y="2216160"/>
            <a:ext cx="1149480" cy="1101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3381480" y="1717560"/>
            <a:ext cx="1063440" cy="1173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5"/>
          <p:cNvSpPr/>
          <p:nvPr/>
        </p:nvSpPr>
        <p:spPr>
          <a:xfrm>
            <a:off x="4646520" y="2984400"/>
            <a:ext cx="21744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6"/>
          <p:cNvSpPr/>
          <p:nvPr/>
        </p:nvSpPr>
        <p:spPr>
          <a:xfrm>
            <a:off x="4095720" y="2984400"/>
            <a:ext cx="21924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7"/>
          <p:cNvSpPr/>
          <p:nvPr/>
        </p:nvSpPr>
        <p:spPr>
          <a:xfrm>
            <a:off x="4646520" y="3524400"/>
            <a:ext cx="217440" cy="218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0"/>
          <p:cNvSpPr/>
          <p:nvPr/>
        </p:nvSpPr>
        <p:spPr>
          <a:xfrm>
            <a:off x="4102200" y="3524400"/>
            <a:ext cx="212760" cy="218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3"/>
          <p:cNvGrpSpPr/>
          <p:nvPr/>
        </p:nvGrpSpPr>
        <p:grpSpPr>
          <a:xfrm>
            <a:off x="4775040" y="1695600"/>
            <a:ext cx="3321360" cy="1412640"/>
            <a:chOff x="4775040" y="1695600"/>
            <a:chExt cx="3321360" cy="1412640"/>
          </a:xfrm>
        </p:grpSpPr>
        <p:sp>
          <p:nvSpPr>
            <p:cNvPr id="56" name="任意多边形 24"/>
            <p:cNvSpPr/>
            <p:nvPr/>
          </p:nvSpPr>
          <p:spPr>
            <a:xfrm>
              <a:off x="4775040" y="2171880"/>
              <a:ext cx="3321360" cy="936360"/>
            </a:xfrm>
            <a:prstGeom prst="pie">
              <a:avLst/>
            </a:prstGeom>
            <a:noFill/>
            <a:ln w="19080">
              <a:solidFill>
                <a:srgbClr val="3f3f3f"/>
              </a:solidFill>
              <a:prstDash val="sysDot"/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25"/>
            <p:cNvGrpSpPr/>
            <p:nvPr/>
          </p:nvGrpSpPr>
          <p:grpSpPr>
            <a:xfrm>
              <a:off x="5837400" y="1695600"/>
              <a:ext cx="2184120" cy="459000"/>
              <a:chOff x="5837400" y="1695600"/>
              <a:chExt cx="2184120" cy="459000"/>
            </a:xfrm>
          </p:grpSpPr>
          <p:sp>
            <p:nvSpPr>
              <p:cNvPr id="58" name="TextBox 11"/>
              <p:cNvSpPr/>
              <p:nvPr/>
            </p:nvSpPr>
            <p:spPr>
              <a:xfrm flipH="1">
                <a:off x="5837040" y="1695600"/>
                <a:ext cx="1145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Box 11"/>
              <p:cNvSpPr/>
              <p:nvPr/>
            </p:nvSpPr>
            <p:spPr>
              <a:xfrm flipH="1">
                <a:off x="6875280" y="1695600"/>
                <a:ext cx="1145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组合 28"/>
          <p:cNvGrpSpPr/>
          <p:nvPr/>
        </p:nvGrpSpPr>
        <p:grpSpPr>
          <a:xfrm>
            <a:off x="1011240" y="1782720"/>
            <a:ext cx="3193920" cy="1324080"/>
            <a:chOff x="1011240" y="1782720"/>
            <a:chExt cx="3193920" cy="1324080"/>
          </a:xfrm>
        </p:grpSpPr>
        <p:sp>
          <p:nvSpPr>
            <p:cNvPr id="61" name="任意多边形 29"/>
            <p:cNvSpPr/>
            <p:nvPr/>
          </p:nvSpPr>
          <p:spPr>
            <a:xfrm flipH="1">
              <a:off x="1011240" y="2259000"/>
              <a:ext cx="3193920" cy="847800"/>
            </a:xfrm>
            <a:prstGeom prst="pie">
              <a:avLst/>
            </a:prstGeom>
            <a:noFill/>
            <a:ln w="19080">
              <a:solidFill>
                <a:srgbClr val="3f3f3f"/>
              </a:solidFill>
              <a:prstDash val="sysDot"/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组合 30"/>
            <p:cNvGrpSpPr/>
            <p:nvPr/>
          </p:nvGrpSpPr>
          <p:grpSpPr>
            <a:xfrm>
              <a:off x="1124280" y="1782720"/>
              <a:ext cx="2183760" cy="459000"/>
              <a:chOff x="1124280" y="1782720"/>
              <a:chExt cx="2183760" cy="459000"/>
            </a:xfrm>
          </p:grpSpPr>
          <p:sp>
            <p:nvSpPr>
              <p:cNvPr id="63" name="TextBox 11"/>
              <p:cNvSpPr/>
              <p:nvPr/>
            </p:nvSpPr>
            <p:spPr>
              <a:xfrm>
                <a:off x="2162160" y="1782720"/>
                <a:ext cx="1145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Box 11"/>
              <p:cNvSpPr/>
              <p:nvPr/>
            </p:nvSpPr>
            <p:spPr>
              <a:xfrm>
                <a:off x="1124280" y="1782720"/>
                <a:ext cx="1145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组合 33"/>
          <p:cNvGrpSpPr/>
          <p:nvPr/>
        </p:nvGrpSpPr>
        <p:grpSpPr>
          <a:xfrm>
            <a:off x="604440" y="3676320"/>
            <a:ext cx="3600360" cy="847800"/>
            <a:chOff x="604440" y="3676320"/>
            <a:chExt cx="3600360" cy="847800"/>
          </a:xfrm>
        </p:grpSpPr>
        <p:sp>
          <p:nvSpPr>
            <p:cNvPr id="66" name="任意多边形 34"/>
            <p:cNvSpPr/>
            <p:nvPr/>
          </p:nvSpPr>
          <p:spPr>
            <a:xfrm flipH="1" flipV="1">
              <a:off x="603720" y="3675960"/>
              <a:ext cx="3600360" cy="847800"/>
            </a:xfrm>
            <a:prstGeom prst="pie">
              <a:avLst/>
            </a:prstGeom>
            <a:noFill/>
            <a:ln w="19080">
              <a:solidFill>
                <a:srgbClr val="3f3f3f"/>
              </a:solidFill>
              <a:prstDash val="sysDot"/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35"/>
            <p:cNvGrpSpPr/>
            <p:nvPr/>
          </p:nvGrpSpPr>
          <p:grpSpPr>
            <a:xfrm>
              <a:off x="736200" y="4052160"/>
              <a:ext cx="2183760" cy="459000"/>
              <a:chOff x="736200" y="4052160"/>
              <a:chExt cx="2183760" cy="459000"/>
            </a:xfrm>
          </p:grpSpPr>
          <p:sp>
            <p:nvSpPr>
              <p:cNvPr id="68" name="TextBox 11"/>
              <p:cNvSpPr/>
              <p:nvPr/>
            </p:nvSpPr>
            <p:spPr>
              <a:xfrm>
                <a:off x="1773360" y="405216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11"/>
              <p:cNvSpPr/>
              <p:nvPr/>
            </p:nvSpPr>
            <p:spPr>
              <a:xfrm>
                <a:off x="736200" y="405216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组合 38"/>
          <p:cNvGrpSpPr/>
          <p:nvPr/>
        </p:nvGrpSpPr>
        <p:grpSpPr>
          <a:xfrm>
            <a:off x="4775040" y="3676320"/>
            <a:ext cx="3600720" cy="847800"/>
            <a:chOff x="4775040" y="3676320"/>
            <a:chExt cx="3600720" cy="847800"/>
          </a:xfrm>
        </p:grpSpPr>
        <p:sp>
          <p:nvSpPr>
            <p:cNvPr id="71" name="任意多边形 39"/>
            <p:cNvSpPr/>
            <p:nvPr/>
          </p:nvSpPr>
          <p:spPr>
            <a:xfrm flipV="1">
              <a:off x="4775040" y="3675960"/>
              <a:ext cx="3600720" cy="847800"/>
            </a:xfrm>
            <a:prstGeom prst="pie">
              <a:avLst/>
            </a:prstGeom>
            <a:noFill/>
            <a:ln w="19080">
              <a:solidFill>
                <a:srgbClr val="3f3f3f"/>
              </a:solidFill>
              <a:prstDash val="sysDot"/>
              <a:bevel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40"/>
            <p:cNvGrpSpPr/>
            <p:nvPr/>
          </p:nvGrpSpPr>
          <p:grpSpPr>
            <a:xfrm>
              <a:off x="6060600" y="4052160"/>
              <a:ext cx="2183760" cy="459000"/>
              <a:chOff x="6060600" y="4052160"/>
              <a:chExt cx="2183760" cy="459000"/>
            </a:xfrm>
          </p:grpSpPr>
          <p:sp>
            <p:nvSpPr>
              <p:cNvPr id="73" name="TextBox 11"/>
              <p:cNvSpPr/>
              <p:nvPr/>
            </p:nvSpPr>
            <p:spPr>
              <a:xfrm flipH="1">
                <a:off x="6060240" y="405216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11"/>
              <p:cNvSpPr/>
              <p:nvPr/>
            </p:nvSpPr>
            <p:spPr>
              <a:xfrm flipH="1">
                <a:off x="7097400" y="4052160"/>
                <a:ext cx="1146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矩形 1"/>
          <p:cNvSpPr/>
          <p:nvPr/>
        </p:nvSpPr>
        <p:spPr>
          <a:xfrm>
            <a:off x="7205040" y="2556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方面综合陈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椭圆 10"/>
          <p:cNvSpPr/>
          <p:nvPr/>
        </p:nvSpPr>
        <p:spPr>
          <a:xfrm>
            <a:off x="3263760" y="2665440"/>
            <a:ext cx="2313000" cy="19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1"/>
          <p:cNvSpPr/>
          <p:nvPr/>
        </p:nvSpPr>
        <p:spPr>
          <a:xfrm>
            <a:off x="1600200" y="28083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3"/>
          <p:cNvSpPr/>
          <p:nvPr/>
        </p:nvSpPr>
        <p:spPr>
          <a:xfrm>
            <a:off x="4016520" y="1838160"/>
            <a:ext cx="92520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"/>
          <p:cNvSpPr/>
          <p:nvPr/>
        </p:nvSpPr>
        <p:spPr>
          <a:xfrm>
            <a:off x="2743200" y="2763720"/>
            <a:ext cx="1752480" cy="89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5"/>
          <p:cNvSpPr/>
          <p:nvPr/>
        </p:nvSpPr>
        <p:spPr>
          <a:xfrm>
            <a:off x="3222720" y="3657600"/>
            <a:ext cx="1272960" cy="1490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6"/>
          <p:cNvSpPr/>
          <p:nvPr/>
        </p:nvSpPr>
        <p:spPr>
          <a:xfrm>
            <a:off x="4495680" y="3657600"/>
            <a:ext cx="1273320" cy="1501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7"/>
          <p:cNvSpPr/>
          <p:nvPr/>
        </p:nvSpPr>
        <p:spPr>
          <a:xfrm>
            <a:off x="4495680" y="2732040"/>
            <a:ext cx="1752840" cy="946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正五边形 8"/>
          <p:cNvSpPr/>
          <p:nvPr/>
        </p:nvSpPr>
        <p:spPr>
          <a:xfrm>
            <a:off x="2741760" y="2747880"/>
            <a:ext cx="928440" cy="89712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五边形 9"/>
          <p:cNvSpPr/>
          <p:nvPr/>
        </p:nvSpPr>
        <p:spPr>
          <a:xfrm>
            <a:off x="5280120" y="2714760"/>
            <a:ext cx="968400" cy="94752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五边形 10"/>
          <p:cNvSpPr/>
          <p:nvPr/>
        </p:nvSpPr>
        <p:spPr>
          <a:xfrm>
            <a:off x="4005360" y="1817640"/>
            <a:ext cx="947520" cy="90180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五边形 11"/>
          <p:cNvSpPr/>
          <p:nvPr/>
        </p:nvSpPr>
        <p:spPr>
          <a:xfrm>
            <a:off x="3222720" y="4211640"/>
            <a:ext cx="957240" cy="9237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正五边形 12"/>
          <p:cNvSpPr/>
          <p:nvPr/>
        </p:nvSpPr>
        <p:spPr>
          <a:xfrm>
            <a:off x="4811760" y="4245120"/>
            <a:ext cx="946080" cy="90144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8"/>
          <p:cNvGrpSpPr/>
          <p:nvPr/>
        </p:nvGrpSpPr>
        <p:grpSpPr>
          <a:xfrm>
            <a:off x="3642840" y="2721960"/>
            <a:ext cx="1751760" cy="1739520"/>
            <a:chOff x="3642840" y="2721960"/>
            <a:chExt cx="1751760" cy="1739520"/>
          </a:xfrm>
        </p:grpSpPr>
        <p:sp>
          <p:nvSpPr>
            <p:cNvPr id="89" name="正五边形 14"/>
            <p:cNvSpPr/>
            <p:nvPr/>
          </p:nvSpPr>
          <p:spPr>
            <a:xfrm rot="2195400">
              <a:off x="3879720" y="2982600"/>
              <a:ext cx="1278000" cy="1217520"/>
            </a:xfrm>
            <a:prstGeom prst="pentagon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正五边形 15"/>
            <p:cNvSpPr/>
            <p:nvPr/>
          </p:nvSpPr>
          <p:spPr>
            <a:xfrm rot="2195400">
              <a:off x="3915360" y="3020040"/>
              <a:ext cx="1206000" cy="1149120"/>
            </a:xfrm>
            <a:prstGeom prst="pentagon">
              <a:avLst/>
            </a:pr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23"/>
          <p:cNvSpPr/>
          <p:nvPr/>
        </p:nvSpPr>
        <p:spPr>
          <a:xfrm>
            <a:off x="3026160" y="30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5598720" y="30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5123160" y="4511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3522960" y="4511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4303440" y="2062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3873600" y="3451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环形箭头 22"/>
          <p:cNvSpPr/>
          <p:nvPr/>
        </p:nvSpPr>
        <p:spPr>
          <a:xfrm rot="15194400">
            <a:off x="2408040" y="350784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3143" y="13442"/>
                </a:moveTo>
                <a:arcTo wR="-8100" hR="-8100" stAng="9657681" swAng="-9657681"/>
                <a:lnTo>
                  <a:pt x="0" y="10800"/>
                </a:lnTo>
                <a:arcTo wR="10800" hR="10800" stAng="10800000" swAng="9657681"/>
                <a:lnTo>
                  <a:pt x="23562" y="6396"/>
                </a:lnTo>
                <a:lnTo>
                  <a:pt x="21054" y="11546"/>
                </a:lnTo>
                <a:lnTo>
                  <a:pt x="15905" y="90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3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环形箭头 23"/>
          <p:cNvSpPr/>
          <p:nvPr/>
        </p:nvSpPr>
        <p:spPr>
          <a:xfrm rot="19326000">
            <a:off x="2941560" y="180288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3143" y="13442"/>
                </a:moveTo>
                <a:arcTo wR="-8100" hR="-8100" stAng="9657681" swAng="-9657681"/>
                <a:lnTo>
                  <a:pt x="0" y="10800"/>
                </a:lnTo>
                <a:arcTo wR="10800" hR="10800" stAng="10800000" swAng="9657681"/>
                <a:lnTo>
                  <a:pt x="23562" y="6396"/>
                </a:lnTo>
                <a:lnTo>
                  <a:pt x="21054" y="11546"/>
                </a:lnTo>
                <a:lnTo>
                  <a:pt x="15905" y="90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1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环形箭头 24"/>
          <p:cNvSpPr/>
          <p:nvPr/>
        </p:nvSpPr>
        <p:spPr>
          <a:xfrm rot="2186400">
            <a:off x="4778280" y="179208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3143" y="13442"/>
                </a:moveTo>
                <a:arcTo wR="-8100" hR="-8100" stAng="9657681" swAng="-9657681"/>
                <a:lnTo>
                  <a:pt x="0" y="10800"/>
                </a:lnTo>
                <a:arcTo wR="10800" hR="10800" stAng="10800000" swAng="9657681"/>
                <a:lnTo>
                  <a:pt x="23562" y="6396"/>
                </a:lnTo>
                <a:lnTo>
                  <a:pt x="21054" y="11546"/>
                </a:lnTo>
                <a:lnTo>
                  <a:pt x="15905" y="90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环形箭头 25"/>
          <p:cNvSpPr/>
          <p:nvPr/>
        </p:nvSpPr>
        <p:spPr>
          <a:xfrm rot="6439800">
            <a:off x="5360400" y="3544920"/>
            <a:ext cx="1219320" cy="12189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3143" y="13442"/>
                </a:moveTo>
                <a:arcTo wR="-8100" hR="-8100" stAng="9657681" swAng="-9657681"/>
                <a:lnTo>
                  <a:pt x="0" y="10800"/>
                </a:lnTo>
                <a:arcTo wR="10800" hR="10800" stAng="10800000" swAng="9657681"/>
                <a:lnTo>
                  <a:pt x="23562" y="6396"/>
                </a:lnTo>
                <a:lnTo>
                  <a:pt x="21054" y="11546"/>
                </a:lnTo>
                <a:lnTo>
                  <a:pt x="15905" y="90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1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环形箭头 26"/>
          <p:cNvSpPr/>
          <p:nvPr/>
        </p:nvSpPr>
        <p:spPr>
          <a:xfrm rot="10800000">
            <a:off x="3863520" y="4571640"/>
            <a:ext cx="1219320" cy="12193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3143" y="13442"/>
                </a:moveTo>
                <a:arcTo wR="-8100" hR="-8100" stAng="9657681" swAng="-9657681"/>
                <a:lnTo>
                  <a:pt x="0" y="10800"/>
                </a:lnTo>
                <a:arcTo wR="10800" hR="10800" stAng="10800000" swAng="9657681"/>
                <a:lnTo>
                  <a:pt x="23562" y="6396"/>
                </a:lnTo>
                <a:lnTo>
                  <a:pt x="21054" y="11546"/>
                </a:lnTo>
                <a:lnTo>
                  <a:pt x="15905" y="903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1"/>
          <p:cNvSpPr/>
          <p:nvPr/>
        </p:nvSpPr>
        <p:spPr>
          <a:xfrm>
            <a:off x="6248520" y="280836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1"/>
          <p:cNvSpPr/>
          <p:nvPr/>
        </p:nvSpPr>
        <p:spPr>
          <a:xfrm>
            <a:off x="5583240" y="514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1"/>
          <p:cNvSpPr/>
          <p:nvPr/>
        </p:nvSpPr>
        <p:spPr>
          <a:xfrm>
            <a:off x="2276640" y="5145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1"/>
          <p:cNvSpPr/>
          <p:nvPr/>
        </p:nvSpPr>
        <p:spPr>
          <a:xfrm>
            <a:off x="3906720" y="12193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40"/>
          <p:cNvSpPr/>
          <p:nvPr/>
        </p:nvSpPr>
        <p:spPr>
          <a:xfrm>
            <a:off x="4186080" y="2719440"/>
            <a:ext cx="587520" cy="144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41"/>
          <p:cNvSpPr/>
          <p:nvPr/>
        </p:nvSpPr>
        <p:spPr>
          <a:xfrm>
            <a:off x="3490920" y="3087720"/>
            <a:ext cx="177840" cy="56988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42"/>
          <p:cNvSpPr/>
          <p:nvPr/>
        </p:nvSpPr>
        <p:spPr>
          <a:xfrm>
            <a:off x="5278320" y="3075120"/>
            <a:ext cx="184320" cy="58896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43"/>
          <p:cNvSpPr/>
          <p:nvPr/>
        </p:nvSpPr>
        <p:spPr>
          <a:xfrm>
            <a:off x="3705120" y="4210200"/>
            <a:ext cx="474840" cy="35064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44"/>
          <p:cNvSpPr/>
          <p:nvPr/>
        </p:nvSpPr>
        <p:spPr>
          <a:xfrm>
            <a:off x="4803840" y="4235400"/>
            <a:ext cx="487440" cy="355680"/>
          </a:xfrm>
          <a:prstGeom prst="pie">
            <a:avLst/>
          </a:prstGeom>
          <a:solidFill>
            <a:srgbClr val="4f81bd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6"/>
          <p:cNvSpPr/>
          <p:nvPr/>
        </p:nvSpPr>
        <p:spPr>
          <a:xfrm>
            <a:off x="7598520" y="28584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方面综合陈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548-2F74-4B49-9708-0F785AFEB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47"/>
          <p:cNvGrpSpPr/>
          <p:nvPr/>
        </p:nvGrpSpPr>
        <p:grpSpPr>
          <a:xfrm>
            <a:off x="1200240" y="1565280"/>
            <a:ext cx="4680000" cy="4145040"/>
            <a:chOff x="1200240" y="1565280"/>
            <a:chExt cx="4680000" cy="4145040"/>
          </a:xfrm>
        </p:grpSpPr>
        <p:grpSp>
          <p:nvGrpSpPr>
            <p:cNvPr id="113" name="组合 22"/>
            <p:cNvGrpSpPr/>
            <p:nvPr/>
          </p:nvGrpSpPr>
          <p:grpSpPr>
            <a:xfrm>
              <a:off x="1200240" y="4930920"/>
              <a:ext cx="4680000" cy="779400"/>
              <a:chOff x="1200240" y="4930920"/>
              <a:chExt cx="4680000" cy="779400"/>
            </a:xfrm>
          </p:grpSpPr>
          <p:sp>
            <p:nvSpPr>
              <p:cNvPr id="114" name="Freeform 3"/>
              <p:cNvSpPr/>
              <p:nvPr/>
            </p:nvSpPr>
            <p:spPr>
              <a:xfrm>
                <a:off x="1200240" y="5089680"/>
                <a:ext cx="2346840" cy="620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"/>
              <p:cNvSpPr/>
              <p:nvPr/>
            </p:nvSpPr>
            <p:spPr>
              <a:xfrm>
                <a:off x="3544200" y="5087880"/>
                <a:ext cx="2336040" cy="602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"/>
              <p:cNvSpPr/>
              <p:nvPr/>
            </p:nvSpPr>
            <p:spPr>
              <a:xfrm>
                <a:off x="1548720" y="4930920"/>
                <a:ext cx="3989520" cy="555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Freeform 11"/>
            <p:cNvSpPr/>
            <p:nvPr/>
          </p:nvSpPr>
          <p:spPr>
            <a:xfrm>
              <a:off x="2973240" y="2464920"/>
              <a:ext cx="1119600" cy="185760"/>
            </a:xfrm>
            <a:prstGeom prst="pie">
              <a:avLst/>
            </a:prstGeom>
            <a:solidFill>
              <a:srgbClr val="54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534040" y="3239640"/>
              <a:ext cx="2010600" cy="29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2027520" y="4124160"/>
              <a:ext cx="3026880" cy="33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>
              <a:off x="1560240" y="1703520"/>
              <a:ext cx="3945600" cy="356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1581840" y="4287240"/>
              <a:ext cx="1956600" cy="1054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3538440" y="4297680"/>
              <a:ext cx="1945440" cy="1044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027520" y="3378240"/>
              <a:ext cx="1510920" cy="981720"/>
            </a:xfrm>
            <a:prstGeom prst="pie">
              <a:avLst/>
            </a:prstGeom>
            <a:solidFill>
              <a:srgbClr val="fca9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3538440" y="3378240"/>
              <a:ext cx="1499760" cy="981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2527560" y="2561040"/>
              <a:ext cx="101088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3538440" y="2561040"/>
              <a:ext cx="999720" cy="878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3538440" y="1565280"/>
              <a:ext cx="55404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2973240" y="1565280"/>
              <a:ext cx="565200" cy="102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"/>
            <p:cNvSpPr/>
            <p:nvPr/>
          </p:nvSpPr>
          <p:spPr>
            <a:xfrm>
              <a:off x="1581840" y="4710960"/>
              <a:ext cx="3902040" cy="6303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"/>
            <p:cNvSpPr/>
            <p:nvPr/>
          </p:nvSpPr>
          <p:spPr>
            <a:xfrm>
              <a:off x="2027520" y="4029480"/>
              <a:ext cx="3010680" cy="330480"/>
            </a:xfrm>
            <a:prstGeom prst="pie">
              <a:avLst/>
            </a:prstGeom>
            <a:solidFill>
              <a:srgbClr val="eb7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527560" y="3139920"/>
              <a:ext cx="2010600" cy="29952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2973240" y="2402280"/>
              <a:ext cx="1119600" cy="185760"/>
            </a:xfrm>
            <a:prstGeom prst="pie">
              <a:avLst/>
            </a:prstGeom>
            <a:solidFill>
              <a:srgbClr val="005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526920" y="1580400"/>
              <a:ext cx="720" cy="3938400"/>
              <a:chOff x="3526920" y="1580400"/>
              <a:chExt cx="720" cy="3938400"/>
            </a:xfrm>
          </p:grpSpPr>
          <p:sp>
            <p:nvSpPr>
              <p:cNvPr id="134" name="Line 52"/>
              <p:cNvSpPr/>
              <p:nvPr/>
            </p:nvSpPr>
            <p:spPr>
              <a:xfrm>
                <a:off x="3526920" y="1580400"/>
                <a:ext cx="720" cy="393840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3526920" y="1580400"/>
                <a:ext cx="720" cy="393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直接连接符 23"/>
          <p:cNvSpPr/>
          <p:nvPr/>
        </p:nvSpPr>
        <p:spPr>
          <a:xfrm flipH="1">
            <a:off x="1486080" y="1582920"/>
            <a:ext cx="1868760" cy="3355560"/>
          </a:xfrm>
          <a:prstGeom prst="line">
            <a:avLst/>
          </a:prstGeom>
          <a:ln w="9360">
            <a:solidFill>
              <a:srgbClr val="8064a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 rot="1740000">
            <a:off x="2248920" y="2508840"/>
            <a:ext cx="399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5"/>
          <p:cNvSpPr/>
          <p:nvPr/>
        </p:nvSpPr>
        <p:spPr>
          <a:xfrm>
            <a:off x="4113360" y="2489040"/>
            <a:ext cx="2340000" cy="1800"/>
          </a:xfrm>
          <a:prstGeom prst="line">
            <a:avLst/>
          </a:prstGeom>
          <a:ln w="19080">
            <a:solidFill>
              <a:srgbClr val="595959">
                <a:alpha val="80000"/>
              </a:srgbClr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32"/>
          <p:cNvGrpSpPr/>
          <p:nvPr/>
        </p:nvGrpSpPr>
        <p:grpSpPr>
          <a:xfrm>
            <a:off x="3917880" y="1998720"/>
            <a:ext cx="2584440" cy="459000"/>
            <a:chOff x="3917880" y="1998720"/>
            <a:chExt cx="2584440" cy="459000"/>
          </a:xfrm>
        </p:grpSpPr>
        <p:sp>
          <p:nvSpPr>
            <p:cNvPr id="140" name="TextBox 146"/>
            <p:cNvSpPr/>
            <p:nvPr/>
          </p:nvSpPr>
          <p:spPr>
            <a:xfrm>
              <a:off x="39178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5021280" y="199872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直接连接符 29"/>
          <p:cNvSpPr/>
          <p:nvPr/>
        </p:nvSpPr>
        <p:spPr>
          <a:xfrm>
            <a:off x="4532400" y="3260880"/>
            <a:ext cx="2340000" cy="0"/>
          </a:xfrm>
          <a:prstGeom prst="line">
            <a:avLst/>
          </a:prstGeom>
          <a:ln w="19080">
            <a:solidFill>
              <a:srgbClr val="595959">
                <a:alpha val="80000"/>
              </a:srgbClr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6"/>
          <p:cNvGrpSpPr/>
          <p:nvPr/>
        </p:nvGrpSpPr>
        <p:grpSpPr>
          <a:xfrm>
            <a:off x="4336920" y="2768760"/>
            <a:ext cx="2584440" cy="459000"/>
            <a:chOff x="4336920" y="2768760"/>
            <a:chExt cx="2584440" cy="459000"/>
          </a:xfrm>
        </p:grpSpPr>
        <p:sp>
          <p:nvSpPr>
            <p:cNvPr id="144" name="TextBox 146"/>
            <p:cNvSpPr/>
            <p:nvPr/>
          </p:nvSpPr>
          <p:spPr>
            <a:xfrm>
              <a:off x="43369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6"/>
            <p:cNvSpPr/>
            <p:nvPr/>
          </p:nvSpPr>
          <p:spPr>
            <a:xfrm>
              <a:off x="5440320" y="2768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直接连接符 33"/>
          <p:cNvSpPr/>
          <p:nvPr/>
        </p:nvSpPr>
        <p:spPr>
          <a:xfrm>
            <a:off x="5027760" y="4187880"/>
            <a:ext cx="2340000" cy="0"/>
          </a:xfrm>
          <a:prstGeom prst="line">
            <a:avLst/>
          </a:prstGeom>
          <a:ln w="19080">
            <a:solidFill>
              <a:srgbClr val="595959">
                <a:alpha val="80000"/>
              </a:srgbClr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40"/>
          <p:cNvGrpSpPr/>
          <p:nvPr/>
        </p:nvGrpSpPr>
        <p:grpSpPr>
          <a:xfrm>
            <a:off x="4832280" y="3695760"/>
            <a:ext cx="2584440" cy="459000"/>
            <a:chOff x="4832280" y="3695760"/>
            <a:chExt cx="2584440" cy="459000"/>
          </a:xfrm>
        </p:grpSpPr>
        <p:sp>
          <p:nvSpPr>
            <p:cNvPr id="148" name="TextBox 146"/>
            <p:cNvSpPr/>
            <p:nvPr/>
          </p:nvSpPr>
          <p:spPr>
            <a:xfrm>
              <a:off x="48322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46"/>
            <p:cNvSpPr/>
            <p:nvPr/>
          </p:nvSpPr>
          <p:spPr>
            <a:xfrm>
              <a:off x="5935680" y="369576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直接连接符 37"/>
          <p:cNvSpPr/>
          <p:nvPr/>
        </p:nvSpPr>
        <p:spPr>
          <a:xfrm>
            <a:off x="5456160" y="4997520"/>
            <a:ext cx="2340000" cy="0"/>
          </a:xfrm>
          <a:prstGeom prst="line">
            <a:avLst/>
          </a:prstGeom>
          <a:ln w="19080">
            <a:solidFill>
              <a:srgbClr val="595959">
                <a:alpha val="80000"/>
              </a:srgbClr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5261040" y="4505400"/>
            <a:ext cx="2584440" cy="459000"/>
            <a:chOff x="5261040" y="4505400"/>
            <a:chExt cx="2584440" cy="459000"/>
          </a:xfrm>
        </p:grpSpPr>
        <p:sp>
          <p:nvSpPr>
            <p:cNvPr id="152" name="TextBox 146"/>
            <p:cNvSpPr/>
            <p:nvPr/>
          </p:nvSpPr>
          <p:spPr>
            <a:xfrm>
              <a:off x="52610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146"/>
            <p:cNvSpPr/>
            <p:nvPr/>
          </p:nvSpPr>
          <p:spPr>
            <a:xfrm>
              <a:off x="6364440" y="4505400"/>
              <a:ext cx="148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1"/>
          <p:cNvSpPr/>
          <p:nvPr/>
        </p:nvSpPr>
        <p:spPr>
          <a:xfrm>
            <a:off x="5429160" y="21420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级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CDA5-1AB6-443E-95CE-67D7582F3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2"/>
          <p:cNvSpPr/>
          <p:nvPr/>
        </p:nvSpPr>
        <p:spPr>
          <a:xfrm>
            <a:off x="2797200" y="1363680"/>
            <a:ext cx="4267080" cy="43704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"/>
              <a:tabLst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橢圓 18"/>
          <p:cNvSpPr/>
          <p:nvPr/>
        </p:nvSpPr>
        <p:spPr>
          <a:xfrm>
            <a:off x="4254480" y="1219320"/>
            <a:ext cx="1371600" cy="1293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橢圓 22"/>
          <p:cNvSpPr/>
          <p:nvPr/>
        </p:nvSpPr>
        <p:spPr>
          <a:xfrm>
            <a:off x="4254480" y="4535640"/>
            <a:ext cx="1371600" cy="1293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橢圓 24"/>
          <p:cNvSpPr/>
          <p:nvPr/>
        </p:nvSpPr>
        <p:spPr>
          <a:xfrm>
            <a:off x="2670120" y="2084400"/>
            <a:ext cx="1371600" cy="129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橢圓 25"/>
          <p:cNvSpPr/>
          <p:nvPr/>
        </p:nvSpPr>
        <p:spPr>
          <a:xfrm>
            <a:off x="2670120" y="3668760"/>
            <a:ext cx="1371600" cy="129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橢圓 26"/>
          <p:cNvSpPr/>
          <p:nvPr/>
        </p:nvSpPr>
        <p:spPr>
          <a:xfrm>
            <a:off x="5838840" y="3668760"/>
            <a:ext cx="1371600" cy="129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橢圓 27"/>
          <p:cNvSpPr/>
          <p:nvPr/>
        </p:nvSpPr>
        <p:spPr>
          <a:xfrm>
            <a:off x="5838840" y="2087640"/>
            <a:ext cx="1371600" cy="129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8" descr="iMovie.png"/>
          <p:cNvPicPr/>
          <p:nvPr/>
        </p:nvPicPr>
        <p:blipFill>
          <a:blip r:embed="rId1"/>
          <a:stretch/>
        </p:blipFill>
        <p:spPr>
          <a:xfrm>
            <a:off x="4210200" y="247032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A6B-8C12-475E-945E-8F9DBF968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E38-AFFF-4443-83CB-C42C83BB7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3:45:00Z</dcterms:created>
  <dc:creator>Administrator</dc:creator>
  <dc:description/>
  <dc:language>en-US</dc:language>
  <cp:lastModifiedBy>雨林木风</cp:lastModifiedBy>
  <dcterms:modified xsi:type="dcterms:W3CDTF">2015-06-13T05:47:23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