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081-87D6-4389-A0AF-DCF48B74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A74-B003-4EEB-BF7C-59864F9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825-BC86-4561-867C-AB62D084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5B9-9708-467E-B492-61CB12CD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0DF-6FDD-4762-8ED1-EBA2ECD1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1F8-7F73-4D36-9CF2-873518A0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5EF-CB19-4813-BDBB-1B4327F9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7B2-661B-4998-A7DD-F2D6B7B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CBD8-6554-45B5-B4DF-717B179D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CEF0-15F7-4D35-9CD1-0598481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B3D-08C3-407E-980C-40AF27E4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974-EE89-4DA3-8388-258988B0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FFDA-CBBD-4F5A-A81D-B7B4ADC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1107-CA51-4BF2-8383-CDAEB22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D6E8-7DAB-4FBF-9BB1-15FA33B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9677-C2BA-4378-A180-5BD6F2B6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575-D123-47CA-9B19-39C1237A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7FA-BB09-44BA-9301-DA65249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7A1-366A-4FC6-8D7B-C857380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104-B642-4451-A43B-70B8EE9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A7C-E263-4F45-B1E8-C8846C9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217-F5E9-469F-A185-1C70F6D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366-BA2F-4AE9-889D-750934C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0A4-6C9F-4BA6-86D5-9BC52B5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690-00F5-458A-9768-A47A2588BF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EF45-006C-474A-9EDF-3DF70934AC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F187-BF84-4B93-9883-A5F1B19A7C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67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3279600" y="5186520"/>
            <a:ext cx="5153040" cy="14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466560" y="5445000"/>
            <a:ext cx="41738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276720" y="2060640"/>
            <a:ext cx="5143320" cy="3125880"/>
          </a:xfrm>
          <a:prstGeom prst="roundRect">
            <a:avLst>
              <a:gd name="adj" fmla="val 0"/>
            </a:avLst>
          </a:prstGeom>
          <a:solidFill>
            <a:srgbClr val="fbd4b4">
              <a:alpha val="12000"/>
            </a:srgbClr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 flipH="1">
            <a:off x="714240" y="2771640"/>
            <a:ext cx="1859040" cy="184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flipH="1">
            <a:off x="970920" y="1844640"/>
            <a:ext cx="1601640" cy="185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flipH="1">
            <a:off x="970920" y="3700440"/>
            <a:ext cx="3214440" cy="184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 flipH="1">
            <a:off x="2575080" y="1844640"/>
            <a:ext cx="1869840" cy="277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未知"/>
          <p:cNvSpPr/>
          <p:nvPr/>
        </p:nvSpPr>
        <p:spPr>
          <a:xfrm flipH="1" flipV="1">
            <a:off x="1266480" y="2421000"/>
            <a:ext cx="1319040" cy="264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 flipH="1" flipV="1">
            <a:off x="2574360" y="2420280"/>
            <a:ext cx="1145880" cy="131436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未知"/>
          <p:cNvSpPr/>
          <p:nvPr/>
        </p:nvSpPr>
        <p:spPr>
          <a:xfrm flipH="1" flipV="1">
            <a:off x="2574360" y="3741120"/>
            <a:ext cx="1145880" cy="132084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未知"/>
          <p:cNvSpPr/>
          <p:nvPr/>
        </p:nvSpPr>
        <p:spPr>
          <a:xfrm flipH="1" flipV="1">
            <a:off x="2587680" y="2698200"/>
            <a:ext cx="2101680" cy="20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1263600" y="34732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3254400" y="3559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0"/>
          <p:cNvSpPr/>
          <p:nvPr/>
        </p:nvSpPr>
        <p:spPr>
          <a:xfrm rot="19732200">
            <a:off x="1285560" y="234468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1"/>
          <p:cNvSpPr/>
          <p:nvPr/>
        </p:nvSpPr>
        <p:spPr>
          <a:xfrm rot="2038800">
            <a:off x="2797200" y="235404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2"/>
          <p:cNvSpPr/>
          <p:nvPr/>
        </p:nvSpPr>
        <p:spPr>
          <a:xfrm rot="16200000">
            <a:off x="549360" y="359424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3"/>
          <p:cNvSpPr/>
          <p:nvPr/>
        </p:nvSpPr>
        <p:spPr>
          <a:xfrm>
            <a:off x="2013120" y="510696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4840200" y="2570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4840200" y="2867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861080" y="324792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4861080" y="354492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861080" y="39672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4861080" y="42642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1"/>
          <p:cNvSpPr/>
          <p:nvPr/>
        </p:nvSpPr>
        <p:spPr>
          <a:xfrm>
            <a:off x="2627280" y="7821720"/>
            <a:ext cx="468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炫彩立体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ruidepp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9040" y="6394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56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42960" y="1285920"/>
            <a:ext cx="1520640" cy="2951280"/>
            <a:chOff x="642960" y="1285920"/>
            <a:chExt cx="1520640" cy="2951280"/>
          </a:xfrm>
        </p:grpSpPr>
        <p:sp>
          <p:nvSpPr>
            <p:cNvPr id="111" name="圆角矩形 258"/>
            <p:cNvSpPr/>
            <p:nvPr/>
          </p:nvSpPr>
          <p:spPr>
            <a:xfrm rot="5400000">
              <a:off x="-7236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9"/>
            <p:cNvSpPr/>
            <p:nvPr/>
          </p:nvSpPr>
          <p:spPr>
            <a:xfrm>
              <a:off x="79524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9"/>
            <p:cNvSpPr/>
            <p:nvPr/>
          </p:nvSpPr>
          <p:spPr>
            <a:xfrm>
              <a:off x="76860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261"/>
            <p:cNvSpPr/>
            <p:nvPr/>
          </p:nvSpPr>
          <p:spPr>
            <a:xfrm>
              <a:off x="11091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9"/>
            <p:cNvSpPr/>
            <p:nvPr/>
          </p:nvSpPr>
          <p:spPr>
            <a:xfrm>
              <a:off x="74268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819520" y="1285920"/>
            <a:ext cx="1520640" cy="2951280"/>
            <a:chOff x="2819520" y="1285920"/>
            <a:chExt cx="1520640" cy="2951280"/>
          </a:xfrm>
        </p:grpSpPr>
        <p:sp>
          <p:nvSpPr>
            <p:cNvPr id="117" name="圆角矩形 264"/>
            <p:cNvSpPr/>
            <p:nvPr/>
          </p:nvSpPr>
          <p:spPr>
            <a:xfrm rot="5400000">
              <a:off x="210384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265"/>
            <p:cNvSpPr/>
            <p:nvPr/>
          </p:nvSpPr>
          <p:spPr>
            <a:xfrm>
              <a:off x="297180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9"/>
            <p:cNvSpPr/>
            <p:nvPr/>
          </p:nvSpPr>
          <p:spPr>
            <a:xfrm>
              <a:off x="294516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67"/>
            <p:cNvSpPr/>
            <p:nvPr/>
          </p:nvSpPr>
          <p:spPr>
            <a:xfrm>
              <a:off x="328572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9"/>
            <p:cNvSpPr/>
            <p:nvPr/>
          </p:nvSpPr>
          <p:spPr>
            <a:xfrm>
              <a:off x="291924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14720" y="2521080"/>
            <a:ext cx="522000" cy="285480"/>
            <a:chOff x="2214720" y="2521080"/>
            <a:chExt cx="522000" cy="285480"/>
          </a:xfrm>
        </p:grpSpPr>
        <p:sp>
          <p:nvSpPr>
            <p:cNvPr id="123" name="燕尾形 270"/>
            <p:cNvSpPr/>
            <p:nvPr/>
          </p:nvSpPr>
          <p:spPr>
            <a:xfrm>
              <a:off x="2214720" y="252108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燕尾形 271"/>
            <p:cNvSpPr/>
            <p:nvPr/>
          </p:nvSpPr>
          <p:spPr>
            <a:xfrm>
              <a:off x="2451600" y="252108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000760" y="1285920"/>
            <a:ext cx="1520640" cy="2951280"/>
            <a:chOff x="5000760" y="1285920"/>
            <a:chExt cx="1520640" cy="2951280"/>
          </a:xfrm>
        </p:grpSpPr>
        <p:sp>
          <p:nvSpPr>
            <p:cNvPr id="126" name="圆角矩形 273"/>
            <p:cNvSpPr/>
            <p:nvPr/>
          </p:nvSpPr>
          <p:spPr>
            <a:xfrm rot="5400000">
              <a:off x="428544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274"/>
            <p:cNvSpPr/>
            <p:nvPr/>
          </p:nvSpPr>
          <p:spPr>
            <a:xfrm>
              <a:off x="515304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9"/>
            <p:cNvSpPr/>
            <p:nvPr/>
          </p:nvSpPr>
          <p:spPr>
            <a:xfrm>
              <a:off x="512640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76"/>
            <p:cNvSpPr/>
            <p:nvPr/>
          </p:nvSpPr>
          <p:spPr>
            <a:xfrm>
              <a:off x="54669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9"/>
            <p:cNvSpPr/>
            <p:nvPr/>
          </p:nvSpPr>
          <p:spPr>
            <a:xfrm>
              <a:off x="510048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2600" y="1285920"/>
            <a:ext cx="1521000" cy="2951280"/>
            <a:chOff x="7122600" y="1285920"/>
            <a:chExt cx="1521000" cy="2951280"/>
          </a:xfrm>
        </p:grpSpPr>
        <p:sp>
          <p:nvSpPr>
            <p:cNvPr id="132" name="圆角矩形 279"/>
            <p:cNvSpPr/>
            <p:nvPr/>
          </p:nvSpPr>
          <p:spPr>
            <a:xfrm rot="5400000">
              <a:off x="6407280" y="2000880"/>
              <a:ext cx="295128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80"/>
            <p:cNvSpPr/>
            <p:nvPr/>
          </p:nvSpPr>
          <p:spPr>
            <a:xfrm>
              <a:off x="727560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9"/>
            <p:cNvSpPr/>
            <p:nvPr/>
          </p:nvSpPr>
          <p:spPr>
            <a:xfrm>
              <a:off x="7248600" y="143712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82"/>
            <p:cNvSpPr/>
            <p:nvPr/>
          </p:nvSpPr>
          <p:spPr>
            <a:xfrm>
              <a:off x="75891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9"/>
            <p:cNvSpPr/>
            <p:nvPr/>
          </p:nvSpPr>
          <p:spPr>
            <a:xfrm>
              <a:off x="7222680" y="286632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572160" y="2521080"/>
            <a:ext cx="522360" cy="285480"/>
            <a:chOff x="6572160" y="2521080"/>
            <a:chExt cx="522360" cy="285480"/>
          </a:xfrm>
        </p:grpSpPr>
        <p:sp>
          <p:nvSpPr>
            <p:cNvPr id="138" name="燕尾形 285"/>
            <p:cNvSpPr/>
            <p:nvPr/>
          </p:nvSpPr>
          <p:spPr>
            <a:xfrm>
              <a:off x="657216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286"/>
            <p:cNvSpPr/>
            <p:nvPr/>
          </p:nvSpPr>
          <p:spPr>
            <a:xfrm>
              <a:off x="680904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429080" y="2521080"/>
            <a:ext cx="522360" cy="285480"/>
            <a:chOff x="4429080" y="2521080"/>
            <a:chExt cx="522360" cy="285480"/>
          </a:xfrm>
        </p:grpSpPr>
        <p:sp>
          <p:nvSpPr>
            <p:cNvPr id="141" name="燕尾形 288"/>
            <p:cNvSpPr/>
            <p:nvPr/>
          </p:nvSpPr>
          <p:spPr>
            <a:xfrm>
              <a:off x="442908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燕尾形 289"/>
            <p:cNvSpPr/>
            <p:nvPr/>
          </p:nvSpPr>
          <p:spPr>
            <a:xfrm>
              <a:off x="466596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右箭头 290"/>
          <p:cNvSpPr/>
          <p:nvPr/>
        </p:nvSpPr>
        <p:spPr>
          <a:xfrm>
            <a:off x="892080" y="4705200"/>
            <a:ext cx="690480" cy="671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9"/>
          <p:cNvSpPr/>
          <p:nvPr/>
        </p:nvSpPr>
        <p:spPr>
          <a:xfrm>
            <a:off x="1714680" y="497664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1714680" y="464328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776160" y="48387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右箭头 294"/>
          <p:cNvSpPr/>
          <p:nvPr/>
        </p:nvSpPr>
        <p:spPr>
          <a:xfrm>
            <a:off x="892080" y="5472000"/>
            <a:ext cx="690480" cy="671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9"/>
          <p:cNvSpPr/>
          <p:nvPr/>
        </p:nvSpPr>
        <p:spPr>
          <a:xfrm>
            <a:off x="1714680" y="574344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9"/>
          <p:cNvSpPr/>
          <p:nvPr/>
        </p:nvSpPr>
        <p:spPr>
          <a:xfrm>
            <a:off x="1714680" y="541008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776160" y="56055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8"/>
          <p:cNvSpPr/>
          <p:nvPr/>
        </p:nvSpPr>
        <p:spPr>
          <a:xfrm>
            <a:off x="2627280" y="7821720"/>
            <a:ext cx="468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炫彩立体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ruidepp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7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93080" y="2421000"/>
            <a:ext cx="1110960" cy="1430280"/>
            <a:chOff x="7093080" y="2421000"/>
            <a:chExt cx="1110960" cy="1430280"/>
          </a:xfrm>
        </p:grpSpPr>
        <p:grpSp>
          <p:nvGrpSpPr>
            <p:cNvPr id="154" name=""/>
            <p:cNvGrpSpPr/>
            <p:nvPr/>
          </p:nvGrpSpPr>
          <p:grpSpPr>
            <a:xfrm>
              <a:off x="7093080" y="2421000"/>
              <a:ext cx="1110960" cy="1430280"/>
              <a:chOff x="7093080" y="2421000"/>
              <a:chExt cx="1110960" cy="14302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093080" y="2421000"/>
                <a:ext cx="1110960" cy="1156320"/>
                <a:chOff x="7093080" y="2421000"/>
                <a:chExt cx="1110960" cy="1156320"/>
              </a:xfrm>
            </p:grpSpPr>
            <p:sp>
              <p:nvSpPr>
                <p:cNvPr id="156" name="Oval 25"/>
                <p:cNvSpPr/>
                <p:nvPr/>
              </p:nvSpPr>
              <p:spPr>
                <a:xfrm>
                  <a:off x="7093080" y="2421000"/>
                  <a:ext cx="1110960" cy="115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7" name="Picture 2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33400" y="2462400"/>
                  <a:ext cx="1037160" cy="10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Oval 27"/>
                <p:cNvSpPr/>
                <p:nvPr/>
              </p:nvSpPr>
              <p:spPr>
                <a:xfrm>
                  <a:off x="7133400" y="2462400"/>
                  <a:ext cx="1029960" cy="1067040"/>
                </a:xfrm>
                <a:prstGeom prst="ellipse">
                  <a:avLst/>
                </a:prstGeom>
                <a:solidFill>
                  <a:srgbClr val="0070c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7197120" y="3207600"/>
                  <a:ext cx="920160" cy="363600"/>
                  <a:chOff x="7197120" y="3207600"/>
                  <a:chExt cx="920160" cy="3636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7362360" y="3212640"/>
                    <a:ext cx="754920" cy="348480"/>
                    <a:chOff x="7362360" y="3212640"/>
                    <a:chExt cx="754920" cy="348480"/>
                  </a:xfrm>
                </p:grpSpPr>
                <p:sp>
                  <p:nvSpPr>
                    <p:cNvPr id="161" name="AutoShape 31"/>
                    <p:cNvSpPr/>
                    <p:nvPr/>
                  </p:nvSpPr>
                  <p:spPr>
                    <a:xfrm flipH="1" flipV="1" rot="3964800">
                      <a:off x="7769880" y="311328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AutoShape 32"/>
                    <p:cNvSpPr/>
                    <p:nvPr/>
                  </p:nvSpPr>
                  <p:spPr>
                    <a:xfrm flipH="1" flipV="1" rot="4780200">
                      <a:off x="7685280" y="314748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AutoShape 33"/>
                    <p:cNvSpPr/>
                    <p:nvPr/>
                  </p:nvSpPr>
                  <p:spPr>
                    <a:xfrm flipH="1" flipV="1" rot="5076000">
                      <a:off x="7633080" y="315324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AutoShape 34"/>
                    <p:cNvSpPr/>
                    <p:nvPr/>
                  </p:nvSpPr>
                  <p:spPr>
                    <a:xfrm flipH="1" flipV="1" rot="5608200">
                      <a:off x="7569720" y="315792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197120" y="3207600"/>
                    <a:ext cx="782640" cy="363600"/>
                    <a:chOff x="7197120" y="3207600"/>
                    <a:chExt cx="782640" cy="363600"/>
                  </a:xfrm>
                </p:grpSpPr>
                <p:sp>
                  <p:nvSpPr>
                    <p:cNvPr id="166" name="AutoShape 36"/>
                    <p:cNvSpPr/>
                    <p:nvPr/>
                  </p:nvSpPr>
                  <p:spPr>
                    <a:xfrm flipH="1" flipV="1" rot="5317800">
                      <a:off x="7636320" y="3156480"/>
                      <a:ext cx="13896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AutoShape 37"/>
                    <p:cNvSpPr/>
                    <p:nvPr/>
                  </p:nvSpPr>
                  <p:spPr>
                    <a:xfrm flipH="1" flipV="1" rot="6133800">
                      <a:off x="7513560" y="3151440"/>
                      <a:ext cx="13968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AutoShape 38"/>
                    <p:cNvSpPr/>
                    <p:nvPr/>
                  </p:nvSpPr>
                  <p:spPr>
                    <a:xfrm flipH="1" flipV="1" rot="6429000">
                      <a:off x="7464600" y="3140280"/>
                      <a:ext cx="13896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AutoShape 39"/>
                    <p:cNvSpPr/>
                    <p:nvPr/>
                  </p:nvSpPr>
                  <p:spPr>
                    <a:xfrm flipH="1" flipV="1" rot="6961200">
                      <a:off x="7401600" y="3117240"/>
                      <a:ext cx="13968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0" name="空心弧 63"/>
              <p:cNvSpPr/>
              <p:nvPr/>
            </p:nvSpPr>
            <p:spPr>
              <a:xfrm>
                <a:off x="7109640" y="2500200"/>
                <a:ext cx="1072080" cy="13510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椭圆 60"/>
            <p:cNvSpPr/>
            <p:nvPr/>
          </p:nvSpPr>
          <p:spPr>
            <a:xfrm>
              <a:off x="7388640" y="2710440"/>
              <a:ext cx="524520" cy="524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61"/>
            <p:cNvSpPr/>
            <p:nvPr/>
          </p:nvSpPr>
          <p:spPr>
            <a:xfrm>
              <a:off x="7242840" y="2628360"/>
              <a:ext cx="840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96000" y="2565360"/>
            <a:ext cx="1346040" cy="1730520"/>
            <a:chOff x="5796000" y="2565360"/>
            <a:chExt cx="1346040" cy="1730520"/>
          </a:xfrm>
        </p:grpSpPr>
        <p:grpSp>
          <p:nvGrpSpPr>
            <p:cNvPr id="174" name=""/>
            <p:cNvGrpSpPr/>
            <p:nvPr/>
          </p:nvGrpSpPr>
          <p:grpSpPr>
            <a:xfrm>
              <a:off x="5796000" y="2565360"/>
              <a:ext cx="1346040" cy="1730520"/>
              <a:chOff x="5796000" y="2565360"/>
              <a:chExt cx="1346040" cy="17305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5796000" y="2565360"/>
                <a:ext cx="1346040" cy="1398960"/>
                <a:chOff x="5796000" y="2565360"/>
                <a:chExt cx="1346040" cy="1398960"/>
              </a:xfrm>
            </p:grpSpPr>
            <p:sp>
              <p:nvSpPr>
                <p:cNvPr id="176" name="Oval 25"/>
                <p:cNvSpPr/>
                <p:nvPr/>
              </p:nvSpPr>
              <p:spPr>
                <a:xfrm>
                  <a:off x="5796000" y="2565360"/>
                  <a:ext cx="1346040" cy="139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7" name="Picture 2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44960" y="2615400"/>
                  <a:ext cx="1256760" cy="12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Oval 27"/>
                <p:cNvSpPr/>
                <p:nvPr/>
              </p:nvSpPr>
              <p:spPr>
                <a:xfrm>
                  <a:off x="5844960" y="2615400"/>
                  <a:ext cx="1248120" cy="1290960"/>
                </a:xfrm>
                <a:prstGeom prst="ellipse">
                  <a:avLst/>
                </a:prstGeom>
                <a:solidFill>
                  <a:srgbClr val="ffc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20920" y="3516120"/>
                  <a:ext cx="1116000" cy="441000"/>
                  <a:chOff x="5920920" y="3516120"/>
                  <a:chExt cx="1116000" cy="44100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121800" y="3523320"/>
                    <a:ext cx="915120" cy="421200"/>
                    <a:chOff x="6121800" y="3523320"/>
                    <a:chExt cx="915120" cy="421200"/>
                  </a:xfrm>
                </p:grpSpPr>
                <p:sp>
                  <p:nvSpPr>
                    <p:cNvPr id="181" name="AutoShape 31"/>
                    <p:cNvSpPr/>
                    <p:nvPr/>
                  </p:nvSpPr>
                  <p:spPr>
                    <a:xfrm flipH="1" flipV="1" rot="3964800">
                      <a:off x="6616440" y="340236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32"/>
                    <p:cNvSpPr/>
                    <p:nvPr/>
                  </p:nvSpPr>
                  <p:spPr>
                    <a:xfrm flipH="1" flipV="1" rot="4780200">
                      <a:off x="6513480" y="3442680"/>
                      <a:ext cx="16668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AutoShape 33"/>
                    <p:cNvSpPr/>
                    <p:nvPr/>
                  </p:nvSpPr>
                  <p:spPr>
                    <a:xfrm flipH="1" flipV="1" rot="5076000">
                      <a:off x="6450840" y="345132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AutoShape 34"/>
                    <p:cNvSpPr/>
                    <p:nvPr/>
                  </p:nvSpPr>
                  <p:spPr>
                    <a:xfrm flipH="1" flipV="1" rot="5608200">
                      <a:off x="6373440" y="345600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5920920" y="3516120"/>
                    <a:ext cx="948600" cy="441000"/>
                    <a:chOff x="5920920" y="3516120"/>
                    <a:chExt cx="948600" cy="441000"/>
                  </a:xfrm>
                </p:grpSpPr>
                <p:sp>
                  <p:nvSpPr>
                    <p:cNvPr id="186" name="AutoShape 36"/>
                    <p:cNvSpPr/>
                    <p:nvPr/>
                  </p:nvSpPr>
                  <p:spPr>
                    <a:xfrm flipH="1" flipV="1" rot="5317800">
                      <a:off x="6454080" y="3454200"/>
                      <a:ext cx="16812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37"/>
                    <p:cNvSpPr/>
                    <p:nvPr/>
                  </p:nvSpPr>
                  <p:spPr>
                    <a:xfrm flipH="1" flipV="1" rot="6133800">
                      <a:off x="6304680" y="3447720"/>
                      <a:ext cx="16884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38"/>
                    <p:cNvSpPr/>
                    <p:nvPr/>
                  </p:nvSpPr>
                  <p:spPr>
                    <a:xfrm flipH="1" flipV="1" rot="6429000">
                      <a:off x="6245640" y="3434760"/>
                      <a:ext cx="168120" cy="65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AutoShape 39"/>
                    <p:cNvSpPr/>
                    <p:nvPr/>
                  </p:nvSpPr>
                  <p:spPr>
                    <a:xfrm flipH="1" flipV="1" rot="6961200">
                      <a:off x="6168960" y="3406680"/>
                      <a:ext cx="16920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90" name="空心弧 83"/>
              <p:cNvSpPr/>
              <p:nvPr/>
            </p:nvSpPr>
            <p:spPr>
              <a:xfrm>
                <a:off x="5816160" y="2661120"/>
                <a:ext cx="1298880" cy="1634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椭圆 80"/>
            <p:cNvSpPr/>
            <p:nvPr/>
          </p:nvSpPr>
          <p:spPr>
            <a:xfrm>
              <a:off x="6154200" y="2915640"/>
              <a:ext cx="635400" cy="63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d6a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81"/>
            <p:cNvSpPr/>
            <p:nvPr/>
          </p:nvSpPr>
          <p:spPr>
            <a:xfrm>
              <a:off x="5982480" y="2858040"/>
              <a:ext cx="101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316400" y="2708280"/>
            <a:ext cx="1592280" cy="2046240"/>
            <a:chOff x="4316400" y="2708280"/>
            <a:chExt cx="1592280" cy="2046240"/>
          </a:xfrm>
        </p:grpSpPr>
        <p:grpSp>
          <p:nvGrpSpPr>
            <p:cNvPr id="194" name=""/>
            <p:cNvGrpSpPr/>
            <p:nvPr/>
          </p:nvGrpSpPr>
          <p:grpSpPr>
            <a:xfrm>
              <a:off x="4316400" y="2708280"/>
              <a:ext cx="1592280" cy="2046240"/>
              <a:chOff x="4316400" y="2708280"/>
              <a:chExt cx="1592280" cy="204624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4316400" y="2708280"/>
                <a:ext cx="1592280" cy="1654200"/>
                <a:chOff x="4316400" y="2708280"/>
                <a:chExt cx="1592280" cy="1654200"/>
              </a:xfrm>
            </p:grpSpPr>
            <p:sp>
              <p:nvSpPr>
                <p:cNvPr id="196" name="Oval 25"/>
                <p:cNvSpPr/>
                <p:nvPr/>
              </p:nvSpPr>
              <p:spPr>
                <a:xfrm>
                  <a:off x="4316400" y="2708280"/>
                  <a:ext cx="1592280" cy="165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97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74000" y="2767680"/>
                  <a:ext cx="148644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Oval 27"/>
                <p:cNvSpPr/>
                <p:nvPr/>
              </p:nvSpPr>
              <p:spPr>
                <a:xfrm>
                  <a:off x="4374000" y="2767680"/>
                  <a:ext cx="1476360" cy="1526400"/>
                </a:xfrm>
                <a:prstGeom prst="ellipse">
                  <a:avLst/>
                </a:prstGeom>
                <a:solidFill>
                  <a:srgbClr val="7030a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4464360" y="3833280"/>
                  <a:ext cx="1320120" cy="520920"/>
                  <a:chOff x="4464360" y="3833280"/>
                  <a:chExt cx="1320120" cy="52092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4702680" y="3841200"/>
                    <a:ext cx="1081800" cy="497880"/>
                    <a:chOff x="4702680" y="3841200"/>
                    <a:chExt cx="1081800" cy="497880"/>
                  </a:xfrm>
                </p:grpSpPr>
                <p:sp>
                  <p:nvSpPr>
                    <p:cNvPr id="201" name="AutoShape 31"/>
                    <p:cNvSpPr/>
                    <p:nvPr/>
                  </p:nvSpPr>
                  <p:spPr>
                    <a:xfrm flipH="1" flipV="1" rot="3964800">
                      <a:off x="5287320" y="3697920"/>
                      <a:ext cx="197280" cy="78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AutoShape 32"/>
                    <p:cNvSpPr/>
                    <p:nvPr/>
                  </p:nvSpPr>
                  <p:spPr>
                    <a:xfrm flipH="1" flipV="1" rot="4780200">
                      <a:off x="5166000" y="3746880"/>
                      <a:ext cx="197280" cy="78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AutoShape 33"/>
                    <p:cNvSpPr/>
                    <p:nvPr/>
                  </p:nvSpPr>
                  <p:spPr>
                    <a:xfrm flipH="1" flipV="1" rot="5076000">
                      <a:off x="5091480" y="3755160"/>
                      <a:ext cx="197280" cy="78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34"/>
                    <p:cNvSpPr/>
                    <p:nvPr/>
                  </p:nvSpPr>
                  <p:spPr>
                    <a:xfrm flipH="1" flipV="1" rot="5608200">
                      <a:off x="5000400" y="376200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464360" y="3833280"/>
                    <a:ext cx="1122480" cy="520920"/>
                    <a:chOff x="4464360" y="3833280"/>
                    <a:chExt cx="1122480" cy="520920"/>
                  </a:xfrm>
                </p:grpSpPr>
                <p:sp>
                  <p:nvSpPr>
                    <p:cNvPr id="206" name="AutoShape 36"/>
                    <p:cNvSpPr/>
                    <p:nvPr/>
                  </p:nvSpPr>
                  <p:spPr>
                    <a:xfrm flipH="1" flipV="1" rot="5317800">
                      <a:off x="5094720" y="3759840"/>
                      <a:ext cx="199080" cy="77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AutoShape 37"/>
                    <p:cNvSpPr/>
                    <p:nvPr/>
                  </p:nvSpPr>
                  <p:spPr>
                    <a:xfrm flipH="1" flipV="1" rot="6133800">
                      <a:off x="4918320" y="3753000"/>
                      <a:ext cx="199800" cy="77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AutoShape 38"/>
                    <p:cNvSpPr/>
                    <p:nvPr/>
                  </p:nvSpPr>
                  <p:spPr>
                    <a:xfrm flipH="1" flipV="1" rot="6429000">
                      <a:off x="4849200" y="3736800"/>
                      <a:ext cx="199080" cy="77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AutoShape 39"/>
                    <p:cNvSpPr/>
                    <p:nvPr/>
                  </p:nvSpPr>
                  <p:spPr>
                    <a:xfrm flipH="1" flipV="1" rot="6961200">
                      <a:off x="4758480" y="3703320"/>
                      <a:ext cx="199800" cy="77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0" name="空心弧 103"/>
              <p:cNvSpPr/>
              <p:nvPr/>
            </p:nvSpPr>
            <p:spPr>
              <a:xfrm>
                <a:off x="4340520" y="2821680"/>
                <a:ext cx="1536480" cy="193284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椭圆 100"/>
            <p:cNvSpPr/>
            <p:nvPr/>
          </p:nvSpPr>
          <p:spPr>
            <a:xfrm>
              <a:off x="4740120" y="3122640"/>
              <a:ext cx="751680" cy="750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01"/>
            <p:cNvSpPr/>
            <p:nvPr/>
          </p:nvSpPr>
          <p:spPr>
            <a:xfrm>
              <a:off x="4527000" y="3041280"/>
              <a:ext cx="120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32240" y="2781360"/>
            <a:ext cx="1999800" cy="2571840"/>
            <a:chOff x="2532240" y="2781360"/>
            <a:chExt cx="1999800" cy="2571840"/>
          </a:xfrm>
        </p:grpSpPr>
        <p:grpSp>
          <p:nvGrpSpPr>
            <p:cNvPr id="214" name=""/>
            <p:cNvGrpSpPr/>
            <p:nvPr/>
          </p:nvGrpSpPr>
          <p:grpSpPr>
            <a:xfrm>
              <a:off x="2532240" y="2781360"/>
              <a:ext cx="1999800" cy="2571840"/>
              <a:chOff x="2532240" y="2781360"/>
              <a:chExt cx="1999800" cy="25718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2532240" y="2781360"/>
                <a:ext cx="1999800" cy="2079000"/>
                <a:chOff x="2532240" y="2781360"/>
                <a:chExt cx="1999800" cy="2079000"/>
              </a:xfrm>
            </p:grpSpPr>
            <p:sp>
              <p:nvSpPr>
                <p:cNvPr id="216" name="Oval 25"/>
                <p:cNvSpPr/>
                <p:nvPr/>
              </p:nvSpPr>
              <p:spPr>
                <a:xfrm>
                  <a:off x="2532240" y="2781360"/>
                  <a:ext cx="1999800" cy="20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7" name="Picture 2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04960" y="2855880"/>
                  <a:ext cx="1867320" cy="191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Oval 27"/>
                <p:cNvSpPr/>
                <p:nvPr/>
              </p:nvSpPr>
              <p:spPr>
                <a:xfrm>
                  <a:off x="2604960" y="2855880"/>
                  <a:ext cx="1854360" cy="1918800"/>
                </a:xfrm>
                <a:prstGeom prst="ellipse">
                  <a:avLst/>
                </a:prstGeom>
                <a:solidFill>
                  <a:srgbClr val="00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2718360" y="4196160"/>
                  <a:ext cx="1657800" cy="655200"/>
                  <a:chOff x="2718360" y="4196160"/>
                  <a:chExt cx="1657800" cy="65520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3017880" y="4205160"/>
                    <a:ext cx="1358280" cy="626400"/>
                    <a:chOff x="3017880" y="4205160"/>
                    <a:chExt cx="1358280" cy="626400"/>
                  </a:xfrm>
                </p:grpSpPr>
                <p:sp>
                  <p:nvSpPr>
                    <p:cNvPr id="221" name="AutoShape 31"/>
                    <p:cNvSpPr/>
                    <p:nvPr/>
                  </p:nvSpPr>
                  <p:spPr>
                    <a:xfrm flipH="1" flipV="1" rot="3964800">
                      <a:off x="3751200" y="4025880"/>
                      <a:ext cx="248400" cy="9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32"/>
                    <p:cNvSpPr/>
                    <p:nvPr/>
                  </p:nvSpPr>
                  <p:spPr>
                    <a:xfrm flipH="1" flipV="1" rot="4780200">
                      <a:off x="3600000" y="4086360"/>
                      <a:ext cx="248400" cy="9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33"/>
                    <p:cNvSpPr/>
                    <p:nvPr/>
                  </p:nvSpPr>
                  <p:spPr>
                    <a:xfrm flipH="1" flipV="1" rot="5076000">
                      <a:off x="3504960" y="4098600"/>
                      <a:ext cx="248400" cy="9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34"/>
                    <p:cNvSpPr/>
                    <p:nvPr/>
                  </p:nvSpPr>
                  <p:spPr>
                    <a:xfrm flipH="1" flipV="1" rot="5608200">
                      <a:off x="3392280" y="410580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18360" y="4196160"/>
                    <a:ext cx="1409760" cy="655200"/>
                    <a:chOff x="2718360" y="4196160"/>
                    <a:chExt cx="1409760" cy="655200"/>
                  </a:xfrm>
                </p:grpSpPr>
                <p:sp>
                  <p:nvSpPr>
                    <p:cNvPr id="226" name="AutoShape 36"/>
                    <p:cNvSpPr/>
                    <p:nvPr/>
                  </p:nvSpPr>
                  <p:spPr>
                    <a:xfrm flipH="1" flipV="1" rot="5317800">
                      <a:off x="3509640" y="4102560"/>
                      <a:ext cx="250200" cy="9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AutoShape 37"/>
                    <p:cNvSpPr/>
                    <p:nvPr/>
                  </p:nvSpPr>
                  <p:spPr>
                    <a:xfrm flipH="1" flipV="1" rot="6133800">
                      <a:off x="3287880" y="4094280"/>
                      <a:ext cx="251280" cy="9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38"/>
                    <p:cNvSpPr/>
                    <p:nvPr/>
                  </p:nvSpPr>
                  <p:spPr>
                    <a:xfrm flipH="1" flipV="1" rot="6429000">
                      <a:off x="3200760" y="4074480"/>
                      <a:ext cx="250200" cy="9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39"/>
                    <p:cNvSpPr/>
                    <p:nvPr/>
                  </p:nvSpPr>
                  <p:spPr>
                    <a:xfrm flipH="1" flipV="1" rot="6961200">
                      <a:off x="3087360" y="4033440"/>
                      <a:ext cx="251280" cy="9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0" name="空心弧 123"/>
              <p:cNvSpPr/>
              <p:nvPr/>
            </p:nvSpPr>
            <p:spPr>
              <a:xfrm>
                <a:off x="2562480" y="2923920"/>
                <a:ext cx="1929960" cy="2429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椭圆 120"/>
            <p:cNvSpPr/>
            <p:nvPr/>
          </p:nvSpPr>
          <p:spPr>
            <a:xfrm>
              <a:off x="3064320" y="3302280"/>
              <a:ext cx="944280" cy="943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21"/>
            <p:cNvSpPr/>
            <p:nvPr/>
          </p:nvSpPr>
          <p:spPr>
            <a:xfrm>
              <a:off x="2781720" y="3146040"/>
              <a:ext cx="1513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66560" y="2781360"/>
            <a:ext cx="2616120" cy="3362400"/>
            <a:chOff x="466560" y="2781360"/>
            <a:chExt cx="2616120" cy="3362400"/>
          </a:xfrm>
        </p:grpSpPr>
        <p:grpSp>
          <p:nvGrpSpPr>
            <p:cNvPr id="234" name=""/>
            <p:cNvGrpSpPr/>
            <p:nvPr/>
          </p:nvGrpSpPr>
          <p:grpSpPr>
            <a:xfrm>
              <a:off x="466560" y="2781360"/>
              <a:ext cx="2616120" cy="3362400"/>
              <a:chOff x="466560" y="2781360"/>
              <a:chExt cx="2616120" cy="33624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6560" y="2781360"/>
                <a:ext cx="2616120" cy="2718000"/>
                <a:chOff x="466560" y="2781360"/>
                <a:chExt cx="2616120" cy="2718000"/>
              </a:xfrm>
            </p:grpSpPr>
            <p:sp>
              <p:nvSpPr>
                <p:cNvPr id="236" name="Oval 25"/>
                <p:cNvSpPr/>
                <p:nvPr/>
              </p:nvSpPr>
              <p:spPr>
                <a:xfrm>
                  <a:off x="466560" y="2781360"/>
                  <a:ext cx="2616120" cy="271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7" name="Picture 2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1600" y="2878920"/>
                  <a:ext cx="2442600" cy="250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Oval 27"/>
                <p:cNvSpPr/>
                <p:nvPr/>
              </p:nvSpPr>
              <p:spPr>
                <a:xfrm>
                  <a:off x="561600" y="2878920"/>
                  <a:ext cx="2425680" cy="2508120"/>
                </a:xfrm>
                <a:prstGeom prst="ellipse">
                  <a:avLst/>
                </a:prstGeom>
                <a:solidFill>
                  <a:srgbClr val="c00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710280" y="4629600"/>
                  <a:ext cx="2169000" cy="856440"/>
                  <a:chOff x="710280" y="4629600"/>
                  <a:chExt cx="2169000" cy="85644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1101600" y="4642920"/>
                    <a:ext cx="1777680" cy="817920"/>
                    <a:chOff x="1101600" y="4642920"/>
                    <a:chExt cx="1777680" cy="817920"/>
                  </a:xfrm>
                </p:grpSpPr>
                <p:sp>
                  <p:nvSpPr>
                    <p:cNvPr id="241" name="AutoShape 31"/>
                    <p:cNvSpPr/>
                    <p:nvPr/>
                  </p:nvSpPr>
                  <p:spPr>
                    <a:xfrm flipH="1" flipV="1" rot="3964800">
                      <a:off x="2062800" y="4408200"/>
                      <a:ext cx="324360" cy="12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32"/>
                    <p:cNvSpPr/>
                    <p:nvPr/>
                  </p:nvSpPr>
                  <p:spPr>
                    <a:xfrm flipH="1" flipV="1" rot="4780200">
                      <a:off x="1862640" y="4486680"/>
                      <a:ext cx="324360" cy="12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33"/>
                    <p:cNvSpPr/>
                    <p:nvPr/>
                  </p:nvSpPr>
                  <p:spPr>
                    <a:xfrm flipH="1" flipV="1" rot="5076000">
                      <a:off x="1740240" y="4502160"/>
                      <a:ext cx="324360" cy="12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34"/>
                    <p:cNvSpPr/>
                    <p:nvPr/>
                  </p:nvSpPr>
                  <p:spPr>
                    <a:xfrm flipH="1" flipV="1" rot="5608200">
                      <a:off x="1591200" y="451296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710280" y="4629600"/>
                    <a:ext cx="1844280" cy="856440"/>
                    <a:chOff x="710280" y="4629600"/>
                    <a:chExt cx="1844280" cy="856440"/>
                  </a:xfrm>
                </p:grpSpPr>
                <p:sp>
                  <p:nvSpPr>
                    <p:cNvPr id="246" name="AutoShape 36"/>
                    <p:cNvSpPr/>
                    <p:nvPr/>
                  </p:nvSpPr>
                  <p:spPr>
                    <a:xfrm flipH="1" flipV="1" rot="5317800">
                      <a:off x="1747080" y="4509000"/>
                      <a:ext cx="326520" cy="128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37"/>
                    <p:cNvSpPr/>
                    <p:nvPr/>
                  </p:nvSpPr>
                  <p:spPr>
                    <a:xfrm flipH="1" flipV="1" rot="6133800">
                      <a:off x="1455480" y="4497840"/>
                      <a:ext cx="327960" cy="128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38"/>
                    <p:cNvSpPr/>
                    <p:nvPr/>
                  </p:nvSpPr>
                  <p:spPr>
                    <a:xfrm flipH="1" flipV="1" rot="6429000">
                      <a:off x="1342080" y="4471200"/>
                      <a:ext cx="326520" cy="128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39"/>
                    <p:cNvSpPr/>
                    <p:nvPr/>
                  </p:nvSpPr>
                  <p:spPr>
                    <a:xfrm flipH="1" flipV="1" rot="6961200">
                      <a:off x="1193400" y="4417200"/>
                      <a:ext cx="328320" cy="128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0" name="空心弧 143"/>
              <p:cNvSpPr/>
              <p:nvPr/>
            </p:nvSpPr>
            <p:spPr>
              <a:xfrm>
                <a:off x="506160" y="2967480"/>
                <a:ext cx="2524680" cy="3176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椭圆 5"/>
            <p:cNvSpPr/>
            <p:nvPr/>
          </p:nvSpPr>
          <p:spPr>
            <a:xfrm>
              <a:off x="1162800" y="3462120"/>
              <a:ext cx="1235160" cy="1234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1"/>
            <p:cNvSpPr/>
            <p:nvPr/>
          </p:nvSpPr>
          <p:spPr>
            <a:xfrm>
              <a:off x="816120" y="3247200"/>
              <a:ext cx="198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228160" y="2421000"/>
            <a:ext cx="664920" cy="853920"/>
            <a:chOff x="8228160" y="2421000"/>
            <a:chExt cx="664920" cy="853920"/>
          </a:xfrm>
        </p:grpSpPr>
        <p:grpSp>
          <p:nvGrpSpPr>
            <p:cNvPr id="254" name=""/>
            <p:cNvGrpSpPr/>
            <p:nvPr/>
          </p:nvGrpSpPr>
          <p:grpSpPr>
            <a:xfrm>
              <a:off x="8228160" y="2421000"/>
              <a:ext cx="664920" cy="853920"/>
              <a:chOff x="8228160" y="2421000"/>
              <a:chExt cx="664920" cy="853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8228160" y="2421000"/>
                <a:ext cx="664920" cy="690480"/>
                <a:chOff x="8228160" y="2421000"/>
                <a:chExt cx="664920" cy="690480"/>
              </a:xfrm>
            </p:grpSpPr>
            <p:sp>
              <p:nvSpPr>
                <p:cNvPr id="256" name="Oval 25"/>
                <p:cNvSpPr/>
                <p:nvPr/>
              </p:nvSpPr>
              <p:spPr>
                <a:xfrm>
                  <a:off x="8228160" y="2421000"/>
                  <a:ext cx="664920" cy="69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7" name="Picture 2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252280" y="2445840"/>
                  <a:ext cx="621000" cy="6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Oval 27"/>
                <p:cNvSpPr/>
                <p:nvPr/>
              </p:nvSpPr>
              <p:spPr>
                <a:xfrm>
                  <a:off x="8252280" y="2445840"/>
                  <a:ext cx="616680" cy="63720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8289720" y="2890440"/>
                  <a:ext cx="551520" cy="218160"/>
                  <a:chOff x="8289720" y="2890440"/>
                  <a:chExt cx="551520" cy="21816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8389800" y="2893680"/>
                    <a:ext cx="451440" cy="208440"/>
                    <a:chOff x="8389800" y="2893680"/>
                    <a:chExt cx="451440" cy="208440"/>
                  </a:xfrm>
                </p:grpSpPr>
                <p:sp>
                  <p:nvSpPr>
                    <p:cNvPr id="261" name="AutoShape 31"/>
                    <p:cNvSpPr/>
                    <p:nvPr/>
                  </p:nvSpPr>
                  <p:spPr>
                    <a:xfrm flipH="1" flipV="1" rot="3964800">
                      <a:off x="8632800" y="2833560"/>
                      <a:ext cx="82800" cy="32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32"/>
                    <p:cNvSpPr/>
                    <p:nvPr/>
                  </p:nvSpPr>
                  <p:spPr>
                    <a:xfrm flipH="1" flipV="1" rot="4780200">
                      <a:off x="8582760" y="285336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33"/>
                    <p:cNvSpPr/>
                    <p:nvPr/>
                  </p:nvSpPr>
                  <p:spPr>
                    <a:xfrm flipH="1" flipV="1" rot="5076000">
                      <a:off x="8551440" y="2857680"/>
                      <a:ext cx="82800" cy="32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34"/>
                    <p:cNvSpPr/>
                    <p:nvPr/>
                  </p:nvSpPr>
                  <p:spPr>
                    <a:xfrm flipH="1" flipV="1" rot="5608200">
                      <a:off x="8513640" y="286056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8289720" y="2890440"/>
                    <a:ext cx="469440" cy="218160"/>
                    <a:chOff x="8289720" y="2890440"/>
                    <a:chExt cx="469440" cy="218160"/>
                  </a:xfrm>
                </p:grpSpPr>
                <p:sp>
                  <p:nvSpPr>
                    <p:cNvPr id="266" name="AutoShape 36"/>
                    <p:cNvSpPr/>
                    <p:nvPr/>
                  </p:nvSpPr>
                  <p:spPr>
                    <a:xfrm flipH="1" flipV="1" rot="5317800">
                      <a:off x="8553240" y="2859120"/>
                      <a:ext cx="8316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AutoShape 37"/>
                    <p:cNvSpPr/>
                    <p:nvPr/>
                  </p:nvSpPr>
                  <p:spPr>
                    <a:xfrm flipH="1" flipV="1" rot="6133800">
                      <a:off x="8479440" y="2855880"/>
                      <a:ext cx="8352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38"/>
                    <p:cNvSpPr/>
                    <p:nvPr/>
                  </p:nvSpPr>
                  <p:spPr>
                    <a:xfrm flipH="1" flipV="1" rot="6429000">
                      <a:off x="8450640" y="2849040"/>
                      <a:ext cx="8316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39"/>
                    <p:cNvSpPr/>
                    <p:nvPr/>
                  </p:nvSpPr>
                  <p:spPr>
                    <a:xfrm flipH="1" flipV="1" rot="6961200">
                      <a:off x="8412120" y="2836440"/>
                      <a:ext cx="8352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0" name="空心弧 163"/>
              <p:cNvSpPr/>
              <p:nvPr/>
            </p:nvSpPr>
            <p:spPr>
              <a:xfrm>
                <a:off x="8238240" y="2468160"/>
                <a:ext cx="641880" cy="806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椭圆 160"/>
            <p:cNvSpPr/>
            <p:nvPr/>
          </p:nvSpPr>
          <p:spPr>
            <a:xfrm>
              <a:off x="8404920" y="2593800"/>
              <a:ext cx="313920" cy="313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61"/>
            <p:cNvSpPr/>
            <p:nvPr/>
          </p:nvSpPr>
          <p:spPr>
            <a:xfrm>
              <a:off x="8326440" y="25898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39"/>
          <p:cNvSpPr/>
          <p:nvPr/>
        </p:nvSpPr>
        <p:spPr>
          <a:xfrm>
            <a:off x="6432480" y="4375080"/>
            <a:ext cx="2086200" cy="525600"/>
          </a:xfrm>
          <a:prstGeom prst="rect">
            <a:avLst/>
          </a:prstGeom>
          <a:solidFill>
            <a:srgbClr val="59595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6300720" y="5045040"/>
            <a:ext cx="214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点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893880" y="2330280"/>
            <a:ext cx="170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2647800" y="2320920"/>
            <a:ext cx="1708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4282920" y="2276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9"/>
          <p:cNvSpPr/>
          <p:nvPr/>
        </p:nvSpPr>
        <p:spPr>
          <a:xfrm>
            <a:off x="5580000" y="213372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6896160" y="2060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5"/>
          <p:cNvSpPr/>
          <p:nvPr/>
        </p:nvSpPr>
        <p:spPr>
          <a:xfrm>
            <a:off x="2627280" y="7821720"/>
            <a:ext cx="468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炫彩立体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ruidepp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530440" y="3406680"/>
            <a:ext cx="2633760" cy="2616120"/>
            <a:chOff x="2530440" y="3406680"/>
            <a:chExt cx="2633760" cy="2616120"/>
          </a:xfrm>
        </p:grpSpPr>
        <p:sp>
          <p:nvSpPr>
            <p:cNvPr id="282" name="圆角矩形 1"/>
            <p:cNvSpPr/>
            <p:nvPr/>
          </p:nvSpPr>
          <p:spPr>
            <a:xfrm>
              <a:off x="2530440" y="3406680"/>
              <a:ext cx="2616840" cy="26161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2707200" y="3799440"/>
              <a:ext cx="2457000" cy="200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圆角矩形 1"/>
          <p:cNvSpPr/>
          <p:nvPr/>
        </p:nvSpPr>
        <p:spPr>
          <a:xfrm>
            <a:off x="2903400" y="1684440"/>
            <a:ext cx="2156040" cy="1800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"/>
          <p:cNvSpPr/>
          <p:nvPr/>
        </p:nvSpPr>
        <p:spPr>
          <a:xfrm>
            <a:off x="4923000" y="1969920"/>
            <a:ext cx="1766880" cy="14749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1"/>
          <p:cNvSpPr/>
          <p:nvPr/>
        </p:nvSpPr>
        <p:spPr>
          <a:xfrm rot="21055800">
            <a:off x="5335560" y="3608280"/>
            <a:ext cx="1535040" cy="14749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9"/>
          <p:cNvSpPr/>
          <p:nvPr/>
        </p:nvSpPr>
        <p:spPr>
          <a:xfrm>
            <a:off x="6424560" y="1741320"/>
            <a:ext cx="1422360" cy="97344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10"/>
          <p:cNvSpPr/>
          <p:nvPr/>
        </p:nvSpPr>
        <p:spPr>
          <a:xfrm>
            <a:off x="6716880" y="4006800"/>
            <a:ext cx="1247760" cy="37620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1"/>
          <p:cNvSpPr/>
          <p:nvPr/>
        </p:nvSpPr>
        <p:spPr>
          <a:xfrm flipH="1">
            <a:off x="1330200" y="1738440"/>
            <a:ext cx="1276560" cy="85536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12"/>
          <p:cNvSpPr/>
          <p:nvPr/>
        </p:nvSpPr>
        <p:spPr>
          <a:xfrm flipH="1">
            <a:off x="1297080" y="4181400"/>
            <a:ext cx="1185840" cy="53676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3"/>
          <p:cNvSpPr/>
          <p:nvPr/>
        </p:nvSpPr>
        <p:spPr>
          <a:xfrm>
            <a:off x="384120" y="126828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4"/>
          <p:cNvSpPr/>
          <p:nvPr/>
        </p:nvSpPr>
        <p:spPr>
          <a:xfrm>
            <a:off x="341280" y="373860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5"/>
          <p:cNvSpPr/>
          <p:nvPr/>
        </p:nvSpPr>
        <p:spPr>
          <a:xfrm>
            <a:off x="6988320" y="360828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6"/>
          <p:cNvSpPr/>
          <p:nvPr/>
        </p:nvSpPr>
        <p:spPr>
          <a:xfrm>
            <a:off x="6902280" y="130032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459240" y="4248000"/>
            <a:ext cx="75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3535200" y="2124000"/>
            <a:ext cx="74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5412600" y="238428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5705640" y="3927600"/>
            <a:ext cx="4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3"/>
          <p:cNvSpPr/>
          <p:nvPr/>
        </p:nvSpPr>
        <p:spPr>
          <a:xfrm>
            <a:off x="2627280" y="7821720"/>
            <a:ext cx="468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炫彩立体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ruidepp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6904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325"/>
          <p:cNvSpPr/>
          <p:nvPr/>
        </p:nvSpPr>
        <p:spPr>
          <a:xfrm>
            <a:off x="2492280" y="207648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36880" y="3408480"/>
            <a:ext cx="1346040" cy="1346040"/>
            <a:chOff x="2036880" y="3408480"/>
            <a:chExt cx="1346040" cy="1346040"/>
          </a:xfrm>
        </p:grpSpPr>
        <p:pic>
          <p:nvPicPr>
            <p:cNvPr id="304" name="椭圆 33" descr=""/>
            <p:cNvPicPr/>
            <p:nvPr/>
          </p:nvPicPr>
          <p:blipFill>
            <a:blip r:embed="rId1"/>
            <a:stretch/>
          </p:blipFill>
          <p:spPr>
            <a:xfrm>
              <a:off x="2036880" y="3408480"/>
              <a:ext cx="13460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241720" y="3616560"/>
              <a:ext cx="93168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82960" y="1627200"/>
            <a:ext cx="1347840" cy="1347840"/>
            <a:chOff x="3882960" y="1627200"/>
            <a:chExt cx="1347840" cy="1347840"/>
          </a:xfrm>
        </p:grpSpPr>
        <p:pic>
          <p:nvPicPr>
            <p:cNvPr id="307" name="椭圆 34" descr=""/>
            <p:cNvPicPr/>
            <p:nvPr/>
          </p:nvPicPr>
          <p:blipFill>
            <a:blip r:embed="rId2"/>
            <a:stretch/>
          </p:blipFill>
          <p:spPr>
            <a:xfrm>
              <a:off x="3882960" y="162720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091040" y="1836720"/>
              <a:ext cx="93168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968640" y="4913280"/>
            <a:ext cx="1346040" cy="1347840"/>
            <a:chOff x="3968640" y="4913280"/>
            <a:chExt cx="1346040" cy="1347840"/>
          </a:xfrm>
        </p:grpSpPr>
        <p:pic>
          <p:nvPicPr>
            <p:cNvPr id="310" name="椭圆 35" descr=""/>
            <p:cNvPicPr/>
            <p:nvPr/>
          </p:nvPicPr>
          <p:blipFill>
            <a:blip r:embed="rId3"/>
            <a:stretch/>
          </p:blipFill>
          <p:spPr>
            <a:xfrm>
              <a:off x="3968640" y="4913280"/>
              <a:ext cx="1346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173480" y="5122800"/>
              <a:ext cx="93348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846760" y="3365640"/>
            <a:ext cx="1352520" cy="1346040"/>
            <a:chOff x="5846760" y="3365640"/>
            <a:chExt cx="1352520" cy="1346040"/>
          </a:xfrm>
        </p:grpSpPr>
        <p:pic>
          <p:nvPicPr>
            <p:cNvPr id="313" name="椭圆 36" descr=""/>
            <p:cNvPicPr/>
            <p:nvPr/>
          </p:nvPicPr>
          <p:blipFill>
            <a:blip r:embed="rId4"/>
            <a:stretch/>
          </p:blipFill>
          <p:spPr>
            <a:xfrm>
              <a:off x="5846760" y="3365640"/>
              <a:ext cx="135252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056280" y="3570480"/>
              <a:ext cx="93204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循环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828960" y="2000160"/>
            <a:ext cx="1384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数据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5830920" y="3846600"/>
            <a:ext cx="1384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数据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3935520" y="5357880"/>
            <a:ext cx="1384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数据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2000160" y="3857760"/>
            <a:ext cx="1384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数据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0"/>
          <p:cNvSpPr/>
          <p:nvPr/>
        </p:nvSpPr>
        <p:spPr>
          <a:xfrm>
            <a:off x="2952720" y="3376080"/>
            <a:ext cx="31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此处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字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0"/>
          <p:cNvSpPr/>
          <p:nvPr/>
        </p:nvSpPr>
        <p:spPr>
          <a:xfrm>
            <a:off x="3605040" y="1073160"/>
            <a:ext cx="1967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0"/>
          <p:cNvSpPr/>
          <p:nvPr/>
        </p:nvSpPr>
        <p:spPr>
          <a:xfrm>
            <a:off x="6786720" y="4502160"/>
            <a:ext cx="196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0"/>
          <p:cNvSpPr/>
          <p:nvPr/>
        </p:nvSpPr>
        <p:spPr>
          <a:xfrm>
            <a:off x="3747960" y="6216480"/>
            <a:ext cx="1967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0"/>
          <p:cNvSpPr/>
          <p:nvPr/>
        </p:nvSpPr>
        <p:spPr>
          <a:xfrm>
            <a:off x="318960" y="3859200"/>
            <a:ext cx="1967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3384720" y="1500120"/>
            <a:ext cx="2360160" cy="1979280"/>
            <a:chOff x="3384720" y="1500120"/>
            <a:chExt cx="2360160" cy="1979280"/>
          </a:xfrm>
        </p:grpSpPr>
        <p:sp>
          <p:nvSpPr>
            <p:cNvPr id="326" name="AutoShape 5"/>
            <p:cNvSpPr/>
            <p:nvPr/>
          </p:nvSpPr>
          <p:spPr>
            <a:xfrm>
              <a:off x="3404160" y="1533600"/>
              <a:ext cx="2340720" cy="1945800"/>
            </a:xfrm>
            <a:prstGeom prst="hexagon">
              <a:avLst>
                <a:gd name="adj" fmla="val 3007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6"/>
            <p:cNvSpPr/>
            <p:nvPr/>
          </p:nvSpPr>
          <p:spPr>
            <a:xfrm>
              <a:off x="3384720" y="1500120"/>
              <a:ext cx="2340360" cy="1945440"/>
            </a:xfrm>
            <a:prstGeom prst="hexagon">
              <a:avLst>
                <a:gd name="adj" fmla="val 30075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504960" y="1602720"/>
              <a:ext cx="2090880" cy="1743120"/>
              <a:chOff x="3504960" y="1602720"/>
              <a:chExt cx="2090880" cy="1743120"/>
            </a:xfrm>
          </p:grpSpPr>
          <p:pic>
            <p:nvPicPr>
              <p:cNvPr id="32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04960" y="1602720"/>
                <a:ext cx="209088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3857760" y="1896480"/>
                <a:ext cx="1384920" cy="11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1614600" y="2486160"/>
            <a:ext cx="2361600" cy="1979280"/>
            <a:chOff x="1614600" y="2486160"/>
            <a:chExt cx="2361600" cy="1979280"/>
          </a:xfrm>
        </p:grpSpPr>
        <p:sp>
          <p:nvSpPr>
            <p:cNvPr id="332" name="AutoShape 9"/>
            <p:cNvSpPr/>
            <p:nvPr/>
          </p:nvSpPr>
          <p:spPr>
            <a:xfrm>
              <a:off x="1634040" y="2519640"/>
              <a:ext cx="2342160" cy="1945800"/>
            </a:xfrm>
            <a:prstGeom prst="hexagon">
              <a:avLst>
                <a:gd name="adj" fmla="val 30093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1614600" y="2486160"/>
              <a:ext cx="2341800" cy="1945440"/>
            </a:xfrm>
            <a:prstGeom prst="hexagon">
              <a:avLst>
                <a:gd name="adj" fmla="val 3009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737720" y="2591640"/>
              <a:ext cx="2090520" cy="1737360"/>
              <a:chOff x="1737720" y="2591640"/>
              <a:chExt cx="2090520" cy="1737360"/>
            </a:xfrm>
          </p:grpSpPr>
          <p:pic>
            <p:nvPicPr>
              <p:cNvPr id="335" name="AutoShap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7720" y="2591640"/>
                <a:ext cx="2090520" cy="173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088360" y="2883600"/>
                <a:ext cx="1385640" cy="11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Text Box 12"/>
          <p:cNvSpPr/>
          <p:nvPr/>
        </p:nvSpPr>
        <p:spPr>
          <a:xfrm>
            <a:off x="4189680" y="2143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181480" y="2490840"/>
            <a:ext cx="2361960" cy="1979280"/>
            <a:chOff x="5181480" y="2490840"/>
            <a:chExt cx="2361960" cy="1979280"/>
          </a:xfrm>
        </p:grpSpPr>
        <p:sp>
          <p:nvSpPr>
            <p:cNvPr id="339" name="AutoShape 15"/>
            <p:cNvSpPr/>
            <p:nvPr/>
          </p:nvSpPr>
          <p:spPr>
            <a:xfrm>
              <a:off x="5200920" y="2524320"/>
              <a:ext cx="2342520" cy="1945800"/>
            </a:xfrm>
            <a:prstGeom prst="hexagon">
              <a:avLst>
                <a:gd name="adj" fmla="val 3009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6"/>
            <p:cNvSpPr/>
            <p:nvPr/>
          </p:nvSpPr>
          <p:spPr>
            <a:xfrm>
              <a:off x="5181480" y="2490840"/>
              <a:ext cx="2342160" cy="1945440"/>
            </a:xfrm>
            <a:prstGeom prst="hexagon">
              <a:avLst>
                <a:gd name="adj" fmla="val 30098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03520" y="2590200"/>
              <a:ext cx="2090520" cy="1743120"/>
              <a:chOff x="5303520" y="2590200"/>
              <a:chExt cx="2090520" cy="1743120"/>
            </a:xfrm>
          </p:grpSpPr>
          <p:pic>
            <p:nvPicPr>
              <p:cNvPr id="342" name="AutoShap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03520" y="2590200"/>
                <a:ext cx="209052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5655240" y="2886840"/>
                <a:ext cx="138564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3400560" y="3467160"/>
            <a:ext cx="2361600" cy="1979280"/>
            <a:chOff x="3400560" y="3467160"/>
            <a:chExt cx="2361600" cy="1979280"/>
          </a:xfrm>
        </p:grpSpPr>
        <p:sp>
          <p:nvSpPr>
            <p:cNvPr id="345" name="AutoShape 20"/>
            <p:cNvSpPr/>
            <p:nvPr/>
          </p:nvSpPr>
          <p:spPr>
            <a:xfrm>
              <a:off x="3420000" y="3500640"/>
              <a:ext cx="2342160" cy="1945800"/>
            </a:xfrm>
            <a:prstGeom prst="hexagon">
              <a:avLst>
                <a:gd name="adj" fmla="val 30093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1"/>
            <p:cNvSpPr/>
            <p:nvPr/>
          </p:nvSpPr>
          <p:spPr>
            <a:xfrm>
              <a:off x="3400560" y="3467160"/>
              <a:ext cx="2341800" cy="1945440"/>
            </a:xfrm>
            <a:prstGeom prst="hexagon">
              <a:avLst>
                <a:gd name="adj" fmla="val 3009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523680" y="3566520"/>
              <a:ext cx="2090520" cy="1743120"/>
              <a:chOff x="3523680" y="3566520"/>
              <a:chExt cx="2090520" cy="1743120"/>
            </a:xfrm>
          </p:grpSpPr>
          <p:pic>
            <p:nvPicPr>
              <p:cNvPr id="348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3680" y="3566520"/>
                <a:ext cx="209052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3873960" y="3864240"/>
                <a:ext cx="138564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Text Box 12"/>
          <p:cNvSpPr/>
          <p:nvPr/>
        </p:nvSpPr>
        <p:spPr>
          <a:xfrm>
            <a:off x="6010560" y="3143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189680" y="4214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332440" y="3143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并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1170000" y="1835280"/>
            <a:ext cx="2017800" cy="3028680"/>
            <a:chOff x="1170000" y="1835280"/>
            <a:chExt cx="2017800" cy="302868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170000" y="1835280"/>
              <a:ext cx="201780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rot="5400000">
              <a:off x="771840" y="2421000"/>
              <a:ext cx="2814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81040" y="4327560"/>
            <a:ext cx="1341360" cy="1341360"/>
            <a:chOff x="1481040" y="4327560"/>
            <a:chExt cx="1341360" cy="1341360"/>
          </a:xfrm>
        </p:grpSpPr>
        <p:pic>
          <p:nvPicPr>
            <p:cNvPr id="358" name="椭圆 4" descr=""/>
            <p:cNvPicPr/>
            <p:nvPr/>
          </p:nvPicPr>
          <p:blipFill>
            <a:blip r:embed="rId2"/>
            <a:stretch/>
          </p:blipFill>
          <p:spPr>
            <a:xfrm>
              <a:off x="1481040" y="432756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698480" y="4546800"/>
              <a:ext cx="9079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14"/>
          <p:cNvSpPr/>
          <p:nvPr/>
        </p:nvSpPr>
        <p:spPr>
          <a:xfrm>
            <a:off x="1214280" y="2286000"/>
            <a:ext cx="19288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8"/>
          <p:cNvSpPr/>
          <p:nvPr/>
        </p:nvSpPr>
        <p:spPr>
          <a:xfrm>
            <a:off x="1915200" y="4629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56000" y="1835280"/>
            <a:ext cx="2017800" cy="3028680"/>
            <a:chOff x="3456000" y="1835280"/>
            <a:chExt cx="2017800" cy="3028680"/>
          </a:xfrm>
        </p:grpSpPr>
        <p:pic>
          <p:nvPicPr>
            <p:cNvPr id="364" name="AutoShape 4" descr=""/>
            <p:cNvPicPr/>
            <p:nvPr/>
          </p:nvPicPr>
          <p:blipFill>
            <a:blip r:embed="rId3"/>
            <a:stretch/>
          </p:blipFill>
          <p:spPr>
            <a:xfrm>
              <a:off x="3456000" y="1835280"/>
              <a:ext cx="201780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5400000">
              <a:off x="3057840" y="2421000"/>
              <a:ext cx="2814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14"/>
          <p:cNvSpPr/>
          <p:nvPr/>
        </p:nvSpPr>
        <p:spPr>
          <a:xfrm>
            <a:off x="3500280" y="2286000"/>
            <a:ext cx="19288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15080" y="1835280"/>
            <a:ext cx="2012760" cy="3028680"/>
            <a:chOff x="5815080" y="1835280"/>
            <a:chExt cx="2012760" cy="3028680"/>
          </a:xfrm>
        </p:grpSpPr>
        <p:pic>
          <p:nvPicPr>
            <p:cNvPr id="368" name="AutoShape 4" descr=""/>
            <p:cNvPicPr/>
            <p:nvPr/>
          </p:nvPicPr>
          <p:blipFill>
            <a:blip r:embed="rId4"/>
            <a:stretch/>
          </p:blipFill>
          <p:spPr>
            <a:xfrm>
              <a:off x="5815080" y="1835280"/>
              <a:ext cx="201276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5400000">
              <a:off x="5414760" y="2421360"/>
              <a:ext cx="28144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14"/>
          <p:cNvSpPr/>
          <p:nvPr/>
        </p:nvSpPr>
        <p:spPr>
          <a:xfrm>
            <a:off x="5786280" y="2286000"/>
            <a:ext cx="19288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此处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760920" y="4363920"/>
            <a:ext cx="1341360" cy="1341360"/>
            <a:chOff x="3760920" y="4363920"/>
            <a:chExt cx="1341360" cy="1341360"/>
          </a:xfrm>
        </p:grpSpPr>
        <p:pic>
          <p:nvPicPr>
            <p:cNvPr id="372" name="椭圆 3" descr=""/>
            <p:cNvPicPr/>
            <p:nvPr/>
          </p:nvPicPr>
          <p:blipFill>
            <a:blip r:embed="rId5"/>
            <a:stretch/>
          </p:blipFill>
          <p:spPr>
            <a:xfrm>
              <a:off x="3760920" y="436392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980160" y="4579920"/>
              <a:ext cx="9079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168960" y="4395960"/>
            <a:ext cx="1341360" cy="1339560"/>
            <a:chOff x="6168960" y="4395960"/>
            <a:chExt cx="1341360" cy="1339560"/>
          </a:xfrm>
        </p:grpSpPr>
        <p:pic>
          <p:nvPicPr>
            <p:cNvPr id="375" name="椭圆 5" descr=""/>
            <p:cNvPicPr/>
            <p:nvPr/>
          </p:nvPicPr>
          <p:blipFill>
            <a:blip r:embed="rId6"/>
            <a:stretch/>
          </p:blipFill>
          <p:spPr>
            <a:xfrm>
              <a:off x="6168960" y="4395960"/>
              <a:ext cx="134136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384960" y="4613040"/>
              <a:ext cx="907920" cy="9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48"/>
          <p:cNvSpPr/>
          <p:nvPr/>
        </p:nvSpPr>
        <p:spPr>
          <a:xfrm>
            <a:off x="4201200" y="4572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8"/>
          <p:cNvSpPr/>
          <p:nvPr/>
        </p:nvSpPr>
        <p:spPr>
          <a:xfrm>
            <a:off x="6630120" y="4649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93080" y="6426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858960" y="3687840"/>
            <a:ext cx="2208240" cy="2371680"/>
            <a:chOff x="858960" y="3687840"/>
            <a:chExt cx="2208240" cy="2371680"/>
          </a:xfrm>
        </p:grpSpPr>
        <p:pic>
          <p:nvPicPr>
            <p:cNvPr id="381" name="AutoShape 4" descr=""/>
            <p:cNvPicPr/>
            <p:nvPr/>
          </p:nvPicPr>
          <p:blipFill>
            <a:blip r:embed="rId1"/>
            <a:stretch/>
          </p:blipFill>
          <p:spPr>
            <a:xfrm>
              <a:off x="858960" y="3687840"/>
              <a:ext cx="220824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rot="5400000">
              <a:off x="874440" y="3848040"/>
              <a:ext cx="217800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28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7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9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0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413160" y="1768320"/>
            <a:ext cx="2390760" cy="676440"/>
            <a:chOff x="3413160" y="1768320"/>
            <a:chExt cx="2390760" cy="676440"/>
          </a:xfrm>
        </p:grpSpPr>
        <p:pic>
          <p:nvPicPr>
            <p:cNvPr id="387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413160" y="1768320"/>
              <a:ext cx="2390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460680" y="1817640"/>
              <a:ext cx="2293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01640" y="1768320"/>
            <a:ext cx="2382840" cy="676440"/>
            <a:chOff x="701640" y="1768320"/>
            <a:chExt cx="2382840" cy="676440"/>
          </a:xfrm>
        </p:grpSpPr>
        <p:pic>
          <p:nvPicPr>
            <p:cNvPr id="390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701640" y="1768320"/>
              <a:ext cx="23828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45920" y="1817640"/>
              <a:ext cx="2294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59520" y="1768320"/>
            <a:ext cx="2382840" cy="676440"/>
            <a:chOff x="6059520" y="1768320"/>
            <a:chExt cx="2382840" cy="676440"/>
          </a:xfrm>
        </p:grpSpPr>
        <p:pic>
          <p:nvPicPr>
            <p:cNvPr id="393" name="圆角矩形 32" descr=""/>
            <p:cNvPicPr/>
            <p:nvPr/>
          </p:nvPicPr>
          <p:blipFill>
            <a:blip r:embed="rId4"/>
            <a:stretch/>
          </p:blipFill>
          <p:spPr>
            <a:xfrm>
              <a:off x="6059520" y="1768320"/>
              <a:ext cx="23828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103800" y="1817640"/>
              <a:ext cx="2294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48"/>
          <p:cNvSpPr/>
          <p:nvPr/>
        </p:nvSpPr>
        <p:spPr>
          <a:xfrm>
            <a:off x="3924720" y="18572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添加文字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8"/>
          <p:cNvSpPr/>
          <p:nvPr/>
        </p:nvSpPr>
        <p:spPr>
          <a:xfrm>
            <a:off x="6601320" y="18572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添加文字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8"/>
          <p:cNvSpPr/>
          <p:nvPr/>
        </p:nvSpPr>
        <p:spPr>
          <a:xfrm>
            <a:off x="1209960" y="18572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添加文字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529080" y="3687840"/>
            <a:ext cx="2212920" cy="2371680"/>
            <a:chOff x="3529080" y="3687840"/>
            <a:chExt cx="2212920" cy="2371680"/>
          </a:xfrm>
        </p:grpSpPr>
        <p:pic>
          <p:nvPicPr>
            <p:cNvPr id="399" name="AutoShape 4" descr=""/>
            <p:cNvPicPr/>
            <p:nvPr/>
          </p:nvPicPr>
          <p:blipFill>
            <a:blip r:embed="rId5"/>
            <a:stretch/>
          </p:blipFill>
          <p:spPr>
            <a:xfrm>
              <a:off x="3529080" y="3687840"/>
              <a:ext cx="2212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rot="5400000">
              <a:off x="3546000" y="3848040"/>
              <a:ext cx="217800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315120" y="3687840"/>
            <a:ext cx="2212920" cy="2371680"/>
            <a:chOff x="6315120" y="3687840"/>
            <a:chExt cx="2212920" cy="2371680"/>
          </a:xfrm>
        </p:grpSpPr>
        <p:pic>
          <p:nvPicPr>
            <p:cNvPr id="402" name="AutoShape 4" descr=""/>
            <p:cNvPicPr/>
            <p:nvPr/>
          </p:nvPicPr>
          <p:blipFill>
            <a:blip r:embed="rId6"/>
            <a:stretch/>
          </p:blipFill>
          <p:spPr>
            <a:xfrm>
              <a:off x="6315120" y="3687840"/>
              <a:ext cx="2212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5400000">
              <a:off x="6332040" y="3848040"/>
              <a:ext cx="217800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并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5"/>
          <p:cNvSpPr/>
          <p:nvPr/>
        </p:nvSpPr>
        <p:spPr>
          <a:xfrm>
            <a:off x="1177920" y="415764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6"/>
          <p:cNvSpPr/>
          <p:nvPr/>
        </p:nvSpPr>
        <p:spPr>
          <a:xfrm>
            <a:off x="1177920" y="481968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7"/>
          <p:cNvSpPr/>
          <p:nvPr/>
        </p:nvSpPr>
        <p:spPr>
          <a:xfrm>
            <a:off x="3786120" y="421488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8"/>
          <p:cNvSpPr/>
          <p:nvPr/>
        </p:nvSpPr>
        <p:spPr>
          <a:xfrm>
            <a:off x="3786120" y="487692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9"/>
          <p:cNvSpPr/>
          <p:nvPr/>
        </p:nvSpPr>
        <p:spPr>
          <a:xfrm>
            <a:off x="6643800" y="428616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0"/>
          <p:cNvSpPr/>
          <p:nvPr/>
        </p:nvSpPr>
        <p:spPr>
          <a:xfrm>
            <a:off x="6643800" y="4948200"/>
            <a:ext cx="16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字点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81400" y="61531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7721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FE1-6972-4CEF-8A72-5A5B022CC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8:47:00Z</dcterms:created>
  <dc:creator>锐得PPT出品</dc:creator>
  <dc:description>北京锐得幻演广告有限公司
PPT商城http://www.ruideppt.net/</dc:description>
  <dc:language>en-US</dc:language>
  <cp:lastModifiedBy>番茄花园</cp:lastModifiedBy>
  <dcterms:modified xsi:type="dcterms:W3CDTF">2015-06-13T05:46:06Z</dcterms:modified>
  <cp:revision>41</cp:revision>
  <dc:subject>http://www.ruideppt.net/</dc:subject>
  <dc:title>锐得PPT炫彩立体图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