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C6B-D1DD-450C-85D3-44ECD688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C93-0E0A-4D72-86AC-E1786F2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B20-215F-4B12-9956-BA5EB47A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58C-38CD-49E6-A04E-45BD11CC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233-41AD-4A9C-AD65-223D57DA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D826-FA67-4F87-97F7-5A8175C2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364D-35C6-417C-A3C5-88557F8C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A08-39B0-4516-B869-AB9FD92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9936-7DC8-4D80-9335-C5869F4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14C-0B45-4577-8100-E675050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16B3-3EB4-4C55-9873-3CBC3BC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F71-9A8E-4AA7-91C0-6D6068B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B793-7F2F-4C41-850C-1578E9A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361B-27A1-49CD-9CF3-8BB2617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82F-36C0-4D5D-A3A0-1B08EB9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8400-5637-4BCD-82D7-6FB57D86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D8BC-FB6A-435A-BAFB-31163F3D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B3D-E77D-4679-A9C8-F9C0AFD3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094-749E-42CC-9BA8-29BD258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217-4EC4-43DC-AEA6-3C1909D2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817-1F68-4522-A123-43AF01C1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F18-B027-451B-8DFB-4BC311E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CF6-6719-43E6-9F31-3E4976AF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2CE-A995-4B60-A498-447409C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A696-5531-47ED-B33A-1D3C4B0A88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12D-186D-4E8C-AB12-67554E33E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236-6657-4B0D-AC0F-3A8B460CE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A0D-814F-4DD8-AD6C-8B950DD6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83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9"/>
            <p:cNvSpPr/>
            <p:nvPr/>
          </p:nvSpPr>
          <p:spPr>
            <a:xfrm>
              <a:off x="6640200" y="29916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二项包含、扩散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3" descr="I:\盘古老人.png"/>
            <p:cNvPicPr/>
            <p:nvPr/>
          </p:nvPicPr>
          <p:blipFill>
            <a:blip r:embed="rId1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I:\盘古老人印.png"/>
            <p:cNvPicPr/>
            <p:nvPr/>
          </p:nvPicPr>
          <p:blipFill>
            <a:blip r:embed="rId2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椭圆 79"/>
          <p:cNvSpPr/>
          <p:nvPr/>
        </p:nvSpPr>
        <p:spPr>
          <a:xfrm>
            <a:off x="3114720" y="4567320"/>
            <a:ext cx="3502080" cy="70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新月形 80"/>
          <p:cNvSpPr/>
          <p:nvPr/>
        </p:nvSpPr>
        <p:spPr>
          <a:xfrm>
            <a:off x="2687760" y="3075120"/>
            <a:ext cx="1368360" cy="20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新月形 81"/>
          <p:cNvSpPr/>
          <p:nvPr/>
        </p:nvSpPr>
        <p:spPr>
          <a:xfrm flipH="1">
            <a:off x="5279400" y="3102120"/>
            <a:ext cx="1368360" cy="20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新月形 6"/>
          <p:cNvSpPr/>
          <p:nvPr/>
        </p:nvSpPr>
        <p:spPr>
          <a:xfrm rot="429000">
            <a:off x="2689200" y="3612960"/>
            <a:ext cx="787320" cy="93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6"/>
          <p:cNvSpPr/>
          <p:nvPr/>
        </p:nvSpPr>
        <p:spPr>
          <a:xfrm>
            <a:off x="3457440" y="4616280"/>
            <a:ext cx="165240" cy="67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96"/>
          <p:cNvGrpSpPr/>
          <p:nvPr/>
        </p:nvGrpSpPr>
        <p:grpSpPr>
          <a:xfrm>
            <a:off x="3435480" y="2349360"/>
            <a:ext cx="2452680" cy="2443320"/>
            <a:chOff x="3435480" y="2349360"/>
            <a:chExt cx="2452680" cy="2443320"/>
          </a:xfrm>
        </p:grpSpPr>
        <p:sp>
          <p:nvSpPr>
            <p:cNvPr id="93" name="椭圆 97"/>
            <p:cNvSpPr/>
            <p:nvPr/>
          </p:nvSpPr>
          <p:spPr>
            <a:xfrm>
              <a:off x="3455640" y="2349360"/>
              <a:ext cx="2432520" cy="243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02"/>
            <p:cNvSpPr/>
            <p:nvPr/>
          </p:nvSpPr>
          <p:spPr>
            <a:xfrm>
              <a:off x="3435480" y="2358720"/>
              <a:ext cx="2432520" cy="2433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03"/>
            <p:cNvSpPr/>
            <p:nvPr/>
          </p:nvSpPr>
          <p:spPr>
            <a:xfrm>
              <a:off x="4165200" y="2437920"/>
              <a:ext cx="1013400" cy="50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 flipH="1">
            <a:off x="3623400" y="30891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4021920" y="345924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4021920" y="373536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9"/>
          <p:cNvSpPr/>
          <p:nvPr/>
        </p:nvSpPr>
        <p:spPr>
          <a:xfrm>
            <a:off x="6311880" y="38703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10"/>
          <p:cNvSpPr/>
          <p:nvPr/>
        </p:nvSpPr>
        <p:spPr>
          <a:xfrm>
            <a:off x="1371600" y="437040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252440" y="43704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1247760" y="40068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030440" y="38736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6778080" y="35114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